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640-B932-47F5-B1B9-DC8AAF64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72E-898B-4A65-ACE9-0200D140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350-15C5-4F9B-9547-B90BBDB7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DA1-92FE-455C-8489-F82ACF3B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298-96E5-4275-AD99-5DFC302A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5AD-4DAD-4201-B44D-72ADB734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C26-1464-4E8C-8554-DBA8A24D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C31-B853-46DC-A652-FF6C4169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BDB-AD78-4605-A86C-41590A51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638-500E-4210-83C4-B802F903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DEF-D9B3-49E9-B46D-A6D3EC98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391-24C8-48B9-902A-23D4FA45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FFB9-59C7-4EE1-8637-2B6BDBD7C9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90720" y="22860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ru-RU" sz="12000" spc="-1" strike="noStrike">
                <a:solidFill>
                  <a:srgbClr val="006600"/>
                </a:solidFill>
                <a:latin typeface="Arial"/>
              </a:rPr>
              <a:t>БЕ</a:t>
            </a:r>
            <a:r>
              <a:rPr b="0" lang="ru-RU" sz="12000" spc="-1" strike="noStrike">
                <a:solidFill>
                  <a:srgbClr val="99cc00"/>
                </a:solidFill>
                <a:latin typeface="Arial"/>
              </a:rPr>
              <a:t>ЛЬ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Л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ДИ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49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ЛО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РО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Т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КО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НО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Ч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Й С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ЛИ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К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Ш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6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ТЕ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Л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Ж Д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ЛЯ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 К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Г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Л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07:39:33Z</dcterms:created>
  <dc:creator>Walid Khallaf</dc:creator>
  <dc:description/>
  <dc:language>en-US</dc:language>
  <cp:lastModifiedBy>Elena Danilova</cp:lastModifiedBy>
  <dcterms:modified xsi:type="dcterms:W3CDTF">2005-12-24T10:13:05Z</dcterms:modified>
  <cp:revision>6</cp:revision>
  <dc:subject/>
  <dc:title>Slide 1</dc:title>
</cp:coreProperties>
</file>