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C35-177D-4597-894E-275CE791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8D7-7DAC-4755-AA9F-D9074D3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959-DC95-4AF6-8B0E-EAEEDD35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5ED-4280-47D9-9D42-732D4833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99B-8D9F-4707-8F77-81938D56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EAF-1BCA-423D-8186-862CD9A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D3E-1A03-4E31-BAB1-C20FD574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565-92C3-47E7-99F4-D31AA80D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C4A-6724-4B80-8C99-1A4A662C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EF85-7D0C-4359-926E-73C5B65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C75-F022-4626-A4DF-AA7BF731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277-FB92-4877-A5F4-F1EAD544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2D21-D503-477B-BBF0-E6FBF6BB9D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2286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ru-RU" sz="12000" spc="-1" strike="noStrike">
                <a:solidFill>
                  <a:srgbClr val="006600"/>
                </a:solidFill>
                <a:latin typeface="Arial"/>
              </a:rPr>
              <a:t>БЕ</a:t>
            </a:r>
            <a:r>
              <a:rPr b="0" lang="ru-RU" sz="12000" spc="-1" strike="noStrike">
                <a:solidFill>
                  <a:srgbClr val="99cc00"/>
                </a:solidFill>
                <a:latin typeface="Arial"/>
              </a:rPr>
              <a:t>Л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ДИ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О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РО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ТЬ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Д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Н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Ч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Й С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ЛИ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Ш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ТЕ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Л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Ж Д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ЛЯ</a:t>
            </a: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 К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Г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9000" spc="-1" strike="noStrike">
                <a:solidFill>
                  <a:srgbClr val="99cc00"/>
                </a:solidFill>
                <a:latin typeface="Arial"/>
              </a:rPr>
              <a:t>Л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7:39:33Z</dcterms:created>
  <dc:creator>Walid Khallaf</dc:creator>
  <dc:description/>
  <dc:language>en-US</dc:language>
  <cp:lastModifiedBy>Elena Danilova</cp:lastModifiedBy>
  <dcterms:modified xsi:type="dcterms:W3CDTF">2005-12-24T10:13:05Z</dcterms:modified>
  <cp:revision>6</cp:revision>
  <dc:subject/>
  <dc:title>Slide 1</dc:title>
</cp:coreProperties>
</file>