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BBC-1A8F-4C58-A83D-DCDF87BD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DF3-4F65-48C4-A54D-E4A473BB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54C-FE95-45E5-B542-A4FF046A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04D-B462-4145-82A4-8D433306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339-C7C5-48F6-B00C-26E2114D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F7A-9B57-4F86-B6AB-C26AA42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725-D803-4562-9378-5E86542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2A99-CE16-4C15-8AE5-F1C2897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E195-352D-4717-8401-14A295F2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C72-03DB-4C2E-BEF0-324D0CA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9B07-68B4-4EFA-AD45-079929FF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F34-E189-4652-8D07-6756D8E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50C-AC18-4760-9570-2271D06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100-18BF-46F3-B3AA-2FD5063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FBD1-134E-4491-8B38-A4A07FC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4E15-2357-4CED-AD66-FC7DE9A2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F010-A8B3-4910-964C-94B19517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F4F-B0A9-4F14-8C4C-D117627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0AE-A01C-44F8-A5BD-56B328E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9BA-46A5-40DA-828A-4AE7061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88B-E62F-4085-82A7-8DE78502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E99-847E-4F16-A261-B0C8370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242-BEC1-4FE5-ABE9-DAEF0D3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22-7944-45FB-B782-0FDA5EB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005-3131-465F-B628-D3C723CA803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307-63A2-44AB-AECD-2BFBFCA16A0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378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еалистично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зображени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0687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30984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четание зеленого и красного – желты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четание менее интенсивного зеленого и того же красного - оранжевы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64000" y="1773360"/>
            <a:ext cx="2665440" cy="1152360"/>
            <a:chOff x="5364000" y="1773360"/>
            <a:chExt cx="2665440" cy="1152360"/>
          </a:xfrm>
        </p:grpSpPr>
        <p:sp>
          <p:nvSpPr>
            <p:cNvPr id="215" name=""/>
            <p:cNvSpPr/>
            <p:nvPr/>
          </p:nvSpPr>
          <p:spPr>
            <a:xfrm>
              <a:off x="5364000" y="2133720"/>
              <a:ext cx="1873440" cy="792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6360" y="1773360"/>
              <a:ext cx="187308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56360" y="2133720"/>
              <a:ext cx="1081080" cy="431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rcRect l="50871" t="26209" r="0" b="39933"/>
          <a:stretch/>
        </p:blipFill>
        <p:spPr>
          <a:xfrm>
            <a:off x="5435640" y="3068640"/>
            <a:ext cx="2592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219640" y="3716280"/>
            <a:ext cx="2665440" cy="1152720"/>
            <a:chOff x="5219640" y="3716280"/>
            <a:chExt cx="2665440" cy="1152720"/>
          </a:xfrm>
        </p:grpSpPr>
        <p:sp>
          <p:nvSpPr>
            <p:cNvPr id="220" name=""/>
            <p:cNvSpPr/>
            <p:nvPr/>
          </p:nvSpPr>
          <p:spPr>
            <a:xfrm>
              <a:off x="5219640" y="4076640"/>
              <a:ext cx="1873440" cy="792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2000" y="3716280"/>
              <a:ext cx="1873080" cy="79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2000" y="4076640"/>
              <a:ext cx="1081080" cy="432000"/>
            </a:xfrm>
            <a:prstGeom prst="rect">
              <a:avLst/>
            </a:prstGeom>
            <a:solidFill>
              <a:srgbClr val="d67f0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2"/>
          <a:srcRect l="53370" t="36738" r="6355" b="26556"/>
          <a:stretch/>
        </p:blipFill>
        <p:spPr>
          <a:xfrm>
            <a:off x="5292720" y="5013360"/>
            <a:ext cx="28368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270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Геометрическое описание модел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57440" t="11393" r="6754" b="11233"/>
          <a:stretch/>
        </p:blipFill>
        <p:spPr>
          <a:xfrm>
            <a:off x="468360" y="2565360"/>
            <a:ext cx="3770280" cy="2763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35625" t="0" r="25408" b="0"/>
          <a:stretch/>
        </p:blipFill>
        <p:spPr>
          <a:xfrm>
            <a:off x="4859280" y="256536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0661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3276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Модель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M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С –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yan -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M – Magenta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 - 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Y – Yellow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 – 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Модель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MY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С –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yan -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M – Magenta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 - 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Y – Yellow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 – 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 – Black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alphaModFix amt="0"/>
          </a:blip>
          <a:srcRect l="2432" t="0" r="9068" b="19793"/>
          <a:stretch/>
        </p:blipFill>
        <p:spPr>
          <a:xfrm>
            <a:off x="4786200" y="1844640"/>
            <a:ext cx="3786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Основные отношения, связывающие цве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Бел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Желт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урпурный</a:t>
            </a:r>
            <a:r>
              <a:rPr b="1" lang="en-US" sz="24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е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5084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5013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Приме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печать на цветном принт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озможности расширения цветового охват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CMY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хнология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Fi Co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спользование плашечных цвето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08000" y="1988640"/>
            <a:ext cx="58327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– Hue -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ветовой т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– Saturation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Насыщенност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 – Brightness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Яркост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1865" t="4340" r="0" b="5051"/>
          <a:stretch/>
        </p:blipFill>
        <p:spPr>
          <a:xfrm>
            <a:off x="2411280" y="3471840"/>
            <a:ext cx="5113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425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Цветовой тон –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оттенок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Цветовой тон занимает определенное положение на периферии цветового круга, характеризуется величиной угла в диапазоне 0 до 360 (красный – 0, зеленый -120, синий – 24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4482" t="0" r="5801" b="0"/>
          <a:stretch/>
        </p:blipFill>
        <p:spPr>
          <a:xfrm>
            <a:off x="3492360" y="4221000"/>
            <a:ext cx="3240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сыщен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чистота цве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ыражается в процентах от 0 (серый) до 100% (полностью насыщенны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аксимально насыщенные цвета: желт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ейтральные цвета: серый, белый, черн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ркость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освещенность или затемнен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еличина яркости измеряется в диапазоне от 0% (черный) до 100% (белый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сокая освещенность – солнечный зайчик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изкая освещенность – тлеющие уг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Чем ниже яркость, тем темнее цве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625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едостат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Трудно редактирую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до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66960" cy="1200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19640" y="5661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после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едостат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При увеличении размера качество изображения ухудша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8000" y="2306520"/>
            <a:ext cx="3814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1784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При масштабировании качество изображения не меня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56360" y="2565360"/>
            <a:ext cx="157176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43280" y="3716280"/>
            <a:ext cx="4380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При редактировании качество изображения не меня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16099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6096600" y="4223520"/>
            <a:ext cx="1598040" cy="1806840"/>
            <a:chOff x="6096600" y="4223520"/>
            <a:chExt cx="1598040" cy="1806840"/>
          </a:xfrm>
        </p:grpSpPr>
        <p:sp>
          <p:nvSpPr>
            <p:cNvPr id="170" name=""/>
            <p:cNvSpPr/>
            <p:nvPr/>
          </p:nvSpPr>
          <p:spPr>
            <a:xfrm>
              <a:off x="6096600" y="4223520"/>
              <a:ext cx="1590120" cy="1806840"/>
            </a:xfrm>
            <a:custGeom>
              <a:avLst/>
              <a:gdLst/>
              <a:ahLst/>
              <a:rect l="l" t="t" r="r" b="b"/>
              <a:pathLst>
                <a:path w="2504" h="2845">
                  <a:moveTo>
                    <a:pt x="1800" y="2780"/>
                  </a:moveTo>
                  <a:lnTo>
                    <a:pt x="1815" y="2775"/>
                  </a:lnTo>
                  <a:lnTo>
                    <a:pt x="1830" y="2772"/>
                  </a:lnTo>
                  <a:lnTo>
                    <a:pt x="1845" y="2771"/>
                  </a:lnTo>
                  <a:lnTo>
                    <a:pt x="1861" y="2771"/>
                  </a:lnTo>
                  <a:lnTo>
                    <a:pt x="1875" y="2772"/>
                  </a:lnTo>
                  <a:lnTo>
                    <a:pt x="1889" y="2775"/>
                  </a:lnTo>
                  <a:lnTo>
                    <a:pt x="1905" y="2780"/>
                  </a:lnTo>
                  <a:lnTo>
                    <a:pt x="1920" y="2784"/>
                  </a:lnTo>
                  <a:lnTo>
                    <a:pt x="1943" y="2796"/>
                  </a:lnTo>
                  <a:lnTo>
                    <a:pt x="1966" y="2806"/>
                  </a:lnTo>
                  <a:lnTo>
                    <a:pt x="1987" y="2816"/>
                  </a:lnTo>
                  <a:lnTo>
                    <a:pt x="2010" y="2824"/>
                  </a:lnTo>
                  <a:lnTo>
                    <a:pt x="2033" y="2832"/>
                  </a:lnTo>
                  <a:lnTo>
                    <a:pt x="2057" y="2837"/>
                  </a:lnTo>
                  <a:lnTo>
                    <a:pt x="2081" y="2839"/>
                  </a:lnTo>
                  <a:lnTo>
                    <a:pt x="2106" y="2837"/>
                  </a:lnTo>
                  <a:lnTo>
                    <a:pt x="2123" y="2824"/>
                  </a:lnTo>
                  <a:lnTo>
                    <a:pt x="2140" y="2813"/>
                  </a:lnTo>
                  <a:lnTo>
                    <a:pt x="2159" y="2806"/>
                  </a:lnTo>
                  <a:lnTo>
                    <a:pt x="2178" y="2800"/>
                  </a:lnTo>
                  <a:lnTo>
                    <a:pt x="2196" y="2797"/>
                  </a:lnTo>
                  <a:lnTo>
                    <a:pt x="2215" y="2797"/>
                  </a:lnTo>
                  <a:lnTo>
                    <a:pt x="2235" y="2797"/>
                  </a:lnTo>
                  <a:lnTo>
                    <a:pt x="2255" y="2800"/>
                  </a:lnTo>
                  <a:lnTo>
                    <a:pt x="2275" y="2803"/>
                  </a:lnTo>
                  <a:lnTo>
                    <a:pt x="2296" y="2807"/>
                  </a:lnTo>
                  <a:lnTo>
                    <a:pt x="2314" y="2813"/>
                  </a:lnTo>
                  <a:lnTo>
                    <a:pt x="2335" y="2817"/>
                  </a:lnTo>
                  <a:lnTo>
                    <a:pt x="2355" y="2823"/>
                  </a:lnTo>
                  <a:lnTo>
                    <a:pt x="2375" y="2829"/>
                  </a:lnTo>
                  <a:lnTo>
                    <a:pt x="2395" y="2833"/>
                  </a:lnTo>
                  <a:lnTo>
                    <a:pt x="2415" y="2837"/>
                  </a:lnTo>
                  <a:lnTo>
                    <a:pt x="2418" y="2837"/>
                  </a:lnTo>
                  <a:lnTo>
                    <a:pt x="2422" y="2837"/>
                  </a:lnTo>
                  <a:lnTo>
                    <a:pt x="2425" y="2839"/>
                  </a:lnTo>
                  <a:lnTo>
                    <a:pt x="2428" y="2839"/>
                  </a:lnTo>
                  <a:lnTo>
                    <a:pt x="2434" y="2832"/>
                  </a:lnTo>
                  <a:lnTo>
                    <a:pt x="2440" y="2824"/>
                  </a:lnTo>
                  <a:lnTo>
                    <a:pt x="2445" y="2817"/>
                  </a:lnTo>
                  <a:lnTo>
                    <a:pt x="2453" y="2810"/>
                  </a:lnTo>
                  <a:lnTo>
                    <a:pt x="2458" y="2803"/>
                  </a:lnTo>
                  <a:lnTo>
                    <a:pt x="2464" y="2796"/>
                  </a:lnTo>
                  <a:lnTo>
                    <a:pt x="2468" y="2787"/>
                  </a:lnTo>
                  <a:lnTo>
                    <a:pt x="2473" y="2778"/>
                  </a:lnTo>
                  <a:lnTo>
                    <a:pt x="2474" y="2771"/>
                  </a:lnTo>
                  <a:lnTo>
                    <a:pt x="2474" y="2762"/>
                  </a:lnTo>
                  <a:lnTo>
                    <a:pt x="2473" y="2754"/>
                  </a:lnTo>
                  <a:lnTo>
                    <a:pt x="2473" y="2745"/>
                  </a:lnTo>
                  <a:lnTo>
                    <a:pt x="2468" y="2726"/>
                  </a:lnTo>
                  <a:lnTo>
                    <a:pt x="2461" y="2709"/>
                  </a:lnTo>
                  <a:lnTo>
                    <a:pt x="2454" y="2692"/>
                  </a:lnTo>
                  <a:lnTo>
                    <a:pt x="2445" y="2674"/>
                  </a:lnTo>
                  <a:lnTo>
                    <a:pt x="2435" y="2659"/>
                  </a:lnTo>
                  <a:lnTo>
                    <a:pt x="2427" y="2641"/>
                  </a:lnTo>
                  <a:lnTo>
                    <a:pt x="2418" y="2624"/>
                  </a:lnTo>
                  <a:lnTo>
                    <a:pt x="2411" y="2607"/>
                  </a:lnTo>
                  <a:lnTo>
                    <a:pt x="2405" y="2582"/>
                  </a:lnTo>
                  <a:lnTo>
                    <a:pt x="2405" y="2561"/>
                  </a:lnTo>
                  <a:lnTo>
                    <a:pt x="2409" y="2539"/>
                  </a:lnTo>
                  <a:lnTo>
                    <a:pt x="2418" y="2519"/>
                  </a:lnTo>
                  <a:lnTo>
                    <a:pt x="2428" y="2499"/>
                  </a:lnTo>
                  <a:lnTo>
                    <a:pt x="2441" y="2480"/>
                  </a:lnTo>
                  <a:lnTo>
                    <a:pt x="2456" y="2460"/>
                  </a:lnTo>
                  <a:lnTo>
                    <a:pt x="2468" y="2441"/>
                  </a:lnTo>
                  <a:lnTo>
                    <a:pt x="2479" y="2418"/>
                  </a:lnTo>
                  <a:lnTo>
                    <a:pt x="2483" y="2395"/>
                  </a:lnTo>
                  <a:lnTo>
                    <a:pt x="2483" y="2373"/>
                  </a:lnTo>
                  <a:lnTo>
                    <a:pt x="2479" y="2350"/>
                  </a:lnTo>
                  <a:lnTo>
                    <a:pt x="2473" y="2328"/>
                  </a:lnTo>
                  <a:lnTo>
                    <a:pt x="2463" y="2307"/>
                  </a:lnTo>
                  <a:lnTo>
                    <a:pt x="2451" y="2285"/>
                  </a:lnTo>
                  <a:lnTo>
                    <a:pt x="2440" y="2264"/>
                  </a:lnTo>
                  <a:lnTo>
                    <a:pt x="2438" y="2259"/>
                  </a:lnTo>
                  <a:lnTo>
                    <a:pt x="2438" y="2252"/>
                  </a:lnTo>
                  <a:lnTo>
                    <a:pt x="2437" y="2245"/>
                  </a:lnTo>
                  <a:lnTo>
                    <a:pt x="2440" y="2241"/>
                  </a:lnTo>
                  <a:lnTo>
                    <a:pt x="2450" y="2223"/>
                  </a:lnTo>
                  <a:lnTo>
                    <a:pt x="2460" y="2206"/>
                  </a:lnTo>
                  <a:lnTo>
                    <a:pt x="2470" y="2189"/>
                  </a:lnTo>
                  <a:lnTo>
                    <a:pt x="2479" y="2170"/>
                  </a:lnTo>
                  <a:lnTo>
                    <a:pt x="2487" y="2151"/>
                  </a:lnTo>
                  <a:lnTo>
                    <a:pt x="2494" y="2132"/>
                  </a:lnTo>
                  <a:lnTo>
                    <a:pt x="2500" y="2112"/>
                  </a:lnTo>
                  <a:lnTo>
                    <a:pt x="2504" y="2093"/>
                  </a:lnTo>
                  <a:lnTo>
                    <a:pt x="2504" y="2011"/>
                  </a:lnTo>
                  <a:lnTo>
                    <a:pt x="2503" y="2004"/>
                  </a:lnTo>
                  <a:lnTo>
                    <a:pt x="2500" y="1998"/>
                  </a:lnTo>
                  <a:lnTo>
                    <a:pt x="2499" y="1991"/>
                  </a:lnTo>
                  <a:lnTo>
                    <a:pt x="2496" y="1984"/>
                  </a:lnTo>
                  <a:lnTo>
                    <a:pt x="2471" y="1961"/>
                  </a:lnTo>
                  <a:lnTo>
                    <a:pt x="2456" y="1935"/>
                  </a:lnTo>
                  <a:lnTo>
                    <a:pt x="2448" y="1908"/>
                  </a:lnTo>
                  <a:lnTo>
                    <a:pt x="2447" y="1879"/>
                  </a:lnTo>
                  <a:lnTo>
                    <a:pt x="2451" y="1848"/>
                  </a:lnTo>
                  <a:lnTo>
                    <a:pt x="2460" y="1818"/>
                  </a:lnTo>
                  <a:lnTo>
                    <a:pt x="2471" y="1788"/>
                  </a:lnTo>
                  <a:lnTo>
                    <a:pt x="2487" y="1760"/>
                  </a:lnTo>
                  <a:lnTo>
                    <a:pt x="2493" y="1750"/>
                  </a:lnTo>
                  <a:lnTo>
                    <a:pt x="2499" y="1740"/>
                  </a:lnTo>
                  <a:lnTo>
                    <a:pt x="2502" y="1729"/>
                  </a:lnTo>
                  <a:lnTo>
                    <a:pt x="2504" y="1717"/>
                  </a:lnTo>
                  <a:lnTo>
                    <a:pt x="2504" y="1684"/>
                  </a:lnTo>
                  <a:lnTo>
                    <a:pt x="2502" y="1674"/>
                  </a:lnTo>
                  <a:lnTo>
                    <a:pt x="2499" y="1664"/>
                  </a:lnTo>
                  <a:lnTo>
                    <a:pt x="2496" y="1655"/>
                  </a:lnTo>
                  <a:lnTo>
                    <a:pt x="2492" y="1647"/>
                  </a:lnTo>
                  <a:lnTo>
                    <a:pt x="2483" y="1632"/>
                  </a:lnTo>
                  <a:lnTo>
                    <a:pt x="2476" y="1615"/>
                  </a:lnTo>
                  <a:lnTo>
                    <a:pt x="2467" y="1598"/>
                  </a:lnTo>
                  <a:lnTo>
                    <a:pt x="2458" y="1579"/>
                  </a:lnTo>
                  <a:lnTo>
                    <a:pt x="2450" y="1549"/>
                  </a:lnTo>
                  <a:lnTo>
                    <a:pt x="2445" y="1517"/>
                  </a:lnTo>
                  <a:lnTo>
                    <a:pt x="2447" y="1487"/>
                  </a:lnTo>
                  <a:lnTo>
                    <a:pt x="2454" y="1456"/>
                  </a:lnTo>
                  <a:lnTo>
                    <a:pt x="2461" y="1436"/>
                  </a:lnTo>
                  <a:lnTo>
                    <a:pt x="2468" y="1416"/>
                  </a:lnTo>
                  <a:lnTo>
                    <a:pt x="2476" y="1396"/>
                  </a:lnTo>
                  <a:lnTo>
                    <a:pt x="2483" y="1376"/>
                  </a:lnTo>
                  <a:lnTo>
                    <a:pt x="2490" y="1355"/>
                  </a:lnTo>
                  <a:lnTo>
                    <a:pt x="2496" y="1335"/>
                  </a:lnTo>
                  <a:lnTo>
                    <a:pt x="2500" y="1315"/>
                  </a:lnTo>
                  <a:lnTo>
                    <a:pt x="2504" y="1295"/>
                  </a:lnTo>
                  <a:lnTo>
                    <a:pt x="2504" y="1141"/>
                  </a:lnTo>
                  <a:lnTo>
                    <a:pt x="2503" y="1136"/>
                  </a:lnTo>
                  <a:lnTo>
                    <a:pt x="2503" y="1133"/>
                  </a:lnTo>
                  <a:lnTo>
                    <a:pt x="2502" y="1129"/>
                  </a:lnTo>
                  <a:lnTo>
                    <a:pt x="2502" y="1126"/>
                  </a:lnTo>
                  <a:lnTo>
                    <a:pt x="2497" y="1109"/>
                  </a:lnTo>
                  <a:lnTo>
                    <a:pt x="2490" y="1093"/>
                  </a:lnTo>
                  <a:lnTo>
                    <a:pt x="2483" y="1077"/>
                  </a:lnTo>
                  <a:lnTo>
                    <a:pt x="2474" y="1063"/>
                  </a:lnTo>
                  <a:lnTo>
                    <a:pt x="2464" y="1048"/>
                  </a:lnTo>
                  <a:lnTo>
                    <a:pt x="2456" y="1032"/>
                  </a:lnTo>
                  <a:lnTo>
                    <a:pt x="2447" y="1018"/>
                  </a:lnTo>
                  <a:lnTo>
                    <a:pt x="2440" y="1002"/>
                  </a:lnTo>
                  <a:lnTo>
                    <a:pt x="2432" y="973"/>
                  </a:lnTo>
                  <a:lnTo>
                    <a:pt x="2431" y="943"/>
                  </a:lnTo>
                  <a:lnTo>
                    <a:pt x="2435" y="913"/>
                  </a:lnTo>
                  <a:lnTo>
                    <a:pt x="2444" y="884"/>
                  </a:lnTo>
                  <a:lnTo>
                    <a:pt x="2456" y="861"/>
                  </a:lnTo>
                  <a:lnTo>
                    <a:pt x="2466" y="838"/>
                  </a:lnTo>
                  <a:lnTo>
                    <a:pt x="2476" y="815"/>
                  </a:lnTo>
                  <a:lnTo>
                    <a:pt x="2484" y="793"/>
                  </a:lnTo>
                  <a:lnTo>
                    <a:pt x="2492" y="770"/>
                  </a:lnTo>
                  <a:lnTo>
                    <a:pt x="2496" y="747"/>
                  </a:lnTo>
                  <a:lnTo>
                    <a:pt x="2497" y="723"/>
                  </a:lnTo>
                  <a:lnTo>
                    <a:pt x="2496" y="698"/>
                  </a:lnTo>
                  <a:lnTo>
                    <a:pt x="2471" y="663"/>
                  </a:lnTo>
                  <a:lnTo>
                    <a:pt x="2460" y="626"/>
                  </a:lnTo>
                  <a:lnTo>
                    <a:pt x="2456" y="588"/>
                  </a:lnTo>
                  <a:lnTo>
                    <a:pt x="2458" y="548"/>
                  </a:lnTo>
                  <a:lnTo>
                    <a:pt x="2467" y="508"/>
                  </a:lnTo>
                  <a:lnTo>
                    <a:pt x="2477" y="469"/>
                  </a:lnTo>
                  <a:lnTo>
                    <a:pt x="2487" y="428"/>
                  </a:lnTo>
                  <a:lnTo>
                    <a:pt x="2496" y="388"/>
                  </a:lnTo>
                  <a:lnTo>
                    <a:pt x="2499" y="358"/>
                  </a:lnTo>
                  <a:lnTo>
                    <a:pt x="2494" y="328"/>
                  </a:lnTo>
                  <a:lnTo>
                    <a:pt x="2487" y="300"/>
                  </a:lnTo>
                  <a:lnTo>
                    <a:pt x="2477" y="273"/>
                  </a:lnTo>
                  <a:lnTo>
                    <a:pt x="2466" y="247"/>
                  </a:lnTo>
                  <a:lnTo>
                    <a:pt x="2453" y="219"/>
                  </a:lnTo>
                  <a:lnTo>
                    <a:pt x="2440" y="192"/>
                  </a:lnTo>
                  <a:lnTo>
                    <a:pt x="2430" y="165"/>
                  </a:lnTo>
                  <a:lnTo>
                    <a:pt x="2425" y="136"/>
                  </a:lnTo>
                  <a:lnTo>
                    <a:pt x="2431" y="107"/>
                  </a:lnTo>
                  <a:lnTo>
                    <a:pt x="2440" y="78"/>
                  </a:lnTo>
                  <a:lnTo>
                    <a:pt x="2448" y="49"/>
                  </a:lnTo>
                  <a:lnTo>
                    <a:pt x="2450" y="48"/>
                  </a:lnTo>
                  <a:lnTo>
                    <a:pt x="2450" y="46"/>
                  </a:lnTo>
                  <a:lnTo>
                    <a:pt x="2450" y="44"/>
                  </a:lnTo>
                  <a:lnTo>
                    <a:pt x="2450" y="42"/>
                  </a:lnTo>
                  <a:lnTo>
                    <a:pt x="2448" y="42"/>
                  </a:lnTo>
                  <a:lnTo>
                    <a:pt x="2448" y="41"/>
                  </a:lnTo>
                  <a:lnTo>
                    <a:pt x="2447" y="41"/>
                  </a:lnTo>
                  <a:lnTo>
                    <a:pt x="2445" y="39"/>
                  </a:lnTo>
                  <a:lnTo>
                    <a:pt x="2422" y="29"/>
                  </a:lnTo>
                  <a:lnTo>
                    <a:pt x="2399" y="25"/>
                  </a:lnTo>
                  <a:lnTo>
                    <a:pt x="2378" y="25"/>
                  </a:lnTo>
                  <a:lnTo>
                    <a:pt x="2355" y="29"/>
                  </a:lnTo>
                  <a:lnTo>
                    <a:pt x="2333" y="35"/>
                  </a:lnTo>
                  <a:lnTo>
                    <a:pt x="2311" y="45"/>
                  </a:lnTo>
                  <a:lnTo>
                    <a:pt x="2290" y="57"/>
                  </a:lnTo>
                  <a:lnTo>
                    <a:pt x="2268" y="68"/>
                  </a:lnTo>
                  <a:lnTo>
                    <a:pt x="2264" y="68"/>
                  </a:lnTo>
                  <a:lnTo>
                    <a:pt x="2257" y="70"/>
                  </a:lnTo>
                  <a:lnTo>
                    <a:pt x="2250" y="70"/>
                  </a:lnTo>
                  <a:lnTo>
                    <a:pt x="2245" y="68"/>
                  </a:lnTo>
                  <a:lnTo>
                    <a:pt x="2226" y="57"/>
                  </a:lnTo>
                  <a:lnTo>
                    <a:pt x="2206" y="45"/>
                  </a:lnTo>
                  <a:lnTo>
                    <a:pt x="2186" y="35"/>
                  </a:lnTo>
                  <a:lnTo>
                    <a:pt x="2166" y="25"/>
                  </a:lnTo>
                  <a:lnTo>
                    <a:pt x="2144" y="16"/>
                  </a:lnTo>
                  <a:lnTo>
                    <a:pt x="2124" y="9"/>
                  </a:lnTo>
                  <a:lnTo>
                    <a:pt x="2103" y="5"/>
                  </a:lnTo>
                  <a:lnTo>
                    <a:pt x="2081" y="0"/>
                  </a:lnTo>
                  <a:lnTo>
                    <a:pt x="2031" y="0"/>
                  </a:lnTo>
                  <a:lnTo>
                    <a:pt x="2025" y="0"/>
                  </a:lnTo>
                  <a:lnTo>
                    <a:pt x="2021" y="2"/>
                  </a:lnTo>
                  <a:lnTo>
                    <a:pt x="2015" y="3"/>
                  </a:lnTo>
                  <a:lnTo>
                    <a:pt x="2009" y="5"/>
                  </a:lnTo>
                  <a:lnTo>
                    <a:pt x="2003" y="6"/>
                  </a:lnTo>
                  <a:lnTo>
                    <a:pt x="1999" y="8"/>
                  </a:lnTo>
                  <a:lnTo>
                    <a:pt x="1993" y="9"/>
                  </a:lnTo>
                  <a:lnTo>
                    <a:pt x="1987" y="10"/>
                  </a:lnTo>
                  <a:lnTo>
                    <a:pt x="1964" y="35"/>
                  </a:lnTo>
                  <a:lnTo>
                    <a:pt x="1938" y="51"/>
                  </a:lnTo>
                  <a:lnTo>
                    <a:pt x="1911" y="58"/>
                  </a:lnTo>
                  <a:lnTo>
                    <a:pt x="1881" y="61"/>
                  </a:lnTo>
                  <a:lnTo>
                    <a:pt x="1851" y="57"/>
                  </a:lnTo>
                  <a:lnTo>
                    <a:pt x="1820" y="48"/>
                  </a:lnTo>
                  <a:lnTo>
                    <a:pt x="1792" y="35"/>
                  </a:lnTo>
                  <a:lnTo>
                    <a:pt x="1764" y="21"/>
                  </a:lnTo>
                  <a:lnTo>
                    <a:pt x="1751" y="12"/>
                  </a:lnTo>
                  <a:lnTo>
                    <a:pt x="1737" y="6"/>
                  </a:lnTo>
                  <a:lnTo>
                    <a:pt x="1722" y="3"/>
                  </a:lnTo>
                  <a:lnTo>
                    <a:pt x="1707" y="2"/>
                  </a:lnTo>
                  <a:lnTo>
                    <a:pt x="1692" y="2"/>
                  </a:lnTo>
                  <a:lnTo>
                    <a:pt x="1676" y="5"/>
                  </a:lnTo>
                  <a:lnTo>
                    <a:pt x="1662" y="9"/>
                  </a:lnTo>
                  <a:lnTo>
                    <a:pt x="1649" y="16"/>
                  </a:lnTo>
                  <a:lnTo>
                    <a:pt x="1642" y="19"/>
                  </a:lnTo>
                  <a:lnTo>
                    <a:pt x="1635" y="23"/>
                  </a:lnTo>
                  <a:lnTo>
                    <a:pt x="1626" y="28"/>
                  </a:lnTo>
                  <a:lnTo>
                    <a:pt x="1619" y="32"/>
                  </a:lnTo>
                  <a:lnTo>
                    <a:pt x="1610" y="36"/>
                  </a:lnTo>
                  <a:lnTo>
                    <a:pt x="1601" y="41"/>
                  </a:lnTo>
                  <a:lnTo>
                    <a:pt x="1591" y="45"/>
                  </a:lnTo>
                  <a:lnTo>
                    <a:pt x="1583" y="49"/>
                  </a:lnTo>
                  <a:lnTo>
                    <a:pt x="1568" y="54"/>
                  </a:lnTo>
                  <a:lnTo>
                    <a:pt x="1552" y="58"/>
                  </a:lnTo>
                  <a:lnTo>
                    <a:pt x="1537" y="61"/>
                  </a:lnTo>
                  <a:lnTo>
                    <a:pt x="1521" y="62"/>
                  </a:lnTo>
                  <a:lnTo>
                    <a:pt x="1505" y="62"/>
                  </a:lnTo>
                  <a:lnTo>
                    <a:pt x="1489" y="61"/>
                  </a:lnTo>
                  <a:lnTo>
                    <a:pt x="1473" y="58"/>
                  </a:lnTo>
                  <a:lnTo>
                    <a:pt x="1459" y="54"/>
                  </a:lnTo>
                  <a:lnTo>
                    <a:pt x="1437" y="45"/>
                  </a:lnTo>
                  <a:lnTo>
                    <a:pt x="1416" y="36"/>
                  </a:lnTo>
                  <a:lnTo>
                    <a:pt x="1394" y="29"/>
                  </a:lnTo>
                  <a:lnTo>
                    <a:pt x="1372" y="22"/>
                  </a:lnTo>
                  <a:lnTo>
                    <a:pt x="1351" y="16"/>
                  </a:lnTo>
                  <a:lnTo>
                    <a:pt x="1329" y="9"/>
                  </a:lnTo>
                  <a:lnTo>
                    <a:pt x="1306" y="5"/>
                  </a:lnTo>
                  <a:lnTo>
                    <a:pt x="1285" y="0"/>
                  </a:lnTo>
                  <a:lnTo>
                    <a:pt x="1156" y="0"/>
                  </a:lnTo>
                  <a:lnTo>
                    <a:pt x="1151" y="2"/>
                  </a:lnTo>
                  <a:lnTo>
                    <a:pt x="1143" y="3"/>
                  </a:lnTo>
                  <a:lnTo>
                    <a:pt x="1138" y="5"/>
                  </a:lnTo>
                  <a:lnTo>
                    <a:pt x="1130" y="6"/>
                  </a:lnTo>
                  <a:lnTo>
                    <a:pt x="1113" y="10"/>
                  </a:lnTo>
                  <a:lnTo>
                    <a:pt x="1097" y="18"/>
                  </a:lnTo>
                  <a:lnTo>
                    <a:pt x="1081" y="25"/>
                  </a:lnTo>
                  <a:lnTo>
                    <a:pt x="1067" y="33"/>
                  </a:lnTo>
                  <a:lnTo>
                    <a:pt x="1053" y="44"/>
                  </a:lnTo>
                  <a:lnTo>
                    <a:pt x="1037" y="52"/>
                  </a:lnTo>
                  <a:lnTo>
                    <a:pt x="1022" y="61"/>
                  </a:lnTo>
                  <a:lnTo>
                    <a:pt x="1007" y="68"/>
                  </a:lnTo>
                  <a:lnTo>
                    <a:pt x="992" y="72"/>
                  </a:lnTo>
                  <a:lnTo>
                    <a:pt x="978" y="75"/>
                  </a:lnTo>
                  <a:lnTo>
                    <a:pt x="962" y="77"/>
                  </a:lnTo>
                  <a:lnTo>
                    <a:pt x="947" y="77"/>
                  </a:lnTo>
                  <a:lnTo>
                    <a:pt x="933" y="75"/>
                  </a:lnTo>
                  <a:lnTo>
                    <a:pt x="917" y="72"/>
                  </a:lnTo>
                  <a:lnTo>
                    <a:pt x="903" y="68"/>
                  </a:lnTo>
                  <a:lnTo>
                    <a:pt x="888" y="64"/>
                  </a:lnTo>
                  <a:lnTo>
                    <a:pt x="865" y="52"/>
                  </a:lnTo>
                  <a:lnTo>
                    <a:pt x="842" y="42"/>
                  </a:lnTo>
                  <a:lnTo>
                    <a:pt x="819" y="32"/>
                  </a:lnTo>
                  <a:lnTo>
                    <a:pt x="798" y="23"/>
                  </a:lnTo>
                  <a:lnTo>
                    <a:pt x="775" y="16"/>
                  </a:lnTo>
                  <a:lnTo>
                    <a:pt x="752" y="10"/>
                  </a:lnTo>
                  <a:lnTo>
                    <a:pt x="727" y="9"/>
                  </a:lnTo>
                  <a:lnTo>
                    <a:pt x="703" y="10"/>
                  </a:lnTo>
                  <a:lnTo>
                    <a:pt x="685" y="23"/>
                  </a:lnTo>
                  <a:lnTo>
                    <a:pt x="668" y="35"/>
                  </a:lnTo>
                  <a:lnTo>
                    <a:pt x="649" y="42"/>
                  </a:lnTo>
                  <a:lnTo>
                    <a:pt x="631" y="48"/>
                  </a:lnTo>
                  <a:lnTo>
                    <a:pt x="612" y="51"/>
                  </a:lnTo>
                  <a:lnTo>
                    <a:pt x="593" y="51"/>
                  </a:lnTo>
                  <a:lnTo>
                    <a:pt x="573" y="51"/>
                  </a:lnTo>
                  <a:lnTo>
                    <a:pt x="553" y="48"/>
                  </a:lnTo>
                  <a:lnTo>
                    <a:pt x="533" y="45"/>
                  </a:lnTo>
                  <a:lnTo>
                    <a:pt x="512" y="41"/>
                  </a:lnTo>
                  <a:lnTo>
                    <a:pt x="494" y="35"/>
                  </a:lnTo>
                  <a:lnTo>
                    <a:pt x="474" y="31"/>
                  </a:lnTo>
                  <a:lnTo>
                    <a:pt x="453" y="25"/>
                  </a:lnTo>
                  <a:lnTo>
                    <a:pt x="433" y="19"/>
                  </a:lnTo>
                  <a:lnTo>
                    <a:pt x="413" y="15"/>
                  </a:lnTo>
                  <a:lnTo>
                    <a:pt x="393" y="10"/>
                  </a:lnTo>
                  <a:lnTo>
                    <a:pt x="361" y="8"/>
                  </a:lnTo>
                  <a:lnTo>
                    <a:pt x="332" y="12"/>
                  </a:lnTo>
                  <a:lnTo>
                    <a:pt x="304" y="19"/>
                  </a:lnTo>
                  <a:lnTo>
                    <a:pt x="276" y="29"/>
                  </a:lnTo>
                  <a:lnTo>
                    <a:pt x="250" y="42"/>
                  </a:lnTo>
                  <a:lnTo>
                    <a:pt x="223" y="55"/>
                  </a:lnTo>
                  <a:lnTo>
                    <a:pt x="196" y="68"/>
                  </a:lnTo>
                  <a:lnTo>
                    <a:pt x="168" y="78"/>
                  </a:lnTo>
                  <a:lnTo>
                    <a:pt x="155" y="81"/>
                  </a:lnTo>
                  <a:lnTo>
                    <a:pt x="144" y="82"/>
                  </a:lnTo>
                  <a:lnTo>
                    <a:pt x="131" y="81"/>
                  </a:lnTo>
                  <a:lnTo>
                    <a:pt x="118" y="78"/>
                  </a:lnTo>
                  <a:lnTo>
                    <a:pt x="105" y="75"/>
                  </a:lnTo>
                  <a:lnTo>
                    <a:pt x="92" y="71"/>
                  </a:lnTo>
                  <a:lnTo>
                    <a:pt x="79" y="67"/>
                  </a:lnTo>
                  <a:lnTo>
                    <a:pt x="66" y="62"/>
                  </a:lnTo>
                  <a:lnTo>
                    <a:pt x="75" y="87"/>
                  </a:lnTo>
                  <a:lnTo>
                    <a:pt x="83" y="113"/>
                  </a:lnTo>
                  <a:lnTo>
                    <a:pt x="86" y="139"/>
                  </a:lnTo>
                  <a:lnTo>
                    <a:pt x="82" y="165"/>
                  </a:lnTo>
                  <a:lnTo>
                    <a:pt x="72" y="192"/>
                  </a:lnTo>
                  <a:lnTo>
                    <a:pt x="59" y="219"/>
                  </a:lnTo>
                  <a:lnTo>
                    <a:pt x="46" y="247"/>
                  </a:lnTo>
                  <a:lnTo>
                    <a:pt x="34" y="273"/>
                  </a:lnTo>
                  <a:lnTo>
                    <a:pt x="23" y="300"/>
                  </a:lnTo>
                  <a:lnTo>
                    <a:pt x="16" y="328"/>
                  </a:lnTo>
                  <a:lnTo>
                    <a:pt x="13" y="358"/>
                  </a:lnTo>
                  <a:lnTo>
                    <a:pt x="14" y="388"/>
                  </a:lnTo>
                  <a:lnTo>
                    <a:pt x="23" y="428"/>
                  </a:lnTo>
                  <a:lnTo>
                    <a:pt x="34" y="469"/>
                  </a:lnTo>
                  <a:lnTo>
                    <a:pt x="44" y="508"/>
                  </a:lnTo>
                  <a:lnTo>
                    <a:pt x="53" y="548"/>
                  </a:lnTo>
                  <a:lnTo>
                    <a:pt x="56" y="588"/>
                  </a:lnTo>
                  <a:lnTo>
                    <a:pt x="52" y="626"/>
                  </a:lnTo>
                  <a:lnTo>
                    <a:pt x="39" y="663"/>
                  </a:lnTo>
                  <a:lnTo>
                    <a:pt x="14" y="698"/>
                  </a:lnTo>
                  <a:lnTo>
                    <a:pt x="13" y="723"/>
                  </a:lnTo>
                  <a:lnTo>
                    <a:pt x="14" y="747"/>
                  </a:lnTo>
                  <a:lnTo>
                    <a:pt x="20" y="770"/>
                  </a:lnTo>
                  <a:lnTo>
                    <a:pt x="27" y="793"/>
                  </a:lnTo>
                  <a:lnTo>
                    <a:pt x="36" y="815"/>
                  </a:lnTo>
                  <a:lnTo>
                    <a:pt x="46" y="838"/>
                  </a:lnTo>
                  <a:lnTo>
                    <a:pt x="56" y="861"/>
                  </a:lnTo>
                  <a:lnTo>
                    <a:pt x="67" y="884"/>
                  </a:lnTo>
                  <a:lnTo>
                    <a:pt x="76" y="913"/>
                  </a:lnTo>
                  <a:lnTo>
                    <a:pt x="80" y="943"/>
                  </a:lnTo>
                  <a:lnTo>
                    <a:pt x="79" y="973"/>
                  </a:lnTo>
                  <a:lnTo>
                    <a:pt x="72" y="1002"/>
                  </a:lnTo>
                  <a:lnTo>
                    <a:pt x="65" y="1018"/>
                  </a:lnTo>
                  <a:lnTo>
                    <a:pt x="56" y="1032"/>
                  </a:lnTo>
                  <a:lnTo>
                    <a:pt x="47" y="1048"/>
                  </a:lnTo>
                  <a:lnTo>
                    <a:pt x="37" y="1063"/>
                  </a:lnTo>
                  <a:lnTo>
                    <a:pt x="29" y="1077"/>
                  </a:lnTo>
                  <a:lnTo>
                    <a:pt x="21" y="1093"/>
                  </a:lnTo>
                  <a:lnTo>
                    <a:pt x="14" y="1109"/>
                  </a:lnTo>
                  <a:lnTo>
                    <a:pt x="10" y="1126"/>
                  </a:lnTo>
                  <a:lnTo>
                    <a:pt x="1" y="1169"/>
                  </a:lnTo>
                  <a:lnTo>
                    <a:pt x="0" y="1211"/>
                  </a:lnTo>
                  <a:lnTo>
                    <a:pt x="1" y="1253"/>
                  </a:lnTo>
                  <a:lnTo>
                    <a:pt x="7" y="1295"/>
                  </a:lnTo>
                  <a:lnTo>
                    <a:pt x="16" y="1337"/>
                  </a:lnTo>
                  <a:lnTo>
                    <a:pt x="27" y="1377"/>
                  </a:lnTo>
                  <a:lnTo>
                    <a:pt x="41" y="1416"/>
                  </a:lnTo>
                  <a:lnTo>
                    <a:pt x="57" y="1456"/>
                  </a:lnTo>
                  <a:lnTo>
                    <a:pt x="65" y="1487"/>
                  </a:lnTo>
                  <a:lnTo>
                    <a:pt x="66" y="1517"/>
                  </a:lnTo>
                  <a:lnTo>
                    <a:pt x="62" y="1549"/>
                  </a:lnTo>
                  <a:lnTo>
                    <a:pt x="53" y="1579"/>
                  </a:lnTo>
                  <a:lnTo>
                    <a:pt x="44" y="1598"/>
                  </a:lnTo>
                  <a:lnTo>
                    <a:pt x="36" y="1615"/>
                  </a:lnTo>
                  <a:lnTo>
                    <a:pt x="27" y="1632"/>
                  </a:lnTo>
                  <a:lnTo>
                    <a:pt x="20" y="1647"/>
                  </a:lnTo>
                  <a:lnTo>
                    <a:pt x="10" y="1674"/>
                  </a:lnTo>
                  <a:lnTo>
                    <a:pt x="7" y="1703"/>
                  </a:lnTo>
                  <a:lnTo>
                    <a:pt x="11" y="1733"/>
                  </a:lnTo>
                  <a:lnTo>
                    <a:pt x="24" y="1760"/>
                  </a:lnTo>
                  <a:lnTo>
                    <a:pt x="39" y="1788"/>
                  </a:lnTo>
                  <a:lnTo>
                    <a:pt x="52" y="1818"/>
                  </a:lnTo>
                  <a:lnTo>
                    <a:pt x="60" y="1848"/>
                  </a:lnTo>
                  <a:lnTo>
                    <a:pt x="65" y="1879"/>
                  </a:lnTo>
                  <a:lnTo>
                    <a:pt x="62" y="1908"/>
                  </a:lnTo>
                  <a:lnTo>
                    <a:pt x="54" y="1935"/>
                  </a:lnTo>
                  <a:lnTo>
                    <a:pt x="39" y="1961"/>
                  </a:lnTo>
                  <a:lnTo>
                    <a:pt x="14" y="1984"/>
                  </a:lnTo>
                  <a:lnTo>
                    <a:pt x="5" y="2019"/>
                  </a:lnTo>
                  <a:lnTo>
                    <a:pt x="3" y="2052"/>
                  </a:lnTo>
                  <a:lnTo>
                    <a:pt x="5" y="2085"/>
                  </a:lnTo>
                  <a:lnTo>
                    <a:pt x="13" y="2118"/>
                  </a:lnTo>
                  <a:lnTo>
                    <a:pt x="24" y="2150"/>
                  </a:lnTo>
                  <a:lnTo>
                    <a:pt x="39" y="2181"/>
                  </a:lnTo>
                  <a:lnTo>
                    <a:pt x="54" y="2212"/>
                  </a:lnTo>
                  <a:lnTo>
                    <a:pt x="72" y="2241"/>
                  </a:lnTo>
                  <a:lnTo>
                    <a:pt x="73" y="2245"/>
                  </a:lnTo>
                  <a:lnTo>
                    <a:pt x="73" y="2252"/>
                  </a:lnTo>
                  <a:lnTo>
                    <a:pt x="72" y="2259"/>
                  </a:lnTo>
                  <a:lnTo>
                    <a:pt x="72" y="2264"/>
                  </a:lnTo>
                  <a:lnTo>
                    <a:pt x="60" y="2285"/>
                  </a:lnTo>
                  <a:lnTo>
                    <a:pt x="49" y="2307"/>
                  </a:lnTo>
                  <a:lnTo>
                    <a:pt x="40" y="2328"/>
                  </a:lnTo>
                  <a:lnTo>
                    <a:pt x="33" y="2350"/>
                  </a:lnTo>
                  <a:lnTo>
                    <a:pt x="29" y="2373"/>
                  </a:lnTo>
                  <a:lnTo>
                    <a:pt x="29" y="2395"/>
                  </a:lnTo>
                  <a:lnTo>
                    <a:pt x="33" y="2418"/>
                  </a:lnTo>
                  <a:lnTo>
                    <a:pt x="43" y="2441"/>
                  </a:lnTo>
                  <a:lnTo>
                    <a:pt x="56" y="2460"/>
                  </a:lnTo>
                  <a:lnTo>
                    <a:pt x="69" y="2480"/>
                  </a:lnTo>
                  <a:lnTo>
                    <a:pt x="82" y="2499"/>
                  </a:lnTo>
                  <a:lnTo>
                    <a:pt x="93" y="2519"/>
                  </a:lnTo>
                  <a:lnTo>
                    <a:pt x="101" y="2539"/>
                  </a:lnTo>
                  <a:lnTo>
                    <a:pt x="106" y="2561"/>
                  </a:lnTo>
                  <a:lnTo>
                    <a:pt x="106" y="2582"/>
                  </a:lnTo>
                  <a:lnTo>
                    <a:pt x="101" y="2607"/>
                  </a:lnTo>
                  <a:lnTo>
                    <a:pt x="93" y="2624"/>
                  </a:lnTo>
                  <a:lnTo>
                    <a:pt x="85" y="2641"/>
                  </a:lnTo>
                  <a:lnTo>
                    <a:pt x="76" y="2659"/>
                  </a:lnTo>
                  <a:lnTo>
                    <a:pt x="66" y="2674"/>
                  </a:lnTo>
                  <a:lnTo>
                    <a:pt x="57" y="2692"/>
                  </a:lnTo>
                  <a:lnTo>
                    <a:pt x="50" y="2709"/>
                  </a:lnTo>
                  <a:lnTo>
                    <a:pt x="43" y="2726"/>
                  </a:lnTo>
                  <a:lnTo>
                    <a:pt x="39" y="2745"/>
                  </a:lnTo>
                  <a:lnTo>
                    <a:pt x="39" y="2754"/>
                  </a:lnTo>
                  <a:lnTo>
                    <a:pt x="37" y="2762"/>
                  </a:lnTo>
                  <a:lnTo>
                    <a:pt x="37" y="2771"/>
                  </a:lnTo>
                  <a:lnTo>
                    <a:pt x="39" y="2778"/>
                  </a:lnTo>
                  <a:lnTo>
                    <a:pt x="43" y="2788"/>
                  </a:lnTo>
                  <a:lnTo>
                    <a:pt x="49" y="2797"/>
                  </a:lnTo>
                  <a:lnTo>
                    <a:pt x="54" y="2806"/>
                  </a:lnTo>
                  <a:lnTo>
                    <a:pt x="60" y="2813"/>
                  </a:lnTo>
                  <a:lnTo>
                    <a:pt x="79" y="2809"/>
                  </a:lnTo>
                  <a:lnTo>
                    <a:pt x="96" y="2801"/>
                  </a:lnTo>
                  <a:lnTo>
                    <a:pt x="114" y="2794"/>
                  </a:lnTo>
                  <a:lnTo>
                    <a:pt x="131" y="2785"/>
                  </a:lnTo>
                  <a:lnTo>
                    <a:pt x="147" y="2775"/>
                  </a:lnTo>
                  <a:lnTo>
                    <a:pt x="162" y="2767"/>
                  </a:lnTo>
                  <a:lnTo>
                    <a:pt x="178" y="2758"/>
                  </a:lnTo>
                  <a:lnTo>
                    <a:pt x="196" y="2751"/>
                  </a:lnTo>
                  <a:lnTo>
                    <a:pt x="220" y="2745"/>
                  </a:lnTo>
                  <a:lnTo>
                    <a:pt x="242" y="2745"/>
                  </a:lnTo>
                  <a:lnTo>
                    <a:pt x="263" y="2751"/>
                  </a:lnTo>
                  <a:lnTo>
                    <a:pt x="285" y="2758"/>
                  </a:lnTo>
                  <a:lnTo>
                    <a:pt x="305" y="2770"/>
                  </a:lnTo>
                  <a:lnTo>
                    <a:pt x="324" y="2783"/>
                  </a:lnTo>
                  <a:lnTo>
                    <a:pt x="344" y="2796"/>
                  </a:lnTo>
                  <a:lnTo>
                    <a:pt x="363" y="2809"/>
                  </a:lnTo>
                  <a:lnTo>
                    <a:pt x="386" y="2819"/>
                  </a:lnTo>
                  <a:lnTo>
                    <a:pt x="409" y="2823"/>
                  </a:lnTo>
                  <a:lnTo>
                    <a:pt x="430" y="2823"/>
                  </a:lnTo>
                  <a:lnTo>
                    <a:pt x="453" y="2819"/>
                  </a:lnTo>
                  <a:lnTo>
                    <a:pt x="475" y="2811"/>
                  </a:lnTo>
                  <a:lnTo>
                    <a:pt x="497" y="2803"/>
                  </a:lnTo>
                  <a:lnTo>
                    <a:pt x="517" y="2791"/>
                  </a:lnTo>
                  <a:lnTo>
                    <a:pt x="538" y="2780"/>
                  </a:lnTo>
                  <a:lnTo>
                    <a:pt x="543" y="2780"/>
                  </a:lnTo>
                  <a:lnTo>
                    <a:pt x="550" y="2778"/>
                  </a:lnTo>
                  <a:lnTo>
                    <a:pt x="557" y="2778"/>
                  </a:lnTo>
                  <a:lnTo>
                    <a:pt x="563" y="2780"/>
                  </a:lnTo>
                  <a:lnTo>
                    <a:pt x="580" y="2790"/>
                  </a:lnTo>
                  <a:lnTo>
                    <a:pt x="597" y="2800"/>
                  </a:lnTo>
                  <a:lnTo>
                    <a:pt x="615" y="2810"/>
                  </a:lnTo>
                  <a:lnTo>
                    <a:pt x="633" y="2819"/>
                  </a:lnTo>
                  <a:lnTo>
                    <a:pt x="651" y="2827"/>
                  </a:lnTo>
                  <a:lnTo>
                    <a:pt x="669" y="2834"/>
                  </a:lnTo>
                  <a:lnTo>
                    <a:pt x="690" y="2840"/>
                  </a:lnTo>
                  <a:lnTo>
                    <a:pt x="708" y="2845"/>
                  </a:lnTo>
                  <a:lnTo>
                    <a:pt x="795" y="2845"/>
                  </a:lnTo>
                  <a:lnTo>
                    <a:pt x="801" y="2843"/>
                  </a:lnTo>
                  <a:lnTo>
                    <a:pt x="808" y="2840"/>
                  </a:lnTo>
                  <a:lnTo>
                    <a:pt x="814" y="2839"/>
                  </a:lnTo>
                  <a:lnTo>
                    <a:pt x="819" y="2837"/>
                  </a:lnTo>
                  <a:lnTo>
                    <a:pt x="842" y="2813"/>
                  </a:lnTo>
                  <a:lnTo>
                    <a:pt x="868" y="2797"/>
                  </a:lnTo>
                  <a:lnTo>
                    <a:pt x="897" y="2790"/>
                  </a:lnTo>
                  <a:lnTo>
                    <a:pt x="926" y="2787"/>
                  </a:lnTo>
                  <a:lnTo>
                    <a:pt x="956" y="2791"/>
                  </a:lnTo>
                  <a:lnTo>
                    <a:pt x="986" y="2800"/>
                  </a:lnTo>
                  <a:lnTo>
                    <a:pt x="1017" y="2813"/>
                  </a:lnTo>
                  <a:lnTo>
                    <a:pt x="1044" y="2827"/>
                  </a:lnTo>
                  <a:lnTo>
                    <a:pt x="1053" y="2833"/>
                  </a:lnTo>
                  <a:lnTo>
                    <a:pt x="1063" y="2837"/>
                  </a:lnTo>
                  <a:lnTo>
                    <a:pt x="1074" y="2842"/>
                  </a:lnTo>
                  <a:lnTo>
                    <a:pt x="1084" y="2845"/>
                  </a:lnTo>
                  <a:lnTo>
                    <a:pt x="1123" y="2845"/>
                  </a:lnTo>
                  <a:lnTo>
                    <a:pt x="1132" y="2842"/>
                  </a:lnTo>
                  <a:lnTo>
                    <a:pt x="1140" y="2840"/>
                  </a:lnTo>
                  <a:lnTo>
                    <a:pt x="1149" y="2836"/>
                  </a:lnTo>
                  <a:lnTo>
                    <a:pt x="1158" y="2832"/>
                  </a:lnTo>
                  <a:lnTo>
                    <a:pt x="1165" y="2829"/>
                  </a:lnTo>
                  <a:lnTo>
                    <a:pt x="1172" y="2824"/>
                  </a:lnTo>
                  <a:lnTo>
                    <a:pt x="1181" y="2820"/>
                  </a:lnTo>
                  <a:lnTo>
                    <a:pt x="1189" y="2816"/>
                  </a:lnTo>
                  <a:lnTo>
                    <a:pt x="1198" y="2811"/>
                  </a:lnTo>
                  <a:lnTo>
                    <a:pt x="1207" y="2807"/>
                  </a:lnTo>
                  <a:lnTo>
                    <a:pt x="1215" y="2803"/>
                  </a:lnTo>
                  <a:lnTo>
                    <a:pt x="1224" y="2798"/>
                  </a:lnTo>
                  <a:lnTo>
                    <a:pt x="1238" y="2794"/>
                  </a:lnTo>
                  <a:lnTo>
                    <a:pt x="1254" y="2790"/>
                  </a:lnTo>
                  <a:lnTo>
                    <a:pt x="1270" y="2787"/>
                  </a:lnTo>
                  <a:lnTo>
                    <a:pt x="1286" y="2785"/>
                  </a:lnTo>
                  <a:lnTo>
                    <a:pt x="1302" y="2785"/>
                  </a:lnTo>
                  <a:lnTo>
                    <a:pt x="1318" y="2787"/>
                  </a:lnTo>
                  <a:lnTo>
                    <a:pt x="1333" y="2790"/>
                  </a:lnTo>
                  <a:lnTo>
                    <a:pt x="1348" y="2794"/>
                  </a:lnTo>
                  <a:lnTo>
                    <a:pt x="1368" y="2803"/>
                  </a:lnTo>
                  <a:lnTo>
                    <a:pt x="1387" y="2810"/>
                  </a:lnTo>
                  <a:lnTo>
                    <a:pt x="1407" y="2817"/>
                  </a:lnTo>
                  <a:lnTo>
                    <a:pt x="1426" y="2823"/>
                  </a:lnTo>
                  <a:lnTo>
                    <a:pt x="1446" y="2830"/>
                  </a:lnTo>
                  <a:lnTo>
                    <a:pt x="1466" y="2836"/>
                  </a:lnTo>
                  <a:lnTo>
                    <a:pt x="1486" y="2840"/>
                  </a:lnTo>
                  <a:lnTo>
                    <a:pt x="1506" y="2845"/>
                  </a:lnTo>
                  <a:lnTo>
                    <a:pt x="1665" y="2845"/>
                  </a:lnTo>
                  <a:lnTo>
                    <a:pt x="1668" y="2843"/>
                  </a:lnTo>
                  <a:lnTo>
                    <a:pt x="1671" y="2843"/>
                  </a:lnTo>
                  <a:lnTo>
                    <a:pt x="1673" y="2843"/>
                  </a:lnTo>
                  <a:lnTo>
                    <a:pt x="1676" y="2842"/>
                  </a:lnTo>
                  <a:lnTo>
                    <a:pt x="1694" y="2837"/>
                  </a:lnTo>
                  <a:lnTo>
                    <a:pt x="1709" y="2830"/>
                  </a:lnTo>
                  <a:lnTo>
                    <a:pt x="1725" y="2823"/>
                  </a:lnTo>
                  <a:lnTo>
                    <a:pt x="1740" y="2814"/>
                  </a:lnTo>
                  <a:lnTo>
                    <a:pt x="1754" y="2804"/>
                  </a:lnTo>
                  <a:lnTo>
                    <a:pt x="1770" y="2796"/>
                  </a:lnTo>
                  <a:lnTo>
                    <a:pt x="1784" y="2787"/>
                  </a:lnTo>
                  <a:lnTo>
                    <a:pt x="1800" y="27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7840" y="4336920"/>
              <a:ext cx="1365840" cy="1579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7840" y="4336920"/>
              <a:ext cx="1365840" cy="1579680"/>
            </a:xfrm>
            <a:custGeom>
              <a:avLst/>
              <a:gdLst/>
              <a:ahLst/>
              <a:rect l="l" t="t" r="r" b="b"/>
              <a:pathLst>
                <a:path w="2151" h="2487">
                  <a:moveTo>
                    <a:pt x="2151" y="2487"/>
                  </a:moveTo>
                  <a:lnTo>
                    <a:pt x="0" y="0"/>
                  </a:lnTo>
                  <a:lnTo>
                    <a:pt x="0" y="2487"/>
                  </a:lnTo>
                  <a:lnTo>
                    <a:pt x="2151" y="2487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74360" y="4395600"/>
              <a:ext cx="433800" cy="362520"/>
            </a:xfrm>
            <a:custGeom>
              <a:avLst/>
              <a:gdLst/>
              <a:ahLst/>
              <a:rect l="l" t="t" r="r" b="b"/>
              <a:pathLst>
                <a:path w="683" h="571">
                  <a:moveTo>
                    <a:pt x="479" y="571"/>
                  </a:moveTo>
                  <a:lnTo>
                    <a:pt x="486" y="564"/>
                  </a:lnTo>
                  <a:lnTo>
                    <a:pt x="503" y="545"/>
                  </a:lnTo>
                  <a:lnTo>
                    <a:pt x="528" y="516"/>
                  </a:lnTo>
                  <a:lnTo>
                    <a:pt x="556" y="479"/>
                  </a:lnTo>
                  <a:lnTo>
                    <a:pt x="584" y="437"/>
                  </a:lnTo>
                  <a:lnTo>
                    <a:pt x="607" y="392"/>
                  </a:lnTo>
                  <a:lnTo>
                    <a:pt x="621" y="345"/>
                  </a:lnTo>
                  <a:lnTo>
                    <a:pt x="624" y="300"/>
                  </a:lnTo>
                  <a:lnTo>
                    <a:pt x="626" y="292"/>
                  </a:lnTo>
                  <a:lnTo>
                    <a:pt x="626" y="268"/>
                  </a:lnTo>
                  <a:lnTo>
                    <a:pt x="624" y="235"/>
                  </a:lnTo>
                  <a:lnTo>
                    <a:pt x="615" y="195"/>
                  </a:lnTo>
                  <a:lnTo>
                    <a:pt x="597" y="153"/>
                  </a:lnTo>
                  <a:lnTo>
                    <a:pt x="567" y="111"/>
                  </a:lnTo>
                  <a:lnTo>
                    <a:pt x="520" y="74"/>
                  </a:lnTo>
                  <a:lnTo>
                    <a:pt x="454" y="46"/>
                  </a:lnTo>
                  <a:lnTo>
                    <a:pt x="453" y="46"/>
                  </a:lnTo>
                  <a:lnTo>
                    <a:pt x="450" y="45"/>
                  </a:lnTo>
                  <a:lnTo>
                    <a:pt x="444" y="44"/>
                  </a:lnTo>
                  <a:lnTo>
                    <a:pt x="435" y="42"/>
                  </a:lnTo>
                  <a:lnTo>
                    <a:pt x="425" y="41"/>
                  </a:lnTo>
                  <a:lnTo>
                    <a:pt x="414" y="41"/>
                  </a:lnTo>
                  <a:lnTo>
                    <a:pt x="398" y="41"/>
                  </a:lnTo>
                  <a:lnTo>
                    <a:pt x="382" y="41"/>
                  </a:lnTo>
                  <a:lnTo>
                    <a:pt x="362" y="42"/>
                  </a:lnTo>
                  <a:lnTo>
                    <a:pt x="342" y="45"/>
                  </a:lnTo>
                  <a:lnTo>
                    <a:pt x="317" y="49"/>
                  </a:lnTo>
                  <a:lnTo>
                    <a:pt x="291" y="54"/>
                  </a:lnTo>
                  <a:lnTo>
                    <a:pt x="264" y="62"/>
                  </a:lnTo>
                  <a:lnTo>
                    <a:pt x="234" y="72"/>
                  </a:lnTo>
                  <a:lnTo>
                    <a:pt x="202" y="84"/>
                  </a:lnTo>
                  <a:lnTo>
                    <a:pt x="168" y="98"/>
                  </a:lnTo>
                  <a:lnTo>
                    <a:pt x="159" y="104"/>
                  </a:lnTo>
                  <a:lnTo>
                    <a:pt x="137" y="121"/>
                  </a:lnTo>
                  <a:lnTo>
                    <a:pt x="110" y="147"/>
                  </a:lnTo>
                  <a:lnTo>
                    <a:pt x="80" y="181"/>
                  </a:lnTo>
                  <a:lnTo>
                    <a:pt x="55" y="218"/>
                  </a:lnTo>
                  <a:lnTo>
                    <a:pt x="39" y="261"/>
                  </a:lnTo>
                  <a:lnTo>
                    <a:pt x="42" y="305"/>
                  </a:lnTo>
                  <a:lnTo>
                    <a:pt x="65" y="349"/>
                  </a:lnTo>
                  <a:lnTo>
                    <a:pt x="67" y="351"/>
                  </a:lnTo>
                  <a:lnTo>
                    <a:pt x="72" y="356"/>
                  </a:lnTo>
                  <a:lnTo>
                    <a:pt x="83" y="365"/>
                  </a:lnTo>
                  <a:lnTo>
                    <a:pt x="94" y="375"/>
                  </a:lnTo>
                  <a:lnTo>
                    <a:pt x="110" y="388"/>
                  </a:lnTo>
                  <a:lnTo>
                    <a:pt x="129" y="401"/>
                  </a:lnTo>
                  <a:lnTo>
                    <a:pt x="149" y="414"/>
                  </a:lnTo>
                  <a:lnTo>
                    <a:pt x="172" y="428"/>
                  </a:lnTo>
                  <a:lnTo>
                    <a:pt x="196" y="440"/>
                  </a:lnTo>
                  <a:lnTo>
                    <a:pt x="224" y="452"/>
                  </a:lnTo>
                  <a:lnTo>
                    <a:pt x="253" y="462"/>
                  </a:lnTo>
                  <a:lnTo>
                    <a:pt x="281" y="467"/>
                  </a:lnTo>
                  <a:lnTo>
                    <a:pt x="312" y="472"/>
                  </a:lnTo>
                  <a:lnTo>
                    <a:pt x="343" y="470"/>
                  </a:lnTo>
                  <a:lnTo>
                    <a:pt x="376" y="466"/>
                  </a:lnTo>
                  <a:lnTo>
                    <a:pt x="408" y="456"/>
                  </a:lnTo>
                  <a:lnTo>
                    <a:pt x="417" y="453"/>
                  </a:lnTo>
                  <a:lnTo>
                    <a:pt x="437" y="441"/>
                  </a:lnTo>
                  <a:lnTo>
                    <a:pt x="461" y="421"/>
                  </a:lnTo>
                  <a:lnTo>
                    <a:pt x="486" y="394"/>
                  </a:lnTo>
                  <a:lnTo>
                    <a:pt x="500" y="356"/>
                  </a:lnTo>
                  <a:lnTo>
                    <a:pt x="499" y="310"/>
                  </a:lnTo>
                  <a:lnTo>
                    <a:pt x="474" y="254"/>
                  </a:lnTo>
                  <a:lnTo>
                    <a:pt x="421" y="186"/>
                  </a:lnTo>
                  <a:lnTo>
                    <a:pt x="417" y="183"/>
                  </a:lnTo>
                  <a:lnTo>
                    <a:pt x="407" y="176"/>
                  </a:lnTo>
                  <a:lnTo>
                    <a:pt x="389" y="168"/>
                  </a:lnTo>
                  <a:lnTo>
                    <a:pt x="366" y="162"/>
                  </a:lnTo>
                  <a:lnTo>
                    <a:pt x="336" y="162"/>
                  </a:lnTo>
                  <a:lnTo>
                    <a:pt x="301" y="169"/>
                  </a:lnTo>
                  <a:lnTo>
                    <a:pt x="263" y="189"/>
                  </a:lnTo>
                  <a:lnTo>
                    <a:pt x="218" y="224"/>
                  </a:lnTo>
                  <a:lnTo>
                    <a:pt x="215" y="228"/>
                  </a:lnTo>
                  <a:lnTo>
                    <a:pt x="208" y="241"/>
                  </a:lnTo>
                  <a:lnTo>
                    <a:pt x="199" y="260"/>
                  </a:lnTo>
                  <a:lnTo>
                    <a:pt x="192" y="283"/>
                  </a:lnTo>
                  <a:lnTo>
                    <a:pt x="189" y="307"/>
                  </a:lnTo>
                  <a:lnTo>
                    <a:pt x="193" y="330"/>
                  </a:lnTo>
                  <a:lnTo>
                    <a:pt x="208" y="351"/>
                  </a:lnTo>
                  <a:lnTo>
                    <a:pt x="235" y="367"/>
                  </a:lnTo>
                  <a:lnTo>
                    <a:pt x="241" y="369"/>
                  </a:lnTo>
                  <a:lnTo>
                    <a:pt x="254" y="377"/>
                  </a:lnTo>
                  <a:lnTo>
                    <a:pt x="274" y="384"/>
                  </a:lnTo>
                  <a:lnTo>
                    <a:pt x="299" y="387"/>
                  </a:lnTo>
                  <a:lnTo>
                    <a:pt x="323" y="382"/>
                  </a:lnTo>
                  <a:lnTo>
                    <a:pt x="346" y="368"/>
                  </a:lnTo>
                  <a:lnTo>
                    <a:pt x="365" y="339"/>
                  </a:lnTo>
                  <a:lnTo>
                    <a:pt x="378" y="292"/>
                  </a:lnTo>
                  <a:lnTo>
                    <a:pt x="376" y="287"/>
                  </a:lnTo>
                  <a:lnTo>
                    <a:pt x="369" y="277"/>
                  </a:lnTo>
                  <a:lnTo>
                    <a:pt x="361" y="264"/>
                  </a:lnTo>
                  <a:lnTo>
                    <a:pt x="348" y="251"/>
                  </a:lnTo>
                  <a:lnTo>
                    <a:pt x="332" y="244"/>
                  </a:lnTo>
                  <a:lnTo>
                    <a:pt x="312" y="244"/>
                  </a:lnTo>
                  <a:lnTo>
                    <a:pt x="291" y="256"/>
                  </a:lnTo>
                  <a:lnTo>
                    <a:pt x="267" y="281"/>
                  </a:lnTo>
                  <a:lnTo>
                    <a:pt x="271" y="276"/>
                  </a:lnTo>
                  <a:lnTo>
                    <a:pt x="281" y="260"/>
                  </a:lnTo>
                  <a:lnTo>
                    <a:pt x="297" y="243"/>
                  </a:lnTo>
                  <a:lnTo>
                    <a:pt x="317" y="228"/>
                  </a:lnTo>
                  <a:lnTo>
                    <a:pt x="340" y="224"/>
                  </a:lnTo>
                  <a:lnTo>
                    <a:pt x="368" y="237"/>
                  </a:lnTo>
                  <a:lnTo>
                    <a:pt x="395" y="273"/>
                  </a:lnTo>
                  <a:lnTo>
                    <a:pt x="422" y="336"/>
                  </a:lnTo>
                  <a:lnTo>
                    <a:pt x="424" y="348"/>
                  </a:lnTo>
                  <a:lnTo>
                    <a:pt x="422" y="361"/>
                  </a:lnTo>
                  <a:lnTo>
                    <a:pt x="415" y="375"/>
                  </a:lnTo>
                  <a:lnTo>
                    <a:pt x="405" y="390"/>
                  </a:lnTo>
                  <a:lnTo>
                    <a:pt x="391" y="404"/>
                  </a:lnTo>
                  <a:lnTo>
                    <a:pt x="372" y="416"/>
                  </a:lnTo>
                  <a:lnTo>
                    <a:pt x="348" y="423"/>
                  </a:lnTo>
                  <a:lnTo>
                    <a:pt x="317" y="427"/>
                  </a:lnTo>
                  <a:lnTo>
                    <a:pt x="310" y="427"/>
                  </a:lnTo>
                  <a:lnTo>
                    <a:pt x="293" y="427"/>
                  </a:lnTo>
                  <a:lnTo>
                    <a:pt x="267" y="426"/>
                  </a:lnTo>
                  <a:lnTo>
                    <a:pt x="238" y="417"/>
                  </a:lnTo>
                  <a:lnTo>
                    <a:pt x="208" y="404"/>
                  </a:lnTo>
                  <a:lnTo>
                    <a:pt x="182" y="381"/>
                  </a:lnTo>
                  <a:lnTo>
                    <a:pt x="160" y="346"/>
                  </a:lnTo>
                  <a:lnTo>
                    <a:pt x="150" y="300"/>
                  </a:lnTo>
                  <a:lnTo>
                    <a:pt x="150" y="297"/>
                  </a:lnTo>
                  <a:lnTo>
                    <a:pt x="150" y="292"/>
                  </a:lnTo>
                  <a:lnTo>
                    <a:pt x="152" y="280"/>
                  </a:lnTo>
                  <a:lnTo>
                    <a:pt x="155" y="267"/>
                  </a:lnTo>
                  <a:lnTo>
                    <a:pt x="159" y="251"/>
                  </a:lnTo>
                  <a:lnTo>
                    <a:pt x="165" y="234"/>
                  </a:lnTo>
                  <a:lnTo>
                    <a:pt x="173" y="215"/>
                  </a:lnTo>
                  <a:lnTo>
                    <a:pt x="185" y="198"/>
                  </a:lnTo>
                  <a:lnTo>
                    <a:pt x="199" y="181"/>
                  </a:lnTo>
                  <a:lnTo>
                    <a:pt x="217" y="165"/>
                  </a:lnTo>
                  <a:lnTo>
                    <a:pt x="240" y="150"/>
                  </a:lnTo>
                  <a:lnTo>
                    <a:pt x="267" y="140"/>
                  </a:lnTo>
                  <a:lnTo>
                    <a:pt x="299" y="133"/>
                  </a:lnTo>
                  <a:lnTo>
                    <a:pt x="336" y="130"/>
                  </a:lnTo>
                  <a:lnTo>
                    <a:pt x="381" y="133"/>
                  </a:lnTo>
                  <a:lnTo>
                    <a:pt x="430" y="142"/>
                  </a:lnTo>
                  <a:lnTo>
                    <a:pt x="438" y="144"/>
                  </a:lnTo>
                  <a:lnTo>
                    <a:pt x="460" y="153"/>
                  </a:lnTo>
                  <a:lnTo>
                    <a:pt x="489" y="169"/>
                  </a:lnTo>
                  <a:lnTo>
                    <a:pt x="519" y="194"/>
                  </a:lnTo>
                  <a:lnTo>
                    <a:pt x="545" y="228"/>
                  </a:lnTo>
                  <a:lnTo>
                    <a:pt x="561" y="274"/>
                  </a:lnTo>
                  <a:lnTo>
                    <a:pt x="561" y="332"/>
                  </a:lnTo>
                  <a:lnTo>
                    <a:pt x="539" y="405"/>
                  </a:lnTo>
                  <a:lnTo>
                    <a:pt x="539" y="407"/>
                  </a:lnTo>
                  <a:lnTo>
                    <a:pt x="538" y="413"/>
                  </a:lnTo>
                  <a:lnTo>
                    <a:pt x="535" y="420"/>
                  </a:lnTo>
                  <a:lnTo>
                    <a:pt x="530" y="430"/>
                  </a:lnTo>
                  <a:lnTo>
                    <a:pt x="526" y="441"/>
                  </a:lnTo>
                  <a:lnTo>
                    <a:pt x="518" y="454"/>
                  </a:lnTo>
                  <a:lnTo>
                    <a:pt x="509" y="469"/>
                  </a:lnTo>
                  <a:lnTo>
                    <a:pt x="496" y="482"/>
                  </a:lnTo>
                  <a:lnTo>
                    <a:pt x="482" y="495"/>
                  </a:lnTo>
                  <a:lnTo>
                    <a:pt x="463" y="506"/>
                  </a:lnTo>
                  <a:lnTo>
                    <a:pt x="441" y="516"/>
                  </a:lnTo>
                  <a:lnTo>
                    <a:pt x="417" y="524"/>
                  </a:lnTo>
                  <a:lnTo>
                    <a:pt x="388" y="529"/>
                  </a:lnTo>
                  <a:lnTo>
                    <a:pt x="355" y="531"/>
                  </a:lnTo>
                  <a:lnTo>
                    <a:pt x="317" y="529"/>
                  </a:lnTo>
                  <a:lnTo>
                    <a:pt x="276" y="522"/>
                  </a:lnTo>
                  <a:lnTo>
                    <a:pt x="273" y="521"/>
                  </a:lnTo>
                  <a:lnTo>
                    <a:pt x="264" y="518"/>
                  </a:lnTo>
                  <a:lnTo>
                    <a:pt x="251" y="514"/>
                  </a:lnTo>
                  <a:lnTo>
                    <a:pt x="234" y="506"/>
                  </a:lnTo>
                  <a:lnTo>
                    <a:pt x="214" y="498"/>
                  </a:lnTo>
                  <a:lnTo>
                    <a:pt x="191" y="486"/>
                  </a:lnTo>
                  <a:lnTo>
                    <a:pt x="166" y="473"/>
                  </a:lnTo>
                  <a:lnTo>
                    <a:pt x="140" y="459"/>
                  </a:lnTo>
                  <a:lnTo>
                    <a:pt x="116" y="441"/>
                  </a:lnTo>
                  <a:lnTo>
                    <a:pt x="91" y="423"/>
                  </a:lnTo>
                  <a:lnTo>
                    <a:pt x="68" y="403"/>
                  </a:lnTo>
                  <a:lnTo>
                    <a:pt x="47" y="379"/>
                  </a:lnTo>
                  <a:lnTo>
                    <a:pt x="28" y="355"/>
                  </a:lnTo>
                  <a:lnTo>
                    <a:pt x="15" y="329"/>
                  </a:lnTo>
                  <a:lnTo>
                    <a:pt x="5" y="302"/>
                  </a:lnTo>
                  <a:lnTo>
                    <a:pt x="0" y="271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0" y="251"/>
                  </a:lnTo>
                  <a:lnTo>
                    <a:pt x="0" y="238"/>
                  </a:lnTo>
                  <a:lnTo>
                    <a:pt x="3" y="221"/>
                  </a:lnTo>
                  <a:lnTo>
                    <a:pt x="6" y="202"/>
                  </a:lnTo>
                  <a:lnTo>
                    <a:pt x="13" y="182"/>
                  </a:lnTo>
                  <a:lnTo>
                    <a:pt x="22" y="160"/>
                  </a:lnTo>
                  <a:lnTo>
                    <a:pt x="34" y="139"/>
                  </a:lnTo>
                  <a:lnTo>
                    <a:pt x="49" y="117"/>
                  </a:lnTo>
                  <a:lnTo>
                    <a:pt x="70" y="94"/>
                  </a:lnTo>
                  <a:lnTo>
                    <a:pt x="94" y="74"/>
                  </a:lnTo>
                  <a:lnTo>
                    <a:pt x="124" y="54"/>
                  </a:lnTo>
                  <a:lnTo>
                    <a:pt x="159" y="36"/>
                  </a:lnTo>
                  <a:lnTo>
                    <a:pt x="201" y="22"/>
                  </a:lnTo>
                  <a:lnTo>
                    <a:pt x="248" y="10"/>
                  </a:lnTo>
                  <a:lnTo>
                    <a:pt x="251" y="10"/>
                  </a:lnTo>
                  <a:lnTo>
                    <a:pt x="261" y="8"/>
                  </a:lnTo>
                  <a:lnTo>
                    <a:pt x="276" y="6"/>
                  </a:lnTo>
                  <a:lnTo>
                    <a:pt x="296" y="3"/>
                  </a:lnTo>
                  <a:lnTo>
                    <a:pt x="319" y="2"/>
                  </a:lnTo>
                  <a:lnTo>
                    <a:pt x="346" y="0"/>
                  </a:lnTo>
                  <a:lnTo>
                    <a:pt x="376" y="0"/>
                  </a:lnTo>
                  <a:lnTo>
                    <a:pt x="410" y="3"/>
                  </a:lnTo>
                  <a:lnTo>
                    <a:pt x="443" y="8"/>
                  </a:lnTo>
                  <a:lnTo>
                    <a:pt x="477" y="15"/>
                  </a:lnTo>
                  <a:lnTo>
                    <a:pt x="512" y="25"/>
                  </a:lnTo>
                  <a:lnTo>
                    <a:pt x="545" y="41"/>
                  </a:lnTo>
                  <a:lnTo>
                    <a:pt x="578" y="59"/>
                  </a:lnTo>
                  <a:lnTo>
                    <a:pt x="608" y="83"/>
                  </a:lnTo>
                  <a:lnTo>
                    <a:pt x="637" y="113"/>
                  </a:lnTo>
                  <a:lnTo>
                    <a:pt x="662" y="147"/>
                  </a:lnTo>
                  <a:lnTo>
                    <a:pt x="663" y="150"/>
                  </a:lnTo>
                  <a:lnTo>
                    <a:pt x="666" y="157"/>
                  </a:lnTo>
                  <a:lnTo>
                    <a:pt x="670" y="169"/>
                  </a:lnTo>
                  <a:lnTo>
                    <a:pt x="675" y="185"/>
                  </a:lnTo>
                  <a:lnTo>
                    <a:pt x="679" y="204"/>
                  </a:lnTo>
                  <a:lnTo>
                    <a:pt x="682" y="227"/>
                  </a:lnTo>
                  <a:lnTo>
                    <a:pt x="683" y="253"/>
                  </a:lnTo>
                  <a:lnTo>
                    <a:pt x="682" y="281"/>
                  </a:lnTo>
                  <a:lnTo>
                    <a:pt x="677" y="313"/>
                  </a:lnTo>
                  <a:lnTo>
                    <a:pt x="667" y="346"/>
                  </a:lnTo>
                  <a:lnTo>
                    <a:pt x="653" y="381"/>
                  </a:lnTo>
                  <a:lnTo>
                    <a:pt x="633" y="417"/>
                  </a:lnTo>
                  <a:lnTo>
                    <a:pt x="607" y="454"/>
                  </a:lnTo>
                  <a:lnTo>
                    <a:pt x="572" y="493"/>
                  </a:lnTo>
                  <a:lnTo>
                    <a:pt x="530" y="532"/>
                  </a:lnTo>
                  <a:lnTo>
                    <a:pt x="479" y="571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8000" y="5108400"/>
              <a:ext cx="249480" cy="236160"/>
            </a:xfrm>
            <a:custGeom>
              <a:avLst/>
              <a:gdLst/>
              <a:ahLst/>
              <a:rect l="l" t="t" r="r" b="b"/>
              <a:pathLst>
                <a:path w="393" h="372">
                  <a:moveTo>
                    <a:pt x="216" y="0"/>
                  </a:moveTo>
                  <a:lnTo>
                    <a:pt x="210" y="1"/>
                  </a:lnTo>
                  <a:lnTo>
                    <a:pt x="196" y="7"/>
                  </a:lnTo>
                  <a:lnTo>
                    <a:pt x="174" y="16"/>
                  </a:lnTo>
                  <a:lnTo>
                    <a:pt x="148" y="27"/>
                  </a:lnTo>
                  <a:lnTo>
                    <a:pt x="123" y="42"/>
                  </a:lnTo>
                  <a:lnTo>
                    <a:pt x="98" y="59"/>
                  </a:lnTo>
                  <a:lnTo>
                    <a:pt x="76" y="79"/>
                  </a:lnTo>
                  <a:lnTo>
                    <a:pt x="64" y="102"/>
                  </a:lnTo>
                  <a:lnTo>
                    <a:pt x="61" y="107"/>
                  </a:lnTo>
                  <a:lnTo>
                    <a:pt x="53" y="118"/>
                  </a:lnTo>
                  <a:lnTo>
                    <a:pt x="45" y="137"/>
                  </a:lnTo>
                  <a:lnTo>
                    <a:pt x="39" y="160"/>
                  </a:lnTo>
                  <a:lnTo>
                    <a:pt x="36" y="187"/>
                  </a:lnTo>
                  <a:lnTo>
                    <a:pt x="40" y="219"/>
                  </a:lnTo>
                  <a:lnTo>
                    <a:pt x="55" y="251"/>
                  </a:lnTo>
                  <a:lnTo>
                    <a:pt x="82" y="284"/>
                  </a:lnTo>
                  <a:lnTo>
                    <a:pt x="84" y="285"/>
                  </a:lnTo>
                  <a:lnTo>
                    <a:pt x="91" y="291"/>
                  </a:lnTo>
                  <a:lnTo>
                    <a:pt x="102" y="298"/>
                  </a:lnTo>
                  <a:lnTo>
                    <a:pt x="118" y="308"/>
                  </a:lnTo>
                  <a:lnTo>
                    <a:pt x="141" y="317"/>
                  </a:lnTo>
                  <a:lnTo>
                    <a:pt x="170" y="326"/>
                  </a:lnTo>
                  <a:lnTo>
                    <a:pt x="205" y="333"/>
                  </a:lnTo>
                  <a:lnTo>
                    <a:pt x="248" y="337"/>
                  </a:lnTo>
                  <a:lnTo>
                    <a:pt x="254" y="336"/>
                  </a:lnTo>
                  <a:lnTo>
                    <a:pt x="269" y="333"/>
                  </a:lnTo>
                  <a:lnTo>
                    <a:pt x="293" y="329"/>
                  </a:lnTo>
                  <a:lnTo>
                    <a:pt x="317" y="318"/>
                  </a:lnTo>
                  <a:lnTo>
                    <a:pt x="341" y="306"/>
                  </a:lnTo>
                  <a:lnTo>
                    <a:pt x="362" y="287"/>
                  </a:lnTo>
                  <a:lnTo>
                    <a:pt x="373" y="264"/>
                  </a:lnTo>
                  <a:lnTo>
                    <a:pt x="373" y="233"/>
                  </a:lnTo>
                  <a:lnTo>
                    <a:pt x="372" y="228"/>
                  </a:lnTo>
                  <a:lnTo>
                    <a:pt x="365" y="212"/>
                  </a:lnTo>
                  <a:lnTo>
                    <a:pt x="354" y="189"/>
                  </a:lnTo>
                  <a:lnTo>
                    <a:pt x="339" y="161"/>
                  </a:lnTo>
                  <a:lnTo>
                    <a:pt x="317" y="134"/>
                  </a:lnTo>
                  <a:lnTo>
                    <a:pt x="291" y="109"/>
                  </a:lnTo>
                  <a:lnTo>
                    <a:pt x="259" y="91"/>
                  </a:lnTo>
                  <a:lnTo>
                    <a:pt x="221" y="81"/>
                  </a:lnTo>
                  <a:lnTo>
                    <a:pt x="215" y="81"/>
                  </a:lnTo>
                  <a:lnTo>
                    <a:pt x="202" y="81"/>
                  </a:lnTo>
                  <a:lnTo>
                    <a:pt x="183" y="84"/>
                  </a:lnTo>
                  <a:lnTo>
                    <a:pt x="163" y="91"/>
                  </a:lnTo>
                  <a:lnTo>
                    <a:pt x="144" y="107"/>
                  </a:lnTo>
                  <a:lnTo>
                    <a:pt x="131" y="131"/>
                  </a:lnTo>
                  <a:lnTo>
                    <a:pt x="128" y="169"/>
                  </a:lnTo>
                  <a:lnTo>
                    <a:pt x="138" y="219"/>
                  </a:lnTo>
                  <a:lnTo>
                    <a:pt x="140" y="222"/>
                  </a:lnTo>
                  <a:lnTo>
                    <a:pt x="143" y="229"/>
                  </a:lnTo>
                  <a:lnTo>
                    <a:pt x="150" y="238"/>
                  </a:lnTo>
                  <a:lnTo>
                    <a:pt x="161" y="248"/>
                  </a:lnTo>
                  <a:lnTo>
                    <a:pt x="176" y="256"/>
                  </a:lnTo>
                  <a:lnTo>
                    <a:pt x="197" y="262"/>
                  </a:lnTo>
                  <a:lnTo>
                    <a:pt x="223" y="262"/>
                  </a:lnTo>
                  <a:lnTo>
                    <a:pt x="257" y="256"/>
                  </a:lnTo>
                  <a:lnTo>
                    <a:pt x="259" y="255"/>
                  </a:lnTo>
                  <a:lnTo>
                    <a:pt x="267" y="251"/>
                  </a:lnTo>
                  <a:lnTo>
                    <a:pt x="277" y="242"/>
                  </a:lnTo>
                  <a:lnTo>
                    <a:pt x="287" y="233"/>
                  </a:lnTo>
                  <a:lnTo>
                    <a:pt x="295" y="220"/>
                  </a:lnTo>
                  <a:lnTo>
                    <a:pt x="300" y="207"/>
                  </a:lnTo>
                  <a:lnTo>
                    <a:pt x="298" y="192"/>
                  </a:lnTo>
                  <a:lnTo>
                    <a:pt x="288" y="176"/>
                  </a:lnTo>
                  <a:lnTo>
                    <a:pt x="287" y="173"/>
                  </a:lnTo>
                  <a:lnTo>
                    <a:pt x="281" y="166"/>
                  </a:lnTo>
                  <a:lnTo>
                    <a:pt x="272" y="156"/>
                  </a:lnTo>
                  <a:lnTo>
                    <a:pt x="261" y="147"/>
                  </a:lnTo>
                  <a:lnTo>
                    <a:pt x="246" y="143"/>
                  </a:lnTo>
                  <a:lnTo>
                    <a:pt x="229" y="144"/>
                  </a:lnTo>
                  <a:lnTo>
                    <a:pt x="210" y="154"/>
                  </a:lnTo>
                  <a:lnTo>
                    <a:pt x="190" y="176"/>
                  </a:lnTo>
                  <a:lnTo>
                    <a:pt x="190" y="179"/>
                  </a:lnTo>
                  <a:lnTo>
                    <a:pt x="190" y="186"/>
                  </a:lnTo>
                  <a:lnTo>
                    <a:pt x="192" y="195"/>
                  </a:lnTo>
                  <a:lnTo>
                    <a:pt x="196" y="205"/>
                  </a:lnTo>
                  <a:lnTo>
                    <a:pt x="202" y="213"/>
                  </a:lnTo>
                  <a:lnTo>
                    <a:pt x="212" y="219"/>
                  </a:lnTo>
                  <a:lnTo>
                    <a:pt x="226" y="219"/>
                  </a:lnTo>
                  <a:lnTo>
                    <a:pt x="246" y="212"/>
                  </a:lnTo>
                  <a:lnTo>
                    <a:pt x="242" y="215"/>
                  </a:lnTo>
                  <a:lnTo>
                    <a:pt x="233" y="219"/>
                  </a:lnTo>
                  <a:lnTo>
                    <a:pt x="219" y="225"/>
                  </a:lnTo>
                  <a:lnTo>
                    <a:pt x="205" y="226"/>
                  </a:lnTo>
                  <a:lnTo>
                    <a:pt x="192" y="222"/>
                  </a:lnTo>
                  <a:lnTo>
                    <a:pt x="182" y="207"/>
                  </a:lnTo>
                  <a:lnTo>
                    <a:pt x="177" y="182"/>
                  </a:lnTo>
                  <a:lnTo>
                    <a:pt x="180" y="140"/>
                  </a:lnTo>
                  <a:lnTo>
                    <a:pt x="182" y="133"/>
                  </a:lnTo>
                  <a:lnTo>
                    <a:pt x="187" y="127"/>
                  </a:lnTo>
                  <a:lnTo>
                    <a:pt x="193" y="121"/>
                  </a:lnTo>
                  <a:lnTo>
                    <a:pt x="203" y="115"/>
                  </a:lnTo>
                  <a:lnTo>
                    <a:pt x="215" y="112"/>
                  </a:lnTo>
                  <a:lnTo>
                    <a:pt x="228" y="112"/>
                  </a:lnTo>
                  <a:lnTo>
                    <a:pt x="244" y="115"/>
                  </a:lnTo>
                  <a:lnTo>
                    <a:pt x="261" y="121"/>
                  </a:lnTo>
                  <a:lnTo>
                    <a:pt x="265" y="122"/>
                  </a:lnTo>
                  <a:lnTo>
                    <a:pt x="274" y="128"/>
                  </a:lnTo>
                  <a:lnTo>
                    <a:pt x="287" y="135"/>
                  </a:lnTo>
                  <a:lnTo>
                    <a:pt x="301" y="148"/>
                  </a:lnTo>
                  <a:lnTo>
                    <a:pt x="313" y="164"/>
                  </a:lnTo>
                  <a:lnTo>
                    <a:pt x="320" y="183"/>
                  </a:lnTo>
                  <a:lnTo>
                    <a:pt x="321" y="207"/>
                  </a:lnTo>
                  <a:lnTo>
                    <a:pt x="314" y="235"/>
                  </a:lnTo>
                  <a:lnTo>
                    <a:pt x="311" y="239"/>
                  </a:lnTo>
                  <a:lnTo>
                    <a:pt x="303" y="252"/>
                  </a:lnTo>
                  <a:lnTo>
                    <a:pt x="288" y="267"/>
                  </a:lnTo>
                  <a:lnTo>
                    <a:pt x="268" y="280"/>
                  </a:lnTo>
                  <a:lnTo>
                    <a:pt x="241" y="288"/>
                  </a:lnTo>
                  <a:lnTo>
                    <a:pt x="208" y="287"/>
                  </a:lnTo>
                  <a:lnTo>
                    <a:pt x="167" y="272"/>
                  </a:lnTo>
                  <a:lnTo>
                    <a:pt x="121" y="241"/>
                  </a:lnTo>
                  <a:lnTo>
                    <a:pt x="117" y="236"/>
                  </a:lnTo>
                  <a:lnTo>
                    <a:pt x="108" y="226"/>
                  </a:lnTo>
                  <a:lnTo>
                    <a:pt x="98" y="210"/>
                  </a:lnTo>
                  <a:lnTo>
                    <a:pt x="88" y="189"/>
                  </a:lnTo>
                  <a:lnTo>
                    <a:pt x="85" y="163"/>
                  </a:lnTo>
                  <a:lnTo>
                    <a:pt x="89" y="134"/>
                  </a:lnTo>
                  <a:lnTo>
                    <a:pt x="105" y="104"/>
                  </a:lnTo>
                  <a:lnTo>
                    <a:pt x="137" y="71"/>
                  </a:lnTo>
                  <a:lnTo>
                    <a:pt x="140" y="68"/>
                  </a:lnTo>
                  <a:lnTo>
                    <a:pt x="148" y="59"/>
                  </a:lnTo>
                  <a:lnTo>
                    <a:pt x="161" y="50"/>
                  </a:lnTo>
                  <a:lnTo>
                    <a:pt x="182" y="42"/>
                  </a:lnTo>
                  <a:lnTo>
                    <a:pt x="206" y="39"/>
                  </a:lnTo>
                  <a:lnTo>
                    <a:pt x="235" y="42"/>
                  </a:lnTo>
                  <a:lnTo>
                    <a:pt x="269" y="56"/>
                  </a:lnTo>
                  <a:lnTo>
                    <a:pt x="310" y="82"/>
                  </a:lnTo>
                  <a:lnTo>
                    <a:pt x="314" y="88"/>
                  </a:lnTo>
                  <a:lnTo>
                    <a:pt x="327" y="102"/>
                  </a:lnTo>
                  <a:lnTo>
                    <a:pt x="344" y="125"/>
                  </a:lnTo>
                  <a:lnTo>
                    <a:pt x="363" y="154"/>
                  </a:lnTo>
                  <a:lnTo>
                    <a:pt x="380" y="187"/>
                  </a:lnTo>
                  <a:lnTo>
                    <a:pt x="392" y="222"/>
                  </a:lnTo>
                  <a:lnTo>
                    <a:pt x="393" y="258"/>
                  </a:lnTo>
                  <a:lnTo>
                    <a:pt x="385" y="293"/>
                  </a:lnTo>
                  <a:lnTo>
                    <a:pt x="382" y="297"/>
                  </a:lnTo>
                  <a:lnTo>
                    <a:pt x="376" y="310"/>
                  </a:lnTo>
                  <a:lnTo>
                    <a:pt x="363" y="327"/>
                  </a:lnTo>
                  <a:lnTo>
                    <a:pt x="343" y="344"/>
                  </a:lnTo>
                  <a:lnTo>
                    <a:pt x="316" y="360"/>
                  </a:lnTo>
                  <a:lnTo>
                    <a:pt x="280" y="370"/>
                  </a:lnTo>
                  <a:lnTo>
                    <a:pt x="235" y="372"/>
                  </a:lnTo>
                  <a:lnTo>
                    <a:pt x="180" y="362"/>
                  </a:lnTo>
                  <a:lnTo>
                    <a:pt x="173" y="359"/>
                  </a:lnTo>
                  <a:lnTo>
                    <a:pt x="153" y="352"/>
                  </a:lnTo>
                  <a:lnTo>
                    <a:pt x="125" y="340"/>
                  </a:lnTo>
                  <a:lnTo>
                    <a:pt x="94" y="321"/>
                  </a:lnTo>
                  <a:lnTo>
                    <a:pt x="61" y="295"/>
                  </a:lnTo>
                  <a:lnTo>
                    <a:pt x="32" y="262"/>
                  </a:lnTo>
                  <a:lnTo>
                    <a:pt x="10" y="222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3" y="150"/>
                  </a:lnTo>
                  <a:lnTo>
                    <a:pt x="12" y="125"/>
                  </a:lnTo>
                  <a:lnTo>
                    <a:pt x="26" y="96"/>
                  </a:lnTo>
                  <a:lnTo>
                    <a:pt x="52" y="66"/>
                  </a:lnTo>
                  <a:lnTo>
                    <a:pt x="91" y="37"/>
                  </a:lnTo>
                  <a:lnTo>
                    <a:pt x="144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94960" y="5592240"/>
              <a:ext cx="300240" cy="243720"/>
            </a:xfrm>
            <a:custGeom>
              <a:avLst/>
              <a:gdLst/>
              <a:ahLst/>
              <a:rect l="l" t="t" r="r" b="b"/>
              <a:pathLst>
                <a:path w="473" h="384">
                  <a:moveTo>
                    <a:pt x="69" y="384"/>
                  </a:moveTo>
                  <a:lnTo>
                    <a:pt x="195" y="266"/>
                  </a:lnTo>
                  <a:lnTo>
                    <a:pt x="319" y="374"/>
                  </a:lnTo>
                  <a:lnTo>
                    <a:pt x="290" y="250"/>
                  </a:lnTo>
                  <a:lnTo>
                    <a:pt x="473" y="269"/>
                  </a:lnTo>
                  <a:lnTo>
                    <a:pt x="323" y="186"/>
                  </a:lnTo>
                  <a:lnTo>
                    <a:pt x="432" y="49"/>
                  </a:lnTo>
                  <a:lnTo>
                    <a:pt x="261" y="111"/>
                  </a:lnTo>
                  <a:lnTo>
                    <a:pt x="199" y="0"/>
                  </a:lnTo>
                  <a:lnTo>
                    <a:pt x="164" y="143"/>
                  </a:lnTo>
                  <a:lnTo>
                    <a:pt x="0" y="97"/>
                  </a:lnTo>
                  <a:lnTo>
                    <a:pt x="123" y="220"/>
                  </a:lnTo>
                  <a:lnTo>
                    <a:pt x="69" y="384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70000" y="4848840"/>
              <a:ext cx="50040" cy="5148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0"/>
                  </a:moveTo>
                  <a:lnTo>
                    <a:pt x="3" y="56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6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1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3520" y="5541840"/>
              <a:ext cx="50040" cy="5148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1"/>
                  </a:moveTo>
                  <a:lnTo>
                    <a:pt x="2" y="56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6"/>
                  </a:lnTo>
                  <a:lnTo>
                    <a:pt x="79" y="41"/>
                  </a:lnTo>
                  <a:lnTo>
                    <a:pt x="76" y="25"/>
                  </a:lnTo>
                  <a:lnTo>
                    <a:pt x="67" y="12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2" y="2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2240" y="4416480"/>
              <a:ext cx="50400" cy="514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41"/>
                  </a:moveTo>
                  <a:lnTo>
                    <a:pt x="2" y="57"/>
                  </a:lnTo>
                  <a:lnTo>
                    <a:pt x="11" y="70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9" y="70"/>
                  </a:lnTo>
                  <a:lnTo>
                    <a:pt x="77" y="57"/>
                  </a:lnTo>
                  <a:lnTo>
                    <a:pt x="80" y="41"/>
                  </a:lnTo>
                  <a:lnTo>
                    <a:pt x="77" y="25"/>
                  </a:lnTo>
                  <a:lnTo>
                    <a:pt x="69" y="12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2" y="2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51440" y="5294520"/>
              <a:ext cx="51120" cy="5040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40"/>
                  </a:moveTo>
                  <a:lnTo>
                    <a:pt x="3" y="56"/>
                  </a:lnTo>
                  <a:lnTo>
                    <a:pt x="12" y="69"/>
                  </a:lnTo>
                  <a:lnTo>
                    <a:pt x="24" y="77"/>
                  </a:lnTo>
                  <a:lnTo>
                    <a:pt x="40" y="80"/>
                  </a:lnTo>
                  <a:lnTo>
                    <a:pt x="56" y="77"/>
                  </a:lnTo>
                  <a:lnTo>
                    <a:pt x="69" y="69"/>
                  </a:lnTo>
                  <a:lnTo>
                    <a:pt x="78" y="56"/>
                  </a:lnTo>
                  <a:lnTo>
                    <a:pt x="81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62840" y="5796000"/>
              <a:ext cx="50760" cy="507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40"/>
                  </a:moveTo>
                  <a:lnTo>
                    <a:pt x="3" y="56"/>
                  </a:lnTo>
                  <a:lnTo>
                    <a:pt x="11" y="69"/>
                  </a:lnTo>
                  <a:lnTo>
                    <a:pt x="24" y="77"/>
                  </a:lnTo>
                  <a:lnTo>
                    <a:pt x="40" y="80"/>
                  </a:lnTo>
                  <a:lnTo>
                    <a:pt x="56" y="77"/>
                  </a:lnTo>
                  <a:lnTo>
                    <a:pt x="69" y="69"/>
                  </a:lnTo>
                  <a:lnTo>
                    <a:pt x="78" y="56"/>
                  </a:lnTo>
                  <a:lnTo>
                    <a:pt x="80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45320" y="5808600"/>
              <a:ext cx="51120" cy="500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40"/>
                  </a:moveTo>
                  <a:lnTo>
                    <a:pt x="3" y="56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lnTo>
                    <a:pt x="56" y="76"/>
                  </a:lnTo>
                  <a:lnTo>
                    <a:pt x="69" y="67"/>
                  </a:lnTo>
                  <a:lnTo>
                    <a:pt x="78" y="56"/>
                  </a:lnTo>
                  <a:lnTo>
                    <a:pt x="81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61840" y="4569480"/>
              <a:ext cx="51120" cy="507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39"/>
                  </a:moveTo>
                  <a:lnTo>
                    <a:pt x="3" y="55"/>
                  </a:lnTo>
                  <a:lnTo>
                    <a:pt x="12" y="68"/>
                  </a:lnTo>
                  <a:lnTo>
                    <a:pt x="25" y="77"/>
                  </a:lnTo>
                  <a:lnTo>
                    <a:pt x="41" y="80"/>
                  </a:lnTo>
                  <a:lnTo>
                    <a:pt x="57" y="77"/>
                  </a:lnTo>
                  <a:lnTo>
                    <a:pt x="70" y="68"/>
                  </a:lnTo>
                  <a:lnTo>
                    <a:pt x="78" y="55"/>
                  </a:lnTo>
                  <a:lnTo>
                    <a:pt x="81" y="39"/>
                  </a:lnTo>
                  <a:lnTo>
                    <a:pt x="78" y="23"/>
                  </a:lnTo>
                  <a:lnTo>
                    <a:pt x="70" y="12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3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2960" y="5105520"/>
              <a:ext cx="301680" cy="309960"/>
            </a:xfrm>
            <a:custGeom>
              <a:avLst/>
              <a:gdLst/>
              <a:ahLst/>
              <a:rect l="l" t="t" r="r" b="b"/>
              <a:pathLst>
                <a:path w="475" h="488">
                  <a:moveTo>
                    <a:pt x="232" y="488"/>
                  </a:moveTo>
                  <a:lnTo>
                    <a:pt x="256" y="318"/>
                  </a:lnTo>
                  <a:lnTo>
                    <a:pt x="420" y="324"/>
                  </a:lnTo>
                  <a:lnTo>
                    <a:pt x="321" y="248"/>
                  </a:lnTo>
                  <a:lnTo>
                    <a:pt x="475" y="145"/>
                  </a:lnTo>
                  <a:lnTo>
                    <a:pt x="306" y="177"/>
                  </a:lnTo>
                  <a:lnTo>
                    <a:pt x="306" y="0"/>
                  </a:lnTo>
                  <a:lnTo>
                    <a:pt x="213" y="157"/>
                  </a:lnTo>
                  <a:lnTo>
                    <a:pt x="93" y="106"/>
                  </a:lnTo>
                  <a:lnTo>
                    <a:pt x="157" y="240"/>
                  </a:lnTo>
                  <a:lnTo>
                    <a:pt x="0" y="308"/>
                  </a:lnTo>
                  <a:lnTo>
                    <a:pt x="171" y="328"/>
                  </a:lnTo>
                  <a:lnTo>
                    <a:pt x="232" y="488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2880" y="5093640"/>
              <a:ext cx="472320" cy="902520"/>
            </a:xfrm>
            <a:custGeom>
              <a:avLst/>
              <a:gdLst/>
              <a:ahLst/>
              <a:rect l="l" t="t" r="r" b="b"/>
              <a:pathLst>
                <a:path w="744" h="1421">
                  <a:moveTo>
                    <a:pt x="736" y="1291"/>
                  </a:moveTo>
                  <a:lnTo>
                    <a:pt x="744" y="1248"/>
                  </a:lnTo>
                  <a:lnTo>
                    <a:pt x="744" y="1206"/>
                  </a:lnTo>
                  <a:lnTo>
                    <a:pt x="737" y="1165"/>
                  </a:lnTo>
                  <a:lnTo>
                    <a:pt x="720" y="1123"/>
                  </a:lnTo>
                  <a:lnTo>
                    <a:pt x="695" y="1082"/>
                  </a:lnTo>
                  <a:lnTo>
                    <a:pt x="662" y="1044"/>
                  </a:lnTo>
                  <a:lnTo>
                    <a:pt x="622" y="1005"/>
                  </a:lnTo>
                  <a:lnTo>
                    <a:pt x="573" y="967"/>
                  </a:lnTo>
                  <a:lnTo>
                    <a:pt x="547" y="950"/>
                  </a:lnTo>
                  <a:lnTo>
                    <a:pt x="520" y="934"/>
                  </a:lnTo>
                  <a:lnTo>
                    <a:pt x="494" y="918"/>
                  </a:lnTo>
                  <a:lnTo>
                    <a:pt x="466" y="904"/>
                  </a:lnTo>
                  <a:lnTo>
                    <a:pt x="440" y="889"/>
                  </a:lnTo>
                  <a:lnTo>
                    <a:pt x="413" y="875"/>
                  </a:lnTo>
                  <a:lnTo>
                    <a:pt x="387" y="860"/>
                  </a:lnTo>
                  <a:lnTo>
                    <a:pt x="361" y="846"/>
                  </a:lnTo>
                  <a:lnTo>
                    <a:pt x="339" y="836"/>
                  </a:lnTo>
                  <a:lnTo>
                    <a:pt x="319" y="824"/>
                  </a:lnTo>
                  <a:lnTo>
                    <a:pt x="298" y="813"/>
                  </a:lnTo>
                  <a:lnTo>
                    <a:pt x="278" y="803"/>
                  </a:lnTo>
                  <a:lnTo>
                    <a:pt x="257" y="791"/>
                  </a:lnTo>
                  <a:lnTo>
                    <a:pt x="236" y="780"/>
                  </a:lnTo>
                  <a:lnTo>
                    <a:pt x="217" y="768"/>
                  </a:lnTo>
                  <a:lnTo>
                    <a:pt x="197" y="757"/>
                  </a:lnTo>
                  <a:lnTo>
                    <a:pt x="177" y="744"/>
                  </a:lnTo>
                  <a:lnTo>
                    <a:pt x="158" y="731"/>
                  </a:lnTo>
                  <a:lnTo>
                    <a:pt x="138" y="718"/>
                  </a:lnTo>
                  <a:lnTo>
                    <a:pt x="119" y="705"/>
                  </a:lnTo>
                  <a:lnTo>
                    <a:pt x="100" y="690"/>
                  </a:lnTo>
                  <a:lnTo>
                    <a:pt x="83" y="674"/>
                  </a:lnTo>
                  <a:lnTo>
                    <a:pt x="64" y="659"/>
                  </a:lnTo>
                  <a:lnTo>
                    <a:pt x="47" y="643"/>
                  </a:lnTo>
                  <a:lnTo>
                    <a:pt x="31" y="620"/>
                  </a:lnTo>
                  <a:lnTo>
                    <a:pt x="23" y="595"/>
                  </a:lnTo>
                  <a:lnTo>
                    <a:pt x="20" y="571"/>
                  </a:lnTo>
                  <a:lnTo>
                    <a:pt x="21" y="546"/>
                  </a:lnTo>
                  <a:lnTo>
                    <a:pt x="24" y="523"/>
                  </a:lnTo>
                  <a:lnTo>
                    <a:pt x="30" y="503"/>
                  </a:lnTo>
                  <a:lnTo>
                    <a:pt x="36" y="487"/>
                  </a:lnTo>
                  <a:lnTo>
                    <a:pt x="41" y="474"/>
                  </a:lnTo>
                  <a:lnTo>
                    <a:pt x="50" y="461"/>
                  </a:lnTo>
                  <a:lnTo>
                    <a:pt x="60" y="450"/>
                  </a:lnTo>
                  <a:lnTo>
                    <a:pt x="70" y="437"/>
                  </a:lnTo>
                  <a:lnTo>
                    <a:pt x="82" y="425"/>
                  </a:lnTo>
                  <a:lnTo>
                    <a:pt x="92" y="414"/>
                  </a:lnTo>
                  <a:lnTo>
                    <a:pt x="103" y="402"/>
                  </a:lnTo>
                  <a:lnTo>
                    <a:pt x="115" y="392"/>
                  </a:lnTo>
                  <a:lnTo>
                    <a:pt x="126" y="380"/>
                  </a:lnTo>
                  <a:lnTo>
                    <a:pt x="138" y="369"/>
                  </a:lnTo>
                  <a:lnTo>
                    <a:pt x="151" y="357"/>
                  </a:lnTo>
                  <a:lnTo>
                    <a:pt x="162" y="346"/>
                  </a:lnTo>
                  <a:lnTo>
                    <a:pt x="174" y="334"/>
                  </a:lnTo>
                  <a:lnTo>
                    <a:pt x="185" y="321"/>
                  </a:lnTo>
                  <a:lnTo>
                    <a:pt x="195" y="308"/>
                  </a:lnTo>
                  <a:lnTo>
                    <a:pt x="206" y="295"/>
                  </a:lnTo>
                  <a:lnTo>
                    <a:pt x="216" y="281"/>
                  </a:lnTo>
                  <a:lnTo>
                    <a:pt x="233" y="246"/>
                  </a:lnTo>
                  <a:lnTo>
                    <a:pt x="244" y="212"/>
                  </a:lnTo>
                  <a:lnTo>
                    <a:pt x="252" y="176"/>
                  </a:lnTo>
                  <a:lnTo>
                    <a:pt x="254" y="140"/>
                  </a:lnTo>
                  <a:lnTo>
                    <a:pt x="253" y="105"/>
                  </a:lnTo>
                  <a:lnTo>
                    <a:pt x="249" y="69"/>
                  </a:lnTo>
                  <a:lnTo>
                    <a:pt x="243" y="34"/>
                  </a:lnTo>
                  <a:lnTo>
                    <a:pt x="236" y="0"/>
                  </a:lnTo>
                  <a:lnTo>
                    <a:pt x="217" y="4"/>
                  </a:lnTo>
                  <a:lnTo>
                    <a:pt x="224" y="37"/>
                  </a:lnTo>
                  <a:lnTo>
                    <a:pt x="229" y="70"/>
                  </a:lnTo>
                  <a:lnTo>
                    <a:pt x="233" y="104"/>
                  </a:lnTo>
                  <a:lnTo>
                    <a:pt x="234" y="138"/>
                  </a:lnTo>
                  <a:lnTo>
                    <a:pt x="231" y="173"/>
                  </a:lnTo>
                  <a:lnTo>
                    <a:pt x="226" y="206"/>
                  </a:lnTo>
                  <a:lnTo>
                    <a:pt x="214" y="239"/>
                  </a:lnTo>
                  <a:lnTo>
                    <a:pt x="198" y="271"/>
                  </a:lnTo>
                  <a:lnTo>
                    <a:pt x="190" y="284"/>
                  </a:lnTo>
                  <a:lnTo>
                    <a:pt x="180" y="297"/>
                  </a:lnTo>
                  <a:lnTo>
                    <a:pt x="170" y="310"/>
                  </a:lnTo>
                  <a:lnTo>
                    <a:pt x="158" y="321"/>
                  </a:lnTo>
                  <a:lnTo>
                    <a:pt x="148" y="333"/>
                  </a:lnTo>
                  <a:lnTo>
                    <a:pt x="136" y="344"/>
                  </a:lnTo>
                  <a:lnTo>
                    <a:pt x="125" y="354"/>
                  </a:lnTo>
                  <a:lnTo>
                    <a:pt x="113" y="366"/>
                  </a:lnTo>
                  <a:lnTo>
                    <a:pt x="102" y="378"/>
                  </a:lnTo>
                  <a:lnTo>
                    <a:pt x="89" y="388"/>
                  </a:lnTo>
                  <a:lnTo>
                    <a:pt x="77" y="399"/>
                  </a:lnTo>
                  <a:lnTo>
                    <a:pt x="66" y="412"/>
                  </a:lnTo>
                  <a:lnTo>
                    <a:pt x="54" y="424"/>
                  </a:lnTo>
                  <a:lnTo>
                    <a:pt x="44" y="437"/>
                  </a:lnTo>
                  <a:lnTo>
                    <a:pt x="34" y="450"/>
                  </a:lnTo>
                  <a:lnTo>
                    <a:pt x="24" y="464"/>
                  </a:lnTo>
                  <a:lnTo>
                    <a:pt x="24" y="464"/>
                  </a:lnTo>
                  <a:lnTo>
                    <a:pt x="24" y="465"/>
                  </a:lnTo>
                  <a:lnTo>
                    <a:pt x="13" y="493"/>
                  </a:lnTo>
                  <a:lnTo>
                    <a:pt x="4" y="519"/>
                  </a:lnTo>
                  <a:lnTo>
                    <a:pt x="0" y="545"/>
                  </a:lnTo>
                  <a:lnTo>
                    <a:pt x="0" y="571"/>
                  </a:lnTo>
                  <a:lnTo>
                    <a:pt x="2" y="594"/>
                  </a:lnTo>
                  <a:lnTo>
                    <a:pt x="8" y="617"/>
                  </a:lnTo>
                  <a:lnTo>
                    <a:pt x="18" y="637"/>
                  </a:lnTo>
                  <a:lnTo>
                    <a:pt x="33" y="656"/>
                  </a:lnTo>
                  <a:lnTo>
                    <a:pt x="50" y="673"/>
                  </a:lnTo>
                  <a:lnTo>
                    <a:pt x="69" y="689"/>
                  </a:lnTo>
                  <a:lnTo>
                    <a:pt x="87" y="705"/>
                  </a:lnTo>
                  <a:lnTo>
                    <a:pt x="106" y="719"/>
                  </a:lnTo>
                  <a:lnTo>
                    <a:pt x="126" y="734"/>
                  </a:lnTo>
                  <a:lnTo>
                    <a:pt x="145" y="747"/>
                  </a:lnTo>
                  <a:lnTo>
                    <a:pt x="165" y="760"/>
                  </a:lnTo>
                  <a:lnTo>
                    <a:pt x="185" y="773"/>
                  </a:lnTo>
                  <a:lnTo>
                    <a:pt x="206" y="785"/>
                  </a:lnTo>
                  <a:lnTo>
                    <a:pt x="226" y="797"/>
                  </a:lnTo>
                  <a:lnTo>
                    <a:pt x="246" y="809"/>
                  </a:lnTo>
                  <a:lnTo>
                    <a:pt x="267" y="820"/>
                  </a:lnTo>
                  <a:lnTo>
                    <a:pt x="288" y="832"/>
                  </a:lnTo>
                  <a:lnTo>
                    <a:pt x="309" y="843"/>
                  </a:lnTo>
                  <a:lnTo>
                    <a:pt x="331" y="853"/>
                  </a:lnTo>
                  <a:lnTo>
                    <a:pt x="352" y="865"/>
                  </a:lnTo>
                  <a:lnTo>
                    <a:pt x="378" y="878"/>
                  </a:lnTo>
                  <a:lnTo>
                    <a:pt x="404" y="892"/>
                  </a:lnTo>
                  <a:lnTo>
                    <a:pt x="430" y="907"/>
                  </a:lnTo>
                  <a:lnTo>
                    <a:pt x="458" y="921"/>
                  </a:lnTo>
                  <a:lnTo>
                    <a:pt x="484" y="935"/>
                  </a:lnTo>
                  <a:lnTo>
                    <a:pt x="509" y="951"/>
                  </a:lnTo>
                  <a:lnTo>
                    <a:pt x="535" y="967"/>
                  </a:lnTo>
                  <a:lnTo>
                    <a:pt x="561" y="983"/>
                  </a:lnTo>
                  <a:lnTo>
                    <a:pt x="596" y="1009"/>
                  </a:lnTo>
                  <a:lnTo>
                    <a:pt x="630" y="1039"/>
                  </a:lnTo>
                  <a:lnTo>
                    <a:pt x="662" y="1072"/>
                  </a:lnTo>
                  <a:lnTo>
                    <a:pt x="689" y="1108"/>
                  </a:lnTo>
                  <a:lnTo>
                    <a:pt x="710" y="1149"/>
                  </a:lnTo>
                  <a:lnTo>
                    <a:pt x="723" y="1192"/>
                  </a:lnTo>
                  <a:lnTo>
                    <a:pt x="725" y="1237"/>
                  </a:lnTo>
                  <a:lnTo>
                    <a:pt x="717" y="1286"/>
                  </a:lnTo>
                  <a:lnTo>
                    <a:pt x="713" y="1300"/>
                  </a:lnTo>
                  <a:lnTo>
                    <a:pt x="707" y="1315"/>
                  </a:lnTo>
                  <a:lnTo>
                    <a:pt x="701" y="1328"/>
                  </a:lnTo>
                  <a:lnTo>
                    <a:pt x="694" y="1340"/>
                  </a:lnTo>
                  <a:lnTo>
                    <a:pt x="687" y="1353"/>
                  </a:lnTo>
                  <a:lnTo>
                    <a:pt x="679" y="1368"/>
                  </a:lnTo>
                  <a:lnTo>
                    <a:pt x="671" y="1381"/>
                  </a:lnTo>
                  <a:lnTo>
                    <a:pt x="662" y="1394"/>
                  </a:lnTo>
                  <a:lnTo>
                    <a:pt x="658" y="1401"/>
                  </a:lnTo>
                  <a:lnTo>
                    <a:pt x="653" y="1407"/>
                  </a:lnTo>
                  <a:lnTo>
                    <a:pt x="648" y="1414"/>
                  </a:lnTo>
                  <a:lnTo>
                    <a:pt x="643" y="1421"/>
                  </a:lnTo>
                  <a:lnTo>
                    <a:pt x="651" y="1420"/>
                  </a:lnTo>
                  <a:lnTo>
                    <a:pt x="658" y="1418"/>
                  </a:lnTo>
                  <a:lnTo>
                    <a:pt x="664" y="1417"/>
                  </a:lnTo>
                  <a:lnTo>
                    <a:pt x="671" y="1417"/>
                  </a:lnTo>
                  <a:lnTo>
                    <a:pt x="672" y="1414"/>
                  </a:lnTo>
                  <a:lnTo>
                    <a:pt x="675" y="1411"/>
                  </a:lnTo>
                  <a:lnTo>
                    <a:pt x="677" y="1408"/>
                  </a:lnTo>
                  <a:lnTo>
                    <a:pt x="678" y="1405"/>
                  </a:lnTo>
                  <a:lnTo>
                    <a:pt x="687" y="1392"/>
                  </a:lnTo>
                  <a:lnTo>
                    <a:pt x="695" y="1378"/>
                  </a:lnTo>
                  <a:lnTo>
                    <a:pt x="704" y="1365"/>
                  </a:lnTo>
                  <a:lnTo>
                    <a:pt x="711" y="1351"/>
                  </a:lnTo>
                  <a:lnTo>
                    <a:pt x="718" y="1336"/>
                  </a:lnTo>
                  <a:lnTo>
                    <a:pt x="725" y="1322"/>
                  </a:lnTo>
                  <a:lnTo>
                    <a:pt x="731" y="1307"/>
                  </a:lnTo>
                  <a:lnTo>
                    <a:pt x="736" y="12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120" y="4474440"/>
              <a:ext cx="676800" cy="677520"/>
            </a:xfrm>
            <a:custGeom>
              <a:avLst/>
              <a:gdLst/>
              <a:ahLst/>
              <a:rect l="l" t="t" r="r" b="b"/>
              <a:pathLst>
                <a:path w="1066" h="1067">
                  <a:moveTo>
                    <a:pt x="533" y="1067"/>
                  </a:moveTo>
                  <a:lnTo>
                    <a:pt x="588" y="1064"/>
                  </a:lnTo>
                  <a:lnTo>
                    <a:pt x="640" y="1056"/>
                  </a:lnTo>
                  <a:lnTo>
                    <a:pt x="692" y="1043"/>
                  </a:lnTo>
                  <a:lnTo>
                    <a:pt x="741" y="1025"/>
                  </a:lnTo>
                  <a:lnTo>
                    <a:pt x="787" y="1002"/>
                  </a:lnTo>
                  <a:lnTo>
                    <a:pt x="831" y="976"/>
                  </a:lnTo>
                  <a:lnTo>
                    <a:pt x="872" y="945"/>
                  </a:lnTo>
                  <a:lnTo>
                    <a:pt x="911" y="910"/>
                  </a:lnTo>
                  <a:lnTo>
                    <a:pt x="944" y="872"/>
                  </a:lnTo>
                  <a:lnTo>
                    <a:pt x="975" y="832"/>
                  </a:lnTo>
                  <a:lnTo>
                    <a:pt x="1001" y="787"/>
                  </a:lnTo>
                  <a:lnTo>
                    <a:pt x="1024" y="741"/>
                  </a:lnTo>
                  <a:lnTo>
                    <a:pt x="1042" y="692"/>
                  </a:lnTo>
                  <a:lnTo>
                    <a:pt x="1055" y="640"/>
                  </a:lnTo>
                  <a:lnTo>
                    <a:pt x="1063" y="588"/>
                  </a:lnTo>
                  <a:lnTo>
                    <a:pt x="1066" y="534"/>
                  </a:lnTo>
                  <a:lnTo>
                    <a:pt x="1063" y="479"/>
                  </a:lnTo>
                  <a:lnTo>
                    <a:pt x="1055" y="427"/>
                  </a:lnTo>
                  <a:lnTo>
                    <a:pt x="1042" y="375"/>
                  </a:lnTo>
                  <a:lnTo>
                    <a:pt x="1024" y="326"/>
                  </a:lnTo>
                  <a:lnTo>
                    <a:pt x="1001" y="280"/>
                  </a:lnTo>
                  <a:lnTo>
                    <a:pt x="975" y="235"/>
                  </a:lnTo>
                  <a:lnTo>
                    <a:pt x="944" y="195"/>
                  </a:lnTo>
                  <a:lnTo>
                    <a:pt x="911" y="156"/>
                  </a:lnTo>
                  <a:lnTo>
                    <a:pt x="872" y="123"/>
                  </a:lnTo>
                  <a:lnTo>
                    <a:pt x="831" y="91"/>
                  </a:lnTo>
                  <a:lnTo>
                    <a:pt x="787" y="65"/>
                  </a:lnTo>
                  <a:lnTo>
                    <a:pt x="741" y="42"/>
                  </a:lnTo>
                  <a:lnTo>
                    <a:pt x="692" y="25"/>
                  </a:lnTo>
                  <a:lnTo>
                    <a:pt x="640" y="12"/>
                  </a:lnTo>
                  <a:lnTo>
                    <a:pt x="588" y="3"/>
                  </a:lnTo>
                  <a:lnTo>
                    <a:pt x="533" y="0"/>
                  </a:lnTo>
                  <a:lnTo>
                    <a:pt x="479" y="3"/>
                  </a:lnTo>
                  <a:lnTo>
                    <a:pt x="427" y="12"/>
                  </a:lnTo>
                  <a:lnTo>
                    <a:pt x="375" y="25"/>
                  </a:lnTo>
                  <a:lnTo>
                    <a:pt x="326" y="42"/>
                  </a:lnTo>
                  <a:lnTo>
                    <a:pt x="280" y="65"/>
                  </a:lnTo>
                  <a:lnTo>
                    <a:pt x="235" y="91"/>
                  </a:lnTo>
                  <a:lnTo>
                    <a:pt x="195" y="123"/>
                  </a:lnTo>
                  <a:lnTo>
                    <a:pt x="157" y="156"/>
                  </a:lnTo>
                  <a:lnTo>
                    <a:pt x="123" y="195"/>
                  </a:lnTo>
                  <a:lnTo>
                    <a:pt x="91" y="235"/>
                  </a:lnTo>
                  <a:lnTo>
                    <a:pt x="65" y="280"/>
                  </a:lnTo>
                  <a:lnTo>
                    <a:pt x="42" y="326"/>
                  </a:lnTo>
                  <a:lnTo>
                    <a:pt x="25" y="375"/>
                  </a:lnTo>
                  <a:lnTo>
                    <a:pt x="12" y="427"/>
                  </a:lnTo>
                  <a:lnTo>
                    <a:pt x="3" y="479"/>
                  </a:lnTo>
                  <a:lnTo>
                    <a:pt x="0" y="534"/>
                  </a:lnTo>
                  <a:lnTo>
                    <a:pt x="3" y="588"/>
                  </a:lnTo>
                  <a:lnTo>
                    <a:pt x="12" y="640"/>
                  </a:lnTo>
                  <a:lnTo>
                    <a:pt x="25" y="692"/>
                  </a:lnTo>
                  <a:lnTo>
                    <a:pt x="42" y="741"/>
                  </a:lnTo>
                  <a:lnTo>
                    <a:pt x="65" y="787"/>
                  </a:lnTo>
                  <a:lnTo>
                    <a:pt x="91" y="832"/>
                  </a:lnTo>
                  <a:lnTo>
                    <a:pt x="123" y="872"/>
                  </a:lnTo>
                  <a:lnTo>
                    <a:pt x="157" y="910"/>
                  </a:lnTo>
                  <a:lnTo>
                    <a:pt x="195" y="945"/>
                  </a:lnTo>
                  <a:lnTo>
                    <a:pt x="235" y="976"/>
                  </a:lnTo>
                  <a:lnTo>
                    <a:pt x="280" y="1002"/>
                  </a:lnTo>
                  <a:lnTo>
                    <a:pt x="326" y="1025"/>
                  </a:lnTo>
                  <a:lnTo>
                    <a:pt x="375" y="1043"/>
                  </a:lnTo>
                  <a:lnTo>
                    <a:pt x="427" y="1056"/>
                  </a:lnTo>
                  <a:lnTo>
                    <a:pt x="479" y="1064"/>
                  </a:lnTo>
                  <a:lnTo>
                    <a:pt x="533" y="10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97000" y="5129280"/>
              <a:ext cx="75600" cy="8424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53" y="0"/>
                  </a:moveTo>
                  <a:lnTo>
                    <a:pt x="0" y="127"/>
                  </a:lnTo>
                  <a:lnTo>
                    <a:pt x="119" y="13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8640" y="4724640"/>
              <a:ext cx="316800" cy="291960"/>
            </a:xfrm>
            <a:custGeom>
              <a:avLst/>
              <a:gdLst/>
              <a:ahLst/>
              <a:rect l="l" t="t" r="r" b="b"/>
              <a:pathLst>
                <a:path w="499" h="460">
                  <a:moveTo>
                    <a:pt x="314" y="460"/>
                  </a:moveTo>
                  <a:lnTo>
                    <a:pt x="252" y="300"/>
                  </a:lnTo>
                  <a:lnTo>
                    <a:pt x="93" y="342"/>
                  </a:lnTo>
                  <a:lnTo>
                    <a:pt x="174" y="243"/>
                  </a:lnTo>
                  <a:lnTo>
                    <a:pt x="0" y="180"/>
                  </a:lnTo>
                  <a:lnTo>
                    <a:pt x="171" y="173"/>
                  </a:lnTo>
                  <a:lnTo>
                    <a:pt x="134" y="0"/>
                  </a:lnTo>
                  <a:lnTo>
                    <a:pt x="259" y="132"/>
                  </a:lnTo>
                  <a:lnTo>
                    <a:pt x="364" y="58"/>
                  </a:lnTo>
                  <a:lnTo>
                    <a:pt x="332" y="202"/>
                  </a:lnTo>
                  <a:lnTo>
                    <a:pt x="499" y="232"/>
                  </a:lnTo>
                  <a:lnTo>
                    <a:pt x="337" y="290"/>
                  </a:lnTo>
                  <a:lnTo>
                    <a:pt x="314" y="4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4613400"/>
              <a:ext cx="111600" cy="300240"/>
            </a:xfrm>
            <a:custGeom>
              <a:avLst/>
              <a:gdLst/>
              <a:ahLst/>
              <a:rect l="l" t="t" r="r" b="b"/>
              <a:pathLst>
                <a:path w="176" h="473">
                  <a:moveTo>
                    <a:pt x="41" y="427"/>
                  </a:moveTo>
                  <a:lnTo>
                    <a:pt x="38" y="377"/>
                  </a:lnTo>
                  <a:lnTo>
                    <a:pt x="42" y="326"/>
                  </a:lnTo>
                  <a:lnTo>
                    <a:pt x="51" y="279"/>
                  </a:lnTo>
                  <a:lnTo>
                    <a:pt x="67" y="231"/>
                  </a:lnTo>
                  <a:lnTo>
                    <a:pt x="87" y="188"/>
                  </a:lnTo>
                  <a:lnTo>
                    <a:pt x="113" y="147"/>
                  </a:lnTo>
                  <a:lnTo>
                    <a:pt x="142" y="110"/>
                  </a:lnTo>
                  <a:lnTo>
                    <a:pt x="176" y="75"/>
                  </a:lnTo>
                  <a:lnTo>
                    <a:pt x="113" y="0"/>
                  </a:lnTo>
                  <a:lnTo>
                    <a:pt x="84" y="34"/>
                  </a:lnTo>
                  <a:lnTo>
                    <a:pt x="59" y="70"/>
                  </a:lnTo>
                  <a:lnTo>
                    <a:pt x="38" y="109"/>
                  </a:lnTo>
                  <a:lnTo>
                    <a:pt x="22" y="149"/>
                  </a:lnTo>
                  <a:lnTo>
                    <a:pt x="9" y="192"/>
                  </a:lnTo>
                  <a:lnTo>
                    <a:pt x="2" y="237"/>
                  </a:lnTo>
                  <a:lnTo>
                    <a:pt x="0" y="282"/>
                  </a:lnTo>
                  <a:lnTo>
                    <a:pt x="3" y="328"/>
                  </a:lnTo>
                  <a:lnTo>
                    <a:pt x="6" y="348"/>
                  </a:lnTo>
                  <a:lnTo>
                    <a:pt x="9" y="367"/>
                  </a:lnTo>
                  <a:lnTo>
                    <a:pt x="13" y="385"/>
                  </a:lnTo>
                  <a:lnTo>
                    <a:pt x="19" y="404"/>
                  </a:lnTo>
                  <a:lnTo>
                    <a:pt x="25" y="421"/>
                  </a:lnTo>
                  <a:lnTo>
                    <a:pt x="32" y="439"/>
                  </a:lnTo>
                  <a:lnTo>
                    <a:pt x="41" y="456"/>
                  </a:lnTo>
                  <a:lnTo>
                    <a:pt x="49" y="473"/>
                  </a:lnTo>
                  <a:lnTo>
                    <a:pt x="48" y="462"/>
                  </a:lnTo>
                  <a:lnTo>
                    <a:pt x="45" y="450"/>
                  </a:lnTo>
                  <a:lnTo>
                    <a:pt x="44" y="439"/>
                  </a:lnTo>
                  <a:lnTo>
                    <a:pt x="41" y="4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08800" y="4546080"/>
              <a:ext cx="101520" cy="8856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107" y="0"/>
                  </a:moveTo>
                  <a:lnTo>
                    <a:pt x="91" y="6"/>
                  </a:lnTo>
                  <a:lnTo>
                    <a:pt x="77" y="10"/>
                  </a:lnTo>
                  <a:lnTo>
                    <a:pt x="64" y="17"/>
                  </a:lnTo>
                  <a:lnTo>
                    <a:pt x="51" y="23"/>
                  </a:lnTo>
                  <a:lnTo>
                    <a:pt x="38" y="30"/>
                  </a:lnTo>
                  <a:lnTo>
                    <a:pt x="26" y="39"/>
                  </a:lnTo>
                  <a:lnTo>
                    <a:pt x="13" y="47"/>
                  </a:lnTo>
                  <a:lnTo>
                    <a:pt x="0" y="56"/>
                  </a:lnTo>
                  <a:lnTo>
                    <a:pt x="62" y="140"/>
                  </a:lnTo>
                  <a:lnTo>
                    <a:pt x="74" y="132"/>
                  </a:lnTo>
                  <a:lnTo>
                    <a:pt x="87" y="124"/>
                  </a:lnTo>
                  <a:lnTo>
                    <a:pt x="98" y="117"/>
                  </a:lnTo>
                  <a:lnTo>
                    <a:pt x="110" y="109"/>
                  </a:lnTo>
                  <a:lnTo>
                    <a:pt x="121" y="104"/>
                  </a:lnTo>
                  <a:lnTo>
                    <a:pt x="133" y="96"/>
                  </a:lnTo>
                  <a:lnTo>
                    <a:pt x="146" y="91"/>
                  </a:lnTo>
                  <a:lnTo>
                    <a:pt x="160" y="86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64000" y="357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до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после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Фракталь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alphaModFix amt="0"/>
          </a:blip>
          <a:srcRect l="3808" t="12783" r="13030" b="13179"/>
          <a:stretch/>
        </p:blipFill>
        <p:spPr>
          <a:xfrm>
            <a:off x="2411280" y="2565360"/>
            <a:ext cx="4392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Цветов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40000" y="3644640"/>
            <a:ext cx="2230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MY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SB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3645000"/>
            <a:ext cx="2230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I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205000"/>
            <a:ext cx="2520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адд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2257560"/>
            <a:ext cx="2735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убтрак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205000"/>
            <a:ext cx="2738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ерцепци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484280"/>
            <a:ext cx="28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Цветовые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92000" y="1700280"/>
            <a:ext cx="158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19591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1700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2997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ипы цветовых мод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коны Грассма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рехмерность природы цвет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красный, зеленый, синий; цветовой тон, насыщенность, яркость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етыре цвета всегда линейно зависим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С=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R+gG+b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де с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– весовые коэффициенты для каждой составляющ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Цветовое пространство непрерывно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если в смеси один цвет меняется непрерывно, а другие цвета – нет, то цвет смеси также будет изменяться непрерывно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96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 – Red -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G – Green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- зеле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 – Blue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- син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>
            <a:alphaModFix amt="0"/>
          </a:blip>
          <a:srcRect l="2004" t="1870" r="9107" b="13183"/>
          <a:stretch/>
        </p:blipFill>
        <p:spPr>
          <a:xfrm>
            <a:off x="5364000" y="1916280"/>
            <a:ext cx="3095640" cy="309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47640" y="4695840"/>
            <a:ext cx="6481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имен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истемы осве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иде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мониторы, сканеры, цифровые ка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11:09Z</dcterms:created>
  <dc:creator>RUSMUS</dc:creator>
  <dc:description/>
  <dc:language>en-US</dc:language>
  <cp:lastModifiedBy>RUSMUS</cp:lastModifiedBy>
  <dcterms:modified xsi:type="dcterms:W3CDTF">2008-09-09T12:06:41Z</dcterms:modified>
  <cp:revision>27</cp:revision>
  <dc:subject/>
  <dc:title>Методы представления компьютерной графики</dc:title>
</cp:coreProperties>
</file>