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24.png" ContentType="image/png"/>
  <Override PartName="/ppt/media/image18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15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EB19-7BD5-46B1-8D98-3CB1C5C83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6800-76FA-46E5-A839-E0DDC6EE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83D0-1679-4400-9E3C-E5801B8AA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C0C4-DB87-46DC-9810-D3E466A5A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C4CE-ADEB-4719-ABC5-3E6D6816C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195A-A441-4851-B244-119F8910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CC77-20F1-4D6C-860E-DABA9EF1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54A9-2B8D-425D-8E91-57230B1A9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5294-E23A-4B5C-984E-E6C870E5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13EF-2430-49AC-957F-68DD34D2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1E8E-9FCA-433F-A5EE-DF1F2BEC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E5DB-12B6-4A89-BBA8-8DB29262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7F3E-46AD-450F-86FD-BDD2D09C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ACBD-5118-468F-AE09-13031850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A2AF8-2AEE-4E7F-A5CE-394F4E28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2EED-331B-47BF-85C1-1923DB789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832A7-5909-400F-967D-9FB7AAA4D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4CC2C-95DF-4400-A348-C7063B46C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660AB-A55F-4729-95D4-A43AB9A6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07C8D-F022-41D8-A819-893057EB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B6DCC-FF10-4E04-B98E-BBFCE01C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56D4B-9F31-4F9F-8203-4516279F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385C-301C-4DFA-8B07-D6E9B822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5BBC0-1714-4782-A8B4-A4EB5AD8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43367-3D1D-492F-B89E-EC09853E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69852-0DFC-4998-88F7-905CDAF4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F7399-5009-42CB-BE60-00FAE0BA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C23FC-E765-42D3-9F5F-5E47B37D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7739C-6223-4241-9C83-EA729EC72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AF602-39CB-4C17-8349-9D05AEF3D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15177-915D-47A8-84C6-F9251C5CE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EC9F3-9CFB-4BD7-A3AA-B9A695A6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B74C2-1334-4631-BDCB-90C095E8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3D86-45A0-4696-BDA9-7DB56064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60973-1CD0-48F2-8BA7-A3D70784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FAA32-AA31-4CE5-92EB-A8806836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FE4FD-6D41-4223-9D6A-267B70BB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F9BCD-BC51-41AB-9C7C-57D7A3CC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89FD7-724A-4089-9400-78978954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B13F0-AAA2-42D6-90A1-AEA8B923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AE49F-8763-4E68-A326-44E69B83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DAF3B-4C1F-41F9-8CAE-030F15D16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B422E-2E57-4B2A-AEB8-FF4B769F0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116C-6667-47E9-A4D1-84EBCCD5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735D-F33B-45D2-97FF-E074E485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1ED3-1DC4-49D7-BB83-07DC6ECC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C400-F5A5-4673-B0EA-7A54A5D3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5FBE-2DCB-4601-85D6-D86D11A5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6480"/>
            <a:ext cx="9162720" cy="1041480"/>
          </a:xfrm>
          <a:prstGeom prst="pie">
            <a:avLst/>
          </a:pr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6480"/>
            <a:ext cx="4762440" cy="638280"/>
          </a:xfrm>
          <a:prstGeom prst="pie">
            <a:avLst/>
          </a:prstGeom>
          <a:gradFill rotWithShape="0">
            <a:gsLst>
              <a:gs pos="0">
                <a:srgbClr val="7d2c80">
                  <a:alpha val="30196"/>
                </a:srgbClr>
              </a:gs>
              <a:gs pos="100000">
                <a:srgbClr val="2e7a81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01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01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6FB8-AB2A-4441-9445-D238E53BCC99}" type="datetime">
              <a:rPr b="0" lang="ru-RU" sz="1200" spc="-1" strike="noStrike">
                <a:solidFill>
                  <a:srgbClr val="3f4052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2541-221E-4188-815B-2D66FD8226D1}" type="slidenum">
              <a:rPr b="0" lang="ru-RU" sz="1200" spc="-1" strike="noStrike">
                <a:solidFill>
                  <a:srgbClr val="3f405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29160" y="-15840"/>
            <a:ext cx="9198360" cy="1085400"/>
            <a:chOff x="-29160" y="-15840"/>
            <a:chExt cx="9198360" cy="1085400"/>
          </a:xfrm>
        </p:grpSpPr>
        <p:sp>
          <p:nvSpPr>
            <p:cNvPr id="8" name="Полилиния 11"/>
            <p:cNvSpPr/>
            <p:nvPr/>
          </p:nvSpPr>
          <p:spPr>
            <a:xfrm rot="21435600">
              <a:off x="-18720" y="202680"/>
              <a:ext cx="9163440" cy="648000"/>
            </a:xfrm>
            <a:prstGeom prst="pie">
              <a:avLst/>
            </a:prstGeom>
            <a:noFill/>
            <a:ln w="10800">
              <a:solidFill>
                <a:srgbClr val="3a7075">
                  <a:alpha val="5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Полилиния 12"/>
            <p:cNvSpPr/>
            <p:nvPr/>
          </p:nvSpPr>
          <p:spPr>
            <a:xfrm rot="21435600">
              <a:off x="-14040" y="275760"/>
              <a:ext cx="9176040" cy="528840"/>
            </a:xfrm>
            <a:prstGeom prst="pie">
              <a:avLst/>
            </a:prstGeom>
            <a:noFill/>
            <a:ln w="9360">
              <a:solidFill>
                <a:srgbClr val="438086">
                  <a:alpha val="5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илиния 6"/>
          <p:cNvSpPr/>
          <p:nvPr/>
        </p:nvSpPr>
        <p:spPr>
          <a:xfrm>
            <a:off x="-9360" y="-6480"/>
            <a:ext cx="9162720" cy="1041480"/>
          </a:xfrm>
          <a:prstGeom prst="pie">
            <a:avLst/>
          </a:pr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олилиния 7"/>
          <p:cNvSpPr/>
          <p:nvPr/>
        </p:nvSpPr>
        <p:spPr>
          <a:xfrm>
            <a:off x="4381560" y="-6480"/>
            <a:ext cx="4762440" cy="638280"/>
          </a:xfrm>
          <a:prstGeom prst="pie">
            <a:avLst/>
          </a:prstGeom>
          <a:gradFill rotWithShape="0">
            <a:gsLst>
              <a:gs pos="0">
                <a:srgbClr val="7d2c80">
                  <a:alpha val="30196"/>
                </a:srgbClr>
              </a:gs>
              <a:gs pos="100000">
                <a:srgbClr val="2e7a81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29160" y="-15840"/>
            <a:ext cx="9198360" cy="1085400"/>
            <a:chOff x="-29160" y="-15840"/>
            <a:chExt cx="9198360" cy="1085400"/>
          </a:xfrm>
        </p:grpSpPr>
        <p:sp>
          <p:nvSpPr>
            <p:cNvPr id="49" name="Полилиния 11"/>
            <p:cNvSpPr/>
            <p:nvPr/>
          </p:nvSpPr>
          <p:spPr>
            <a:xfrm rot="21435600">
              <a:off x="-18720" y="202680"/>
              <a:ext cx="9163440" cy="648000"/>
            </a:xfrm>
            <a:prstGeom prst="pie">
              <a:avLst/>
            </a:prstGeom>
            <a:noFill/>
            <a:ln w="10800">
              <a:solidFill>
                <a:srgbClr val="3a7075">
                  <a:alpha val="5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2"/>
            <p:cNvSpPr/>
            <p:nvPr/>
          </p:nvSpPr>
          <p:spPr>
            <a:xfrm rot="21435600">
              <a:off x="-14040" y="275760"/>
              <a:ext cx="9176040" cy="528840"/>
            </a:xfrm>
            <a:prstGeom prst="pie">
              <a:avLst/>
            </a:prstGeom>
            <a:noFill/>
            <a:ln w="9360">
              <a:solidFill>
                <a:srgbClr val="438086">
                  <a:alpha val="5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01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01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4d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89DB-33F7-4A02-8801-5CE916AF7E0B}" type="datetime">
              <a:rPr b="0" lang="ru-RU" sz="1200" spc="-1" strike="noStrike">
                <a:solidFill>
                  <a:srgbClr val="d4d4d4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4d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6338-BAC1-4721-B0A6-DDF0A4125540}" type="slidenum">
              <a:rPr b="0" lang="ru-RU" sz="1200" spc="-1" strike="noStrike">
                <a:solidFill>
                  <a:srgbClr val="d4d4d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олилиния 6"/>
          <p:cNvSpPr/>
          <p:nvPr/>
        </p:nvSpPr>
        <p:spPr>
          <a:xfrm>
            <a:off x="-9360" y="-6480"/>
            <a:ext cx="9162720" cy="1041480"/>
          </a:xfrm>
          <a:prstGeom prst="pie">
            <a:avLst/>
          </a:pr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олилиния 7"/>
          <p:cNvSpPr/>
          <p:nvPr/>
        </p:nvSpPr>
        <p:spPr>
          <a:xfrm>
            <a:off x="4381560" y="-6480"/>
            <a:ext cx="4762440" cy="638280"/>
          </a:xfrm>
          <a:prstGeom prst="pie">
            <a:avLst/>
          </a:prstGeom>
          <a:gradFill rotWithShape="0">
            <a:gsLst>
              <a:gs pos="0">
                <a:srgbClr val="7d2c80">
                  <a:alpha val="30196"/>
                </a:srgbClr>
              </a:gs>
              <a:gs pos="100000">
                <a:srgbClr val="2e7a81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Группа 1"/>
          <p:cNvGrpSpPr/>
          <p:nvPr/>
        </p:nvGrpSpPr>
        <p:grpSpPr>
          <a:xfrm>
            <a:off x="-29160" y="-15840"/>
            <a:ext cx="9198360" cy="1085400"/>
            <a:chOff x="-29160" y="-15840"/>
            <a:chExt cx="9198360" cy="1085400"/>
          </a:xfrm>
        </p:grpSpPr>
        <p:sp>
          <p:nvSpPr>
            <p:cNvPr id="95" name="Полилиния 11"/>
            <p:cNvSpPr/>
            <p:nvPr/>
          </p:nvSpPr>
          <p:spPr>
            <a:xfrm rot="21435600">
              <a:off x="-18720" y="202680"/>
              <a:ext cx="9163440" cy="648000"/>
            </a:xfrm>
            <a:prstGeom prst="pie">
              <a:avLst/>
            </a:prstGeom>
            <a:noFill/>
            <a:ln w="10800">
              <a:solidFill>
                <a:srgbClr val="3a7075">
                  <a:alpha val="5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Полилиния 12"/>
            <p:cNvSpPr/>
            <p:nvPr/>
          </p:nvSpPr>
          <p:spPr>
            <a:xfrm rot="21435600">
              <a:off x="-14040" y="275760"/>
              <a:ext cx="9176040" cy="528840"/>
            </a:xfrm>
            <a:prstGeom prst="pie">
              <a:avLst/>
            </a:prstGeom>
            <a:noFill/>
            <a:ln w="9360">
              <a:solidFill>
                <a:srgbClr val="438086">
                  <a:alpha val="5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01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01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4d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B045-FE13-4889-9C5B-6DE6BA7D0FBE}" type="datetime">
              <a:rPr b="0" lang="ru-RU" sz="1200" spc="-1" strike="noStrike">
                <a:solidFill>
                  <a:srgbClr val="d4d4d4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4d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B6C0-5CEF-4864-BACE-82C9CD7242C0}" type="slidenum">
              <a:rPr b="0" lang="ru-RU" sz="1200" spc="-1" strike="noStrike">
                <a:solidFill>
                  <a:srgbClr val="d4d4d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с одним вырезанным скругленным углом 8"/>
          <p:cNvSpPr/>
          <p:nvPr/>
        </p:nvSpPr>
        <p:spPr>
          <a:xfrm flipV="1" rot="420600">
            <a:off x="3165120" y="1108080"/>
            <a:ext cx="5257800" cy="4114440"/>
          </a:xfrm>
          <a:prstGeom prst="pie">
            <a:avLst/>
          </a:pr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ый треугольник 11"/>
          <p:cNvSpPr/>
          <p:nvPr/>
        </p:nvSpPr>
        <p:spPr>
          <a:xfrm flipV="1" rot="420600">
            <a:off x="8003880" y="5358960"/>
            <a:ext cx="155520" cy="155520"/>
          </a:xfrm>
          <a:prstGeom prst="pi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олилиния 13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олилиния 14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7d2c80">
                  <a:alpha val="30196"/>
                </a:srgbClr>
              </a:gs>
              <a:gs pos="100000">
                <a:srgbClr val="2e7a81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01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01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7454-7A95-4AC3-9F1E-EF0C72683581}" type="datetime">
              <a:rPr b="0" lang="ru-RU" sz="1200" spc="-1" strike="noStrike">
                <a:solidFill>
                  <a:srgbClr val="3f4052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927F-D19D-41FC-ADC4-8D3C598A4430}" type="slidenum">
              <a:rPr b="0" lang="ru-RU" sz="1200" spc="-1" strike="noStrike">
                <a:solidFill>
                  <a:srgbClr val="3f405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Прямоугольник 3" descr=""/>
          <p:cNvPicPr/>
          <p:nvPr/>
        </p:nvPicPr>
        <p:blipFill>
          <a:blip r:embed="rId1"/>
          <a:stretch/>
        </p:blipFill>
        <p:spPr>
          <a:xfrm>
            <a:off x="963720" y="950760"/>
            <a:ext cx="6924600" cy="11034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"/>
          <p:cNvPicPr/>
          <p:nvPr/>
        </p:nvPicPr>
        <p:blipFill>
          <a:blip r:embed="rId2"/>
          <a:stretch/>
        </p:blipFill>
        <p:spPr>
          <a:xfrm>
            <a:off x="826920" y="2133720"/>
            <a:ext cx="720108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213840" y="428400"/>
            <a:ext cx="3071880" cy="61434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5000"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nstantia"/>
              </a:rPr>
              <a:t>Дарья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502652"/>
                </a:solidFill>
                <a:latin typeface="Constantia"/>
              </a:rPr>
              <a:t>Женский вариант имени Дарий. В переводе с древнегреческого означает «победительница».Обладает сильной волей, решительностью, сообразительностью, острым языком. По темпераменту чаще всего сангвиник, не способна долго гневаться. Не боится брать ответственность на себя. Ей не хватает женственности и душевной тонкости. Бывает резкой, и склонна прямо высказывать все, что есть у неё на душе. Начатое дело Дарья непременно доводит до конца. Она всегда стремится быть в поле зрения окружающих, подчиняя их своим желаниям и настроению, а то и побуждая поработать на себя. Она живет настоящим и устремлена в будущее. Энергичная, активная, действует в жизни без оглядки на прошлое. В настоящем берет то, что позволит ей и её семье быть счастливыми. Общественная работа — не её стихия. Лидер природы, Дарья умелый руководитель и организатор, но в основном на уровне среднего звена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2" descr="http://cs5625.userapi.com/u136617487/-6/m_d3764216.jpg"/>
          <p:cNvPicPr/>
          <p:nvPr/>
        </p:nvPicPr>
        <p:blipFill>
          <a:blip r:embed="rId1"/>
          <a:srcRect l="0" t="18229" r="0" b="18229"/>
          <a:stretch/>
        </p:blipFill>
        <p:spPr>
          <a:xfrm>
            <a:off x="3780000" y="0"/>
            <a:ext cx="5184720" cy="6669000"/>
          </a:xfrm>
          <a:prstGeom prst="rect">
            <a:avLst/>
          </a:prstGeom>
          <a:ln w="2880">
            <a:solidFill>
              <a:srgbClr val="c0c0c0"/>
            </a:solidFill>
            <a:round/>
          </a:ln>
        </p:spPr>
      </p:pic>
    </p:spTree>
  </p:cSld>
  <p:transition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13840" y="285480"/>
            <a:ext cx="3357720" cy="635796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5000"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nstantia"/>
              </a:rPr>
              <a:t>Елизавета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292a45"/>
                </a:solidFill>
                <a:latin typeface="Constantia"/>
              </a:rPr>
              <a:t>В переводе с древнееврейского означает «Божья клятва, обет Богу».По темпераменту — сангвиник. Ей не свойственно сдерживать эмоции, но она легко успокаивается. Настойчивая, но не может противостоять сильной воле. В женском коллективе Елизавета стремится к лидерству, но с друзьями и близкими держится мягко и отзывчиво. При желании она может быть обаятельной и даже обворожительной. Елизавета обладает быстрой реакцией, но при этом у неё пониженная восприимчивость и слабая интуиция. Она уделяет слишком много внимания малозначительным фактам, и порой не замечает самого главного. Себялюбивая, импульсивная, нередко конфликтная. Считает, что близкие и окружающие недооценивают её. Профессию, как правило, выбирает типично женскую, не боится мелкой и монотонной работы; занимаемая должность должна оставлять Елизавете как можно больше времени для дома. Любит стабильность во всем, поскольку привязывается к месту, к коллективу, к привычной обстановке, к дому, людям и событиям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2" descr="http://cs5596.userapi.com/u94620624/-6/m_759c4403.jpg"/>
          <p:cNvPicPr/>
          <p:nvPr/>
        </p:nvPicPr>
        <p:blipFill>
          <a:blip r:embed="rId1"/>
          <a:srcRect l="0" t="18619" r="0" b="18619"/>
          <a:stretch/>
        </p:blipFill>
        <p:spPr>
          <a:xfrm>
            <a:off x="3929040" y="0"/>
            <a:ext cx="5214960" cy="6751800"/>
          </a:xfrm>
          <a:prstGeom prst="rect">
            <a:avLst/>
          </a:prstGeom>
          <a:ln w="2880">
            <a:solidFill>
              <a:srgbClr val="c0c0c0"/>
            </a:solidFill>
            <a:round/>
          </a:ln>
        </p:spPr>
      </p:pic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14200" y="428400"/>
            <a:ext cx="3571920" cy="642924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5000"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nstantia"/>
              </a:rPr>
              <a:t>Ольга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02652"/>
                </a:solidFill>
                <a:latin typeface="Constantia"/>
              </a:rPr>
              <a:t>Женская форма имени Олег. Заимствовано из древнескандинавского языка путем изменения имени «Хельга», что означает «святая».В детстве это обидчивая, легко ранимая девочка — даже после безобидных замечаний на её глазах появляются слезы. Она упряма, учится без большого прилежания и старается держаться в тени. Повзрослев, становится честолюбивой, может добиться хороших результатов в науке, медицине, на производстве, в творчестве. Обладает одновременно аналитическим и синтетическим типом мышления, хорошей интуицией, видит связи разнородных явлений и результативно вмешивается в ход событий. Развитием её интеллекта родители должны быть обеспокоены с ранних детских лет, иначе талант и способности Ольги будут зарыты, не найдут самореализации в будущем и судьба её может быть сломана. Из-за робкого, а порой и нерешительного характера её яркость, храбрость и мощь внутренней силы невидимы для окружающих. Для их раскрытия нужен толчок извне, дружелюбная атмосфера, поддержка друзей и близких. Ольга способна преодолеть любое препятствие, вставшее на пути к поставленной цели. Но, сознавая свою силу, никогда не кичится, не демонстрирует её, старается держаться в тени Верховодить не стремится, а если и пробивается в лидеры, то это происходит помимо её желания, благодаря её безусловному авторитету у окружающих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02652"/>
                </a:solidFill>
                <a:latin typeface="Constanti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2" descr="http://cs11418.userapi.com/u151129593/-6/m_042cd5a0.jpg"/>
          <p:cNvPicPr/>
          <p:nvPr/>
        </p:nvPicPr>
        <p:blipFill>
          <a:blip r:embed="rId1"/>
          <a:srcRect l="0" t="21526" r="0" b="21526"/>
          <a:stretch/>
        </p:blipFill>
        <p:spPr>
          <a:xfrm>
            <a:off x="3995640" y="0"/>
            <a:ext cx="5148360" cy="6858000"/>
          </a:xfrm>
          <a:prstGeom prst="rect">
            <a:avLst/>
          </a:prstGeom>
          <a:ln w="2880">
            <a:solidFill>
              <a:srgbClr val="c0c0c0"/>
            </a:solidFill>
            <a:round/>
          </a:ln>
        </p:spPr>
      </p:pic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213840" y="285840"/>
            <a:ext cx="3714840" cy="628632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0000"/>
                </a:solidFill>
                <a:latin typeface="Constantia"/>
              </a:rPr>
              <a:t>Александр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502652"/>
                </a:solidFill>
                <a:latin typeface="Constantia"/>
              </a:rPr>
              <a:t>Происходит от древнегреческих слов "Алекс" -защищать и "Андрос" - муж, мужчина, то есть "защитник людей"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502652"/>
                </a:solidFill>
                <a:latin typeface="Constantia"/>
              </a:rPr>
              <a:t>В детстве Александры часто болеют, но подростками усиленно занимаются спортом и вырастают довольно крепкими и целеустремленными мужчинами. Александры способны добиваться своего, из них получаются неплохие руководители, умеющие управлять коллективом и отдающие должное способным, одаренным сотрудникам. Пользуются репутацией справедливых людей. Любят выпить, в состоянии опьянения становятся хвастливыми, теряют контроль над собой. Самоуверенного Александра нелегко, а иногда почти невозможно уговорить пить меньше, зачастую он "опережает круг", то есть выпивает еще до того, как налили другим. Однако сильное жизненное потрясение может навсегда отвратить его от любви к спиртному. В отношениях с женщинами Александр прежде всего стремится быть обворожительным. Редко встретишь такого приветливого и обворожительного мужчину, как Александр. Подать руку, помочь надеть пальто, купить букет цветов - это у него вошло в привычку. Главное же оружие Александра - комплимент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502652"/>
                </a:solidFill>
                <a:latin typeface="Constantia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5" descr="http://cs11285.userapi.com/u159570712/-6/x_99439b93.jpg"/>
          <p:cNvPicPr/>
          <p:nvPr/>
        </p:nvPicPr>
        <p:blipFill>
          <a:blip r:embed="rId1"/>
          <a:srcRect l="0" t="21621" r="0" b="21621"/>
          <a:stretch/>
        </p:blipFill>
        <p:spPr>
          <a:xfrm>
            <a:off x="3929040" y="0"/>
            <a:ext cx="5214960" cy="6669000"/>
          </a:xfrm>
          <a:prstGeom prst="rect">
            <a:avLst/>
          </a:prstGeom>
          <a:ln w="2880">
            <a:solidFill>
              <a:srgbClr val="c0c0c0"/>
            </a:solidFill>
            <a:round/>
          </a:ln>
        </p:spPr>
      </p:pic>
    </p:spTree>
  </p:cSld>
  <p:transition>
    <p:pull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285480" y="428760"/>
            <a:ext cx="3429000" cy="621504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8000"/>
          </a:bodyPr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0000"/>
                </a:solidFill>
                <a:latin typeface="Constantia"/>
              </a:rPr>
              <a:t>Алексей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502652"/>
                </a:solidFill>
                <a:latin typeface="Constantia"/>
              </a:rPr>
              <a:t>Происходит от древнегреческих слов "алекс" -защищать .Древнегреческого происхождения, означает: защитник. Алексеем назовет сына спокойная, уверенная в себе, тихая по натуре женщина. Алеша очень привязан к матери, внешне похож на нее, но кротость, присущую матери, наследует редко. Напротив, с самого раннего детства он чувствует себя защитником матери, а повзрослев, становится защитником и тех женщин, которые его окружают. Алексей доброжелателен, многословие для него не характерно, он человек дела. И хотя в детстве не верховодит ватагой мальчишек, но за советом они почему-то всегда обращаются к нему. Многие родители, называя так своего ребенка, делают это в порыве родительской заботы, интуитивно или осознанно ощущая нейтральность имени. В самом деле, Алеша вписывается практически в любой коллектив, не вызывая отторжения, однако, далеко не всегда все происходит так гладко, как хотелось бы родителям. Особенно, когда в воспитании Алексея у него будет чрезмерно развито честолюбие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502652"/>
                </a:solidFill>
                <a:latin typeface="Constantia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303800" y="266400"/>
            <a:ext cx="4618080" cy="3932280"/>
          </a:xfrm>
          <a:prstGeom prst="rect">
            <a:avLst/>
          </a:prstGeom>
          <a:ln w="2880">
            <a:solidFill>
              <a:srgbClr val="c0c0c0"/>
            </a:solidFill>
            <a:round/>
          </a:ln>
        </p:spPr>
      </p:pic>
      <p:pic>
        <p:nvPicPr>
          <p:cNvPr id="214" name="Picture 4" descr="C:\Documents and Settings\Владелец\Рабочий стол\DSC00969.JPG"/>
          <p:cNvPicPr/>
          <p:nvPr/>
        </p:nvPicPr>
        <p:blipFill>
          <a:blip r:embed="rId2"/>
          <a:stretch/>
        </p:blipFill>
        <p:spPr>
          <a:xfrm>
            <a:off x="4140360" y="0"/>
            <a:ext cx="5003640" cy="6858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285480" y="357120"/>
            <a:ext cx="3500280" cy="621504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7000"/>
          </a:bodyPr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nstantia"/>
              </a:rPr>
              <a:t>Даниэл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02652"/>
                </a:solidFill>
                <a:latin typeface="Constantia"/>
              </a:rPr>
              <a:t>В переводе с древнееврейского означает «Божий суд».Спокойный, флегматичный человек с уравновешенной психикой и достаточно сильной волей. Милый и приятный собеседник. Его интересует больше внутренний мир, чем окружающая жизнь. Часто ставит дружбу выше любви. Отзывчивый, добрый, но с хитринкой. Рожденный зимой — талантливый, сложный в общении. Рожденный осенью — расчетливый, прагматичный, эгоист. Наделен сверханалитическим умом, внимателен к малейшим подробностям и мелочам. Но ему не хватает здоровой агрессивности, напора, умения ясно выражать свои чувства. Очень предан семье. Секс — тема для него неприятная, он чувствует разлад между восприимчивостью и сексуальностью и поэтому испытывает какую-то тревогу. Кажется скромным, даже робким, женщина не сразу разглядит в нем мужскую силу, но он сексуально активен и темпераментен. Придает огромное значение сексуальной гармонии в браке. Женится обычно удачно. Детей любит, но жене в домашней работе, как правило, не помогает. Имеет склонность к точным наукам, радиоэлектронике, медицине, педагогике, бизнесу. Нередко обучается двум специальностям одновременно. Работу выбирает такую, которая оставляет достаточно свободного времени. Увлекается живописью, музыкой, актерским мастерством, которые часто выбирает в качестве профессии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1" descr=""/>
          <p:cNvPicPr/>
          <p:nvPr/>
        </p:nvPicPr>
        <p:blipFill>
          <a:blip r:embed="rId1"/>
          <a:srcRect l="0" t="7434" r="0" b="7434"/>
          <a:stretch/>
        </p:blipFill>
        <p:spPr>
          <a:xfrm>
            <a:off x="4303800" y="0"/>
            <a:ext cx="48402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85480" y="428400"/>
            <a:ext cx="3143160" cy="61434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0000"/>
                </a:solidFill>
                <a:latin typeface="Constantia"/>
              </a:rPr>
              <a:t>Леонид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02652"/>
                </a:solidFill>
                <a:latin typeface="Constantia"/>
              </a:rPr>
              <a:t>Происходит от древнегреческого имени Леонидас (от «леон» — лев и «идеа» — внешность, наружность). Буквально означает «подобный льву».Леонид с детства очень озабочен своим здоровьем. Он — человек самолюбивый, очень коммуникабельный, достаточно ловкий, быстро приспосабливается к новым условиям, умеет улаживать конфликты, ладит с коллегами и начальством. При необходимости проявляет твердость, принципиальность, неуступчивость. Особыми талантами и логическим мышлением не блещет, обычно полагается на интуицию и на «авось», но, тем не менее, достигает неплохих результатов в избранной профессии. Диапазон его профессиональных возможностей очень широк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303800" y="266400"/>
            <a:ext cx="4618080" cy="3932280"/>
          </a:xfrm>
          <a:prstGeom prst="rect">
            <a:avLst/>
          </a:prstGeom>
          <a:ln w="25560">
            <a:solidFill>
              <a:srgbClr val="438086"/>
            </a:solidFill>
            <a:round/>
          </a:ln>
        </p:spPr>
      </p:pic>
      <p:pic>
        <p:nvPicPr>
          <p:cNvPr id="219" name="Picture 4" descr="C:\Documents and Settings\Владелец\Рабочий стол\DSC00968.JPG"/>
          <p:cNvPicPr/>
          <p:nvPr/>
        </p:nvPicPr>
        <p:blipFill>
          <a:blip r:embed="rId2"/>
          <a:stretch/>
        </p:blipFill>
        <p:spPr>
          <a:xfrm>
            <a:off x="3780000" y="0"/>
            <a:ext cx="5364000" cy="68580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14200" y="571320"/>
            <a:ext cx="2773440" cy="585756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0000"/>
                </a:solidFill>
                <a:latin typeface="Constantia"/>
              </a:rPr>
              <a:t>Юрий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Славянская форма древнегреческого имени Георгий — «земледелец».Молчаливый, сдержанный, постоянный в своих взглядах. Обладает цепким и гибким умом, сообразительностью, смекалкой. Критичен,  восприимчив ко всему новому, легок на подъем, подвижен. Юрий к лидерству не стремится, пробивная сила и напористость ему не свойственны. Это светлый, душевно богатый человек, веселый и общительный. Хорошо проявляет себя в любой профессии и на любом руководящем посту. У него философский тип мышления, разносторонние интересы, он редко замыкается в пределах своей профессии. Юрий аристократичен, всегда выделяется в толпе и любой компании.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1" descr=""/>
          <p:cNvPicPr/>
          <p:nvPr/>
        </p:nvPicPr>
        <p:blipFill>
          <a:blip r:embed="rId1"/>
          <a:srcRect l="11013" t="0" r="11013" b="0"/>
          <a:stretch/>
        </p:blipFill>
        <p:spPr>
          <a:xfrm>
            <a:off x="3635280" y="0"/>
            <a:ext cx="550872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"/>
          <p:cNvSpPr/>
          <p:nvPr/>
        </p:nvSpPr>
        <p:spPr>
          <a:xfrm>
            <a:off x="266760" y="-16200"/>
            <a:ext cx="861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Calibri"/>
              </a:rPr>
              <a:t>Диаграмма по именам девочек  Кратовской СОШ №2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Диаграмма 3"/>
          <p:cNvGraphicFramePr/>
          <p:nvPr/>
        </p:nvGraphicFramePr>
        <p:xfrm>
          <a:off x="714240" y="1214280"/>
          <a:ext cx="7567920" cy="534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Диаграмма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1214280"/>
                    <a:ext cx="7567920" cy="534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Rectangle 4"/>
          <p:cNvSpPr/>
          <p:nvPr/>
        </p:nvSpPr>
        <p:spPr>
          <a:xfrm>
            <a:off x="0" y="462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"/>
          <p:cNvSpPr/>
          <p:nvPr/>
        </p:nvSpPr>
        <p:spPr>
          <a:xfrm>
            <a:off x="0" y="107280"/>
            <a:ext cx="836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Диаграмма  по именам мальчиков Кратовской СОШ №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Диаграмма 1"/>
          <p:cNvGraphicFramePr/>
          <p:nvPr/>
        </p:nvGraphicFramePr>
        <p:xfrm>
          <a:off x="571680" y="1357200"/>
          <a:ext cx="8153280" cy="52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0" name="Диаграмма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357200"/>
                    <a:ext cx="815328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Rectangle 4"/>
          <p:cNvSpPr/>
          <p:nvPr/>
        </p:nvSpPr>
        <p:spPr>
          <a:xfrm>
            <a:off x="0" y="45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2"/>
          <p:cNvSpPr/>
          <p:nvPr/>
        </p:nvSpPr>
        <p:spPr>
          <a:xfrm>
            <a:off x="179280" y="333360"/>
            <a:ext cx="5400720" cy="50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 учре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атовская средняя школа №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спорт учебного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  «   Наши имена 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ме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     окружающий ми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арактеристика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о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ко-ориентирова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виду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есрочный(2месяц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5829480" y="3357720"/>
            <a:ext cx="2658960" cy="28684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0" y="172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нкетирование уч-ся нач.классов на предмет знания о своём и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Object 1" descr=""/>
          <p:cNvPicPr/>
          <p:nvPr/>
        </p:nvPicPr>
        <p:blipFill>
          <a:blip r:embed="rId1"/>
          <a:stretch/>
        </p:blipFill>
        <p:spPr>
          <a:xfrm>
            <a:off x="357120" y="695160"/>
            <a:ext cx="8709120" cy="580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1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мя </a:t>
            </a:r>
            <a:r>
              <a:rPr b="0" lang="ru-RU" sz="3600" spc="-1" strike="noStrike">
                <a:solidFill>
                  <a:srgbClr val="403152"/>
                </a:solidFill>
                <a:latin typeface="Arial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3152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403152"/>
                </a:solidFill>
                <a:latin typeface="Arial"/>
              </a:rPr>
              <a:t>это связь индивидуума с самим соб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3152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403152"/>
                </a:solidFill>
                <a:latin typeface="Arial"/>
              </a:rPr>
              <a:t>Тем не менее оно по-прежнему отражает важнейшие периоды нашей жизни, у каждого из нас тоже существует его детский и взрослый варианты. Практически у каждого есть семейное имя, или имя, которым называла только мама или бабушка. Потом появляется вариант имени, которое дают друзья, а позднее разные варианты «рабочего» имени — официального и «для двоих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1"/>
          <p:cNvSpPr/>
          <p:nvPr/>
        </p:nvSpPr>
        <p:spPr>
          <a:xfrm>
            <a:off x="142920" y="189000"/>
            <a:ext cx="62294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крыть  тайны имён обучающихся 4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снить, знают ли ребята значение своего имени и историю его происхожд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чёткое определение понятия «им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нать о значении и происхождение  своего имени, о роли имени в жизни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снить являются ли именины и день рождения тождественными понят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ить списки учащихся школы с целью определения частоты употребления имё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тизировать и оформить добытые при исследовании материа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6372360" y="3997440"/>
            <a:ext cx="2332080" cy="25160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1"/>
          <p:cNvSpPr/>
          <p:nvPr/>
        </p:nvSpPr>
        <p:spPr>
          <a:xfrm>
            <a:off x="2700360" y="189000"/>
            <a:ext cx="626436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апы работы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ановка  проблемы , формулировка темы исследования , цели и задач, определение объекта предмета исследования, выбор методов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нирование ,определение источников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кетирование и опрос обучающихся школы (1-4 класс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ка сообщений о значении и происхождении своего и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ние социологического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тизация и оформление добытых  при исследовании матери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я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0" y="4221000"/>
            <a:ext cx="2268360" cy="2637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1"/>
          <p:cNvSpPr/>
          <p:nvPr/>
        </p:nvSpPr>
        <p:spPr>
          <a:xfrm>
            <a:off x="285840" y="260280"/>
            <a:ext cx="864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Я –  по словарю В.Да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названье, наименование, слово, которым зовут, означают особь, лично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0" y="2205000"/>
            <a:ext cx="8956800" cy="4388040"/>
          </a:xfrm>
          <a:prstGeom prst="rect">
            <a:avLst/>
          </a:prstGeom>
          <a:ln w="38160">
            <a:solidFill>
              <a:srgbClr val="eeece1"/>
            </a:solidFill>
            <a:miter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"/>
          <p:cNvSpPr/>
          <p:nvPr/>
        </p:nvSpPr>
        <p:spPr>
          <a:xfrm>
            <a:off x="0" y="675000"/>
            <a:ext cx="428472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  <a:ea typeface="Calibri"/>
              </a:rPr>
              <a:t>Происхождение имен на Ру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До появления христианства на Руси для наречения младенцев использовались древнерусские самобытные имена. По традиции имена отражали черты характера и особенности человека, например, Умник, Хитр, Добр, Храбр, Молчан, Косой, Красава, Кудряш, Черняк, Хромой, Беля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38160">
            <a:solidFill>
              <a:srgbClr val="666699"/>
            </a:solidFill>
            <a:miter/>
          </a:ln>
        </p:spPr>
      </p:pic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85840" y="356760"/>
            <a:ext cx="2270160" cy="628668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6000"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nstantia"/>
              </a:rPr>
              <a:t>Анн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02652"/>
                </a:solidFill>
                <a:latin typeface="Constantia"/>
              </a:rPr>
              <a:t>В переводе с древнееврейского означает «благодать». По другим источникам— «миловидная, симпатичная». Анну действительно можно назвать настоящей кладезем добродетелей. Это добрая, скромная, обаятельная, женственная, способная к самопожертвованию, доверчивая, бескорыстная, доброжелательная женщина. Анна не выносит неряшливости ни в доме, ни во внешнем облике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6" name="Picture 4" descr="http://cs10940.userapi.com/u147435446/-6/o_2a3c6afd.jpg"/>
          <p:cNvPicPr/>
          <p:nvPr/>
        </p:nvPicPr>
        <p:blipFill>
          <a:blip r:embed="rId1"/>
          <a:srcRect l="0" t="18024" r="0" b="18024"/>
          <a:stretch/>
        </p:blipFill>
        <p:spPr>
          <a:xfrm rot="419400">
            <a:off x="4974840" y="2342880"/>
            <a:ext cx="3667320" cy="4089240"/>
          </a:xfrm>
          <a:prstGeom prst="rect">
            <a:avLst/>
          </a:prstGeom>
          <a:ln w="2880">
            <a:solidFill>
              <a:srgbClr val="c0c0c0"/>
            </a:solidFill>
            <a:round/>
          </a:ln>
        </p:spPr>
      </p:pic>
      <p:sp>
        <p:nvSpPr>
          <p:cNvPr id="197" name="TextBox 9"/>
          <p:cNvSpPr/>
          <p:nvPr/>
        </p:nvSpPr>
        <p:spPr>
          <a:xfrm>
            <a:off x="5867280" y="35733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8" descr="http://cs5775.userapi.com/u161885460/152085203/o_72c4808c.jpg"/>
          <p:cNvPicPr/>
          <p:nvPr/>
        </p:nvPicPr>
        <p:blipFill>
          <a:blip r:embed="rId2"/>
          <a:stretch/>
        </p:blipFill>
        <p:spPr>
          <a:xfrm>
            <a:off x="2843280" y="333360"/>
            <a:ext cx="3168720" cy="3927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13840" y="357120"/>
            <a:ext cx="3429000" cy="621504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300" spc="-1" strike="noStrike">
                <a:solidFill>
                  <a:srgbClr val="ff0000"/>
                </a:solidFill>
                <a:latin typeface="Constantia"/>
              </a:rPr>
              <a:t>Валерия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02652"/>
                </a:solidFill>
                <a:latin typeface="Constantia"/>
              </a:rPr>
              <a:t>Женский вариант имени Валерий. Русское родовое имя. В переводе с латыни означает «сильная, крепкая».Валерия непредсказуема: никогда не известно, что она сделает — взорвется гневом или запоет. Женщина с этим именем очень возбудимая и нервная, свои чувства выражает весьма бурно. За эмоциональным взрывом у неё обычно следует длительная дисперсия. Взбалмошность Валерии объясняется её ранимостью и повышенной чувствительностью. К окружающим она относится настороженно и недоверчиво. Своих близких Валерия защищает всеми доступными средствами. Часто она демонстрирует свой гнев преднамеренно, для смелости, чтобы произвести впечатление на окружающих.Интуиция у неё неразрывна с впечатлительностью. Валерия обладает синтетическим типом мышления, хорошо развитой фантазией и прекрасной образной памятью, но больше интересуется своим внутренним миром, чем работой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02652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079880" y="480600"/>
            <a:ext cx="4618080" cy="3932280"/>
          </a:xfrm>
          <a:prstGeom prst="rect">
            <a:avLst/>
          </a:prstGeom>
          <a:ln w="2880">
            <a:solidFill>
              <a:srgbClr val="c0c0c0"/>
            </a:solidFill>
            <a:round/>
          </a:ln>
        </p:spPr>
      </p:pic>
      <p:pic>
        <p:nvPicPr>
          <p:cNvPr id="201" name="Picture 5" descr="C:\Documents and Settings\Владелец\Рабочий стол\DSC00970.JPG"/>
          <p:cNvPicPr/>
          <p:nvPr/>
        </p:nvPicPr>
        <p:blipFill>
          <a:blip r:embed="rId2"/>
          <a:stretch/>
        </p:blipFill>
        <p:spPr>
          <a:xfrm>
            <a:off x="3780000" y="0"/>
            <a:ext cx="5364000" cy="66690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57120" y="499680"/>
            <a:ext cx="2643120" cy="600084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nstantia"/>
              </a:rPr>
              <a:t>Виктория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292a45"/>
                </a:solidFill>
                <a:latin typeface="Constantia"/>
              </a:rPr>
              <a:t>В переводе с латинского означает «победа».Средняя Виктория — флегматик с заторможенной возбудимостью и замедленной реакцией. Внешне это спокойная, уравновешенная, не болтливая женщина, изредка склонная замыкаться в себе. Но в душе Виктория застенчива и не уверена в себе. Она очень чувствительная и скрытная, упрямая и непреклонная. Умеет сдерживать  эмоции и редко открыто обнаруживает свои чувства. У неё мужской ум синтетического типа мышления. Виктория умеет объединять разрозненные факты в единое целое. Не полагаясь на одно вдохновение, она всегда тщательно планирует все свои дела и поступки. Общительность Виктории проявляется только в кругу близких и друзей; с ними она готова поделиться последним куском хлеба.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2" descr="http://cs9857.userapi.com/u135620804/-6/m_a7b84dd7.jpg"/>
          <p:cNvPicPr/>
          <p:nvPr/>
        </p:nvPicPr>
        <p:blipFill>
          <a:blip r:embed="rId1"/>
          <a:srcRect l="6193" t="0" r="6193" b="0"/>
          <a:stretch/>
        </p:blipFill>
        <p:spPr>
          <a:xfrm>
            <a:off x="3483000" y="0"/>
            <a:ext cx="5661000" cy="6669000"/>
          </a:xfrm>
          <a:prstGeom prst="rect">
            <a:avLst/>
          </a:prstGeom>
          <a:ln w="2880">
            <a:solidFill>
              <a:srgbClr val="c0c0c0"/>
            </a:solidFill>
            <a:round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5T19:24:53Z</dcterms:created>
  <dc:creator>UserXP</dc:creator>
  <dc:description/>
  <dc:language>en-US</dc:language>
  <cp:lastModifiedBy>user2</cp:lastModifiedBy>
  <dcterms:modified xsi:type="dcterms:W3CDTF">2013-01-15T11:45:12Z</dcterms:modified>
  <cp:revision>51</cp:revision>
  <dc:subject/>
  <dc:title>Слайд 1</dc:title>
</cp:coreProperties>
</file>