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9FFC-3DA8-4C6E-AF9F-F3614ED9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6A70-31D2-44B8-A406-C3AF18E8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793D-B5FC-43B6-B448-FF14F1888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9187-D9AD-43B2-AE57-168BC91C8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6381-71C7-4405-A7A0-49B51F107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7C3C-FAE4-4297-AA7F-89A20B08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56E7-DC4D-48F1-B5B8-05E7FEFF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119D-3CB4-473D-93BB-6C94FAF6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074D-0F6A-4D8F-A0BC-F168F2D6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F470-EB5C-4990-AB7B-68B39C67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6B24-A41D-4EC8-A1C1-997CA0A8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C10C-8354-48D2-A5E9-438FDACA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7E3C-7156-4329-9705-0544A517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5957-E234-472F-8C82-9C3BE35E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9282-0E59-4DDB-97D9-05DB85B2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8C6F-1A9A-465B-9D0C-D30A1A3AB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2522-9FF6-41AB-8CE2-87575A81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23FDF-B6B2-4BA0-A56F-BC36C882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CD07E-D3F4-4D08-9DC2-3E592EDC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B11A2-C339-47E4-AAC8-B68907D9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D3D4A-DA6E-4082-BDC6-EFD6FB95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066AB-E737-401E-9E12-DCFD037C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32CE-759B-40F9-9994-CFB24DCB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4ADCA-16EE-4CFA-B488-FF9775B9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242B0-0FD8-4DA9-9B52-782908C0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F0FF0-BDA6-40C7-BB1D-43957E17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2A0FC-BA4F-420C-93CF-6FDD59C5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1913B-AE85-4618-83DF-E488B61D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80DDC-3854-46EC-B8B5-02F0C1A5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C83A2-2D4E-4ED0-B3A4-039A333B1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05A53-FD9C-4361-9143-632A1569F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ED7ED-950A-4292-A1C1-97D56932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0E4FC-FCD5-4BB9-882E-7FEAF451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9963-77EE-44C7-9665-0AC078BC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A6BBD-584D-4156-B268-F61051F3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D3DF1-2B3C-4627-8D81-37D125A4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F5639-2C3B-4977-9F04-72925F46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2F75B-AD4D-4D1B-9EF4-88F25B2C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91F60-C351-4DF2-ADEF-DBC2D4C9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35AF0-450F-4161-A7BA-4E0E6699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682E6-53B7-4804-8707-EB583C57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7F3A7-835F-4753-A3BC-2CC91C62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4DF5F-E686-4DED-8FC8-4EFE027DF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2A4D-A2B3-4A47-A06F-02AA6B0F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4278-7E3F-4568-B138-36A8B1A3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F743-0DD7-4B62-BE4D-1201EDD1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C5C0-9EE1-43DD-A4E2-49F0FFE5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4F80-1F9A-4B83-A6F4-02DF630D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648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648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30196"/>
                </a:srgbClr>
              </a:gs>
              <a:gs pos="100000">
                <a:srgbClr val="2e7a81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01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01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0A31-139E-4108-AF75-BAF8DC45DEA6}" type="datetime">
              <a:rPr b="0" lang="ru-RU" sz="1200" spc="-1" strike="noStrike">
                <a:solidFill>
                  <a:srgbClr val="3f4052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9178-3924-4EED-A690-F7A7041E6A96}" type="slidenum">
              <a:rPr b="0" lang="ru-RU" sz="1200" spc="-1" strike="noStrike">
                <a:solidFill>
                  <a:srgbClr val="3f405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29160" y="-15840"/>
            <a:ext cx="9198360" cy="1085400"/>
            <a:chOff x="-29160" y="-15840"/>
            <a:chExt cx="9198360" cy="1085400"/>
          </a:xfrm>
        </p:grpSpPr>
        <p:sp>
          <p:nvSpPr>
            <p:cNvPr id="8" name="Полилиния 11"/>
            <p:cNvSpPr/>
            <p:nvPr/>
          </p:nvSpPr>
          <p:spPr>
            <a:xfrm rot="21435600">
              <a:off x="-18720" y="202680"/>
              <a:ext cx="9163440" cy="648000"/>
            </a:xfrm>
            <a:prstGeom prst="pie">
              <a:avLst/>
            </a:prstGeom>
            <a:noFill/>
            <a:ln w="10800">
              <a:solidFill>
                <a:srgbClr val="3a7075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Полилиния 12"/>
            <p:cNvSpPr/>
            <p:nvPr/>
          </p:nvSpPr>
          <p:spPr>
            <a:xfrm rot="21435600">
              <a:off x="-14040" y="275760"/>
              <a:ext cx="9176040" cy="528840"/>
            </a:xfrm>
            <a:prstGeom prst="pie">
              <a:avLst/>
            </a:prstGeom>
            <a:noFill/>
            <a:ln w="9360">
              <a:solidFill>
                <a:srgbClr val="438086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648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648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30196"/>
                </a:srgbClr>
              </a:gs>
              <a:gs pos="100000">
                <a:srgbClr val="2e7a81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5840"/>
            <a:ext cx="9198360" cy="1085400"/>
            <a:chOff x="-29160" y="-15840"/>
            <a:chExt cx="9198360" cy="108540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2680"/>
              <a:ext cx="9163440" cy="648000"/>
            </a:xfrm>
            <a:prstGeom prst="pie">
              <a:avLst/>
            </a:prstGeom>
            <a:noFill/>
            <a:ln w="10800">
              <a:solidFill>
                <a:srgbClr val="3a7075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760"/>
              <a:ext cx="9176040" cy="528840"/>
            </a:xfrm>
            <a:prstGeom prst="pie">
              <a:avLst/>
            </a:prstGeom>
            <a:noFill/>
            <a:ln w="9360">
              <a:solidFill>
                <a:srgbClr val="438086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01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01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E990-E25F-4019-8A9B-A7301E55B104}" type="datetime">
              <a:rPr b="0" lang="ru-RU" sz="1200" spc="-1" strike="noStrike">
                <a:solidFill>
                  <a:srgbClr val="d4d4d4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6B23-10E9-4D0D-8917-A646C0E3D56B}" type="slidenum">
              <a:rPr b="0" lang="ru-RU" sz="1200" spc="-1" strike="noStrike">
                <a:solidFill>
                  <a:srgbClr val="d4d4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олилиния 6"/>
          <p:cNvSpPr/>
          <p:nvPr/>
        </p:nvSpPr>
        <p:spPr>
          <a:xfrm>
            <a:off x="-9360" y="-648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олилиния 7"/>
          <p:cNvSpPr/>
          <p:nvPr/>
        </p:nvSpPr>
        <p:spPr>
          <a:xfrm>
            <a:off x="4381560" y="-648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30196"/>
                </a:srgbClr>
              </a:gs>
              <a:gs pos="100000">
                <a:srgbClr val="2e7a81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Группа 1"/>
          <p:cNvGrpSpPr/>
          <p:nvPr/>
        </p:nvGrpSpPr>
        <p:grpSpPr>
          <a:xfrm>
            <a:off x="-29160" y="-15840"/>
            <a:ext cx="9198360" cy="1085400"/>
            <a:chOff x="-29160" y="-15840"/>
            <a:chExt cx="9198360" cy="1085400"/>
          </a:xfrm>
        </p:grpSpPr>
        <p:sp>
          <p:nvSpPr>
            <p:cNvPr id="95" name="Полилиния 11"/>
            <p:cNvSpPr/>
            <p:nvPr/>
          </p:nvSpPr>
          <p:spPr>
            <a:xfrm rot="21435600">
              <a:off x="-18720" y="202680"/>
              <a:ext cx="9163440" cy="648000"/>
            </a:xfrm>
            <a:prstGeom prst="pie">
              <a:avLst/>
            </a:prstGeom>
            <a:noFill/>
            <a:ln w="10800">
              <a:solidFill>
                <a:srgbClr val="3a7075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Полилиния 12"/>
            <p:cNvSpPr/>
            <p:nvPr/>
          </p:nvSpPr>
          <p:spPr>
            <a:xfrm rot="21435600">
              <a:off x="-14040" y="275760"/>
              <a:ext cx="9176040" cy="528840"/>
            </a:xfrm>
            <a:prstGeom prst="pie">
              <a:avLst/>
            </a:prstGeom>
            <a:noFill/>
            <a:ln w="9360">
              <a:solidFill>
                <a:srgbClr val="438086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01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01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FAE7-7A31-4CA7-8185-74A2BF9F3551}" type="datetime">
              <a:rPr b="0" lang="ru-RU" sz="1200" spc="-1" strike="noStrike">
                <a:solidFill>
                  <a:srgbClr val="d4d4d4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15DA-6232-488D-B543-29D2374B9CD9}" type="slidenum">
              <a:rPr b="0" lang="ru-RU" sz="1200" spc="-1" strike="noStrike">
                <a:solidFill>
                  <a:srgbClr val="d4d4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с одним вырезанным скругленным углом 8"/>
          <p:cNvSpPr/>
          <p:nvPr/>
        </p:nvSpPr>
        <p:spPr>
          <a:xfrm flipV="1" rot="420600">
            <a:off x="3165120" y="1108080"/>
            <a:ext cx="5257800" cy="411444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ый треугольник 11"/>
          <p:cNvSpPr/>
          <p:nvPr/>
        </p:nvSpPr>
        <p:spPr>
          <a:xfrm flipV="1" rot="420600">
            <a:off x="8003880" y="5358960"/>
            <a:ext cx="155520" cy="155520"/>
          </a:xfrm>
          <a:prstGeom prst="pi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олилиния 13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олилиния 14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30196"/>
                </a:srgbClr>
              </a:gs>
              <a:gs pos="100000">
                <a:srgbClr val="2e7a81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01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01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2813-803C-45EA-AF2B-AD7E1F2B158D}" type="datetime">
              <a:rPr b="0" lang="ru-RU" sz="1200" spc="-1" strike="noStrike">
                <a:solidFill>
                  <a:srgbClr val="3f4052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629A-BEAA-4862-A2AB-0ADADBA84A4E}" type="slidenum">
              <a:rPr b="0" lang="ru-RU" sz="1200" spc="-1" strike="noStrike">
                <a:solidFill>
                  <a:srgbClr val="3f405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Прямоугольник 3" descr=""/>
          <p:cNvPicPr/>
          <p:nvPr/>
        </p:nvPicPr>
        <p:blipFill>
          <a:blip r:embed="rId1"/>
          <a:stretch/>
        </p:blipFill>
        <p:spPr>
          <a:xfrm>
            <a:off x="963720" y="950760"/>
            <a:ext cx="6924600" cy="1103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826920" y="2133720"/>
            <a:ext cx="720108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13840" y="428400"/>
            <a:ext cx="3071880" cy="61434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5000"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nstantia"/>
              </a:rPr>
              <a:t>Дарья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502652"/>
                </a:solidFill>
                <a:latin typeface="Constantia"/>
              </a:rPr>
              <a:t>Женский вариант имени Дарий. В переводе с древнегреческого означает «победительница».Обладает сильной волей, решительностью, сообразительностью, острым языком. По темпераменту чаще всего сангвиник, не способна долго гневаться. Не боится брать ответственность на себя. Ей не хватает женственности и душевной тонкости. Бывает резкой, и склонна прямо высказывать все, что есть у неё на душе. Начатое дело Дарья непременно доводит до конца. Она всегда стремится быть в поле зрения окружающих, подчиняя их своим желаниям и настроению, а то и побуждая поработать на себя. Она живет настоящим и устремлена в будущее. Энергичная, активная, действует в жизни без оглядки на прошлое. В настоящем берет то, что позволит ей и её семье быть счастливыми. Общественная работа — не её стихия. Лидер природы, Дарья умелый руководитель и организатор, но в основном на уровне среднего звена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2" descr="http://cs5625.userapi.com/u136617487/-6/m_d3764216.jpg"/>
          <p:cNvPicPr/>
          <p:nvPr/>
        </p:nvPicPr>
        <p:blipFill>
          <a:blip r:embed="rId1"/>
          <a:srcRect l="0" t="18229" r="0" b="18229"/>
          <a:stretch/>
        </p:blipFill>
        <p:spPr>
          <a:xfrm>
            <a:off x="3780000" y="0"/>
            <a:ext cx="5184720" cy="6669000"/>
          </a:xfrm>
          <a:prstGeom prst="rect">
            <a:avLst/>
          </a:prstGeom>
          <a:ln w="2880">
            <a:solidFill>
              <a:srgbClr val="c0c0c0"/>
            </a:solidFill>
            <a:round/>
          </a:ln>
        </p:spPr>
      </p:pic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13840" y="285480"/>
            <a:ext cx="3357720" cy="635796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5000"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nstantia"/>
              </a:rPr>
              <a:t>Елизавет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292a45"/>
                </a:solidFill>
                <a:latin typeface="Constantia"/>
              </a:rPr>
              <a:t>В переводе с древнееврейского означает «Божья клятва, обет Богу».По темпераменту — сангвиник. Ей не свойственно сдерживать эмоции, но она легко успокаивается. Настойчивая, но не может противостоять сильной воле. В женском коллективе Елизавета стремится к лидерству, но с друзьями и близкими держится мягко и отзывчиво. При желании она может быть обаятельной и даже обворожительной. Елизавета обладает быстрой реакцией, но при этом у неё пониженная восприимчивость и слабая интуиция. Она уделяет слишком много внимания малозначительным фактам, и порой не замечает самого главного. Себялюбивая, импульсивная, нередко конфликтная. Считает, что близкие и окружающие недооценивают её. Профессию, как правило, выбирает типично женскую, не боится мелкой и монотонной работы; занимаемая должность должна оставлять Елизавете как можно больше времени для дома. Любит стабильность во всем, поскольку привязывается к месту, к коллективу, к привычной обстановке, к дому, людям и событиям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2" descr="http://cs5596.userapi.com/u94620624/-6/m_759c4403.jpg"/>
          <p:cNvPicPr/>
          <p:nvPr/>
        </p:nvPicPr>
        <p:blipFill>
          <a:blip r:embed="rId1"/>
          <a:srcRect l="0" t="18619" r="0" b="18619"/>
          <a:stretch/>
        </p:blipFill>
        <p:spPr>
          <a:xfrm>
            <a:off x="3929040" y="0"/>
            <a:ext cx="5214960" cy="6751800"/>
          </a:xfrm>
          <a:prstGeom prst="rect">
            <a:avLst/>
          </a:prstGeom>
          <a:ln w="2880">
            <a:solidFill>
              <a:srgbClr val="c0c0c0"/>
            </a:solidFill>
            <a:round/>
          </a:ln>
        </p:spPr>
      </p:pic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14200" y="428400"/>
            <a:ext cx="3571920" cy="64292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5000"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nstantia"/>
              </a:rPr>
              <a:t>Ольга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02652"/>
                </a:solidFill>
                <a:latin typeface="Constantia"/>
              </a:rPr>
              <a:t>Женская форма имени Олег. Заимствовано из древнескандинавского языка путем изменения имени «Хельга», что означает «святая».В детстве это обидчивая, легко ранимая девочка — даже после безобидных замечаний на её глазах появляются слезы. Она упряма, учится без большого прилежания и старается держаться в тени. Повзрослев, становится честолюбивой, может добиться хороших результатов в науке, медицине, на производстве, в творчестве. Обладает одновременно аналитическим и синтетическим типом мышления, хорошей интуицией, видит связи разнородных явлений и результативно вмешивается в ход событий. Развитием её интеллекта родители должны быть обеспокоены с ранних детских лет, иначе талант и способности Ольги будут зарыты, не найдут самореализации в будущем и судьба её может быть сломана. Из-за робкого, а порой и нерешительного характера её яркость, храбрость и мощь внутренней силы невидимы для окружающих. Для их раскрытия нужен толчок извне, дружелюбная атмосфера, поддержка друзей и близких. Ольга способна преодолеть любое препятствие, вставшее на пути к поставленной цели. Но, сознавая свою силу, никогда не кичится, не демонстрирует её, старается держаться в тени Верховодить не стремится, а если и пробивается в лидеры, то это происходит помимо её желания, благодаря её безусловному авторитету у окружающих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02652"/>
                </a:solidFill>
                <a:latin typeface="Constant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http://cs11418.userapi.com/u151129593/-6/m_042cd5a0.jpg"/>
          <p:cNvPicPr/>
          <p:nvPr/>
        </p:nvPicPr>
        <p:blipFill>
          <a:blip r:embed="rId1"/>
          <a:srcRect l="0" t="21526" r="0" b="21526"/>
          <a:stretch/>
        </p:blipFill>
        <p:spPr>
          <a:xfrm>
            <a:off x="3995640" y="0"/>
            <a:ext cx="5148360" cy="6858000"/>
          </a:xfrm>
          <a:prstGeom prst="rect">
            <a:avLst/>
          </a:prstGeom>
          <a:ln w="2880">
            <a:solidFill>
              <a:srgbClr val="c0c0c0"/>
            </a:solidFill>
            <a:round/>
          </a:ln>
        </p:spPr>
      </p:pic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13840" y="285840"/>
            <a:ext cx="3714840" cy="628632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0000"/>
                </a:solidFill>
                <a:latin typeface="Constantia"/>
              </a:rPr>
              <a:t>Александр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502652"/>
                </a:solidFill>
                <a:latin typeface="Constantia"/>
              </a:rPr>
              <a:t>Происходит от древнегреческих слов "Алекс" -защищать и "Андрос" - муж, мужчина, то есть "защитник людей"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502652"/>
                </a:solidFill>
                <a:latin typeface="Constantia"/>
              </a:rPr>
              <a:t>В детстве Александры часто болеют, но подростками усиленно занимаются спортом и вырастают довольно крепкими и целеустремленными мужчинами. Александры способны добиваться своего, из них получаются неплохие руководители, умеющие управлять коллективом и отдающие должное способным, одаренным сотрудникам. Пользуются репутацией справедливых людей. Любят выпить, в состоянии опьянения становятся хвастливыми, теряют контроль над собой. Самоуверенного Александра нелегко, а иногда почти невозможно уговорить пить меньше, зачастую он "опережает круг", то есть выпивает еще до того, как налили другим. Однако сильное жизненное потрясение может навсегда отвратить его от любви к спиртному. В отношениях с женщинами Александр прежде всего стремится быть обворожительным. Редко встретишь такого приветливого и обворожительного мужчину, как Александр. Подать руку, помочь надеть пальто, купить букет цветов - это у него вошло в привычку. Главное же оружие Александра - комплимент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502652"/>
                </a:solidFill>
                <a:latin typeface="Constantia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5" descr="http://cs11285.userapi.com/u159570712/-6/x_99439b93.jpg"/>
          <p:cNvPicPr/>
          <p:nvPr/>
        </p:nvPicPr>
        <p:blipFill>
          <a:blip r:embed="rId1"/>
          <a:srcRect l="0" t="21621" r="0" b="21621"/>
          <a:stretch/>
        </p:blipFill>
        <p:spPr>
          <a:xfrm>
            <a:off x="3929040" y="0"/>
            <a:ext cx="5214960" cy="6669000"/>
          </a:xfrm>
          <a:prstGeom prst="rect">
            <a:avLst/>
          </a:prstGeom>
          <a:ln w="2880">
            <a:solidFill>
              <a:srgbClr val="c0c0c0"/>
            </a:solidFill>
            <a:round/>
          </a:ln>
        </p:spPr>
      </p:pic>
    </p:spTree>
  </p:cSld>
  <p:transition>
    <p:pull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85480" y="428760"/>
            <a:ext cx="3429000" cy="62150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8000"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0000"/>
                </a:solidFill>
                <a:latin typeface="Constantia"/>
              </a:rPr>
              <a:t>Алексей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502652"/>
                </a:solidFill>
                <a:latin typeface="Constantia"/>
              </a:rPr>
              <a:t>Происходит от древнегреческих слов "алекс" -защищать .Древнегреческого происхождения, означает: защитник. Алексеем назовет сына спокойная, уверенная в себе, тихая по натуре женщина. Алеша очень привязан к матери, внешне похож на нее, но кротость, присущую матери, наследует редко. Напротив, с самого раннего детства он чувствует себя защитником матери, а повзрослев, становится защитником и тех женщин, которые его окружают. Алексей доброжелателен, многословие для него не характерно, он человек дела. И хотя в детстве не верховодит ватагой мальчишек, но за советом они почему-то всегда обращаются к нему. Многие родители, называя так своего ребенка, делают это в порыве родительской заботы, интуитивно или осознанно ощущая нейтральность имени. В самом деле, Алеша вписывается практически в любой коллектив, не вызывая отторжения, однако, далеко не всегда все происходит так гладко, как хотелось бы родителям. Особенно, когда в воспитании Алексея у него будет чрезмерно развито честолюбие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502652"/>
                </a:solidFill>
                <a:latin typeface="Constantia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303800" y="266400"/>
            <a:ext cx="4618080" cy="3932280"/>
          </a:xfrm>
          <a:prstGeom prst="rect">
            <a:avLst/>
          </a:prstGeom>
          <a:ln w="2880">
            <a:solidFill>
              <a:srgbClr val="c0c0c0"/>
            </a:solidFill>
            <a:round/>
          </a:ln>
        </p:spPr>
      </p:pic>
      <p:pic>
        <p:nvPicPr>
          <p:cNvPr id="214" name="Picture 4" descr="C:\Documents and Settings\Владелец\Рабочий стол\DSC00969.JPG"/>
          <p:cNvPicPr/>
          <p:nvPr/>
        </p:nvPicPr>
        <p:blipFill>
          <a:blip r:embed="rId2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85480" y="357120"/>
            <a:ext cx="3500280" cy="62150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7000"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nstantia"/>
              </a:rPr>
              <a:t>Даниэл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02652"/>
                </a:solidFill>
                <a:latin typeface="Constantia"/>
              </a:rPr>
              <a:t>В переводе с древнееврейского означает «Божий суд».Спокойный, флегматичный человек с уравновешенной психикой и достаточно сильной волей. Милый и приятный собеседник. Его интересует больше внутренний мир, чем окружающая жизнь. Часто ставит дружбу выше любви. Отзывчивый, добрый, но с хитринкой. Рожденный зимой — талантливый, сложный в общении. Рожденный осенью — расчетливый, прагматичный, эгоист. Наделен сверханалитическим умом, внимателен к малейшим подробностям и мелочам. Но ему не хватает здоровой агрессивности, напора, умения ясно выражать свои чувства. Очень предан семье. Секс — тема для него неприятная, он чувствует разлад между восприимчивостью и сексуальностью и поэтому испытывает какую-то тревогу. Кажется скромным, даже робким, женщина не сразу разглядит в нем мужскую силу, но он сексуально активен и темпераментен. Придает огромное значение сексуальной гармонии в браке. Женится обычно удачно. Детей любит, но жене в домашней работе, как правило, не помогает. Имеет склонность к точным наукам, радиоэлектронике, медицине, педагогике, бизнесу. Нередко обучается двум специальностям одновременно. Работу выбирает такую, которая оставляет достаточно свободного времени. Увлекается живописью, музыкой, актерским мастерством, которые часто выбирает в качестве профессии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1" descr=""/>
          <p:cNvPicPr/>
          <p:nvPr/>
        </p:nvPicPr>
        <p:blipFill>
          <a:blip r:embed="rId1"/>
          <a:srcRect l="0" t="7434" r="0" b="7434"/>
          <a:stretch/>
        </p:blipFill>
        <p:spPr>
          <a:xfrm>
            <a:off x="4303800" y="0"/>
            <a:ext cx="48402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85480" y="428400"/>
            <a:ext cx="3143160" cy="61434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0000"/>
                </a:solidFill>
                <a:latin typeface="Constantia"/>
              </a:rPr>
              <a:t>Леонид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02652"/>
                </a:solidFill>
                <a:latin typeface="Constantia"/>
              </a:rPr>
              <a:t>Происходит от древнегреческого имени Леонидас (от «леон» — лев и «идеа» — внешность, наружность). Буквально означает «подобный льву».Леонид с детства очень озабочен своим здоровьем. Он — человек самолюбивый, очень коммуникабельный, достаточно ловкий, быстро приспосабливается к новым условиям, умеет улаживать конфликты, ладит с коллегами и начальством. При необходимости проявляет твердость, принципиальность, неуступчивость. Особыми талантами и логическим мышлением не блещет, обычно полагается на интуицию и на «авось», но, тем не менее, достигает неплохих результатов в избранной профессии. Диапазон его профессиональных возможностей очень широк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303800" y="266400"/>
            <a:ext cx="4618080" cy="3932280"/>
          </a:xfrm>
          <a:prstGeom prst="rect">
            <a:avLst/>
          </a:prstGeom>
          <a:ln w="25560">
            <a:solidFill>
              <a:srgbClr val="438086"/>
            </a:solidFill>
            <a:round/>
          </a:ln>
        </p:spPr>
      </p:pic>
      <p:pic>
        <p:nvPicPr>
          <p:cNvPr id="219" name="Picture 4" descr="C:\Documents and Settings\Владелец\Рабочий стол\DSC00968.JPG"/>
          <p:cNvPicPr/>
          <p:nvPr/>
        </p:nvPicPr>
        <p:blipFill>
          <a:blip r:embed="rId2"/>
          <a:stretch/>
        </p:blipFill>
        <p:spPr>
          <a:xfrm>
            <a:off x="3780000" y="0"/>
            <a:ext cx="5364000" cy="6858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14200" y="571320"/>
            <a:ext cx="2773440" cy="585756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0000"/>
                </a:solidFill>
                <a:latin typeface="Constantia"/>
              </a:rPr>
              <a:t>Юрий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Славянская форма древнегреческого имени Георгий — «земледелец».Молчаливый, сдержанный, постоянный в своих взглядах. Обладает цепким и гибким умом, сообразительностью, смекалкой. Критичен,  восприимчив ко всему новому, легок на подъем, подвижен. Юрий к лидерству не стремится, пробивная сила и напористость ему не свойственны. Это светлый, душевно богатый человек, веселый и общительный. Хорошо проявляет себя в любой профессии и на любом руководящем посту. У него философский тип мышления, разносторонние интересы, он редко замыкается в пределах своей профессии. Юрий аристократичен, всегда выделяется в толпе и любой компании.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1" descr=""/>
          <p:cNvPicPr/>
          <p:nvPr/>
        </p:nvPicPr>
        <p:blipFill>
          <a:blip r:embed="rId1"/>
          <a:srcRect l="11013" t="0" r="11013" b="0"/>
          <a:stretch/>
        </p:blipFill>
        <p:spPr>
          <a:xfrm>
            <a:off x="3635280" y="0"/>
            <a:ext cx="550872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"/>
          <p:cNvSpPr/>
          <p:nvPr/>
        </p:nvSpPr>
        <p:spPr>
          <a:xfrm>
            <a:off x="266760" y="-16200"/>
            <a:ext cx="861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Calibri"/>
              </a:rPr>
              <a:t>Диаграмма по именам девочек  Кратовской СОШ №2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Диаграмма 3"/>
          <p:cNvGraphicFramePr/>
          <p:nvPr/>
        </p:nvGraphicFramePr>
        <p:xfrm>
          <a:off x="714240" y="1214280"/>
          <a:ext cx="7567920" cy="534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1214280"/>
                    <a:ext cx="7567920" cy="534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Rectangle 4"/>
          <p:cNvSpPr/>
          <p:nvPr/>
        </p:nvSpPr>
        <p:spPr>
          <a:xfrm>
            <a:off x="0" y="462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0" y="107280"/>
            <a:ext cx="83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Диаграмма  по именам мальчиков Кратовской СОШ №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Диаграмма 1"/>
          <p:cNvGraphicFramePr/>
          <p:nvPr/>
        </p:nvGraphicFramePr>
        <p:xfrm>
          <a:off x="571680" y="1357200"/>
          <a:ext cx="815328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Диаграмма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357200"/>
                    <a:ext cx="815328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Rectangle 4"/>
          <p:cNvSpPr/>
          <p:nvPr/>
        </p:nvSpPr>
        <p:spPr>
          <a:xfrm>
            <a:off x="0" y="45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2"/>
          <p:cNvSpPr/>
          <p:nvPr/>
        </p:nvSpPr>
        <p:spPr>
          <a:xfrm>
            <a:off x="179280" y="333360"/>
            <a:ext cx="540072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 уч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товская средняя школа №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спорт учебного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 «   Наши имена 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м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     окружающий м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рактеристика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о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ко-ориентирова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есрочный(2месяц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5829480" y="3357720"/>
            <a:ext cx="2658960" cy="28684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0" y="172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кетирование уч-ся нач.классов на предмет знания о своём и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Object 1" descr=""/>
          <p:cNvPicPr/>
          <p:nvPr/>
        </p:nvPicPr>
        <p:blipFill>
          <a:blip r:embed="rId1"/>
          <a:stretch/>
        </p:blipFill>
        <p:spPr>
          <a:xfrm>
            <a:off x="357120" y="695160"/>
            <a:ext cx="8709120" cy="58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мя </a:t>
            </a:r>
            <a:r>
              <a:rPr b="0" lang="ru-RU" sz="3600" spc="-1" strike="noStrike">
                <a:solidFill>
                  <a:srgbClr val="403152"/>
                </a:solidFill>
                <a:latin typeface="Arial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3152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403152"/>
                </a:solidFill>
                <a:latin typeface="Arial"/>
              </a:rPr>
              <a:t>это связь индивидуума с самим соб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3152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403152"/>
                </a:solidFill>
                <a:latin typeface="Arial"/>
              </a:rPr>
              <a:t>Тем не менее оно по-прежнему отражает важнейшие периоды нашей жизни, у каждого из нас тоже существует его детский и взрослый варианты. Практически у каждого есть семейное имя, или имя, которым называла только мама или бабушка. Потом появляется вариант имени, которое дают друзья, а позднее разные варианты «рабочего» имени — официального и «для двоих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1"/>
          <p:cNvSpPr/>
          <p:nvPr/>
        </p:nvSpPr>
        <p:spPr>
          <a:xfrm>
            <a:off x="142920" y="189000"/>
            <a:ext cx="62294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крыть  тайны имён обучающихся 4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снить, знают ли ребята значение своего имени и историю его происхожд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чёткое определение понятия «им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ть о значении и происхождение  своего имени, о роли имени в жизни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снить являются ли именины и день рождения тождественными понят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ить списки учащихся школы с целью определения частоты употребления имё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тизировать и оформить добытые при исследовании материа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6372360" y="3997440"/>
            <a:ext cx="2332080" cy="25160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2700360" y="189000"/>
            <a:ext cx="626436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апы работы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новка  проблемы , формулировка темы исследования , цели и задач, определение объекта предмета исследования, выбор методов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ирование ,определение источников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кетирование и опрос обучающихся школы (1-4 класс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сообщений о значении и происхождении своего и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ие социологического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тизация и оформление добытых  при исследовании матери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я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0" y="4221000"/>
            <a:ext cx="2268360" cy="2637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"/>
          <p:cNvSpPr/>
          <p:nvPr/>
        </p:nvSpPr>
        <p:spPr>
          <a:xfrm>
            <a:off x="285840" y="26028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Я –  по словарю В.Да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названье, наименование, слово, которым зовут, означают особь, личн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0" y="2205000"/>
            <a:ext cx="8956800" cy="4388040"/>
          </a:xfrm>
          <a:prstGeom prst="rect">
            <a:avLst/>
          </a:prstGeom>
          <a:ln w="38160">
            <a:solidFill>
              <a:srgbClr val="eeece1"/>
            </a:solidFill>
            <a:miter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"/>
          <p:cNvSpPr/>
          <p:nvPr/>
        </p:nvSpPr>
        <p:spPr>
          <a:xfrm>
            <a:off x="0" y="675000"/>
            <a:ext cx="428472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Calibri"/>
              </a:rPr>
              <a:t>Происхождение имен на Ру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До появления христианства на Руси для наречения младенцев использовались древнерусские самобытные имена. По традиции имена отражали черты характера и особенности человека, например, Умник, Хитр, Добр, Храбр, Молчан, Косой, Красава, Кудряш, Черняк, Хромой, Беля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38160">
            <a:solidFill>
              <a:srgbClr val="666699"/>
            </a:solidFill>
            <a:miter/>
          </a:ln>
        </p:spPr>
      </p:pic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85840" y="356760"/>
            <a:ext cx="2270160" cy="628668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6000"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nstantia"/>
              </a:rPr>
              <a:t>Анн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02652"/>
                </a:solidFill>
                <a:latin typeface="Constantia"/>
              </a:rPr>
              <a:t>В переводе с древнееврейского означает «благодать». По другим источникам— «миловидная, симпатичная». Анну действительно можно назвать настоящей кладезем добродетелей. Это добрая, скромная, обаятельная, женственная, способная к самопожертвованию, доверчивая, бескорыстная, доброжелательная женщина. Анна не выносит неряшливости ни в доме, ни во внешнем облике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6" name="Picture 4" descr="http://cs10940.userapi.com/u147435446/-6/o_2a3c6afd.jpg"/>
          <p:cNvPicPr/>
          <p:nvPr/>
        </p:nvPicPr>
        <p:blipFill>
          <a:blip r:embed="rId1"/>
          <a:srcRect l="0" t="18024" r="0" b="18024"/>
          <a:stretch/>
        </p:blipFill>
        <p:spPr>
          <a:xfrm rot="419400">
            <a:off x="4974840" y="2342880"/>
            <a:ext cx="3667320" cy="4089240"/>
          </a:xfrm>
          <a:prstGeom prst="rect">
            <a:avLst/>
          </a:prstGeom>
          <a:ln w="2880">
            <a:solidFill>
              <a:srgbClr val="c0c0c0"/>
            </a:solidFill>
            <a:round/>
          </a:ln>
        </p:spPr>
      </p:pic>
      <p:sp>
        <p:nvSpPr>
          <p:cNvPr id="197" name="TextBox 9"/>
          <p:cNvSpPr/>
          <p:nvPr/>
        </p:nvSpPr>
        <p:spPr>
          <a:xfrm>
            <a:off x="5867280" y="35733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http://cs5775.userapi.com/u161885460/152085203/o_72c4808c.jpg"/>
          <p:cNvPicPr/>
          <p:nvPr/>
        </p:nvPicPr>
        <p:blipFill>
          <a:blip r:embed="rId2"/>
          <a:stretch/>
        </p:blipFill>
        <p:spPr>
          <a:xfrm>
            <a:off x="2843280" y="333360"/>
            <a:ext cx="3168720" cy="3927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13840" y="357120"/>
            <a:ext cx="3429000" cy="62150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300" spc="-1" strike="noStrike">
                <a:solidFill>
                  <a:srgbClr val="ff0000"/>
                </a:solidFill>
                <a:latin typeface="Constantia"/>
              </a:rPr>
              <a:t>Валерия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02652"/>
                </a:solidFill>
                <a:latin typeface="Constantia"/>
              </a:rPr>
              <a:t>Женский вариант имени Валерий. Русское родовое имя. В переводе с латыни означает «сильная, крепкая».Валерия непредсказуема: никогда не известно, что она сделает — взорвется гневом или запоет. Женщина с этим именем очень возбудимая и нервная, свои чувства выражает весьма бурно. За эмоциональным взрывом у неё обычно следует длительная дисперсия. Взбалмошность Валерии объясняется её ранимостью и повышенной чувствительностью. К окружающим она относится настороженно и недоверчиво. Своих близких Валерия защищает всеми доступными средствами. Часто она демонстрирует свой гнев преднамеренно, для смелости, чтобы произвести впечатление на окружающих.Интуиция у неё неразрывна с впечатлительностью. Валерия обладает синтетическим типом мышления, хорошо развитой фантазией и прекрасной образной памятью, но больше интересуется своим внутренним миром, чем работой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02652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079880" y="480600"/>
            <a:ext cx="4618080" cy="3932280"/>
          </a:xfrm>
          <a:prstGeom prst="rect">
            <a:avLst/>
          </a:prstGeom>
          <a:ln w="2880">
            <a:solidFill>
              <a:srgbClr val="c0c0c0"/>
            </a:solidFill>
            <a:round/>
          </a:ln>
        </p:spPr>
      </p:pic>
      <p:pic>
        <p:nvPicPr>
          <p:cNvPr id="201" name="Picture 5" descr="C:\Documents and Settings\Владелец\Рабочий стол\DSC00970.JPG"/>
          <p:cNvPicPr/>
          <p:nvPr/>
        </p:nvPicPr>
        <p:blipFill>
          <a:blip r:embed="rId2"/>
          <a:stretch/>
        </p:blipFill>
        <p:spPr>
          <a:xfrm>
            <a:off x="3780000" y="0"/>
            <a:ext cx="5364000" cy="66690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57120" y="499680"/>
            <a:ext cx="2643120" cy="60008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nstantia"/>
              </a:rPr>
              <a:t>Виктория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292a45"/>
                </a:solidFill>
                <a:latin typeface="Constantia"/>
              </a:rPr>
              <a:t>В переводе с латинского означает «победа».Средняя Виктория — флегматик с заторможенной возбудимостью и замедленной реакцией. Внешне это спокойная, уравновешенная, не болтливая женщина, изредка склонная замыкаться в себе. Но в душе Виктория застенчива и не уверена в себе. Она очень чувствительная и скрытная, упрямая и непреклонная. Умеет сдерживать  эмоции и редко открыто обнаруживает свои чувства. У неё мужской ум синтетического типа мышления. Виктория умеет объединять разрозненные факты в единое целое. Не полагаясь на одно вдохновение, она всегда тщательно планирует все свои дела и поступки. Общительность Виктории проявляется только в кругу близких и друзей; с ними она готова поделиться последним куском хлеба.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2" descr="http://cs9857.userapi.com/u135620804/-6/m_a7b84dd7.jpg"/>
          <p:cNvPicPr/>
          <p:nvPr/>
        </p:nvPicPr>
        <p:blipFill>
          <a:blip r:embed="rId1"/>
          <a:srcRect l="6193" t="0" r="6193" b="0"/>
          <a:stretch/>
        </p:blipFill>
        <p:spPr>
          <a:xfrm>
            <a:off x="3483000" y="0"/>
            <a:ext cx="5661000" cy="6669000"/>
          </a:xfrm>
          <a:prstGeom prst="rect">
            <a:avLst/>
          </a:prstGeom>
          <a:ln w="2880">
            <a:solidFill>
              <a:srgbClr val="c0c0c0"/>
            </a:solidFill>
            <a:round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19:24:53Z</dcterms:created>
  <dc:creator>UserXP</dc:creator>
  <dc:description/>
  <dc:language>en-US</dc:language>
  <cp:lastModifiedBy>user2</cp:lastModifiedBy>
  <dcterms:modified xsi:type="dcterms:W3CDTF">2013-01-15T11:45:12Z</dcterms:modified>
  <cp:revision>51</cp:revision>
  <dc:subject/>
  <dc:title>Слайд 1</dc:title>
</cp:coreProperties>
</file>