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BFF-05C0-4FFB-9183-0063561A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44F-F501-433D-A0BE-59742944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E9F-0A40-4438-8070-216B9679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AF5-90E2-4520-AF6C-DD19884B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641C-B16A-4E58-84B6-ED149E29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3C1A-023B-4EEE-B26B-E997AE61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18C1-FEE5-4F4B-AD7F-EAC08462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0D72-1399-49B8-A9F8-2DB18BD7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2414-D068-4C55-9262-A886C8BF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3E76-3F82-4AE8-A65F-D3264375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4A21-479B-48A8-AF6F-411737D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314-0D56-4991-9AAB-C2692CC1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E73C-9DB8-46D7-8F13-9825F84C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1F57-6844-4C07-A712-B70744E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5849-9F76-4364-BD7A-812523F8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16BD-3BD1-44E7-AB1A-5460361D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9F4F-72A3-4822-A2D4-960F2836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4524-BEC1-4C90-9597-56D3A50E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CCB2-DA43-4D3D-8EFD-B9180CA3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210C7-591B-44BE-B64A-EF5BC2B2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9D6B-5667-43B7-A722-81651341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E8262-3425-4FDF-A3B9-C324D647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EA4-2E2F-4069-96BF-1E58866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1505-033A-4ADB-8C4E-C6C8C97B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474E-D419-4791-80EA-E009AB2A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7613-3859-4BF5-9951-6CC1695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7D198-A11F-48AD-BCE8-B57FDF2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CB103-AA73-4F5A-8195-97F57A95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8DB4-3EB2-4084-9131-81AB7665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85FB-F7BC-4EE4-BD48-B01FF5AF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1021-A8BC-4F5B-9B73-3F29CC03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2B45-3C21-4714-81BA-9CA72780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9C1AA-31A0-49D5-A2AB-46A72E32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15A-D6C1-46B4-B70C-9555E440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B02C-7021-4F8A-908F-6A0CDFB4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F2A63-314E-4635-91F8-9CD15ECE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D77BB-BD52-4E8A-9805-F5A57D28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605D-6AE4-40AF-92A6-5A6656A6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799B4-C109-40D8-B413-092D7E3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C858-AACC-48B6-9436-F9B8CE16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16E62-40A0-4A11-B407-E65D0DAC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73763-A075-4755-8549-4274828E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7B2A3-C04F-435D-A61B-653F9347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E9F00-97B8-485E-B33D-150AB7BD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CDF-91BB-47E1-8DDC-777D0865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691E-FA12-4116-B332-0044EA40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C25DF-348F-470B-ABC1-57A983B2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1B8D1-30A5-49FD-9001-247EE703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B1435-DF50-4E37-9683-4FE0FCDA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3D7A-88DD-4DF4-AF73-09BD9726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F6B5-DA5B-472C-9B72-91456F80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7FF01-FB7A-4273-8D8A-436CCEF2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C0E2-E610-4A4C-BA34-9D324F64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105D7-A3AB-449F-BEC7-3D0B6EFA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9C761-3000-4A03-935C-F5DDE4C1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C5D-633B-4944-9B16-D8989ED9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06339-77D7-40C5-A659-7D773AA0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0A51-9D6F-4D10-A126-D00A58DA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EEFA-ED70-42F2-A490-065303D4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DAD72-6517-4DF6-BB2E-6E087E36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896B4-215C-48E5-80FE-FCA4CDA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B6614-8D99-4F04-9D32-C55C5D30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C6202-7123-47A1-AE0D-BAB46803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EEBAB-5118-41AA-A8DC-CFBC2D23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1D899-1D7B-439E-B464-5DD86C1F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CF773-EA47-4F6E-809E-52D2CF87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A4A-07AE-47CE-93BB-ACEAC683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24BD0-AED2-4676-A1F5-C77058B9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E4D86-7C0C-44A8-9ACD-54CFF54E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4BFB-EB38-4FA3-B0E7-F5C4281D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EB9-CF15-449D-BFC2-3B58C10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14E-BF03-4384-83E2-D81FEE0E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7464-3D00-4E24-BD98-3B7258894A8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5242-E90D-4FEE-B1B8-7083CC9B4DB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1341-D327-4AF8-B249-B77E525F106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CA6D-2D00-4042-A3FD-8A770C4AE8E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FB2C-6EE9-419E-893B-28DA94EC0B3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10F0-8C81-4A70-BA0F-E0073B11AA8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6480360" cy="2305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43000" y="692280"/>
            <a:ext cx="7316640" cy="56894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Технические науки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 — комплекс наук  исследующих явления, важные для развития техники, либо её саму (изучает техносферу). Эволюционировали из ремёсел. Огромный вклад в развитие технических наук сделали великие инженеры древности: Архимед, Герон, Папп, Витрувий, Леонардо да Винчи. Одной из первых технических наук стала механика, которая долгое время существовала в тени физики и архитектуры. С начала индустриальной революции появилась необходимость академического изучения техники и технологий. Началась сциентизация инженерного знания. В XIX веке появилась электротехника, а в XX веке — радиотехника, космонавтика, робототехника и так далее</a:t>
            </a:r>
            <a:r>
              <a:rPr b="0" lang="ru-RU" sz="1600" spc="-1" strike="noStrike">
                <a:solidFill>
                  <a:srgbClr val="00b0f0"/>
                </a:solidFill>
                <a:latin typeface="Arial"/>
              </a:rPr>
              <a:t>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пасибо за внимание!!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боту выполнил ученик 6п класса Новичков Михаи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Архитектура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143000"/>
            <a:ext cx="804384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f0"/>
                </a:solidFill>
                <a:latin typeface="Arial"/>
              </a:rPr>
              <a:t>Архитекту́ра</a:t>
            </a:r>
            <a:r>
              <a:rPr b="0" lang="ru-RU" sz="1700" spc="-1" strike="noStrike">
                <a:solidFill>
                  <a:srgbClr val="00b0f0"/>
                </a:solidFill>
                <a:latin typeface="Arial"/>
              </a:rPr>
              <a:t> — искусство проектировать, строить здания и сооружения (также их комплексы). Архитектура непременно создает материально организованную среду, необходимую людям для их жизни и деятельности, в соответствии с современными техническими возможностями и эстетическими воззрениями обществ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f0"/>
                </a:solidFill>
                <a:latin typeface="Arial"/>
              </a:rPr>
              <a:t>Архитектурой также называют облик зданий и сооружений, а также и сами здания и сооружения собирательно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1"/>
          <a:stretch/>
        </p:blipFill>
        <p:spPr>
          <a:xfrm>
            <a:off x="422280" y="3357720"/>
            <a:ext cx="4227480" cy="28177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"/>
          <p:cNvPicPr/>
          <p:nvPr/>
        </p:nvPicPr>
        <p:blipFill>
          <a:blip r:embed="rId2"/>
          <a:stretch/>
        </p:blipFill>
        <p:spPr>
          <a:xfrm>
            <a:off x="5581800" y="3132000"/>
            <a:ext cx="2376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Биотехнология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28400" y="1142640"/>
            <a:ext cx="74674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f0"/>
                </a:solidFill>
                <a:latin typeface="Arial"/>
              </a:rPr>
              <a:t>Биотехноло́гия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 — дисциплина, изучающая возможности использования живых организмов, их систем или продуктов их жизнедеятельности для решения технологических задач, а также возможности создания живых организмов с необходимыми свойствами методом генной инженер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" descr=""/>
          <p:cNvPicPr/>
          <p:nvPr/>
        </p:nvPicPr>
        <p:blipFill>
          <a:blip r:embed="rId1"/>
          <a:stretch/>
        </p:blipFill>
        <p:spPr>
          <a:xfrm>
            <a:off x="2833560" y="328608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нформати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400" y="1214280"/>
            <a:ext cx="74674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f0"/>
                </a:solidFill>
                <a:latin typeface="Arial"/>
              </a:rPr>
              <a:t>Информа́тика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 (нем. </a:t>
            </a:r>
            <a:r>
              <a:rPr b="0" i="1" lang="ru-RU" sz="2300" spc="-1" strike="noStrike">
                <a:solidFill>
                  <a:srgbClr val="00b0f0"/>
                </a:solidFill>
                <a:latin typeface="Arial"/>
              </a:rPr>
              <a:t>Informatik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, фр. </a:t>
            </a:r>
            <a:r>
              <a:rPr b="0" i="1" lang="ru-RU" sz="2300" spc="-1" strike="noStrike">
                <a:solidFill>
                  <a:srgbClr val="00b0f0"/>
                </a:solidFill>
                <a:latin typeface="Arial"/>
              </a:rPr>
              <a:t>Informatique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) — наука о способах получения, накопления, хранения, преобразования, передачи, защиты и использования информации. Она включает дисциплины, относящиеся к обработке информации в вычислительных машинах и вычислительных сетях: как абстрактные, вроде анализа алгоритмов, так и довольно конкретные, например, разработка языков программировани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Судостроение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400" y="1214280"/>
            <a:ext cx="74674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f0"/>
                </a:solidFill>
                <a:latin typeface="Arial"/>
              </a:rPr>
              <a:t>Су́дострое́ние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 или </a:t>
            </a:r>
            <a:r>
              <a:rPr b="1" lang="ru-RU" sz="2300" spc="-1" strike="noStrike">
                <a:solidFill>
                  <a:srgbClr val="00b0f0"/>
                </a:solidFill>
                <a:latin typeface="Arial"/>
              </a:rPr>
              <a:t>кора́блестрое́ние</a:t>
            </a:r>
            <a:r>
              <a:rPr b="0" lang="ru-RU" sz="2300" spc="-1" strike="noStrike">
                <a:solidFill>
                  <a:srgbClr val="00b0f0"/>
                </a:solidFill>
                <a:latin typeface="Arial"/>
              </a:rPr>
              <a:t> — отрасль тяжёлой промышленности, осуществляющая постройку судов. Корабли, обычно строят на специализированных предприятиях, которые называются верфям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Рисунок 2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597996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Космонавтика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28400" y="856800"/>
            <a:ext cx="74674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Космона́втика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 (от греч. κόσμος — Вселенная и ναυτική — искусство мореплавания, кораблевождение) — теория и практика навигации за пределами атмосферы Земли для исследования космического пространства при помощи автоматических и пилотируемых космических аппаратов. Другими словами наука и технология космически полетов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1"/>
          <a:stretch/>
        </p:blipFill>
        <p:spPr>
          <a:xfrm>
            <a:off x="1763640" y="3025800"/>
            <a:ext cx="525636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Материаловедение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9680" y="1000080"/>
            <a:ext cx="7467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b0f0"/>
                </a:solidFill>
                <a:latin typeface="Arial"/>
              </a:rPr>
              <a:t>Материаловедение</a:t>
            </a:r>
            <a:r>
              <a:rPr b="0" lang="ru-RU" sz="1900" spc="-1" strike="noStrike">
                <a:solidFill>
                  <a:srgbClr val="00b0f0"/>
                </a:solidFill>
                <a:latin typeface="Arial"/>
              </a:rPr>
              <a:t> — междисциплинарный раздел науки, изучающий изменения свойств материалов, как в твёрдом, так и в жидком состоянии в зависимости от некоторых факторов. К изучаемым свойствам относятся структура веществ, электронные, термические, химические, магнитные, оптические свойства этих веществ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28616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Машиностроение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9680" y="9288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Машинострое́ние</a:t>
            </a: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 — отрасль, производящая всевозможные, орудия, приборы, а также предметы потребления и продукцию оборонного назнач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5688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Franklin Gothic Book"/>
              </a:rPr>
              <a:t>Ядерная энергетика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57120" y="1071720"/>
            <a:ext cx="74678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Ядерная энергетика</a:t>
            </a: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Атомная энергетика</a:t>
            </a: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) — это отрасль энергетики, занимающаяся производством электрической и тепловой энергии путём преобразования ядерной энер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3143160"/>
            <a:ext cx="2904840" cy="217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5143680" y="3071880"/>
            <a:ext cx="33321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Кургина</dc:creator>
  <dc:description/>
  <dc:language>en-US</dc:language>
  <cp:lastModifiedBy>Марина Кургина</cp:lastModifiedBy>
  <dcterms:modified xsi:type="dcterms:W3CDTF">2013-02-06T11:19:19Z</dcterms:modified>
  <cp:revision>13</cp:revision>
  <dc:subject/>
  <dc:title>Технические науки</dc:title>
</cp:coreProperties>
</file>