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D208-3061-4808-AED3-8A17B7A1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F4A4-1DD2-467F-8329-364B667D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F7FC-4556-4DFF-9C71-B6DDFEE8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4904-74A2-40EB-8596-49B8CCC8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F2B4-B240-4A9C-8B25-47B38FEB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4156-4EF7-44F8-A986-9BCC369B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464D-87E0-44BF-B0A4-D4F9F1C0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315D-2D3F-4DAC-B7B1-9600E3E5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6A51-2364-4406-AA9F-A103ED40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5CD2-5356-4299-8999-CAA03F57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4482-F5CE-4C1C-86BC-C299CEBC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73D6-9D01-40D8-B177-11269229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37E3-16A4-43A9-8925-E5E5E3C8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913F-37A3-4B72-A1F1-CAFFD384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DAEF-8064-4E39-8DFE-1408FBB6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96EB-9759-4732-AC62-E78CCDBE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6B09-46F2-468A-8222-9DF33335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8D3C6-BF31-49F9-A30D-5FAF8548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B9233-A2BA-4F16-9CB1-A690CD80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EA601-7B69-4B5E-9B41-4CD4273C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1DF0B-E07B-4718-97EA-63D40ED8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0517F-F978-4E88-976E-C6365B67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88E1-C367-48C3-9163-3BC6F26D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601AB-88AD-4B28-8E6E-8D9D4F60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249CB-1694-42CB-90E8-0F7CF57D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2F1FB-9264-494E-9D3A-DE1BCD24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71054-C01C-445E-8501-B20F421A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00971-0710-4AA5-8BA1-56C5F75F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9C36E-B413-4330-B173-838C6572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7159D-CF3E-4768-9568-2A8364BE1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3380D-00A9-4343-87B3-24F4637A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95B11-7A16-4A2B-8F18-7987F25D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B610E-564C-496A-89B2-1DE85CCA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B45D-E28D-454F-9FF2-A1A524FD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DA643-49B2-4112-A21C-E2C3E097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23B1A-DABA-4991-A923-7D309A71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A23EE-73B1-4B05-8A2F-E3401C76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96FB1-97AD-4FFD-A77B-2F5BB26F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56500-AF12-405B-A4A3-B9125F0E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CEEFC-CE63-450D-8AC9-A0D1CC0A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C5D8F-7474-40AB-B43C-F04F232C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F69DC-6B9C-4FA8-B3F2-3F63CC16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9ABC9-6BCA-435B-9ADF-84E7CCC4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A7C25-5B96-4DF5-B8D0-7D48492C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3428-BB45-4AE9-A67C-F4A0926F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3D17C-DDA8-462A-8F6C-B4646134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0C97B-D398-48D2-A704-9AFDA332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3C365-DAB9-42D5-B048-202B65E8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EF594-0B62-4D58-99A0-D9447F33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4A7B2-8271-4F32-9490-E3D976C6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30670-3887-4A7B-BE97-E0099EA4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69C26-3B01-4FB8-940D-19075631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C9B22-5F12-458E-B90E-3D552F5C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CA186-BB96-440F-9D52-C3A03B2E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D4EB2-A65D-4EEA-9613-08268193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5D53-4BB2-415B-A368-D77E6323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A61A3-B9F5-46FF-84E8-F50031F3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AF51A-FE20-4AE6-9549-95BBDFBE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B8D03-A442-40B3-B512-6248658E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C0C99-C588-46A7-BE7F-D6FBCAEF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E5DC5-CEC9-49CB-8B36-C046677E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6483E-E2B7-4095-AAB5-6519AE5D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F18F2-8A02-4BCE-9F17-83020AEE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6F413-C27C-49F4-B9EF-040DBB49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23361-DB16-48BB-9689-6F98C0C3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93B91-E8AA-4A80-B9EF-BE0F7E19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BEA2-8305-4F83-9096-3B2B2D42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EBABF-B25C-421F-9F77-7FA9EF5C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1EE90-15C3-4E1B-9552-4CB9A557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D7056-AA74-485D-94DE-21490CF0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CAEC-0F9F-4F03-A4CC-45451E86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55E1-94B8-4402-8277-76F8DB7B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8008-1C2A-420D-B999-2D195FA695A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A4BF-734A-4E84-BDEE-0B34625354A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EE2F-3FD9-45C3-BE47-338408F7A3D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0F9C-58B8-48D8-848F-B18CE8B9439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9E26-CC16-4615-BFFC-38768B4B792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4028-2298-4EDE-A07A-AFA5B61F2C8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26960" y="212760"/>
            <a:ext cx="6480360" cy="23050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143000" y="692280"/>
            <a:ext cx="7316640" cy="56894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Технические науки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 — комплекс наук  исследующих явления, важные для развития техники, либо её саму (изучает техносферу). Эволюционировали из ремёсел. Огромный вклад в развитие технических наук сделали великие инженеры древности: Архимед, Герон, Папп, Витрувий, Леонардо да Винчи. Одной из первых технических наук стала механика, которая долгое время существовала в тени физики и архитектуры. С начала индустриальной революции появилась необходимость академического изучения техники и технологий. Началась сциентизация инженерного знания. В XIX веке появилась электротехника, а в XX веке — радиотехника, космонавтика, робототехника и так далее</a:t>
            </a:r>
            <a:r>
              <a:rPr b="0" lang="ru-RU" sz="1600" spc="-1" strike="noStrike">
                <a:solidFill>
                  <a:srgbClr val="00b0f0"/>
                </a:solidFill>
                <a:latin typeface="Arial"/>
              </a:rPr>
              <a:t>…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пасибо за внимание!!!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боту выполнил ученик 6п класса Новичков Михаи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Franklin Gothic Book"/>
              </a:rPr>
              <a:t>Архитектура</a:t>
            </a:r>
            <a:br>
              <a:rPr sz="3700"/>
            </a:br>
            <a:endParaRPr b="0" lang="en-US" sz="37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143000"/>
            <a:ext cx="804384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b0f0"/>
                </a:solidFill>
                <a:latin typeface="Arial"/>
              </a:rPr>
              <a:t>Архитекту́ра</a:t>
            </a:r>
            <a:r>
              <a:rPr b="0" lang="ru-RU" sz="1700" spc="-1" strike="noStrike">
                <a:solidFill>
                  <a:srgbClr val="00b0f0"/>
                </a:solidFill>
                <a:latin typeface="Arial"/>
              </a:rPr>
              <a:t> — искусство проектировать, строить здания и сооружения (также их комплексы). Архитектура непременно создает материально организованную среду, необходимую людям для их жизни и деятельности, в соответствии с современными техническими возможностями и эстетическими воззрениями общества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b0f0"/>
                </a:solidFill>
                <a:latin typeface="Arial"/>
              </a:rPr>
              <a:t>Архитектурой также называют облик зданий и сооружений, а также и сами здания и сооружения собирательно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Рисунок 2" descr=""/>
          <p:cNvPicPr/>
          <p:nvPr/>
        </p:nvPicPr>
        <p:blipFill>
          <a:blip r:embed="rId1"/>
          <a:stretch/>
        </p:blipFill>
        <p:spPr>
          <a:xfrm>
            <a:off x="422280" y="3357720"/>
            <a:ext cx="4227480" cy="28177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3" descr=""/>
          <p:cNvPicPr/>
          <p:nvPr/>
        </p:nvPicPr>
        <p:blipFill>
          <a:blip r:embed="rId2"/>
          <a:stretch/>
        </p:blipFill>
        <p:spPr>
          <a:xfrm>
            <a:off x="5581800" y="3132000"/>
            <a:ext cx="237636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Franklin Gothic Book"/>
              </a:rPr>
              <a:t>Биотехнология</a:t>
            </a:r>
            <a:br>
              <a:rPr sz="3700"/>
            </a:br>
            <a:endParaRPr b="0" lang="en-US" sz="37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28400" y="1142640"/>
            <a:ext cx="746748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b0f0"/>
                </a:solidFill>
                <a:latin typeface="Arial"/>
              </a:rPr>
              <a:t>Биотехноло́гия</a:t>
            </a:r>
            <a:r>
              <a:rPr b="0" lang="ru-RU" sz="2300" spc="-1" strike="noStrike">
                <a:solidFill>
                  <a:srgbClr val="00b0f0"/>
                </a:solidFill>
                <a:latin typeface="Arial"/>
              </a:rPr>
              <a:t> — дисциплина, изучающая возможности использования живых организмов, их систем или продуктов их жизнедеятельности для решения технологических задач, а также возможности создания живых организмов с необходимыми свойствами методом генной инженерии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Рисунок 2" descr=""/>
          <p:cNvPicPr/>
          <p:nvPr/>
        </p:nvPicPr>
        <p:blipFill>
          <a:blip r:embed="rId1"/>
          <a:stretch/>
        </p:blipFill>
        <p:spPr>
          <a:xfrm>
            <a:off x="2833560" y="3286080"/>
            <a:ext cx="3384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Информатик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28400" y="1214280"/>
            <a:ext cx="74674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b0f0"/>
                </a:solidFill>
                <a:latin typeface="Arial"/>
              </a:rPr>
              <a:t>Информа́тика</a:t>
            </a:r>
            <a:r>
              <a:rPr b="0" lang="ru-RU" sz="2300" spc="-1" strike="noStrike">
                <a:solidFill>
                  <a:srgbClr val="00b0f0"/>
                </a:solidFill>
                <a:latin typeface="Arial"/>
              </a:rPr>
              <a:t> (нем. </a:t>
            </a:r>
            <a:r>
              <a:rPr b="0" i="1" lang="ru-RU" sz="2300" spc="-1" strike="noStrike">
                <a:solidFill>
                  <a:srgbClr val="00b0f0"/>
                </a:solidFill>
                <a:latin typeface="Arial"/>
              </a:rPr>
              <a:t>Informatik</a:t>
            </a:r>
            <a:r>
              <a:rPr b="0" lang="ru-RU" sz="2300" spc="-1" strike="noStrike">
                <a:solidFill>
                  <a:srgbClr val="00b0f0"/>
                </a:solidFill>
                <a:latin typeface="Arial"/>
              </a:rPr>
              <a:t>, фр. </a:t>
            </a:r>
            <a:r>
              <a:rPr b="0" i="1" lang="ru-RU" sz="2300" spc="-1" strike="noStrike">
                <a:solidFill>
                  <a:srgbClr val="00b0f0"/>
                </a:solidFill>
                <a:latin typeface="Arial"/>
              </a:rPr>
              <a:t>Informatique</a:t>
            </a:r>
            <a:r>
              <a:rPr b="0" lang="ru-RU" sz="2300" spc="-1" strike="noStrike">
                <a:solidFill>
                  <a:srgbClr val="00b0f0"/>
                </a:solidFill>
                <a:latin typeface="Arial"/>
              </a:rPr>
              <a:t>) — наука о способах получения, накопления, хранения, преобразования, передачи, защиты и использования информации. Она включает дисциплины, относящиеся к обработке информации в вычислительных машинах и вычислительных сетях: как абстрактные, вроде анализа алгоритмов, так и довольно конкретные, например, разработка языков программирования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Franklin Gothic Book"/>
              </a:rPr>
              <a:t>Судостроение</a:t>
            </a:r>
            <a:br>
              <a:rPr sz="3700"/>
            </a:br>
            <a:endParaRPr b="0" lang="en-US" sz="37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28400" y="1214280"/>
            <a:ext cx="74674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b0f0"/>
                </a:solidFill>
                <a:latin typeface="Arial"/>
              </a:rPr>
              <a:t>Су́дострое́ние</a:t>
            </a:r>
            <a:r>
              <a:rPr b="0" lang="ru-RU" sz="2300" spc="-1" strike="noStrike">
                <a:solidFill>
                  <a:srgbClr val="00b0f0"/>
                </a:solidFill>
                <a:latin typeface="Arial"/>
              </a:rPr>
              <a:t> или </a:t>
            </a:r>
            <a:r>
              <a:rPr b="1" lang="ru-RU" sz="2300" spc="-1" strike="noStrike">
                <a:solidFill>
                  <a:srgbClr val="00b0f0"/>
                </a:solidFill>
                <a:latin typeface="Arial"/>
              </a:rPr>
              <a:t>кора́блестрое́ние</a:t>
            </a:r>
            <a:r>
              <a:rPr b="0" lang="ru-RU" sz="2300" spc="-1" strike="noStrike">
                <a:solidFill>
                  <a:srgbClr val="00b0f0"/>
                </a:solidFill>
                <a:latin typeface="Arial"/>
              </a:rPr>
              <a:t> — отрасль тяжёлой промышленности, осуществляющая постройку судов. Корабли, обычно строят на специализированных предприятиях, которые называются верфями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Рисунок 2" descr=""/>
          <p:cNvPicPr/>
          <p:nvPr/>
        </p:nvPicPr>
        <p:blipFill>
          <a:blip r:embed="rId1"/>
          <a:stretch/>
        </p:blipFill>
        <p:spPr>
          <a:xfrm>
            <a:off x="1619280" y="2997360"/>
            <a:ext cx="597996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Franklin Gothic Book"/>
              </a:rPr>
              <a:t>Космонавтика</a:t>
            </a:r>
            <a:br>
              <a:rPr sz="3700"/>
            </a:br>
            <a:endParaRPr b="0" lang="en-US" sz="37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28400" y="856800"/>
            <a:ext cx="746748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b0f0"/>
                </a:solidFill>
                <a:latin typeface="Arial"/>
              </a:rPr>
              <a:t>Космона́втика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 (от греч. κόσμος — Вселенная и ναυτική — искусство мореплавания, кораблевождение) — теория и практика навигации за пределами атмосферы Земли для исследования космического пространства при помощи автоматических и пилотируемых космических аппаратов. Другими словами наука и технология космически полетов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Рисунок 3" descr=""/>
          <p:cNvPicPr/>
          <p:nvPr/>
        </p:nvPicPr>
        <p:blipFill>
          <a:blip r:embed="rId1"/>
          <a:stretch/>
        </p:blipFill>
        <p:spPr>
          <a:xfrm>
            <a:off x="1763640" y="3025800"/>
            <a:ext cx="525636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Franklin Gothic Book"/>
              </a:rPr>
              <a:t>Материаловедение</a:t>
            </a:r>
            <a:br>
              <a:rPr sz="3700"/>
            </a:br>
            <a:endParaRPr b="0" lang="en-US" sz="37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99680" y="1000080"/>
            <a:ext cx="74674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b0f0"/>
                </a:solidFill>
                <a:latin typeface="Arial"/>
              </a:rPr>
              <a:t>Материаловедение</a:t>
            </a:r>
            <a:r>
              <a:rPr b="0" lang="ru-RU" sz="1900" spc="-1" strike="noStrike">
                <a:solidFill>
                  <a:srgbClr val="00b0f0"/>
                </a:solidFill>
                <a:latin typeface="Arial"/>
              </a:rPr>
              <a:t> — междисциплинарный раздел науки, изучающий изменения свойств материалов, как в твёрдом, так и в жидком состоянии в зависимости от некоторых факторов. К изучаемым свойствам относятся структура веществ, электронные, термические, химические, магнитные, оптические свойства этих веществ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428616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Franklin Gothic Book"/>
              </a:rPr>
              <a:t>Машиностроение</a:t>
            </a:r>
            <a:br>
              <a:rPr sz="3700"/>
            </a:br>
            <a:endParaRPr b="0" lang="en-US" sz="37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99680" y="92880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Машинострое́ние</a:t>
            </a:r>
            <a:r>
              <a:rPr b="0" lang="ru-RU" sz="2800" spc="-1" strike="noStrike">
                <a:solidFill>
                  <a:srgbClr val="00b0f0"/>
                </a:solidFill>
                <a:latin typeface="Arial"/>
              </a:rPr>
              <a:t> — отрасль, производящая всевозможные, орудия, приборы, а также предметы потребления и продукцию оборонного назнач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1476360" y="2924280"/>
            <a:ext cx="56880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Franklin Gothic Book"/>
              </a:rPr>
              <a:t>Ядерная энергетика</a:t>
            </a:r>
            <a:br>
              <a:rPr sz="3700"/>
            </a:br>
            <a:endParaRPr b="0" lang="en-US" sz="37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57120" y="1071720"/>
            <a:ext cx="746784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Ядерная энергетика</a:t>
            </a:r>
            <a:r>
              <a:rPr b="0" lang="ru-RU" sz="2800" spc="-1" strike="noStrike">
                <a:solidFill>
                  <a:srgbClr val="00b0f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Атомная энергетика</a:t>
            </a:r>
            <a:r>
              <a:rPr b="0" lang="ru-RU" sz="2800" spc="-1" strike="noStrike">
                <a:solidFill>
                  <a:srgbClr val="00b0f0"/>
                </a:solidFill>
                <a:latin typeface="Arial"/>
              </a:rPr>
              <a:t>) — это отрасль энергетики, занимающаяся производством электрической и тепловой энергии путём преобразования ядерной энерг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428760" y="3143160"/>
            <a:ext cx="2904840" cy="2178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5143680" y="3071880"/>
            <a:ext cx="33321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ина Кургина</dc:creator>
  <dc:description/>
  <dc:language>en-US</dc:language>
  <cp:lastModifiedBy>Марина Кургина</cp:lastModifiedBy>
  <dcterms:modified xsi:type="dcterms:W3CDTF">2013-02-06T11:19:19Z</dcterms:modified>
  <cp:revision>13</cp:revision>
  <dc:subject/>
  <dc:title>Технические науки</dc:title>
</cp:coreProperties>
</file>