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7772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Урок русского языка </a:t>
            </a:r>
            <a:br>
              <a:rPr sz="4000"/>
            </a:b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в 6 «В» классе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303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da2"/>
                </a:solidFill>
                <a:latin typeface="Calibri"/>
              </a:rPr>
              <a:t>Составила и провела учитель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da2"/>
                </a:solidFill>
                <a:latin typeface="Calibri"/>
              </a:rPr>
              <a:t>русского языка и литературы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da2"/>
                </a:solidFill>
                <a:latin typeface="Calibri"/>
              </a:rPr>
              <a:t>МОУ СОШ №7 г. Ейска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da2"/>
                </a:solidFill>
                <a:latin typeface="Calibri"/>
              </a:rPr>
              <a:t>Краснодарского края 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da2"/>
                </a:solidFill>
                <a:latin typeface="Calibri"/>
              </a:rPr>
              <a:t>Трегуб Ирина Владимировна</a:t>
            </a:r>
            <a:endParaRPr b="0" lang="en-US" sz="2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8" name="Picture 3" descr="08438179"/>
          <p:cNvPicPr/>
          <p:nvPr/>
        </p:nvPicPr>
        <p:blipFill>
          <a:blip r:embed="rId2"/>
          <a:stretch/>
        </p:blipFill>
        <p:spPr>
          <a:xfrm>
            <a:off x="1800360" y="80028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 rot="20167800">
            <a:off x="2842920" y="3465000"/>
            <a:ext cx="5883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740720" cy="57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М.В.Ломоносов о поведении учащихся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 учителями общаться очень вежливо, (не) упрямиться и (не) спорить с ними ни о чем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Избегать ссор между собою и (не) производить никакого шума и стука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(Не) произносить гнилых, грубых и пустых слов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амый большой вред – от лени. Ее надо всячески избегать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Береги время учебы: оно (не) вернется, его (не) наверстаешь. А всё, что учишь, пригодится!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(1758 год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50560" y="367920"/>
            <a:ext cx="770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настье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друг, а враг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друг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брежный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решительность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правда;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годование;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(не)веселый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2" name="Picture 4" descr="Рисунок3"/>
          <p:cNvPicPr/>
          <p:nvPr/>
        </p:nvPicPr>
        <p:blipFill>
          <a:blip r:embed="rId2"/>
          <a:stretch/>
        </p:blipFill>
        <p:spPr>
          <a:xfrm>
            <a:off x="6659640" y="3357720"/>
            <a:ext cx="2055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297000"/>
            <a:ext cx="75614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3280" y="1591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da2"/>
                </a:solidFill>
                <a:latin typeface="Calibri"/>
              </a:rPr>
              <a:t>1) Повторить… .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da2"/>
                </a:solidFill>
                <a:latin typeface="Calibri"/>
              </a:rPr>
              <a:t>2) Познакомиться с … .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da2"/>
                </a:solidFill>
                <a:latin typeface="Calibri"/>
              </a:rPr>
              <a:t>3) Научиться … .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5" name="Picture 4" descr="Smailik_chitaet"/>
          <p:cNvPicPr/>
          <p:nvPr/>
        </p:nvPicPr>
        <p:blipFill>
          <a:blip r:embed="rId2"/>
          <a:stretch/>
        </p:blipFill>
        <p:spPr>
          <a:xfrm>
            <a:off x="6732720" y="4292640"/>
            <a:ext cx="14176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da2"/>
                </a:solidFill>
                <a:latin typeface="Calibri"/>
              </a:rPr>
              <a:t>Физминутка</a:t>
            </a: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7" name="Picture 4" descr="so01380_"/>
          <p:cNvPicPr/>
          <p:nvPr/>
        </p:nvPicPr>
        <p:blipFill>
          <a:blip r:embed="rId2"/>
          <a:stretch/>
        </p:blipFill>
        <p:spPr>
          <a:xfrm>
            <a:off x="4140360" y="2924280"/>
            <a:ext cx="18763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24000" y="368280"/>
            <a:ext cx="763272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Закрепление материал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Тренировочное упражнение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Упр. 305 (устно)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da2"/>
                </a:solidFill>
                <a:latin typeface="Calibri"/>
              </a:rPr>
              <a:t>Найдите третье «лишнее»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6694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1)(Не)красивый, (не)умный,(не)уклюжий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2) (Не)долгий, (не)лепый, (не)страшный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3) (Не)брежный, (не)старый, (не)слабый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4) (Не)брежный, (не)молодой, (не)известный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1" name="Picture 4" descr="2039BAN"/>
          <p:cNvPicPr/>
          <p:nvPr/>
        </p:nvPicPr>
        <p:blipFill>
          <a:blip r:embed="rId2"/>
          <a:stretch/>
        </p:blipFill>
        <p:spPr>
          <a:xfrm>
            <a:off x="7308720" y="1557360"/>
            <a:ext cx="1052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0" y="296640"/>
            <a:ext cx="763272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5da2"/>
                </a:solidFill>
                <a:uFillTx/>
                <a:latin typeface="Calibri"/>
              </a:rPr>
              <a:t>Обобщение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1. С какой орфограммой мы познакомились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2. В каких случаях </a:t>
            </a:r>
            <a:r>
              <a:rPr b="1" lang="en-US" sz="3200" spc="-1" strike="noStrike">
                <a:solidFill>
                  <a:srgbClr val="005da2"/>
                </a:solidFill>
                <a:latin typeface="Calibri"/>
              </a:rPr>
              <a:t>НЕ с </a:t>
            </a: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прилагательными пишется слитно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3. В каких раздельно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4. Какие трудности возникли у вас на уроке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5da2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2241720"/>
            <a:ext cx="763272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da2"/>
                </a:solidFill>
                <a:latin typeface="Calibri"/>
              </a:rPr>
              <a:t>§ 54, упр.308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6" name="Рисунок 4" descr="дети1.jpg"/>
          <p:cNvPicPr/>
          <p:nvPr/>
        </p:nvPicPr>
        <p:blipFill>
          <a:blip r:embed="rId2"/>
          <a:stretch/>
        </p:blipFill>
        <p:spPr>
          <a:xfrm>
            <a:off x="5472000" y="3176640"/>
            <a:ext cx="2843280" cy="2203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69</cp:lastModifiedBy>
  <dcterms:modified xsi:type="dcterms:W3CDTF">2013-02-06T18:49:56Z</dcterms:modified>
  <cp:revision>17</cp:revision>
  <dc:subject/>
  <dc:title>Слайд 1</dc:title>
</cp:coreProperties>
</file>