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802-FF3D-4D5C-A62E-95EAF326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2D8-7823-46CF-A23A-AB8C84E4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49B-51B4-4460-80D4-A43F1B57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2CA-370A-4980-BD3F-879E0526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7AA-AF47-4A7F-814B-DE30C24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B22-266B-43D8-A76F-7D65016E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10A-44EC-49A8-8F66-54C98D56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819-8CE8-494E-8347-D19432DE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0A1-F815-4C33-BFF0-5939B1F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4C8-6E01-49E6-9EB1-0924826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92C-60AE-4AEC-80F3-CB4B4CB1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F13-7BA8-455B-8CCF-E8D8FBED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5E9-6105-4898-8DA9-376D27AEE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39640" y="1773360"/>
            <a:ext cx="81439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</a:rPr>
              <a:t>Односоставные предло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28760" y="714240"/>
            <a:ext cx="8286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движный камыш. Не трепещет ос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лубокая тишь. Безглагольность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уга убегают далеко-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сем утомленье, глухое, не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йди на закате, как в свежи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прохладную глушь деревенского сада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еревья так сумрачно-странно-безмолв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сердцу так грустно, и сердце не р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.Д.Бальм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500040" y="50004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движный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камыш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е трепещет осока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лубокая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тишь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Безглагольность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Луга убегают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алеко-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сем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томленье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 глухое, не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ойди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на закате, как в свежи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прохладную глушь деревенского сада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Деревья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ак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умрачно-странно-безмолвны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сердцу так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рустн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 и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ердце не рад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.Д.Бальм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85920" y="1428840"/>
            <a:ext cx="657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alibri"/>
              </a:rPr>
              <a:t>Камыш.  Тишь.  Безглагольность. Утомленье. Войди. Груст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81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дносоставные предложения с главным членом - 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14240" y="857160"/>
          <a:ext cx="7929720" cy="5357880"/>
        </p:xfrm>
        <a:graphic>
          <a:graphicData uri="http://schemas.openxmlformats.org/drawingml/2006/table">
            <a:tbl>
              <a:tblPr/>
              <a:tblGrid>
                <a:gridCol w="1981440"/>
                <a:gridCol w="1982520"/>
                <a:gridCol w="1982880"/>
                <a:gridCol w="1982880"/>
              </a:tblGrid>
              <a:tr h="16146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Определенно-личные п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указывает на лиц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уемое-глагол 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лица настоящ., будущ.в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ражает действия говорящего или собеседник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буждение к действ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юблю грозу в начале ма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ходим завтра в мор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тай книг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Неопределенно-личные п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тносится с мест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то-то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-то, все, они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 двусоставн. предлож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уемое-глагол 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лица мн.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ст. и буд. в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форм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н.ч. прош.в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дверь постучалис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ле драки кулаками не маш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Безличные пред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.-сказ. 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лица ед.ч. наст. и буд. вр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.рода в прошедшем вре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сто сообщают о различных состояниях природы или людей, живот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сем стемнел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оро будет свет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олодно на улиц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05:21Z</dcterms:created>
  <dc:creator>XP GAME 2008</dc:creator>
  <dc:description/>
  <dc:language>en-US</dc:language>
  <cp:lastModifiedBy>Дмитрий Каленюк</cp:lastModifiedBy>
  <dcterms:modified xsi:type="dcterms:W3CDTF">2013-02-06T17:06:40Z</dcterms:modified>
  <cp:revision>12</cp:revision>
  <dc:subject/>
  <dc:title>Слайд 1</dc:title>
</cp:coreProperties>
</file>