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675-3059-4750-916C-F4BD491A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215-20E5-42B9-BFDC-D4297080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B2E-E0BA-4191-953D-F5580B3B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541-9561-4C26-9884-DB547AAA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A8A-A183-407C-961F-3C89AE05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46C-4676-43B9-BB11-C6629A2D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2F7-29F7-448C-914B-8B7607C5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493-3CD8-451D-84ED-150EF66D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357-2C61-477B-B7DB-89FA5F8F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378-02FE-4AAE-967E-0656D0DB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D97-8F30-4360-AAD8-BEC665DA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C0D-05F9-4468-A1A4-51930B39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7317-4C28-486F-9113-3320BFCB0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39640" y="1773360"/>
            <a:ext cx="81439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alibri"/>
              </a:rPr>
              <a:t>Односоставные предлож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428760" y="714240"/>
            <a:ext cx="8286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едвижный камыш. Не трепещет ос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Глубокая тишь. Безглагольность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уга убегают далеко-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 всем утомленье, глухое, не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йди на закате, как в свежие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 прохладную глушь деревенского сада,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еревья так сумрачно-странно-безмолв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 сердцу так грустно, и сердце не ра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.Д.Бальм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500040" y="500040"/>
            <a:ext cx="8001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едвижный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камыш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Не трепещет осока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Глубокая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тишь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Безглагольность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Луга убегают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алеко-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 всем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утомленье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 глухое, не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Войди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на закате, как в свежие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 прохладную глушь деревенского сада,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Деревья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ак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умрачно-странно-безмолвны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 сердцу так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грустно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 и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ердце не радо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.Д.Бальм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285920" y="1428840"/>
            <a:ext cx="657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alibri"/>
              </a:rPr>
              <a:t>Камыш.  Тишь.  Безглагольность. Утомленье. Войди. Груст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81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дносоставные предложения с главным членом - сказуе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14240" y="857160"/>
          <a:ext cx="7929720" cy="5357880"/>
        </p:xfrm>
        <a:graphic>
          <a:graphicData uri="http://schemas.openxmlformats.org/drawingml/2006/table">
            <a:tbl>
              <a:tblPr/>
              <a:tblGrid>
                <a:gridCol w="1981440"/>
                <a:gridCol w="1982520"/>
                <a:gridCol w="1982880"/>
                <a:gridCol w="1982880"/>
              </a:tblGrid>
              <a:tr h="16146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Определенно-личные п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указывает на лиц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уемое-глагол в фор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лиц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лица настоящ., будущ.в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ражает действия говорящего или собеседник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буждение к действ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юблю грозу в начале ма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ходим завтра в мор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тай книг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86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Неопределенно-личные п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относится с мест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то-то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-то, все, они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 двусоставн. предлож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уемое-глагол в фор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лица мн.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ст. и буд. вр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форм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н.ч. прош.в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дверь постучалис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ле драки кулаками не маш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Безличные пред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л.-сказ. в фор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лица ед.ч. наст. и буд. вр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и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фор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.рода в прошедшем вре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асто сообщают о различных состояниях природы или людей, живот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сем стемнел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оро будет света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олодно на улиц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05:21Z</dcterms:created>
  <dc:creator>XP GAME 2008</dc:creator>
  <dc:description/>
  <dc:language>en-US</dc:language>
  <cp:lastModifiedBy>Дмитрий Каленюк</cp:lastModifiedBy>
  <dcterms:modified xsi:type="dcterms:W3CDTF">2013-02-06T17:06:40Z</dcterms:modified>
  <cp:revision>12</cp:revision>
  <dc:subject/>
  <dc:title>Слайд 1</dc:title>
</cp:coreProperties>
</file>