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sound015.wav" ContentType="audio/x-wav"/>
  <Override PartName="/ppt/media/image3.jpeg" ContentType="image/jpeg"/>
  <Override PartName="/ppt/media/sound005.wav" ContentType="audio/x-wav"/>
  <Override PartName="/ppt/media/image4.jpeg" ContentType="image/jpeg"/>
  <Override PartName="/ppt/media/sound003.wav" ContentType="audio/x-wav"/>
  <Override PartName="/ppt/media/image6.jpeg" ContentType="image/jpeg"/>
  <Override PartName="/ppt/media/sound006.wav" ContentType="audio/x-wav"/>
  <Override PartName="/ppt/media/sound013.wav" ContentType="audio/x-wav"/>
  <Override PartName="/ppt/media/image7.jpeg" ContentType="image/jpeg"/>
  <Override PartName="/ppt/media/image5.jpeg" ContentType="image/jpeg"/>
  <Override PartName="/ppt/media/sound007.wav" ContentType="audio/x-wav"/>
  <Override PartName="/ppt/media/image15.jpeg" ContentType="image/jpeg"/>
  <Override PartName="/ppt/media/sound004.wav" ContentType="audio/x-wav"/>
  <Override PartName="/ppt/media/sound016.wav" ContentType="audio/x-wav"/>
  <Override PartName="/ppt/media/image8.jpeg" ContentType="image/jpeg"/>
  <Override PartName="/ppt/media/image10.jpeg" ContentType="image/jpeg"/>
  <Override PartName="/ppt/media/sound002.wav" ContentType="audio/x-wav"/>
  <Override PartName="/ppt/media/image2.jpeg" ContentType="image/jpeg"/>
  <Override PartName="/ppt/media/sound001.wav" ContentType="audio/x-wav"/>
  <Override PartName="/ppt/media/image12.jpeg" ContentType="image/jpeg"/>
  <Override PartName="/ppt/media/image1.png" ContentType="image/png"/>
  <Override PartName="/ppt/media/sound012.wav" ContentType="audio/x-wav"/>
  <Override PartName="/ppt/media/sound008.wav" ContentType="audio/x-wav"/>
  <Override PartName="/ppt/media/sound010.wav" ContentType="audio/x-wav"/>
  <Override PartName="/ppt/media/sound009.wav" ContentType="audio/x-wav"/>
  <Override PartName="/ppt/media/sound011.wav" ContentType="audio/x-wav"/>
  <Override PartName="/ppt/media/image13.jpeg" ContentType="image/jpeg"/>
  <Override PartName="/ppt/media/image9.jpeg" ContentType="image/jpeg"/>
  <Override PartName="/ppt/media/image11.jpeg" ContentType="image/jpeg"/>
  <Override PartName="/ppt/media/sound014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263B-B680-4EEA-BA8B-C3B05F43AF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98A8-35DC-4BE1-8A7D-EAB9A02C27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883-BD93-4D2F-AEFF-4B7E8DC8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49D-7F4A-4744-BE90-13517D64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8FB-9857-4C76-BD57-46076171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993-A993-485D-A8C4-3C102540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C24-19DD-41BA-838F-C6717261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C4F-12DF-4C2D-A898-F323AFF4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8C0-17B0-40A2-B2C4-E64EE726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9D3-6E15-4093-A250-9B7BBAF7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9EB-4EF3-45EF-B910-62A20AB0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713-DBEC-4914-8147-84BF2ED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B55-1171-4AA0-886E-9057664F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726-B27F-4CA5-92E7-8C7C9CE5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EF0C-D85E-40CF-AC8C-3E6D40C57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ound005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sound006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sound007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sound008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ound001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sound009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sound010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sound011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ound002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sound012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sound013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sound014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ound003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sound015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sound016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ound004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МБОУ «Шеморданский лицей»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ениц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д класса Закирова Алина Раилев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7561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4320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ШОТЛАНДСКАЯ ОВЧАРКА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(КОЛЛИ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619280" y="1700280"/>
            <a:ext cx="6119640" cy="338292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отландская овчарка (колли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едена в Шотландии. Сильная, подвижная, красивая собака, с очень густой и длинной шерстью. Окрас черно-пегий, рыже-пегий, голубой, мраморно-пегий. Рост 62-68 см. Умная, поддающаяся разнообразной дрессировке. Собака обладает врожденной способностью к пастушьей служб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отландская овчарка (колли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Шотландии. Сильная, подвижная, красивая собака, с очень густой и длинной шерстью. Окрас черно-пегий, рыже-пегий, голубой, мраморно-пегий. Рост 62-68 см. Умная, поддающаяся разнообразной дрессировке. Собака обладает врожденной способностью к пастушьей служб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og2"/>
          <p:cNvPicPr/>
          <p:nvPr/>
        </p:nvPicPr>
        <p:blipFill>
          <a:blip r:embed="rId1"/>
          <a:stretch/>
        </p:blipFill>
        <p:spPr>
          <a:xfrm>
            <a:off x="2451240" y="228600"/>
            <a:ext cx="4294080" cy="6324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ОБЕРМ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1476360" y="1052640"/>
            <a:ext cx="6175440" cy="449568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берман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 Германии, называется по имени создателя Л. Добермана. В Россию была привезена в 1902 году для работы в полиции. Шерсть короткая, окрас черный либо черный с подпалинами. Рост 64 - 68 см. Бесстрашная, с крепкой нервной системой и очень острым чуть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берма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Германии, называется по имени создателя Л. Добермана. В Россию была привезена в 1902 году для работы в полиции. Шерсть короткая, окрас черный либо черный с подпалинами. Рост 64 - 68 см. Бесстрашная, с крепкой нервной системой и очень острым чуть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og3"/>
          <p:cNvPicPr/>
          <p:nvPr/>
        </p:nvPicPr>
        <p:blipFill>
          <a:blip r:embed="rId1"/>
          <a:stretch/>
        </p:blipFill>
        <p:spPr>
          <a:xfrm>
            <a:off x="2398680" y="228600"/>
            <a:ext cx="4348080" cy="6400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НЬЮФАУНДЛЕН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560600" y="836640"/>
            <a:ext cx="6251400" cy="495288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ьюфаундленд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 Англии, носит название острова Ньюфаундленд. Крупная, мощная собака, покрытая густой, плотной шерстью, предохраняющей от непогоды и холодной воды. Окрас черный, бронзовый. Рост около 70 см. Верная и отважная собака, используется для спасения утопающих и помогает вытягивать на берег тяжелые рыбачьи се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ьюфаундлен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Англии, носит название острова Ньюфаундленд. Крупная, мощная собака, покрытая густой, плотной шерстью, предохраняющей от непогоды и холодной воды. Окрас черный, бронзовый. Рост около 70 см. Верная и отважная собака, используется для спасения утопающих и помогает вытягивать на берег тяжелые рыбачьи се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og4"/>
          <p:cNvPicPr/>
          <p:nvPr/>
        </p:nvPicPr>
        <p:blipFill>
          <a:blip r:embed="rId1"/>
          <a:stretch/>
        </p:blipFill>
        <p:spPr>
          <a:xfrm>
            <a:off x="2502000" y="380880"/>
            <a:ext cx="4140000" cy="6096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ЭРДЕЛЬТЕРЬЕ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ПОРОДЫ  СОБАК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1403280" y="1052640"/>
            <a:ext cx="6404040" cy="457200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рдельтерь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о второй половине XIX столетия в Англии. Праивльно сложенная, компактная собака. Шерсть жесткая, длинная. Не линяет, но требует тримминга (специальная стрижка). Окрас чепрачный, золотисто-рыжий. Рост 60-64 см. Понятлив, хорошо дрессируется, отличный поводырь для слеп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рдельтерь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о второй половине XIX столетия в Англии. Праивльно сложенная, компактная собака. Шерсть жесткая, длинная. Не линяет, но требует тримминга (специальная стрижка). Окрас чепрачный, золотисто-рыжий. Рост 60-64 см. Понятлив, хорошо дрессируется, отличный поводырь для слепых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og6"/>
          <p:cNvPicPr/>
          <p:nvPr/>
        </p:nvPicPr>
        <p:blipFill>
          <a:blip r:embed="rId1"/>
          <a:stretch/>
        </p:blipFill>
        <p:spPr>
          <a:xfrm>
            <a:off x="2502000" y="304920"/>
            <a:ext cx="419256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ОБТЕЙ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1476360" y="1197000"/>
            <a:ext cx="6175440" cy="411480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бтей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бтейла еще называют Старо-английской овчаркой. Выведена в Англии. Собака пропорционального сложения с довольно мощным костяком, покрыта обильной шерстью. Окрас серо-бело-голубой. Рост 53-58 см. Легко управляемая, с острым чуть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бтей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бтейла еще называют Старо-английской овчаркой. Выведена в Англии. Собака пропорционального сложения с довольно мощным костяком, покрыта обильной шерстью. Окрас серо-бело-голубой. Рост 53-58 см. Легко управляемая, с острым чуть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og5"/>
          <p:cNvPicPr/>
          <p:nvPr/>
        </p:nvPicPr>
        <p:blipFill>
          <a:blip r:embed="rId1"/>
          <a:stretch/>
        </p:blipFill>
        <p:spPr>
          <a:xfrm>
            <a:off x="2449440" y="304920"/>
            <a:ext cx="4245120" cy="624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НЕМЕЦКИЙ ДО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1763640" y="692280"/>
            <a:ext cx="5870520" cy="533052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ецкий дог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 Германии. Одна из самых крупных европейских собак. Мощная, пропорционально сложенная собака, с сухой скульптурной головой. Шерсть короткая. Окрас черный, серый, палевый, тигровый, мраморный. Рост от 75-80 см и выше. Надежный, верный спутник, хороший сторож. Характер спокойный, уравновешенны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емецкий дог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Германии. Одна из самых крупных европейских собак. Мощная, пропорционально сложенная собака, с сухой скульптурной головой. Шерсть короткая. Окрас черный, серый, палевый, тигровый, мраморный. Рост от 75-80 см и выше. Надежный, верный спутник, хороший сторож. Характер спокойный, уравновешенны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og7"/>
          <p:cNvPicPr/>
          <p:nvPr/>
        </p:nvPicPr>
        <p:blipFill>
          <a:blip r:embed="rId1"/>
          <a:stretch/>
        </p:blipFill>
        <p:spPr>
          <a:xfrm>
            <a:off x="2374920" y="304920"/>
            <a:ext cx="4449600" cy="617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МОСКОВСКАЯ СТОРОЖЕВА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1547640" y="1093680"/>
            <a:ext cx="6175440" cy="449604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сковская сторожева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советскими селекционерами путем скрещивания добродушного сенбернара со свирепой кавказской овчаркой. Такое сочетание позволило получить исключительно сильную, с густым шерстным покровом и могучей мускулатурой собаку, достаточно злобную с прекрасными сторожевыми качеств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сковская сторожева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советскими селекционерами путем скрещивания добродушного сенбернара со свирепой кавказской овчаркой. Такое сочетание позволило получить исключительно сильную, с густым шерстным покровом и могучей мускулатурой собаку, достаточно злобную с прекрасными сторожевыми качествам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СЛУЖЕБНЫЕ ПОРОД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og33"/>
          <p:cNvPicPr/>
          <p:nvPr/>
        </p:nvPicPr>
        <p:blipFill>
          <a:blip r:embed="rId1"/>
          <a:stretch/>
        </p:blipFill>
        <p:spPr>
          <a:xfrm>
            <a:off x="2397240" y="152280"/>
            <a:ext cx="440028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ЧЁРНЫЙ ТЕРЬЕ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1547640" y="907920"/>
            <a:ext cx="6328080" cy="510552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рный терь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рода выведена в школе служебного собаководства "Красная звезда" в 50-60 годах XX века путем скрещивания ризеншнауцера, ротвейлера и некоторых других пород. Выше среднего роста, с массивным костяком, грубой конституции. Злобные, выносливые, хорошо поддаются дрессировке. Шерсть длинная, необходим триммин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рный терь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рода выведена в школе служебного собаководства "Красная звезда" в 50-60 годах XX века путем скрещивания ризеншнауцера, ротвейлера и некоторых других пород. Выше среднего роста, с массивным костяком, грубой конституции. Злобные, выносливые, хорошо поддаются дрессировке. Шерсть длинная, необходим триммин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og26"/>
          <p:cNvPicPr/>
          <p:nvPr/>
        </p:nvPicPr>
        <p:blipFill>
          <a:blip r:embed="rId1"/>
          <a:stretch/>
        </p:blipFill>
        <p:spPr>
          <a:xfrm>
            <a:off x="2502000" y="380880"/>
            <a:ext cx="4140000" cy="6096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СЕНБЕРНА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1523880" y="914400"/>
            <a:ext cx="6327360" cy="4113000"/>
            <a:chOff x="1523880" y="914400"/>
            <a:chExt cx="6327360" cy="4113000"/>
          </a:xfrm>
        </p:grpSpPr>
        <p:sp>
          <p:nvSpPr>
            <p:cNvPr id="105" name="Rectangle 3"/>
            <p:cNvSpPr/>
            <p:nvPr/>
          </p:nvSpPr>
          <p:spPr>
            <a:xfrm>
              <a:off x="1523880" y="914400"/>
              <a:ext cx="6327360" cy="4113000"/>
            </a:xfrm>
            <a:prstGeom prst="rect">
              <a:avLst/>
            </a:prstGeom>
            <a:solidFill>
              <a:srgbClr val="f2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4"/>
            <p:cNvGrpSpPr/>
            <p:nvPr/>
          </p:nvGrpSpPr>
          <p:grpSpPr>
            <a:xfrm>
              <a:off x="1523880" y="914400"/>
              <a:ext cx="6327000" cy="4111200"/>
              <a:chOff x="1523880" y="914400"/>
              <a:chExt cx="6327000" cy="4111200"/>
            </a:xfrm>
          </p:grpSpPr>
          <p:sp>
            <p:nvSpPr>
              <p:cNvPr id="107" name="Rectangle 5"/>
              <p:cNvSpPr/>
              <p:nvPr/>
            </p:nvSpPr>
            <p:spPr>
              <a:xfrm>
                <a:off x="1523880" y="914400"/>
                <a:ext cx="6327000" cy="4111200"/>
              </a:xfrm>
              <a:prstGeom prst="rect">
                <a:avLst/>
              </a:prstGeom>
              <a:solidFill>
                <a:srgbClr val="f2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1523880" y="914400"/>
                <a:ext cx="6327000" cy="4111200"/>
              </a:xfrm>
              <a:prstGeom prst="rect">
                <a:avLst/>
              </a:prstGeom>
              <a:solidFill>
                <a:srgbClr val="f2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Сенбернар</a:t>
                </a:r>
                <a:br>
                  <a:rPr sz="2800"/>
                </a:b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Порода выведена в середине XVII века монахами-горноспасателями в Швейцарских Альпах. Собака крупная, с густой шерстью, рос выше 70 см, добродушная, работящая. Собаки обладают врожденной способность к поиску людей под снежными завалами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dog21"/>
          <p:cNvPicPr/>
          <p:nvPr/>
        </p:nvPicPr>
        <p:blipFill>
          <a:blip r:embed="rId1"/>
          <a:stretch/>
        </p:blipFill>
        <p:spPr>
          <a:xfrm>
            <a:off x="2502000" y="228600"/>
            <a:ext cx="4243320" cy="62485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РОТВЕЙЛЕ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1717560" y="1419120"/>
            <a:ext cx="6023160" cy="381024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твейл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ками ротвейлеров считают собак, сопрвождавших римские легионы. Крепкая, мускулистая, мощная собака. Шерсть короткая, гладкая, жесткая. Окрас черный с подпалом. Собака уравновешенная, умная. Характер бойцовс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твейл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ками ротвейлеров считают собак, сопрвождавших римские легионы. Крепкая, мускулистая, мощная собака. Шерсть короткая, гладкая, жесткая. Окрас черный с подпалом. Собака уравновешенная, умная. Характер бойцовски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og29"/>
          <p:cNvPicPr/>
          <p:nvPr/>
        </p:nvPicPr>
        <p:blipFill>
          <a:blip r:embed="rId1"/>
          <a:stretch/>
        </p:blipFill>
        <p:spPr>
          <a:xfrm>
            <a:off x="2502000" y="228600"/>
            <a:ext cx="4243320" cy="6248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НЕМЕЦКАЯ ОВЧАР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ОКСЁ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1619280" y="765000"/>
            <a:ext cx="6327720" cy="533412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кс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ксер был выведен в 1850 году в Мюнхене путем скрещивания мастифа с бульдогом. Нижняя челюсть выступает вперед и загибается кверху. Рост 57-63 см. Верная и приятная в общении собака. Она не злопамятна и очень любит детей. Легко поддается дрессировке. Используют для работы в полиции, как телохранителей, как сторожевых собак и поводырей для слеп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кс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ксер был выведен в 1850 году в Мюнхене путем скрещивания мастифа с бульдогом. Нижняя челюсть выступает вперед и загибается кверху. Рост 57-63 см. Верная и приятная в общении собака. Она не злопамятна и очень любит детей. Легко поддается дрессировке. Используют для работы в полиции, как телохранителей, как сторожевых собак и поводырей для слепых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og34"/>
          <p:cNvPicPr/>
          <p:nvPr/>
        </p:nvPicPr>
        <p:blipFill>
          <a:blip r:embed="rId1"/>
          <a:stretch/>
        </p:blipFill>
        <p:spPr>
          <a:xfrm>
            <a:off x="2502000" y="228600"/>
            <a:ext cx="4243320" cy="6248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РИЗЕНШНАУЦЕ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1641600" y="1258920"/>
            <a:ext cx="6099120" cy="411480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изеншнауц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рода ведет свою родословную из Баварии. Спокойная, уравновешенная, легко поддающаяся обучению, очень терпеливая собака, ласковая с детьми. Рост в холке до 65-70 см. Окрас черный. Шерсть жесткая, требует тримминга. Широко используется для личной охраны и охраны имуще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изеншнауце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рода ведет свою родословную из Баварии. Спокойная, уравновешенная, легко поддающаяся обучению, очень терпеливая собака, ласковая с детьми. Рост в холке до 65-70 см. Окрас черный. Шерсть жесткая, требует тримминга. Широко используется для личной охраны и охраны имущест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og35"/>
          <p:cNvPicPr/>
          <p:nvPr/>
        </p:nvPicPr>
        <p:blipFill>
          <a:blip r:embed="rId1"/>
          <a:stretch/>
        </p:blipFill>
        <p:spPr>
          <a:xfrm>
            <a:off x="2346480" y="152280"/>
            <a:ext cx="4451040" cy="6553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187280" y="1484280"/>
            <a:ext cx="6629400" cy="380988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ецкая овчарк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ведена в Германии. Крепкого пропорционального сложения, окрас зонарно-серый, зонарно-рыжий, чепрачный, черный, черный с подпалинами. Рост 65 - 70 см. Прекрасно дрессируется, используетсяво всех видах служ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емецкая овчар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едена в Германии. Крепкого пропорционального сложения, окрас зонарно-серый, зонарно-рыжий, чепрачный, черный, черный с подпалинами. Рост 65 - 70 см. Прекрасно дрессируется, используетсяво всех видах служ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og1"/>
          <p:cNvPicPr/>
          <p:nvPr/>
        </p:nvPicPr>
        <p:blipFill>
          <a:blip r:embed="rId1"/>
          <a:stretch/>
        </p:blipFill>
        <p:spPr>
          <a:xfrm>
            <a:off x="2449440" y="304920"/>
            <a:ext cx="4245120" cy="6248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ВОСТОЧНО-ЕВРОПЕЙСКА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ОВЧАР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619280" y="1525680"/>
            <a:ext cx="6121440" cy="3703680"/>
          </a:xfrm>
          <a:prstGeom prst="rect">
            <a:avLst/>
          </a:prstGeom>
          <a:solidFill>
            <a:srgbClr val="f2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точно-европейская овчар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ода была выведена в СССР в годы войны на основе вывезенной из Германии немецкой овчарки. Собака крупная (до 75-80 см) роста, крепкой конституции, "квадратного" формата. Породу приспособленной для работы в Сибири, но она не выдержала конкуренции с немецкой овчаркой и сейчас уже почти не встреч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сточно-европейская овчар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рода была выведена в СССР в годы войны на основе вывезенной из Германии немецкой овчарки. Собака крупная (до 75-80 см) роста, крепкой конституции, "квадратного" формата. Породу приспособленной для работы в Сибири, но она не выдержала конкуренции с немецкой овчаркой и сейчас уже почти не встречаетс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og32"/>
          <p:cNvPicPr/>
          <p:nvPr/>
        </p:nvPicPr>
        <p:blipFill>
          <a:blip r:embed="rId1"/>
          <a:stretch/>
        </p:blipFill>
        <p:spPr>
          <a:xfrm>
            <a:off x="2432160" y="304920"/>
            <a:ext cx="4244760" cy="6248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19:41:14Z</dcterms:created>
  <dc:creator>Hadlock</dc:creator>
  <dc:description>7ya.ru</dc:description>
  <dc:language>en-US</dc:language>
  <cp:lastModifiedBy>User</cp:lastModifiedBy>
  <dcterms:modified xsi:type="dcterms:W3CDTF">2013-02-02T18:53:58Z</dcterms:modified>
  <cp:revision>34</cp:revision>
  <dc:subject/>
  <dc:title>Породы собак. Служебные породы</dc:title>
</cp:coreProperties>
</file>