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wmf" ContentType="image/x-wmf"/>
  <Override PartName="/ppt/media/image10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B5F-2F24-41D0-8E0E-DF94D760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509-0BCF-42D3-96FE-EAC9D371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BA4-EA16-4EA7-B0EF-3B992911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DD5-8FEA-40CC-BD0E-8FDBE27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F5F-82AD-4E61-9344-374814A4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6B9-D5A4-42CE-A34B-CD459763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A4B-FF0D-4B7C-8CD2-232DCAEE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E4F-FDF0-4474-8895-AB0EE56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B02-DB8F-4152-B21F-C01AD67E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E26-2A99-4466-9EB0-E03D2C0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BBF-76CC-42A4-A788-F397DE8C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9B3-AA0E-4111-B20C-1BDD0C7D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8AE-1ABB-4EF6-91E3-0941B7AA2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835280" y="954000"/>
            <a:ext cx="56260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79640" y="260280"/>
            <a:ext cx="561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Bookman Old Style"/>
              </a:rPr>
              <a:t>Дядюшка Глаго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41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500120" y="285840"/>
            <a:ext cx="552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инони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85840" y="1571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рисовывать,  набрасывать, черт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55"/>
          <p:cNvPicPr/>
          <p:nvPr/>
        </p:nvPicPr>
        <p:blipFill>
          <a:blip r:embed="rId2"/>
          <a:stretch/>
        </p:blipFill>
        <p:spPr>
          <a:xfrm>
            <a:off x="6300720" y="2349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J0237248"/>
          <p:cNvPicPr/>
          <p:nvPr/>
        </p:nvPicPr>
        <p:blipFill>
          <a:blip r:embed="rId3"/>
          <a:stretch/>
        </p:blipFill>
        <p:spPr>
          <a:xfrm>
            <a:off x="1476360" y="2852640"/>
            <a:ext cx="316692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908000" y="18900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едлож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69228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ороз   рисует на окнах причудливые уз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16984654794_wint87-small"/>
          <p:cNvPicPr/>
          <p:nvPr/>
        </p:nvPicPr>
        <p:blipFill>
          <a:blip r:embed="rId2"/>
          <a:stretch/>
        </p:blipFill>
        <p:spPr>
          <a:xfrm>
            <a:off x="539640" y="189000"/>
            <a:ext cx="8120160" cy="609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16984654569_17205200-small"/>
          <p:cNvPicPr/>
          <p:nvPr/>
        </p:nvPicPr>
        <p:blipFill>
          <a:blip r:embed="rId3"/>
          <a:stretch/>
        </p:blipFill>
        <p:spPr>
          <a:xfrm>
            <a:off x="468360" y="189000"/>
            <a:ext cx="820728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 спряжение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2050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р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179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2349360"/>
            <a:ext cx="1079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781360"/>
            <a:ext cx="71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21300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3716280"/>
            <a:ext cx="7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292640"/>
            <a:ext cx="720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79736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373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865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08280"/>
            <a:ext cx="865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321300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3789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422100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4724280"/>
            <a:ext cx="100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85080" y="4724280"/>
            <a:ext cx="790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5300640"/>
            <a:ext cx="107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5373720"/>
            <a:ext cx="64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10"/>
                </a:solidFill>
                <a:latin typeface="Arial"/>
              </a:rPr>
              <a:t>Настоящее время (что делает? что делают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10"/>
                </a:solidFill>
                <a:latin typeface="Arial"/>
              </a:rPr>
              <a:t>Прошедшее время (что делал? что сделал? что делали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10"/>
                </a:solidFill>
                <a:latin typeface="Arial"/>
              </a:rPr>
              <a:t>Будущее время (что буду делать? что будут делать? что сделают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324000" y="549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су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54936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ует, будет рисовать,  рисовал,  нарисовал,    нарису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24000" y="2276640"/>
            <a:ext cx="36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делает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851280" y="234936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будет 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5280" y="3141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делал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95280" y="407664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сдела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924360" y="3141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сделал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1835280" y="836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.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564000" y="836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.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227640" y="836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.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276720" y="166680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о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916360" y="2421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исо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500800" y="1714680"/>
            <a:ext cx="40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дет рис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227640" y="2349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ису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0" y="2492280"/>
            <a:ext cx="1871640" cy="720720"/>
            <a:chOff x="0" y="2492280"/>
            <a:chExt cx="1871640" cy="720720"/>
          </a:xfrm>
        </p:grpSpPr>
        <p:sp>
          <p:nvSpPr>
            <p:cNvPr id="130" name="Rectangle 16"/>
            <p:cNvSpPr/>
            <p:nvPr/>
          </p:nvSpPr>
          <p:spPr>
            <a:xfrm>
              <a:off x="0" y="2492280"/>
              <a:ext cx="1763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0" y="249228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С.ви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0" y="1700280"/>
            <a:ext cx="1800360" cy="720720"/>
            <a:chOff x="0" y="1700280"/>
            <a:chExt cx="1800360" cy="720720"/>
          </a:xfrm>
        </p:grpSpPr>
        <p:sp>
          <p:nvSpPr>
            <p:cNvPr id="133" name="Rectangle 14"/>
            <p:cNvSpPr/>
            <p:nvPr/>
          </p:nvSpPr>
          <p:spPr>
            <a:xfrm>
              <a:off x="0" y="1700280"/>
              <a:ext cx="180036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"/>
            <p:cNvSpPr/>
            <p:nvPr/>
          </p:nvSpPr>
          <p:spPr>
            <a:xfrm>
              <a:off x="71640" y="1700280"/>
              <a:ext cx="15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Н.ви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Line 19"/>
          <p:cNvSpPr/>
          <p:nvPr/>
        </p:nvSpPr>
        <p:spPr>
          <a:xfrm>
            <a:off x="1908000" y="1557360"/>
            <a:ext cx="597708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8360" y="407664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ует, рисовал, нарисовал,  будет рисовать,      нарису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500120" y="16430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су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193400" y="378000"/>
            <a:ext cx="6406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глаголов по вре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9200" y="1962000"/>
            <a:ext cx="9056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дачи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Закрепить знания  о глаг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репить умение определять время глаго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 Развивать умение анализировать св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948360" y="1341360"/>
            <a:ext cx="189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3"/>
          <p:cNvSpPr/>
          <p:nvPr/>
        </p:nvSpPr>
        <p:spPr>
          <a:xfrm flipH="1">
            <a:off x="755640" y="1989000"/>
            <a:ext cx="138600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"/>
          <p:cNvSpPr/>
          <p:nvPr/>
        </p:nvSpPr>
        <p:spPr>
          <a:xfrm>
            <a:off x="2268360" y="2060640"/>
            <a:ext cx="129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2370240" y="1989000"/>
            <a:ext cx="1049400" cy="18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5940360" y="1989000"/>
            <a:ext cx="100800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7093080" y="1989000"/>
            <a:ext cx="86364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291280" y="403920"/>
            <a:ext cx="337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вершенны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кр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к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79280" y="3933000"/>
            <a:ext cx="16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в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332000" y="2219760"/>
            <a:ext cx="165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в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7308000" y="2923200"/>
            <a:ext cx="14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2124000" y="361620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в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слыш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5292000" y="2996280"/>
            <a:ext cx="162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в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24000" y="88560"/>
            <a:ext cx="41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совершенны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и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делать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ыш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533160" y="1268280"/>
            <a:ext cx="720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. вид – слышать – слышу, слыш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у слы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вид -  крикнуть – крикнул, крик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7164360" y="1268280"/>
            <a:ext cx="360000" cy="216000"/>
            <a:chOff x="7164360" y="1268280"/>
            <a:chExt cx="360000" cy="216000"/>
          </a:xfrm>
        </p:grpSpPr>
        <p:sp>
          <p:nvSpPr>
            <p:cNvPr id="155" name="Line 5"/>
            <p:cNvSpPr/>
            <p:nvPr/>
          </p:nvSpPr>
          <p:spPr>
            <a:xfrm flipV="1">
              <a:off x="7164360" y="1268280"/>
              <a:ext cx="216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 flipH="1" flipV="1">
              <a:off x="7380000" y="126828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"/>
          <p:cNvGrpSpPr/>
          <p:nvPr/>
        </p:nvGrpSpPr>
        <p:grpSpPr>
          <a:xfrm>
            <a:off x="4572000" y="1773000"/>
            <a:ext cx="360000" cy="215640"/>
            <a:chOff x="4572000" y="1773000"/>
            <a:chExt cx="360000" cy="215640"/>
          </a:xfrm>
        </p:grpSpPr>
        <p:sp>
          <p:nvSpPr>
            <p:cNvPr id="158" name="Line 9"/>
            <p:cNvSpPr/>
            <p:nvPr/>
          </p:nvSpPr>
          <p:spPr>
            <a:xfrm flipV="1">
              <a:off x="4572000" y="1773000"/>
              <a:ext cx="21600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 flipH="1" flipV="1">
              <a:off x="4787640" y="1773000"/>
              <a:ext cx="1443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5580000" y="2708280"/>
            <a:ext cx="288360" cy="216000"/>
            <a:chOff x="5580000" y="2708280"/>
            <a:chExt cx="288360" cy="216000"/>
          </a:xfrm>
        </p:grpSpPr>
        <p:sp>
          <p:nvSpPr>
            <p:cNvPr id="161" name="Line 12"/>
            <p:cNvSpPr/>
            <p:nvPr/>
          </p:nvSpPr>
          <p:spPr>
            <a:xfrm flipV="1">
              <a:off x="5580000" y="2708280"/>
              <a:ext cx="1731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 flipH="1" flipV="1">
              <a:off x="5752800" y="2708280"/>
              <a:ext cx="1155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14"/>
          <p:cNvSpPr/>
          <p:nvPr/>
        </p:nvSpPr>
        <p:spPr>
          <a:xfrm>
            <a:off x="7113600" y="2801880"/>
            <a:ext cx="433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435640" y="1341360"/>
            <a:ext cx="433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881280" y="372960"/>
            <a:ext cx="34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ись  в тетрадя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7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858000" y="4508640"/>
            <a:ext cx="2033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772000" y="119700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07s"/>
          <p:cNvPicPr/>
          <p:nvPr/>
        </p:nvPicPr>
        <p:blipFill>
          <a:blip r:embed="rId2"/>
          <a:stretch/>
        </p:blipFill>
        <p:spPr>
          <a:xfrm>
            <a:off x="2700360" y="2708280"/>
            <a:ext cx="34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: писать, курица, сильный, едешь, сказать, езда, учительница, учить, ненавидеть, петь, пес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группа: зовут, пойти, ходить, учить, плакать, зажечь, собираю, дует, читаешь, дружим, прож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051640" y="0"/>
            <a:ext cx="51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 в  групп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5880" y="864720"/>
            <a:ext cx="90108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вая групп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реется – что сделает? б. вр., с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студишь – что сделаешь? б. вр., с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торая груп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ри  – что делай? н. вр. ,н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чувствуешь –что сделаешь? б.вр., с.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етья груп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ёрз - что сделал?  п. вр., с.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греть  - что сделать?   б.вр., с. ви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Глагол, ИСПРАВЛ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318440" y="4365720"/>
            <a:ext cx="1825560" cy="19159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4"/>
          <p:cNvSpPr/>
          <p:nvPr/>
        </p:nvSpPr>
        <p:spPr>
          <a:xfrm>
            <a:off x="0" y="2786040"/>
            <a:ext cx="8929800" cy="1643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0" y="4643280"/>
            <a:ext cx="8929800" cy="1643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Попрыгунья Стре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Лето красное ……….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Оглянуться 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Как зима……. в гл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И.А.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(катит, не успела, проп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360" y="692280"/>
            <a:ext cx="8064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тавь  пропущенные  слов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400800" y="1981080"/>
          <a:ext cx="2743200" cy="4381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1981080"/>
                    <a:ext cx="27432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1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Какое из данных слов является глаго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робежка, Б) пробег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бег,            Г) бе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какими глаголами частиц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шется сли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(не)пишет,   Б)  (не) уме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(не)боится,   Г)  (не)вз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 Укажите глаголы 1 спря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тро…ть, Б) кле…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бид…ть, Г) шаг…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каком ответе перечислены окончания только 2 спря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–ит, -ем, -ют, Б) –им, -ут, -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–ат, -ешь, -ет, Г) –ите, -ишь, -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т_ тради по ру _  кому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_зыку  поселилась клякса. Это была в_ сёлая и упрямая клякса. Её ф_ олетовая    _дежда никак не хотела стираться. Клякса совсем замучила дев _ ч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268360" y="620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724360" y="6922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611280" y="1413000"/>
            <a:ext cx="43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3059280" y="198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4859280" y="2637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332000" y="3357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5724360" y="4653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508200"/>
            <a:ext cx="822960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a0a1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50920" y="836640"/>
          <a:ext cx="8785080" cy="6043680"/>
        </p:xfrm>
        <a:graphic>
          <a:graphicData uri="http://schemas.openxmlformats.org/drawingml/2006/table">
            <a:tbl>
              <a:tblPr/>
              <a:tblGrid>
                <a:gridCol w="3816360"/>
                <a:gridCol w="504720"/>
                <a:gridCol w="3816360"/>
                <a:gridCol w="647640"/>
              </a:tblGrid>
              <a:tr h="1303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НДИВИДУАЛЬНОЙ ДЕЯТЕЛЬНОСТИ НА УРОКЕ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МЕ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ГЛАГОЛОВ ПО ВРЕМЕНИ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 ___________________________   Имя 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задание выполнил(а) верно, без затруд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испытывал(а) тру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глагола как часть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глаголы в тек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кие вопросы отвечает 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вать к ним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пределить вид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вид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пределить время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время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группа: писать, верить, убрать, написать, лететь, убирать, вылететь, поверить, за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группа: удивля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лыба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может слу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группа: ведем, жгут, смотрят, читаешь, дарим, кормят, слушаешь, уважают, дышать, видеть, из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группа: читает, писал, думай, слушал бы, поел, рисует, красил бы, помог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ай, не думал, поу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9"/>
          <p:cNvSpPr txBox="1"/>
          <p:nvPr/>
        </p:nvSpPr>
        <p:spPr>
          <a:xfrm>
            <a:off x="395280" y="4581360"/>
            <a:ext cx="874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рис  вать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067280" y="5445000"/>
            <a:ext cx="792000" cy="719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3924360" y="4653000"/>
            <a:ext cx="93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22764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250920" y="404640"/>
            <a:ext cx="8424720" cy="4076640"/>
            <a:chOff x="250920" y="404640"/>
            <a:chExt cx="8424720" cy="4076640"/>
          </a:xfrm>
        </p:grpSpPr>
        <p:pic>
          <p:nvPicPr>
            <p:cNvPr id="54" name="Picture 17" descr="ирис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384948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15"/>
            <p:cNvSpPr txBox="1"/>
            <p:nvPr/>
          </p:nvSpPr>
          <p:spPr>
            <a:xfrm>
              <a:off x="826920" y="837720"/>
              <a:ext cx="430200" cy="6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6" name="WordArt 19"/>
            <p:cNvSpPr txBox="1"/>
            <p:nvPr/>
          </p:nvSpPr>
          <p:spPr>
            <a:xfrm>
              <a:off x="3130560" y="404640"/>
              <a:ext cx="2592360" cy="314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57" name="WordArt 20"/>
            <p:cNvSpPr txBox="1"/>
            <p:nvPr/>
          </p:nvSpPr>
          <p:spPr>
            <a:xfrm>
              <a:off x="4118040" y="1485720"/>
              <a:ext cx="574560" cy="73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21"/>
            <p:cNvSpPr txBox="1"/>
            <p:nvPr/>
          </p:nvSpPr>
          <p:spPr>
            <a:xfrm>
              <a:off x="5867280" y="765000"/>
              <a:ext cx="2808360" cy="273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39640" y="500040"/>
            <a:ext cx="8604360" cy="3751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ображать, воспроизводить предметы на плоскости (карандашом, красками, углём, пером, акварелью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И. 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Словарь рус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324000" y="260280"/>
            <a:ext cx="38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Рисовать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500720" y="78588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art"/>
          <p:cNvPicPr/>
          <p:nvPr/>
        </p:nvPicPr>
        <p:blipFill>
          <a:blip r:embed="rId2"/>
          <a:srcRect l="11187" t="3666" r="0" b="0"/>
          <a:stretch/>
        </p:blipFill>
        <p:spPr>
          <a:xfrm>
            <a:off x="900000" y="3860640"/>
            <a:ext cx="2257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1908000" y="40464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1280" y="1214280"/>
            <a:ext cx="90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немецкого слов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is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«рисоват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rt"/>
          <p:cNvPicPr/>
          <p:nvPr/>
        </p:nvPicPr>
        <p:blipFill>
          <a:blip r:embed="rId2"/>
          <a:srcRect l="11187" t="3666" r="0" b="0"/>
          <a:stretch/>
        </p:blipFill>
        <p:spPr>
          <a:xfrm>
            <a:off x="3419640" y="2997360"/>
            <a:ext cx="22572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189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ишите слово, разделите на слоги, поставьте ударение, выделите орфограмм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571680" y="2571840"/>
            <a:ext cx="7532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и - со - в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539640" y="4365720"/>
            <a:ext cx="360360" cy="119376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857680" y="464328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98520" y="3500280"/>
            <a:ext cx="34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нскрип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7857720" y="4357440"/>
            <a:ext cx="360360" cy="1222200"/>
          </a:xfrm>
          <a:custGeom>
            <a:avLst/>
            <a:gdLst>
              <a:gd name="textAreaLeft" fmla="*/ 105840 w 360360"/>
              <a:gd name="textAreaRight" fmla="*/ 360720 w 36036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286680" y="164304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786280" y="3714840"/>
            <a:ext cx="6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755640" y="4653000"/>
            <a:ext cx="7444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4786200" y="4714920"/>
            <a:ext cx="5000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3786120" y="4654440"/>
            <a:ext cx="644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1428840" y="4500720"/>
            <a:ext cx="21420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WordArt 17"/>
          <p:cNvSpPr txBox="1"/>
          <p:nvPr/>
        </p:nvSpPr>
        <p:spPr>
          <a:xfrm>
            <a:off x="5726160" y="47149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9" name="WordArt 18"/>
          <p:cNvSpPr txBox="1"/>
          <p:nvPr/>
        </p:nvSpPr>
        <p:spPr>
          <a:xfrm>
            <a:off x="6715080" y="47149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3929040" y="32860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1857240" y="4643280"/>
            <a:ext cx="615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2" name="WordArt 15"/>
          <p:cNvSpPr txBox="1"/>
          <p:nvPr/>
        </p:nvSpPr>
        <p:spPr>
          <a:xfrm>
            <a:off x="7358040" y="4572000"/>
            <a:ext cx="21420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332000" y="692280"/>
            <a:ext cx="662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окоре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5800" y="1785960"/>
            <a:ext cx="83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сунок,  рисованный, рисовальщ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Художнику"/>
          <p:cNvPicPr/>
          <p:nvPr/>
        </p:nvPicPr>
        <p:blipFill>
          <a:blip r:embed="rId2"/>
          <a:stretch/>
        </p:blipFill>
        <p:spPr>
          <a:xfrm>
            <a:off x="1187280" y="321300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53:13Z</dcterms:created>
  <dc:creator>Lilu</dc:creator>
  <dc:description/>
  <dc:language>en-US</dc:language>
  <cp:lastModifiedBy>One</cp:lastModifiedBy>
  <dcterms:modified xsi:type="dcterms:W3CDTF">2012-02-01T13:05:54Z</dcterms:modified>
  <cp:revision>32</cp:revision>
  <dc:subject/>
  <dc:title>Слайд 1</dc:title>
</cp:coreProperties>
</file>