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33.png" ContentType="image/png"/>
  <Override PartName="/ppt/media/image53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37.png" ContentType="image/png"/>
  <Override PartName="/ppt/media/image34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38.jpeg" ContentType="image/jpeg"/>
  <Override PartName="/ppt/media/image7.jpeg" ContentType="image/jpeg"/>
  <Override PartName="/ppt/media/image4.png" ContentType="image/png"/>
  <Override PartName="/ppt/media/image36.jpeg" ContentType="image/jpeg"/>
  <Override PartName="/ppt/media/image20.png" ContentType="image/png"/>
  <Override PartName="/ppt/media/image51.jpeg" ContentType="image/jpeg"/>
  <Override PartName="/ppt/media/image28.jpeg" ContentType="image/jpeg"/>
  <Override PartName="/ppt/media/image11.jpeg" ContentType="image/jpeg"/>
  <Override PartName="/ppt/media/image87.jpeg" ContentType="image/jpeg"/>
  <Override PartName="/ppt/media/image9.jpeg" ContentType="image/jpeg"/>
  <Override PartName="/ppt/media/image6.jpeg" ContentType="image/jpeg"/>
  <Override PartName="/ppt/media/image50.jpeg" ContentType="image/jpeg"/>
  <Override PartName="/ppt/media/image8.jpeg" ContentType="image/jpeg"/>
  <Override PartName="/ppt/media/image39.jpeg" ContentType="image/jpeg"/>
  <Override PartName="/ppt/media/image3.png" ContentType="image/png"/>
  <Override PartName="/ppt/media/image56.jpeg" ContentType="image/jpeg"/>
  <Override PartName="/ppt/media/image24.jpeg" ContentType="image/jpeg"/>
  <Override PartName="/ppt/media/image83.jpeg" ContentType="image/jpeg"/>
  <Override PartName="/ppt/media/image77.png" ContentType="image/png"/>
  <Override PartName="/ppt/media/image16.jpeg" ContentType="image/jpeg"/>
  <Override PartName="/ppt/media/image61.jpeg" ContentType="image/jpeg"/>
  <Override PartName="/ppt/media/image74.png" ContentType="image/png"/>
  <Override PartName="/ppt/media/image78.jpeg" ContentType="image/jpeg"/>
  <Override PartName="/ppt/media/image5.jpeg" ContentType="image/jpeg"/>
  <Override PartName="/ppt/media/image60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9.jpeg" ContentType="image/jpeg"/>
  <Override PartName="/ppt/media/image75.png" ContentType="image/png"/>
  <Override PartName="/ppt/media/image81.jpeg" ContentType="image/jpeg"/>
  <Override PartName="/ppt/media/image22.jpeg" ContentType="image/jpeg"/>
  <Override PartName="/ppt/media/image91.jpeg" ContentType="image/jpeg"/>
  <Override PartName="/ppt/media/image64.jpeg" ContentType="image/jpeg"/>
  <Override PartName="/ppt/media/image89.jpeg" ContentType="image/jpeg"/>
  <Override PartName="/ppt/media/image14.jpeg" ContentType="image/jpeg"/>
  <Override PartName="/ppt/media/image41.jpeg" ContentType="image/jpeg"/>
  <Override PartName="/ppt/media/image65.jpeg" ContentType="image/jpeg"/>
  <Override PartName="/ppt/media/image49.png" ContentType="image/png"/>
  <Override PartName="/ppt/media/image82.jpeg" ContentType="image/jpeg"/>
  <Override PartName="/ppt/media/image23.jpeg" ContentType="image/jpeg"/>
  <Override PartName="/ppt/media/image67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76.png" ContentType="image/png"/>
  <Override PartName="/ppt/media/image66.jpeg" ContentType="image/jpeg"/>
  <Override PartName="/ppt/media/image70.jpeg" ContentType="image/jpeg"/>
  <Override PartName="/ppt/media/image80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84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17.jpeg" ContentType="image/jpeg"/>
  <Override PartName="/ppt/media/image13.jpeg" ContentType="image/jpeg"/>
  <Override PartName="/ppt/media/image40.jpeg" ContentType="image/jpeg"/>
  <Override PartName="/ppt/media/image85.jpeg" ContentType="image/jpeg"/>
  <Override PartName="/ppt/media/image26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10.jpeg" ContentType="image/jpeg"/>
  <Override PartName="/ppt/media/image86.jpeg" ContentType="image/jpeg"/>
  <Override PartName="/ppt/media/image2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dt" idx="11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F18B7-383D-4CA8-A31F-9DF2A9682C1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Здравствуйт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Меня зовут Аня Торопецкая и я хочу представить вам свой проект на тему «Жир и мыло: единство или борьба?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C8FE2-FEE2-4683-84C4-1EC4216E2F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15968"/>
                </a:solidFill>
                <a:latin typeface="Arial"/>
                <a:ea typeface="Arial"/>
              </a:rPr>
              <a:t>Мы решили провести несколько экспериментов с жиром и мылом и посмотреть как изменятся их свойств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05A16-4A36-4133-8899-129F713266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В первом эксперименте мы подвергли мыло и жир воздействию огня.</a:t>
            </a:r>
            <a:br>
              <a:rPr sz="1200"/>
            </a:br>
            <a:r>
              <a:rPr b="0" lang="ru-RU" sz="1200" spc="-1" strike="noStrike">
                <a:solidFill>
                  <a:srgbClr val="215968"/>
                </a:solidFill>
                <a:latin typeface="Arial"/>
                <a:ea typeface="Arial"/>
              </a:rPr>
              <a:t>Над фитилем мы подержали кусочек мыла. С мылом ничего не произошл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15968"/>
                </a:solidFill>
                <a:latin typeface="Arial"/>
                <a:ea typeface="Arial"/>
              </a:rPr>
              <a:t>После этого над фитилем мы подержали кусочек жира.  Жир начал плавиться и появилось плам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215968"/>
                </a:solidFill>
                <a:latin typeface="Arial"/>
                <a:ea typeface="Arial"/>
              </a:rPr>
              <a:t>Из чего мы сделали вывод, что жир горит, а мыло – н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46CDF-B80A-471F-A5F3-B9F5C95A86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603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Во втором эксперименте мы в стак</a:t>
            </a:r>
            <a:r>
              <a:rPr b="0" lang="ru-RU" sz="2000" spc="-1" strike="noStrike">
                <a:solidFill>
                  <a:srgbClr val="215968"/>
                </a:solidFill>
                <a:latin typeface="Arial"/>
                <a:ea typeface="Arial"/>
              </a:rPr>
              <a:t>ан воды капнули несколько капель подсолнечного масла. </a:t>
            </a:r>
            <a:br>
              <a:rPr sz="2000"/>
            </a:br>
            <a:r>
              <a:rPr b="0" lang="ru-RU" sz="2000" spc="-1" strike="noStrike">
                <a:solidFill>
                  <a:srgbClr val="215968"/>
                </a:solidFill>
                <a:latin typeface="Arial"/>
                <a:ea typeface="Arial"/>
              </a:rPr>
              <a:t>Капли масла так и остались на поверхности вод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3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15968"/>
                </a:solidFill>
                <a:latin typeface="Arial"/>
                <a:ea typeface="Arial"/>
              </a:rPr>
              <a:t>В другой стакан с водой мы бросили небольшой кусочек мыл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3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15968"/>
                </a:solidFill>
                <a:latin typeface="Arial"/>
                <a:ea typeface="Arial"/>
              </a:rPr>
              <a:t>Мыло сразу опустилось на дно стака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60360" indent="0">
              <a:lnSpc>
                <a:spcPct val="100000"/>
              </a:lnSpc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15968"/>
                </a:solidFill>
                <a:latin typeface="Arial"/>
                <a:ea typeface="Arial"/>
              </a:rPr>
              <a:t>Вывод эксперимента: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Жир плавает в воде, мыло – н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81CF9-16C0-4F2D-8F8A-46B93044EC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В следующем эксперименте мы решили подогреть кусочек жира и кусочек мыла в кастрюле на плит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Жир через какое то время начал плавится, а с мылом ничего не произошл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Из этого эксперимента мы сделали вывод, что жир плавится, а мыло – 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282B9-AF87-4502-A475-042A183015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60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 Unicode MS"/>
              </a:rPr>
              <a:t>В последнем эксперименте мы в</a:t>
            </a:r>
            <a:r>
              <a:rPr b="0" lang="ru-RU" sz="1700" spc="-1" strike="noStrike">
                <a:solidFill>
                  <a:srgbClr val="215968"/>
                </a:solidFill>
                <a:latin typeface="Arial"/>
                <a:ea typeface="Arial"/>
              </a:rPr>
              <a:t> посуду с теплой водой опустили кусочек мыла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215968"/>
                </a:solidFill>
                <a:latin typeface="Arial"/>
                <a:ea typeface="Arial"/>
              </a:rPr>
              <a:t>Немного помешали и увидели, что мыло начало растворяться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215968"/>
                </a:solidFill>
                <a:latin typeface="Arial"/>
                <a:ea typeface="Arial"/>
              </a:rPr>
              <a:t>В другую посуду мы налили немного оливкового масла. </a:t>
            </a:r>
            <a:br>
              <a:rPr sz="1700"/>
            </a:br>
            <a:r>
              <a:rPr b="0" lang="ru-RU" sz="1700" spc="-1" strike="noStrike">
                <a:solidFill>
                  <a:srgbClr val="215968"/>
                </a:solidFill>
                <a:latin typeface="Arial"/>
                <a:ea typeface="Arial"/>
              </a:rPr>
              <a:t>Масло не растворилось и осталось на поверхности воды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360360" indent="0">
              <a:lnSpc>
                <a:spcPct val="80000"/>
              </a:lnSpc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215968"/>
                </a:solidFill>
                <a:latin typeface="Arial"/>
                <a:ea typeface="Arial"/>
              </a:rPr>
              <a:t>Вывод эксперимента: </a:t>
            </a:r>
            <a:r>
              <a:rPr b="0" lang="ru-RU" sz="1700" spc="-1" strike="noStrike">
                <a:solidFill>
                  <a:srgbClr val="c00000"/>
                </a:solidFill>
                <a:latin typeface="Arial"/>
                <a:ea typeface="Arial"/>
              </a:rPr>
              <a:t>Мыло растворимо в воде, жир – нет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3F6DA-47D5-47E2-B79B-578E9E580E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После экспериментов, мы решили посмотреть, как выглядит капля жира и мыла под микроскоп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И вот что мы увиде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79647-DD46-4EE8-A4B7-A019B7F284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Также мы провели опрос среди родителей и выяснили как часто они моют руки, какое мыло для этого используют и знают ли они, что в мыле есть жи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54887-D2D5-44D2-A1C5-70492F9A0A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По результатам опроса мы сделали вывод, что чаще всего родители пользуются обычным туалетным мылом и мылом детски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Так же очень популярно мыло жидко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E2843-FBCF-4764-8CAE-850785C131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603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15968"/>
                </a:solidFill>
                <a:latin typeface="Arial"/>
                <a:ea typeface="Arial"/>
              </a:rPr>
              <a:t>Роль жира и мыла в жизни человека и природы </a:t>
            </a:r>
            <a:r>
              <a:rPr b="0" lang="ru-RU" sz="1200" spc="-1" strike="noStrike">
                <a:solidFill>
                  <a:srgbClr val="c00000"/>
                </a:solidFill>
                <a:latin typeface="Arial"/>
                <a:ea typeface="Arial"/>
              </a:rPr>
              <a:t>ОГРОМН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3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15968"/>
                </a:solidFill>
                <a:latin typeface="Arial"/>
                <a:ea typeface="Arial"/>
              </a:rPr>
              <a:t>Жиры входят в состав организмов животных и растени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3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15968"/>
                </a:solidFill>
                <a:latin typeface="Arial"/>
                <a:ea typeface="Arial"/>
              </a:rPr>
              <a:t>Попадая с пищей внутрь организма человека, жиры являются для него основным источником энерг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ECA73-9E7A-4413-85D5-EE971675C1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603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15968"/>
                </a:solidFill>
                <a:latin typeface="Arial"/>
                <a:ea typeface="Arial"/>
              </a:rPr>
              <a:t>Но, попадая на одежду и смешиваясь с пылью, становятся ее загрязнителя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3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15968"/>
                </a:solidFill>
                <a:latin typeface="Arial"/>
                <a:ea typeface="Arial"/>
              </a:rPr>
              <a:t>Получаемые из жиров мыла помогают нам вернуть чисто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722DA-E914-470A-B6E2-EEB42CC3EF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Тема для проекта была выбрана мной не случайн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Сталкиваясь в жизни с известными тебе вещами, можно узнать о них еще много чего неизвестно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F0485-BD88-43E6-AB25-8B3584D909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603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15968"/>
                </a:solidFill>
                <a:latin typeface="Arial"/>
                <a:ea typeface="Arial"/>
              </a:rPr>
              <a:t>Тема жира и мыла не раз затрагивается в пословицах и поговорках, в стихах и загад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3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15968"/>
                </a:solidFill>
                <a:latin typeface="Arial"/>
                <a:ea typeface="Arial"/>
              </a:rPr>
              <a:t>В качестве примера, приведу некоторые из ни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828E9-4CBA-41B6-B94C-5FF28A1E9D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60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Arial"/>
                <a:ea typeface="Arial"/>
              </a:rPr>
              <a:t>ЗАГАДКА ПРО МЫЛО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2" marL="606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215968"/>
                </a:solidFill>
                <a:latin typeface="Arial"/>
                <a:ea typeface="Arial"/>
              </a:rPr>
              <a:t>Пузыри пускало,</a:t>
            </a:r>
            <a:br>
              <a:rPr sz="1900"/>
            </a:br>
            <a:r>
              <a:rPr b="0" lang="ru-RU" sz="1900" spc="-1" strike="noStrike">
                <a:solidFill>
                  <a:srgbClr val="215968"/>
                </a:solidFill>
                <a:latin typeface="Arial"/>
                <a:ea typeface="Arial"/>
              </a:rPr>
              <a:t>Пеной кверху лезло, - </a:t>
            </a:r>
            <a:br>
              <a:rPr sz="1900"/>
            </a:br>
            <a:r>
              <a:rPr b="0" lang="ru-RU" sz="1900" spc="-1" strike="noStrike">
                <a:solidFill>
                  <a:srgbClr val="215968"/>
                </a:solidFill>
                <a:latin typeface="Arial"/>
                <a:ea typeface="Arial"/>
              </a:rPr>
              <a:t>И его  не стало,</a:t>
            </a:r>
            <a:br>
              <a:rPr sz="1900"/>
            </a:br>
            <a:r>
              <a:rPr b="0" lang="ru-RU" sz="1900" spc="-1" strike="noStrike">
                <a:solidFill>
                  <a:srgbClr val="215968"/>
                </a:solidFill>
                <a:latin typeface="Arial"/>
                <a:ea typeface="Arial"/>
              </a:rPr>
              <a:t>Вдруг оно исчезло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Arial"/>
                <a:ea typeface="Arial"/>
              </a:rPr>
              <a:t>СТИХОТВОРЕНИЕ ПРО МЫЛО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2" marL="606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215968"/>
                </a:solidFill>
                <a:latin typeface="Arial"/>
                <a:ea typeface="Arial"/>
              </a:rPr>
              <a:t>Вот с такими он словами</a:t>
            </a:r>
            <a:br>
              <a:rPr sz="1900"/>
            </a:br>
            <a:r>
              <a:rPr b="0" lang="ru-RU" sz="1900" spc="-1" strike="noStrike">
                <a:solidFill>
                  <a:srgbClr val="215968"/>
                </a:solidFill>
                <a:latin typeface="Arial"/>
                <a:ea typeface="Arial"/>
              </a:rPr>
              <a:t>Прибежал однажды к маме:</a:t>
            </a:r>
            <a:br>
              <a:rPr sz="1900"/>
            </a:br>
            <a:r>
              <a:rPr b="0" lang="ru-RU" sz="1900" spc="-1" strike="noStrike">
                <a:solidFill>
                  <a:srgbClr val="215968"/>
                </a:solidFill>
                <a:latin typeface="Arial"/>
                <a:ea typeface="Arial"/>
              </a:rPr>
              <a:t>- Если руки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 Unicode MS"/>
              </a:rPr>
              <a:t>   </a:t>
            </a:r>
            <a:r>
              <a:rPr b="0" lang="ru-RU" sz="1900" spc="-1" strike="noStrike">
                <a:solidFill>
                  <a:srgbClr val="215968"/>
                </a:solidFill>
                <a:latin typeface="Arial"/>
                <a:ea typeface="Arial"/>
              </a:rPr>
              <a:t>мыли </a:t>
            </a:r>
            <a:r>
              <a:rPr b="1" lang="ru-RU" sz="1900" spc="-1" strike="noStrike" u="sng">
                <a:solidFill>
                  <a:srgbClr val="215968"/>
                </a:solidFill>
                <a:uFillTx/>
                <a:latin typeface="Arial"/>
                <a:ea typeface="Arial"/>
              </a:rPr>
              <a:t>ВЫ</a:t>
            </a:r>
            <a:r>
              <a:rPr b="0" lang="ru-RU" sz="1900" spc="-1" strike="noStrike">
                <a:solidFill>
                  <a:srgbClr val="215968"/>
                </a:solidFill>
                <a:latin typeface="Arial"/>
                <a:ea typeface="Arial"/>
              </a:rPr>
              <a:t>,</a:t>
            </a:r>
            <a:br>
              <a:rPr sz="1900"/>
            </a:br>
            <a:r>
              <a:rPr b="0" lang="ru-RU" sz="1900" spc="-1" strike="noStrike">
                <a:solidFill>
                  <a:srgbClr val="215968"/>
                </a:solidFill>
                <a:latin typeface="Arial"/>
                <a:ea typeface="Arial"/>
              </a:rPr>
              <a:t>- Если руки</a:t>
            </a:r>
            <a:br>
              <a:rPr sz="1900"/>
            </a:br>
            <a:r>
              <a:rPr b="0" lang="ru-RU" sz="1900" spc="-1" strike="noStrike">
                <a:solidFill>
                  <a:srgbClr val="215968"/>
                </a:solidFill>
                <a:latin typeface="Arial"/>
                <a:ea typeface="Arial"/>
              </a:rPr>
              <a:t>  моем </a:t>
            </a:r>
            <a:r>
              <a:rPr b="1" lang="ru-RU" sz="1900" spc="-1" strike="noStrike" u="sng">
                <a:solidFill>
                  <a:srgbClr val="215968"/>
                </a:solidFill>
                <a:uFillTx/>
                <a:latin typeface="Arial"/>
                <a:ea typeface="Arial"/>
              </a:rPr>
              <a:t>МЫ</a:t>
            </a:r>
            <a:r>
              <a:rPr b="0" lang="ru-RU" sz="1900" spc="-1" strike="noStrike">
                <a:solidFill>
                  <a:srgbClr val="215968"/>
                </a:solidFill>
                <a:latin typeface="Arial"/>
                <a:ea typeface="Arial"/>
              </a:rPr>
              <a:t>,</a:t>
            </a:r>
            <a:br>
              <a:rPr sz="1900"/>
            </a:br>
            <a:r>
              <a:rPr b="0" lang="ru-RU" sz="1900" spc="-1" strike="noStrike">
                <a:solidFill>
                  <a:srgbClr val="215968"/>
                </a:solidFill>
                <a:latin typeface="Arial"/>
                <a:ea typeface="Arial"/>
              </a:rPr>
              <a:t>- Если руки</a:t>
            </a:r>
            <a:br>
              <a:rPr sz="1900"/>
            </a:br>
            <a:r>
              <a:rPr b="0" lang="ru-RU" sz="1900" spc="-1" strike="noStrike">
                <a:solidFill>
                  <a:srgbClr val="215968"/>
                </a:solidFill>
                <a:latin typeface="Arial"/>
                <a:ea typeface="Arial"/>
              </a:rPr>
              <a:t>  моешь </a:t>
            </a:r>
            <a:r>
              <a:rPr b="1" lang="ru-RU" sz="1900" spc="-1" strike="noStrike" u="sng">
                <a:solidFill>
                  <a:srgbClr val="215968"/>
                </a:solidFill>
                <a:uFillTx/>
                <a:latin typeface="Arial"/>
                <a:ea typeface="Arial"/>
              </a:rPr>
              <a:t>ТЫ</a:t>
            </a:r>
            <a:r>
              <a:rPr b="0" lang="ru-RU" sz="1900" spc="-1" strike="noStrike">
                <a:solidFill>
                  <a:srgbClr val="215968"/>
                </a:solidFill>
                <a:latin typeface="Arial"/>
                <a:ea typeface="Arial"/>
              </a:rPr>
              <a:t>,</a:t>
            </a:r>
            <a:br>
              <a:rPr sz="1900"/>
            </a:br>
            <a:r>
              <a:rPr b="0" lang="ru-RU" sz="1900" spc="-1" strike="noStrike">
                <a:solidFill>
                  <a:srgbClr val="215968"/>
                </a:solidFill>
                <a:latin typeface="Arial"/>
                <a:ea typeface="Arial"/>
              </a:rPr>
              <a:t>Значит, руки</a:t>
            </a:r>
            <a:br>
              <a:rPr sz="1900"/>
            </a:br>
            <a:r>
              <a:rPr b="1" lang="ru-RU" sz="1900" spc="-1" strike="noStrike" u="sng">
                <a:solidFill>
                  <a:srgbClr val="215968"/>
                </a:solidFill>
                <a:uFillTx/>
                <a:latin typeface="Arial"/>
                <a:ea typeface="Arial"/>
              </a:rPr>
              <a:t>ВЫ-МЫ-ТЫ.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B3C06-B592-47B9-A90F-049AE0A38D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603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  <a:ea typeface="Arial"/>
              </a:rPr>
              <a:t>ПОГОВОРКИ ПРО МЫЛ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603360">
              <a:lnSpc>
                <a:spcPct val="100000"/>
              </a:lnSpc>
              <a:spcBef>
                <a:spcPts val="326"/>
              </a:spcBef>
              <a:buClr>
                <a:srgbClr val="215968"/>
              </a:buClr>
              <a:buFont typeface="Wingdings" charset="2"/>
              <a:buChar char="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15968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215968"/>
                </a:solidFill>
                <a:latin typeface="Arial"/>
                <a:ea typeface="Arial"/>
              </a:rPr>
              <a:t>Было мыло, стало сало. Сало было, стало мыл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03360">
              <a:lnSpc>
                <a:spcPct val="100000"/>
              </a:lnSpc>
              <a:spcBef>
                <a:spcPts val="326"/>
              </a:spcBef>
              <a:buClr>
                <a:srgbClr val="215968"/>
              </a:buClr>
              <a:buFont typeface="Wingdings" charset="2"/>
              <a:buChar char="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15968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215968"/>
                </a:solidFill>
                <a:latin typeface="Arial"/>
                <a:ea typeface="Arial"/>
              </a:rPr>
              <a:t>Мыло серо, да моет бел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3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  <a:ea typeface="Arial"/>
              </a:rPr>
              <a:t>ПОСЛОВИЦЫ И ПОГОВОРКИ ПРО МАСЛ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603360">
              <a:lnSpc>
                <a:spcPct val="100000"/>
              </a:lnSpc>
              <a:spcBef>
                <a:spcPts val="326"/>
              </a:spcBef>
              <a:buClr>
                <a:srgbClr val="215968"/>
              </a:buClr>
              <a:buFont typeface="Wingdings" charset="2"/>
              <a:buChar char="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15968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215968"/>
                </a:solidFill>
                <a:latin typeface="Arial"/>
                <a:ea typeface="Arial"/>
              </a:rPr>
              <a:t>Масло коровье, кушай на здоровье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03360">
              <a:lnSpc>
                <a:spcPct val="100000"/>
              </a:lnSpc>
              <a:spcBef>
                <a:spcPts val="326"/>
              </a:spcBef>
              <a:buClr>
                <a:srgbClr val="215968"/>
              </a:buClr>
              <a:buFont typeface="Wingdings" charset="2"/>
              <a:buChar char="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15968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215968"/>
                </a:solidFill>
                <a:latin typeface="Arial"/>
                <a:ea typeface="Arial"/>
              </a:rPr>
              <a:t>Масло с водой не смешаеш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03360">
              <a:lnSpc>
                <a:spcPct val="100000"/>
              </a:lnSpc>
              <a:spcBef>
                <a:spcPts val="326"/>
              </a:spcBef>
              <a:buClr>
                <a:srgbClr val="215968"/>
              </a:buClr>
              <a:buFont typeface="Wingdings" charset="2"/>
              <a:buChar char="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15968"/>
                </a:solidFill>
                <a:latin typeface="Arial"/>
                <a:ea typeface="Arial"/>
              </a:rPr>
              <a:t>Маслом кашу не испортиш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EA50F-B8C0-4EF1-92D4-42672213EE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Возвращаясь к теме моего проекта «Жир и мыло – это единство или борьба?» я могу с уверенностью сказать, что «Жир и мыло – это и единство, и постоянная борьба!!!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DD1C7-6E2C-49F2-9DF2-A6943B1935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1AECF-E825-4BD0-9371-E2B5B3A63E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Вопрос гигиены для человека был актуален с давних времен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Всем известно, что соблюдение личной гигиены является залогом сохранения здоровья на долгие го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F1FFD-D2D4-45D5-8E7B-100658A798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Ежедневно мы сталкиваемся со множеством источников загрязнений: поручни общественного транспорта, шерсть домашнего любимца, овощи и фрукты, клавиатура компьютера 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Этот список можно перечислять до бесконеч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Вымыв руки после улицы, магазина, общественного транспорта можно обезопасить себя от различных заболе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E9AC8-4DA0-4D19-AAFA-3AEFE1F51A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Все мы знаем, что мыло состоит из жира и щелоч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Жиры отделяют загрязнения, а щелочи их растворяю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CACE3-73E8-4ED0-99AE-FEE2D26355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В природе можно встретить жиры животного и растительного происхож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Источниками животных жиров являются живые организм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Растительные жиры мы получаем из растений. Чаще всего они бывают жидкими, и поэтому их называют маслам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Многие жиры обладают не только питательными свойствами, но еще и лечебны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E719A-6273-4684-BC3F-6FFE7A2470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Жиры являются основным источником нашего пита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Они помогают переносить нам неблагоприятные условия окружающей среды и накапливать запасы энергии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3CB32-5E9F-4733-A4CF-01E231D380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Мыло, которое получают из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жиров, используют как средство бытовой химии или как косметическое сред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Косметическими средствами мы очищаем и ухаживаем за кожей, а с помощью бытовой химии мы поддерживаем чистоту в дом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44F33-9C82-4F73-B83D-D73F41A908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Мыло эффективно избавляет кожу от грязи, пыли и бактер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Многие виды мыла благодаря специальным добавкам обладают увлажняющими, заживляющими и антибактериальными свойств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FAB9A-7B53-49BE-BC6C-3301B6BC2F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87C22-29B1-4A3F-80D1-6B842B75B4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35821-D5B4-4B5C-91B9-2E7DED1E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9C26C-2A5C-441B-BC8E-650EFDA6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2F814-874C-41A5-A626-F2CE4FC2BE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75C7A-9850-4EAB-BE10-95C9B4EC46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A7FD1-38A3-49E4-A159-09717F70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37D51-49F7-44D1-A148-3EA9F088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24332-E7FD-4F2D-B7A5-44AA380E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E1769-4A76-422E-988E-EE82E763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CAAF1-8DE6-4BB4-A513-EC4D54C6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8AB6E-0D3D-4529-83DB-5F25B561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76A39-F304-4DD5-994B-CB480425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D6B1C-AEFA-47E5-A702-6B22D616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33B74-6E23-402E-A8FB-6B36766E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A95BA-F135-4D38-B778-F5D759AE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79D12-40B9-4C67-B2EA-E3CEF3EB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087BD-0EA4-4C3D-B65F-40B60A16AC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6E12-2B97-47D3-9BFE-A3AF74E72D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4FFE-E97C-49C5-82A5-A05A98F4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03EA-5747-4F7B-AF2C-A9F8A829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95A4-9F00-4BBF-8C10-DA943667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74D8-7B4E-4CEF-94DC-EBE85E79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02160-E93C-4F81-AF07-C31A8E35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822B-626E-4991-957C-8EFD12C25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9AE6-66B9-47D1-B335-38FEE529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05E6-D1BD-4235-99B8-77AD9720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FED7-422B-4E6B-9B71-CA98CB9D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AF60-CD61-48DD-AB39-3D39740F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AE90-8773-4D8E-9272-AA274CD9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C49A-5584-414E-9461-FCFB495E95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73BFEF-310D-4744-AE49-D32F9B05A1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DCEE15-5911-4FC8-9CEC-62BDBBC8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0F5365-B2E9-46BE-BB87-3D712A3A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EF191-926A-4C2D-9F46-A5D74A1C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4BBC8E-BAF1-43BA-8067-0A710FDB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F1E0BE-E055-473D-9529-760A8E4C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837086-4BFF-46F4-A888-64FA7CA4A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BBFC38-4E3E-40B2-8631-4E273909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6DD022-8BEC-45DF-9A1B-A4295EE4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767AD8-F8F6-4354-ADF7-2B3FF6D1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684CE2-B5B3-4C21-BFF6-D87B41EF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0186D9-0C0D-4FEF-80F2-31C2FDDB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379E5F-E364-4842-BAC3-6EC8019A6D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BF97D7-F3E2-4AD7-88B8-974C87997B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DABBE-5A04-4601-A01E-DF624C05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02B33B-482C-42B5-AD69-C7919F86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55564D-C3B2-4C29-9F67-AA15D117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37F451-5C31-40A3-B4A6-D650C202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3CBDF5-2932-46EA-AFD3-2843EC02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F660A2-E160-4F78-B6AC-43F84479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4B421A-283D-4D48-8F36-75C7ED12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86AE44-3711-4C7C-AF49-31A5886B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C9C5B0-B4F4-4107-A498-3689497D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8F1A65-AA4E-473B-BE73-E203E29F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7AEC3C-9381-4CC1-93B7-E839F7C7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D7C2C-940A-46BB-A066-9788AC758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26DE65-A9D3-4A34-B9B5-61EC08F269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DFDC1-3558-4F7B-8874-5D451512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D876E-5FE4-4707-AAAF-4E98FC3D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3046F-AD76-4AA2-A217-A2F8F78D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5240" y="1036800"/>
            <a:ext cx="1166760" cy="1166760"/>
            <a:chOff x="165240" y="1036800"/>
            <a:chExt cx="1166760" cy="116676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67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51000" y="1213920"/>
              <a:ext cx="7920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1280" y="630396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E5387-42EB-4EB3-9C81-F611075D982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5240" y="1036800"/>
            <a:ext cx="1166760" cy="1166760"/>
            <a:chOff x="165240" y="1036800"/>
            <a:chExt cx="1166760" cy="116676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67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51000" y="1213920"/>
              <a:ext cx="7920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1407960"/>
            <a:ext cx="228600" cy="222480"/>
            <a:chOff x="914400" y="1407960"/>
            <a:chExt cx="228600" cy="22248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2860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6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1280" y="630396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1C874DA-3445-4B1F-AEC1-1D4ED0E8E5F3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65240" y="1036800"/>
            <a:ext cx="1166760" cy="1166760"/>
            <a:chOff x="165240" y="1036800"/>
            <a:chExt cx="1166760" cy="116676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67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40000">
              <a:off x="351000" y="1213920"/>
              <a:ext cx="7920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163600" y="2809800"/>
            <a:ext cx="228600" cy="222480"/>
            <a:chOff x="2163600" y="2809800"/>
            <a:chExt cx="228600" cy="222480"/>
          </a:xfrm>
        </p:grpSpPr>
        <p:pic>
          <p:nvPicPr>
            <p:cNvPr id="110" name="" descr=""/>
            <p:cNvPicPr/>
            <p:nvPr/>
          </p:nvPicPr>
          <p:blipFill>
            <a:blip r:embed="rId4"/>
            <a:stretch/>
          </p:blipFill>
          <p:spPr>
            <a:xfrm>
              <a:off x="2163600" y="2809800"/>
              <a:ext cx="22860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43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5"/>
          </p:nvPr>
        </p:nvSpPr>
        <p:spPr>
          <a:xfrm>
            <a:off x="3581280" y="630396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6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AC39312-BAD3-44A6-A04E-A849CF569575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65240" y="1036800"/>
            <a:ext cx="1166760" cy="1166760"/>
            <a:chOff x="165240" y="1036800"/>
            <a:chExt cx="1166760" cy="1166760"/>
          </a:xfrm>
        </p:grpSpPr>
        <p:pic>
          <p:nvPicPr>
            <p:cNvPr id="157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67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40000">
              <a:off x="351000" y="1213920"/>
              <a:ext cx="7920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3581280" y="630396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8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18BC4DB-1C4E-4A9D-9B2C-4A4722F946B0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65240" y="1036800"/>
            <a:ext cx="1166760" cy="1166760"/>
            <a:chOff x="165240" y="1036800"/>
            <a:chExt cx="1166760" cy="1166760"/>
          </a:xfrm>
        </p:grpSpPr>
        <p:pic>
          <p:nvPicPr>
            <p:cNvPr id="207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67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40000">
              <a:off x="351000" y="1213920"/>
              <a:ext cx="7920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46200" y="969840"/>
            <a:ext cx="4800600" cy="4799160"/>
            <a:chOff x="646200" y="969840"/>
            <a:chExt cx="4800600" cy="4799160"/>
          </a:xfrm>
        </p:grpSpPr>
        <p:pic>
          <p:nvPicPr>
            <p:cNvPr id="212" name="" descr=""/>
            <p:cNvPicPr/>
            <p:nvPr/>
          </p:nvPicPr>
          <p:blipFill>
            <a:blip r:embed="rId4"/>
            <a:stretch/>
          </p:blipFill>
          <p:spPr>
            <a:xfrm>
              <a:off x="646200" y="969840"/>
              <a:ext cx="4800600" cy="479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68760" cy="456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 rot="19440000">
            <a:off x="3967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rot="2100000">
            <a:off x="5003640" y="93996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9"/>
          </p:nvPr>
        </p:nvSpPr>
        <p:spPr>
          <a:xfrm>
            <a:off x="3581280" y="630396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0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D4678A5-C334-4FDE-89A4-E277899899BC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image" Target="../media/image6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image" Target="../media/image6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image" Target="../media/image82.jpeg"/><Relationship Id="rId5" Type="http://schemas.openxmlformats.org/officeDocument/2006/relationships/image" Target="../media/image8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image" Target="../media/image8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image" Target="../media/image29.jpeg"/><Relationship Id="rId12" Type="http://schemas.openxmlformats.org/officeDocument/2006/relationships/image" Target="../media/image30.jpeg"/><Relationship Id="rId13" Type="http://schemas.openxmlformats.org/officeDocument/2006/relationships/image" Target="../media/image31.jpeg"/><Relationship Id="rId14" Type="http://schemas.openxmlformats.org/officeDocument/2006/relationships/image" Target="../media/image32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image" Target="../media/image44.jpeg"/><Relationship Id="rId10" Type="http://schemas.openxmlformats.org/officeDocument/2006/relationships/image" Target="../media/image45.jpeg"/><Relationship Id="rId11" Type="http://schemas.openxmlformats.org/officeDocument/2006/relationships/image" Target="../media/image46.jpeg"/><Relationship Id="rId12" Type="http://schemas.openxmlformats.org/officeDocument/2006/relationships/image" Target="../media/image47.jpeg"/><Relationship Id="rId13" Type="http://schemas.openxmlformats.org/officeDocument/2006/relationships/image" Target="../media/image48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432080" y="1616040"/>
            <a:ext cx="74070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 Black"/>
                <a:ea typeface="Arial Unicode MS"/>
              </a:rPr>
              <a:t>ЖИР И МЫЛО: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Arial Black"/>
                <a:ea typeface="Arial Unicode MS"/>
              </a:rPr>
              <a:t>ЕДИНСТВО ИЛИ БОРЬБ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43280" y="5084640"/>
            <a:ext cx="3814920" cy="16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anchor="t">
            <a:noAutofit/>
          </a:bodyPr>
          <a:p>
            <a:pPr marL="2700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2700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320e04"/>
                </a:solidFill>
                <a:latin typeface="Arial"/>
                <a:ea typeface="Arial"/>
              </a:rPr>
              <a:t>Торопецкая Анна,</a:t>
            </a:r>
            <a:br>
              <a:rPr sz="2000"/>
            </a:br>
            <a:r>
              <a:rPr b="0" i="1" lang="ru-RU" sz="2000" spc="-1" strike="noStrike">
                <a:solidFill>
                  <a:srgbClr val="320e04"/>
                </a:solidFill>
                <a:latin typeface="Arial"/>
                <a:ea typeface="Arial"/>
              </a:rPr>
              <a:t>ученица 2 «А» класса ГБОУ СОШ №662 им. Р.Л.Дова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2700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320e04"/>
                </a:solidFill>
                <a:latin typeface="Arial"/>
                <a:ea typeface="Arial"/>
              </a:rPr>
              <a:t>Руководитель проекта Буданова Ирина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1941480" y="3429000"/>
            <a:ext cx="2486160" cy="2486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042920" y="190440"/>
            <a:ext cx="785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Изучаем свойства мыла и жи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1481040"/>
            <a:ext cx="7705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7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4600"/>
                <a:tab algn="l" pos="622440"/>
                <a:tab algn="l" pos="1071720"/>
                <a:tab algn="l" pos="1521000"/>
                <a:tab algn="l" pos="1969920"/>
                <a:tab algn="l" pos="2419200"/>
                <a:tab algn="l" pos="2868480"/>
                <a:tab algn="l" pos="3317760"/>
                <a:tab algn="l" pos="3767040"/>
                <a:tab algn="l" pos="4216320"/>
                <a:tab algn="l" pos="4665600"/>
                <a:tab algn="l" pos="5114880"/>
                <a:tab algn="l" pos="5564160"/>
                <a:tab algn="l" pos="6013440"/>
                <a:tab algn="l" pos="6462720"/>
                <a:tab algn="l" pos="6912000"/>
                <a:tab algn="l" pos="7361280"/>
                <a:tab algn="l" pos="7810560"/>
                <a:tab algn="l" pos="8259840"/>
                <a:tab algn="l" pos="8709120"/>
                <a:tab algn="l" pos="9158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b2203"/>
                </a:solidFill>
                <a:latin typeface="Arial"/>
                <a:ea typeface="Arial"/>
              </a:rPr>
              <a:t>Мы решили провести несколько экспериментов с жиром и мылом для изучения как изменятся их свойства при воздействии воды и ог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4600"/>
                <a:tab algn="l" pos="622440"/>
                <a:tab algn="l" pos="1071720"/>
                <a:tab algn="l" pos="1521000"/>
                <a:tab algn="l" pos="1969920"/>
                <a:tab algn="l" pos="2419200"/>
                <a:tab algn="l" pos="2868480"/>
                <a:tab algn="l" pos="3317760"/>
                <a:tab algn="l" pos="3767040"/>
                <a:tab algn="l" pos="4216320"/>
                <a:tab algn="l" pos="4665600"/>
                <a:tab algn="l" pos="5114880"/>
                <a:tab algn="l" pos="5564160"/>
                <a:tab algn="l" pos="6013440"/>
                <a:tab algn="l" pos="6462720"/>
                <a:tab algn="l" pos="6912000"/>
                <a:tab algn="l" pos="7361280"/>
                <a:tab algn="l" pos="7810560"/>
                <a:tab algn="l" pos="8259840"/>
                <a:tab algn="l" pos="8709120"/>
                <a:tab algn="l" pos="9158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4600"/>
                <a:tab algn="l" pos="622440"/>
                <a:tab algn="l" pos="1071720"/>
                <a:tab algn="l" pos="1521000"/>
                <a:tab algn="l" pos="1969920"/>
                <a:tab algn="l" pos="2419200"/>
                <a:tab algn="l" pos="2868480"/>
                <a:tab algn="l" pos="3317760"/>
                <a:tab algn="l" pos="3767040"/>
                <a:tab algn="l" pos="4216320"/>
                <a:tab algn="l" pos="4665600"/>
                <a:tab algn="l" pos="5114880"/>
                <a:tab algn="l" pos="5564160"/>
                <a:tab algn="l" pos="6013440"/>
                <a:tab algn="l" pos="6462720"/>
                <a:tab algn="l" pos="6912000"/>
                <a:tab algn="l" pos="7361280"/>
                <a:tab algn="l" pos="7810560"/>
                <a:tab algn="l" pos="8259840"/>
                <a:tab algn="l" pos="8709120"/>
                <a:tab algn="l" pos="9158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4600"/>
                <a:tab algn="l" pos="622440"/>
                <a:tab algn="l" pos="1071720"/>
                <a:tab algn="l" pos="1521000"/>
                <a:tab algn="l" pos="1969920"/>
                <a:tab algn="l" pos="2419200"/>
                <a:tab algn="l" pos="2868480"/>
                <a:tab algn="l" pos="3317760"/>
                <a:tab algn="l" pos="3767040"/>
                <a:tab algn="l" pos="4216320"/>
                <a:tab algn="l" pos="4665600"/>
                <a:tab algn="l" pos="5114880"/>
                <a:tab algn="l" pos="5564160"/>
                <a:tab algn="l" pos="6013440"/>
                <a:tab algn="l" pos="6462720"/>
                <a:tab algn="l" pos="6912000"/>
                <a:tab algn="l" pos="7361280"/>
                <a:tab algn="l" pos="7810560"/>
                <a:tab algn="l" pos="8259840"/>
                <a:tab algn="l" pos="8709120"/>
                <a:tab algn="l" pos="9158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4600"/>
                <a:tab algn="l" pos="622440"/>
                <a:tab algn="l" pos="1071720"/>
                <a:tab algn="l" pos="1521000"/>
                <a:tab algn="l" pos="1969920"/>
                <a:tab algn="l" pos="2419200"/>
                <a:tab algn="l" pos="2868480"/>
                <a:tab algn="l" pos="3317760"/>
                <a:tab algn="l" pos="3767040"/>
                <a:tab algn="l" pos="4216320"/>
                <a:tab algn="l" pos="4665600"/>
                <a:tab algn="l" pos="5114880"/>
                <a:tab algn="l" pos="5564160"/>
                <a:tab algn="l" pos="6013440"/>
                <a:tab algn="l" pos="6462720"/>
                <a:tab algn="l" pos="6912000"/>
                <a:tab algn="l" pos="7361280"/>
                <a:tab algn="l" pos="7810560"/>
                <a:tab algn="l" pos="8259840"/>
                <a:tab algn="l" pos="8709120"/>
                <a:tab algn="l" pos="9158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b2203"/>
                </a:solidFill>
                <a:latin typeface="Arial"/>
                <a:ea typeface="Arial"/>
              </a:rPr>
              <a:t>А также рассмотрели капельку жира и мыла под микроскоп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4600"/>
                <a:tab algn="l" pos="622440"/>
                <a:tab algn="l" pos="1071720"/>
                <a:tab algn="l" pos="1521000"/>
                <a:tab algn="l" pos="1969920"/>
                <a:tab algn="l" pos="2419200"/>
                <a:tab algn="l" pos="2868480"/>
                <a:tab algn="l" pos="3317760"/>
                <a:tab algn="l" pos="3767040"/>
                <a:tab algn="l" pos="4216320"/>
                <a:tab algn="l" pos="4665600"/>
                <a:tab algn="l" pos="5114880"/>
                <a:tab algn="l" pos="5564160"/>
                <a:tab algn="l" pos="6013440"/>
                <a:tab algn="l" pos="6462720"/>
                <a:tab algn="l" pos="6912000"/>
                <a:tab algn="l" pos="7361280"/>
                <a:tab algn="l" pos="7810560"/>
                <a:tab algn="l" pos="8259840"/>
                <a:tab algn="l" pos="8709120"/>
                <a:tab algn="l" pos="9158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2363760" y="2697120"/>
            <a:ext cx="1847880" cy="130824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5349960" y="2654280"/>
            <a:ext cx="2030400" cy="13510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4"/>
          <a:stretch/>
        </p:blipFill>
        <p:spPr>
          <a:xfrm>
            <a:off x="6996240" y="4995720"/>
            <a:ext cx="1576440" cy="15764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5"/>
          <a:stretch/>
        </p:blipFill>
        <p:spPr>
          <a:xfrm>
            <a:off x="4000680" y="4429080"/>
            <a:ext cx="1544400" cy="2205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042920" y="274680"/>
            <a:ext cx="785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Эксперимент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87280" y="1481040"/>
            <a:ext cx="763272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174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74600"/>
                <a:tab algn="l" pos="622440"/>
                <a:tab algn="l" pos="1071720"/>
                <a:tab algn="l" pos="1521000"/>
                <a:tab algn="l" pos="1969920"/>
                <a:tab algn="l" pos="2419200"/>
                <a:tab algn="l" pos="2868480"/>
                <a:tab algn="l" pos="3317760"/>
                <a:tab algn="l" pos="3767040"/>
                <a:tab algn="l" pos="4216320"/>
                <a:tab algn="l" pos="4665600"/>
                <a:tab algn="l" pos="5114880"/>
                <a:tab algn="l" pos="5564160"/>
                <a:tab algn="l" pos="6013440"/>
                <a:tab algn="l" pos="6462720"/>
                <a:tab algn="l" pos="6912000"/>
                <a:tab algn="l" pos="7361280"/>
                <a:tab algn="l" pos="7810560"/>
                <a:tab algn="l" pos="8259840"/>
                <a:tab algn="l" pos="8709120"/>
                <a:tab algn="l" pos="9158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Над фитилем мы попробовали подержать кусочек туалетного мыла. Никакой реакции не произошл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4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74600"/>
                <a:tab algn="l" pos="622440"/>
                <a:tab algn="l" pos="1071720"/>
                <a:tab algn="l" pos="1521000"/>
                <a:tab algn="l" pos="1969920"/>
                <a:tab algn="l" pos="2419200"/>
                <a:tab algn="l" pos="2868480"/>
                <a:tab algn="l" pos="3317760"/>
                <a:tab algn="l" pos="3767040"/>
                <a:tab algn="l" pos="4216320"/>
                <a:tab algn="l" pos="4665600"/>
                <a:tab algn="l" pos="5114880"/>
                <a:tab algn="l" pos="5564160"/>
                <a:tab algn="l" pos="6013440"/>
                <a:tab algn="l" pos="6462720"/>
                <a:tab algn="l" pos="6912000"/>
                <a:tab algn="l" pos="7361280"/>
                <a:tab algn="l" pos="7810560"/>
                <a:tab algn="l" pos="8259840"/>
                <a:tab algn="l" pos="8709120"/>
                <a:tab algn="l" pos="9158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4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74600"/>
                <a:tab algn="l" pos="622440"/>
                <a:tab algn="l" pos="1071720"/>
                <a:tab algn="l" pos="1521000"/>
                <a:tab algn="l" pos="1969920"/>
                <a:tab algn="l" pos="2419200"/>
                <a:tab algn="l" pos="2868480"/>
                <a:tab algn="l" pos="3317760"/>
                <a:tab algn="l" pos="3767040"/>
                <a:tab algn="l" pos="4216320"/>
                <a:tab algn="l" pos="4665600"/>
                <a:tab algn="l" pos="5114880"/>
                <a:tab algn="l" pos="5564160"/>
                <a:tab algn="l" pos="6013440"/>
                <a:tab algn="l" pos="6462720"/>
                <a:tab algn="l" pos="6912000"/>
                <a:tab algn="l" pos="7361280"/>
                <a:tab algn="l" pos="7810560"/>
                <a:tab algn="l" pos="8259840"/>
                <a:tab algn="l" pos="8709120"/>
                <a:tab algn="l" pos="9158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4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74600"/>
                <a:tab algn="l" pos="622440"/>
                <a:tab algn="l" pos="1071720"/>
                <a:tab algn="l" pos="1521000"/>
                <a:tab algn="l" pos="1969920"/>
                <a:tab algn="l" pos="2419200"/>
                <a:tab algn="l" pos="2868480"/>
                <a:tab algn="l" pos="3317760"/>
                <a:tab algn="l" pos="3767040"/>
                <a:tab algn="l" pos="4216320"/>
                <a:tab algn="l" pos="4665600"/>
                <a:tab algn="l" pos="5114880"/>
                <a:tab algn="l" pos="5564160"/>
                <a:tab algn="l" pos="6013440"/>
                <a:tab algn="l" pos="6462720"/>
                <a:tab algn="l" pos="6912000"/>
                <a:tab algn="l" pos="7361280"/>
                <a:tab algn="l" pos="7810560"/>
                <a:tab algn="l" pos="8259840"/>
                <a:tab algn="l" pos="8709120"/>
                <a:tab algn="l" pos="9158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4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74600"/>
                <a:tab algn="l" pos="622440"/>
                <a:tab algn="l" pos="1071720"/>
                <a:tab algn="l" pos="1521000"/>
                <a:tab algn="l" pos="1969920"/>
                <a:tab algn="l" pos="2419200"/>
                <a:tab algn="l" pos="2868480"/>
                <a:tab algn="l" pos="3317760"/>
                <a:tab algn="l" pos="3767040"/>
                <a:tab algn="l" pos="4216320"/>
                <a:tab algn="l" pos="4665600"/>
                <a:tab algn="l" pos="5114880"/>
                <a:tab algn="l" pos="5564160"/>
                <a:tab algn="l" pos="6013440"/>
                <a:tab algn="l" pos="6462720"/>
                <a:tab algn="l" pos="6912000"/>
                <a:tab algn="l" pos="7361280"/>
                <a:tab algn="l" pos="7810560"/>
                <a:tab algn="l" pos="8259840"/>
                <a:tab algn="l" pos="8709120"/>
                <a:tab algn="l" pos="9158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4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74600"/>
                <a:tab algn="l" pos="622440"/>
                <a:tab algn="l" pos="1071720"/>
                <a:tab algn="l" pos="1521000"/>
                <a:tab algn="l" pos="1969920"/>
                <a:tab algn="l" pos="2419200"/>
                <a:tab algn="l" pos="2868480"/>
                <a:tab algn="l" pos="3317760"/>
                <a:tab algn="l" pos="3767040"/>
                <a:tab algn="l" pos="4216320"/>
                <a:tab algn="l" pos="4665600"/>
                <a:tab algn="l" pos="5114880"/>
                <a:tab algn="l" pos="5564160"/>
                <a:tab algn="l" pos="6013440"/>
                <a:tab algn="l" pos="6462720"/>
                <a:tab algn="l" pos="6912000"/>
                <a:tab algn="l" pos="7361280"/>
                <a:tab algn="l" pos="7810560"/>
                <a:tab algn="l" pos="8259840"/>
                <a:tab algn="l" pos="8709120"/>
                <a:tab algn="l" pos="9158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После этого над фитилем мы подержали кусочек свиного жира.  Жир начал плавиться и появились язычки пла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4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4600"/>
                <a:tab algn="l" pos="622440"/>
                <a:tab algn="l" pos="1071720"/>
                <a:tab algn="l" pos="1521000"/>
                <a:tab algn="l" pos="1969920"/>
                <a:tab algn="l" pos="2419200"/>
                <a:tab algn="l" pos="2868480"/>
                <a:tab algn="l" pos="3317760"/>
                <a:tab algn="l" pos="3767040"/>
                <a:tab algn="l" pos="4216320"/>
                <a:tab algn="l" pos="4665600"/>
                <a:tab algn="l" pos="5114880"/>
                <a:tab algn="l" pos="5564160"/>
                <a:tab algn="l" pos="6013440"/>
                <a:tab algn="l" pos="6462720"/>
                <a:tab algn="l" pos="6912000"/>
                <a:tab algn="l" pos="7361280"/>
                <a:tab algn="l" pos="7810560"/>
                <a:tab algn="l" pos="8259840"/>
                <a:tab algn="l" pos="8709120"/>
                <a:tab algn="l" pos="9158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4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4600"/>
                <a:tab algn="l" pos="622440"/>
                <a:tab algn="l" pos="1071720"/>
                <a:tab algn="l" pos="1521000"/>
                <a:tab algn="l" pos="1969920"/>
                <a:tab algn="l" pos="2419200"/>
                <a:tab algn="l" pos="2868480"/>
                <a:tab algn="l" pos="3317760"/>
                <a:tab algn="l" pos="3767040"/>
                <a:tab algn="l" pos="4216320"/>
                <a:tab algn="l" pos="4665600"/>
                <a:tab algn="l" pos="5114880"/>
                <a:tab algn="l" pos="5564160"/>
                <a:tab algn="l" pos="6013440"/>
                <a:tab algn="l" pos="6462720"/>
                <a:tab algn="l" pos="6912000"/>
                <a:tab algn="l" pos="7361280"/>
                <a:tab algn="l" pos="7810560"/>
                <a:tab algn="l" pos="8259840"/>
                <a:tab algn="l" pos="8709120"/>
                <a:tab algn="l" pos="9158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4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4600"/>
                <a:tab algn="l" pos="622440"/>
                <a:tab algn="l" pos="1071720"/>
                <a:tab algn="l" pos="1521000"/>
                <a:tab algn="l" pos="1969920"/>
                <a:tab algn="l" pos="2419200"/>
                <a:tab algn="l" pos="2868480"/>
                <a:tab algn="l" pos="3317760"/>
                <a:tab algn="l" pos="3767040"/>
                <a:tab algn="l" pos="4216320"/>
                <a:tab algn="l" pos="4665600"/>
                <a:tab algn="l" pos="5114880"/>
                <a:tab algn="l" pos="5564160"/>
                <a:tab algn="l" pos="6013440"/>
                <a:tab algn="l" pos="6462720"/>
                <a:tab algn="l" pos="6912000"/>
                <a:tab algn="l" pos="7361280"/>
                <a:tab algn="l" pos="7810560"/>
                <a:tab algn="l" pos="8259840"/>
                <a:tab algn="l" pos="8709120"/>
                <a:tab algn="l" pos="9158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4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4600"/>
                <a:tab algn="l" pos="622440"/>
                <a:tab algn="l" pos="1071720"/>
                <a:tab algn="l" pos="1521000"/>
                <a:tab algn="l" pos="1969920"/>
                <a:tab algn="l" pos="2419200"/>
                <a:tab algn="l" pos="2868480"/>
                <a:tab algn="l" pos="3317760"/>
                <a:tab algn="l" pos="3767040"/>
                <a:tab algn="l" pos="4216320"/>
                <a:tab algn="l" pos="4665600"/>
                <a:tab algn="l" pos="5114880"/>
                <a:tab algn="l" pos="5564160"/>
                <a:tab algn="l" pos="6013440"/>
                <a:tab algn="l" pos="6462720"/>
                <a:tab algn="l" pos="6912000"/>
                <a:tab algn="l" pos="7361280"/>
                <a:tab algn="l" pos="7810560"/>
                <a:tab algn="l" pos="8259840"/>
                <a:tab algn="l" pos="8709120"/>
                <a:tab algn="l" pos="91584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Вывод эксперимента: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Жир хорошо горит, мыло –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4286160" y="2214720"/>
            <a:ext cx="2286000" cy="12855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2357280" y="4143240"/>
            <a:ext cx="828720" cy="15004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6643800" y="4143240"/>
            <a:ext cx="1330200" cy="14670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5"/>
          <a:stretch/>
        </p:blipFill>
        <p:spPr>
          <a:xfrm>
            <a:off x="4154400" y="4143240"/>
            <a:ext cx="1560600" cy="14306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6"/>
          <a:stretch/>
        </p:blipFill>
        <p:spPr>
          <a:xfrm>
            <a:off x="3040200" y="2143080"/>
            <a:ext cx="1031760" cy="1428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042920" y="274680"/>
            <a:ext cx="785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Эксперимент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042920" y="1125360"/>
            <a:ext cx="777708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В стакан воды мы капнули несколько капель подсолнечного масла. Капли масла остались на поверхности в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В другой стакан с водой мы бросили небольшой кусочек мыла. Кусочек мыла сразу опустился на дно стак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Вывод эксперимента: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Жир плавает в воде, мыло –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2849400" y="2071800"/>
            <a:ext cx="936720" cy="14284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5357880" y="2127240"/>
            <a:ext cx="1643040" cy="13730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2928960" y="4214880"/>
            <a:ext cx="792000" cy="14288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5"/>
          <a:stretch/>
        </p:blipFill>
        <p:spPr>
          <a:xfrm>
            <a:off x="5643720" y="4170240"/>
            <a:ext cx="1214280" cy="1470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042920" y="274680"/>
            <a:ext cx="785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Эксперимент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042920" y="1052640"/>
            <a:ext cx="7777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1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В кастрюлю мы положили кусочек жира и поставили кастрюлю подогреваться. Жир начал плави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1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1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1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1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1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Тоже самое мы проделали и с кусочком мыла. С мылом ничего не произош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Вывод эксперимента</a:t>
            </a:r>
            <a:r>
              <a:rPr b="1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: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Жир легко плавится, мыло –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2286000" y="2071800"/>
            <a:ext cx="1219320" cy="140148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4643280" y="2054160"/>
            <a:ext cx="2571840" cy="14461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1928880" y="4057560"/>
            <a:ext cx="1928880" cy="15861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4572000" y="4000680"/>
            <a:ext cx="2857680" cy="1571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042920" y="274680"/>
            <a:ext cx="785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Эксперимент 4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042920" y="1052640"/>
            <a:ext cx="8101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В посуду с теплой водой мы опустили небольшой кусочек мыла. Немного помешали. Мыло начало растворя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В другую посуду мы налили немного оливкового масла. 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Масло не растворилось и осталось на поверхности 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Вывод эксперимента: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Мыло растворимо в воде, жир –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2695680" y="2104920"/>
            <a:ext cx="1876320" cy="13716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5143680" y="2143080"/>
            <a:ext cx="1590480" cy="13050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4"/>
          <a:stretch/>
        </p:blipFill>
        <p:spPr>
          <a:xfrm>
            <a:off x="5143680" y="4071960"/>
            <a:ext cx="1623960" cy="15778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5"/>
          <a:stretch/>
        </p:blipFill>
        <p:spPr>
          <a:xfrm>
            <a:off x="2786040" y="4071960"/>
            <a:ext cx="1674720" cy="1533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393920" y="285840"/>
            <a:ext cx="7750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Мыло и жир под микроскоп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071720" y="1500120"/>
            <a:ext cx="7777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4b2203"/>
                </a:solidFill>
                <a:latin typeface="Arial"/>
                <a:ea typeface="Arial"/>
              </a:rPr>
              <a:t>	</a:t>
            </a:r>
            <a:r>
              <a:rPr b="1" lang="ru-RU" sz="2500" spc="-1" strike="noStrike">
                <a:solidFill>
                  <a:srgbClr val="4b2203"/>
                </a:solidFill>
                <a:latin typeface="Arial"/>
                <a:ea typeface="Arial"/>
              </a:rPr>
              <a:t>	</a:t>
            </a:r>
            <a:r>
              <a:rPr b="1" lang="ru-RU" sz="2500" spc="-1" strike="noStrike">
                <a:solidFill>
                  <a:srgbClr val="4b2203"/>
                </a:solidFill>
                <a:latin typeface="Arial"/>
                <a:ea typeface="Arial"/>
              </a:rPr>
              <a:t>      </a:t>
            </a:r>
            <a:r>
              <a:rPr b="1" lang="ru-RU" sz="2500" spc="-1" strike="noStrike">
                <a:solidFill>
                  <a:srgbClr val="4b2203"/>
                </a:solidFill>
                <a:latin typeface="Arial"/>
                <a:ea typeface="Arial"/>
              </a:rPr>
              <a:t>Жир</a:t>
            </a:r>
            <a:r>
              <a:rPr b="1" lang="ru-RU" sz="2500" spc="-1" strike="noStrike">
                <a:solidFill>
                  <a:srgbClr val="4b2203"/>
                </a:solidFill>
                <a:latin typeface="Arial"/>
                <a:ea typeface="Arial"/>
              </a:rPr>
              <a:t>	</a:t>
            </a:r>
            <a:r>
              <a:rPr b="1" lang="ru-RU" sz="2500" spc="-1" strike="noStrike">
                <a:solidFill>
                  <a:srgbClr val="4b2203"/>
                </a:solidFill>
                <a:latin typeface="Arial"/>
                <a:ea typeface="Arial"/>
              </a:rPr>
              <a:t>	</a:t>
            </a:r>
            <a:r>
              <a:rPr b="1" lang="ru-RU" sz="2500" spc="-1" strike="noStrike">
                <a:solidFill>
                  <a:srgbClr val="4b2203"/>
                </a:solidFill>
                <a:latin typeface="Arial"/>
                <a:ea typeface="Arial"/>
              </a:rPr>
              <a:t>             Мыл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5214960" y="207180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1714680" y="207180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143000" y="274680"/>
            <a:ext cx="7750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Результаты опроса род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042920" y="1125360"/>
            <a:ext cx="7777080" cy="48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4b2203"/>
                </a:solidFill>
                <a:latin typeface="Arial"/>
                <a:ea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4b2203"/>
                </a:solidFill>
                <a:latin typeface="Arial"/>
                <a:ea typeface="Arial"/>
              </a:rPr>
              <a:t>   </a:t>
            </a:r>
            <a:r>
              <a:rPr b="1" lang="ru-RU" sz="2500" spc="-1" strike="noStrike">
                <a:solidFill>
                  <a:srgbClr val="4b2203"/>
                </a:solidFill>
                <a:latin typeface="Arial"/>
                <a:ea typeface="Arial"/>
              </a:rPr>
              <a:t>В опросе приняли участие 24 родител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4b2203"/>
                </a:solidFill>
                <a:latin typeface="Arial"/>
                <a:ea typeface="Arial"/>
              </a:rPr>
              <a:t>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1496880" y="1865160"/>
            <a:ext cx="7302600" cy="4165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042920" y="189000"/>
            <a:ext cx="810108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4b2203"/>
                </a:solidFill>
                <a:latin typeface="Arial"/>
                <a:ea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4b2203"/>
                </a:solidFill>
                <a:latin typeface="Arial"/>
                <a:ea typeface="Arial"/>
              </a:rPr>
              <a:t>   </a:t>
            </a:r>
            <a:r>
              <a:rPr b="1" lang="ru-RU" sz="2500" spc="-1" strike="noStrike">
                <a:solidFill>
                  <a:srgbClr val="4b2203"/>
                </a:solidFill>
                <a:latin typeface="Arial"/>
                <a:ea typeface="Arial"/>
              </a:rPr>
              <a:t>Виды мыла, которыми чаще всего</a:t>
            </a:r>
            <a:br>
              <a:rPr sz="2500"/>
            </a:br>
            <a:r>
              <a:rPr b="1" lang="ru-RU" sz="2500" spc="-1" strike="noStrike">
                <a:solidFill>
                  <a:srgbClr val="4b2203"/>
                </a:solidFill>
                <a:latin typeface="Arial"/>
                <a:ea typeface="Arial"/>
              </a:rPr>
              <a:t>пользуются родител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4b2203"/>
                </a:solidFill>
                <a:latin typeface="Arial"/>
                <a:ea typeface="Arial"/>
              </a:rPr>
              <a:t>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1065240" y="1346040"/>
            <a:ext cx="7734240" cy="5013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042920" y="549360"/>
            <a:ext cx="777708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b2203"/>
                </a:solidFill>
                <a:latin typeface="Arial"/>
                <a:ea typeface="Arial"/>
              </a:rPr>
              <a:t>Роль жира и мыла в жизни человека и природы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ОГРОМ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b2203"/>
                </a:solidFill>
                <a:latin typeface="Arial"/>
                <a:ea typeface="Arial"/>
              </a:rPr>
              <a:t>Жиры входят в состав организмов животных и раст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b2203"/>
                </a:solidFill>
                <a:latin typeface="Arial"/>
                <a:ea typeface="Arial"/>
              </a:rPr>
              <a:t>Попадая с пищей внутрь организма человека, жиры являются для него основным источником энерг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1471680" y="4214880"/>
            <a:ext cx="3314520" cy="20718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5072040" y="4214880"/>
            <a:ext cx="3411720" cy="2071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042920" y="549360"/>
            <a:ext cx="777708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b2203"/>
                </a:solidFill>
                <a:latin typeface="Arial"/>
                <a:ea typeface="Arial"/>
              </a:rPr>
              <a:t>Но, попадая на одежду и смешиваясь с пылью, становятся ее загрязнител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b2203"/>
                </a:solidFill>
                <a:latin typeface="Arial"/>
                <a:ea typeface="Arial"/>
              </a:rPr>
              <a:t>Получаемые из жиров мыла помогают нам вернуть чист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5145120" y="1544760"/>
            <a:ext cx="2284560" cy="18129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1714680" y="1500120"/>
            <a:ext cx="2703240" cy="181152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4"/>
          <a:stretch/>
        </p:blipFill>
        <p:spPr>
          <a:xfrm>
            <a:off x="1701720" y="4357800"/>
            <a:ext cx="2584440" cy="164304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5"/>
          <a:stretch/>
        </p:blipFill>
        <p:spPr>
          <a:xfrm>
            <a:off x="5072040" y="4357800"/>
            <a:ext cx="2475000" cy="164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403280" y="1557360"/>
            <a:ext cx="740736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Arial"/>
                <a:ea typeface="Arial"/>
              </a:rPr>
              <a:t>«Настоящий ученик учится открывать неизвестное с помощью известного </a:t>
            </a:r>
            <a:br>
              <a:rPr sz="2800"/>
            </a:br>
            <a:r>
              <a:rPr b="1" lang="ru-RU" sz="2800" spc="-1" strike="noStrike">
                <a:solidFill>
                  <a:srgbClr val="572314"/>
                </a:solidFill>
                <a:latin typeface="Arial"/>
                <a:ea typeface="Arial"/>
              </a:rPr>
              <a:t>и тем самым приближается к учителю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3860640"/>
            <a:ext cx="75582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anchor="t">
            <a:noAutofit/>
          </a:bodyPr>
          <a:p>
            <a:pPr marL="2700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700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320e04"/>
                </a:solidFill>
                <a:latin typeface="Arial"/>
                <a:ea typeface="Arial"/>
              </a:rPr>
              <a:t>Иоганн Вольфганг Гё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714680" y="3643200"/>
            <a:ext cx="2550960" cy="1857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042920" y="549360"/>
            <a:ext cx="8101080" cy="55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b2203"/>
                </a:solidFill>
                <a:latin typeface="Arial"/>
                <a:ea typeface="Arial"/>
              </a:rPr>
              <a:t>Тема жира и мыла не раз затрагивается в пословицах, поговорках, стихах, загад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b2203"/>
                </a:solidFill>
                <a:latin typeface="Arial"/>
                <a:ea typeface="Arial"/>
              </a:rPr>
              <a:t>В качестве примера, приведу несколько  самых популярных из ни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3565440" y="1747800"/>
            <a:ext cx="2013120" cy="2752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042920" y="357120"/>
            <a:ext cx="777708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ЗАГАДКА ПРО МЫ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06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Пузыри пускало,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Пеной кверху лезло, - 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И его  не стало,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Вдруг оно исчезл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СТИХОТВОРЕНИЕ ПРО МЫ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06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Вот с такими он словами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Прибежал однажды к маме: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- Если рук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Arial Unicode MS"/>
              </a:rPr>
              <a:t>   </a:t>
            </a: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мыли </a:t>
            </a:r>
            <a:r>
              <a:rPr b="1" lang="ru-RU" sz="2000" spc="-1" strike="noStrike" u="sng">
                <a:solidFill>
                  <a:srgbClr val="4b2203"/>
                </a:solidFill>
                <a:uFillTx/>
                <a:latin typeface="Arial"/>
                <a:ea typeface="Arial"/>
              </a:rPr>
              <a:t>ВЫ</a:t>
            </a: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,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- Если руки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  моем </a:t>
            </a:r>
            <a:r>
              <a:rPr b="1" lang="ru-RU" sz="2000" spc="-1" strike="noStrike" u="sng">
                <a:solidFill>
                  <a:srgbClr val="4b2203"/>
                </a:solidFill>
                <a:uFillTx/>
                <a:latin typeface="Arial"/>
                <a:ea typeface="Arial"/>
              </a:rPr>
              <a:t>МЫ</a:t>
            </a: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,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- Если руки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  моешь </a:t>
            </a:r>
            <a:r>
              <a:rPr b="1" lang="ru-RU" sz="2000" spc="-1" strike="noStrike" u="sng">
                <a:solidFill>
                  <a:srgbClr val="4b2203"/>
                </a:solidFill>
                <a:uFillTx/>
                <a:latin typeface="Arial"/>
                <a:ea typeface="Arial"/>
              </a:rPr>
              <a:t>ТЫ</a:t>
            </a: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,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Значит, руки</a:t>
            </a:r>
            <a:br>
              <a:rPr sz="2000"/>
            </a:br>
            <a:r>
              <a:rPr b="1" lang="ru-RU" sz="2000" spc="-1" strike="noStrike" u="sng">
                <a:solidFill>
                  <a:srgbClr val="4b2203"/>
                </a:solidFill>
                <a:uFillTx/>
                <a:latin typeface="Arial"/>
                <a:ea typeface="Arial"/>
              </a:rPr>
              <a:t>ВЫ-МЫ-ТЫ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5500800" y="436680"/>
            <a:ext cx="2112840" cy="177804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4419720" y="3929040"/>
            <a:ext cx="2152440" cy="1428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857160" y="214200"/>
            <a:ext cx="8072640" cy="63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ПОГОВОРКИ ПРО МЫ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03360">
              <a:lnSpc>
                <a:spcPct val="100000"/>
              </a:lnSpc>
              <a:spcBef>
                <a:spcPts val="326"/>
              </a:spcBef>
              <a:buClr>
                <a:srgbClr val="4b2203"/>
              </a:buClr>
              <a:buFont typeface="Wingdings" charset="2"/>
              <a:buChar char="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Было мыло, стало сало. Сало было, стало мы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>
              <a:lnSpc>
                <a:spcPct val="100000"/>
              </a:lnSpc>
              <a:spcBef>
                <a:spcPts val="326"/>
              </a:spcBef>
              <a:buClr>
                <a:srgbClr val="4b2203"/>
              </a:buClr>
              <a:buFont typeface="Wingdings" charset="2"/>
              <a:buChar char="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Мыло серо, да моет б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>
              <a:lnSpc>
                <a:spcPct val="100000"/>
              </a:lnSpc>
              <a:spcBef>
                <a:spcPts val="326"/>
              </a:spcBef>
              <a:buClr>
                <a:srgbClr val="4b2203"/>
              </a:buClr>
              <a:buFont typeface="Wingdings" charset="2"/>
              <a:buChar char="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Хоть и лыком шит, да с мылом мы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>
              <a:lnSpc>
                <a:spcPct val="100000"/>
              </a:lnSpc>
              <a:spcBef>
                <a:spcPts val="326"/>
              </a:spcBef>
              <a:buClr>
                <a:srgbClr val="4b2203"/>
              </a:buClr>
              <a:buFont typeface="Wingdings" charset="2"/>
              <a:buChar char="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Променял шило на мы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ПОСЛОВИЦЫ И ПОГОВОРКИ ПРО МАС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03360">
              <a:lnSpc>
                <a:spcPct val="100000"/>
              </a:lnSpc>
              <a:spcBef>
                <a:spcPts val="326"/>
              </a:spcBef>
              <a:buClr>
                <a:srgbClr val="4b2203"/>
              </a:buClr>
              <a:buFont typeface="Wingdings" charset="2"/>
              <a:buChar char="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Масло коровье, кушай на здоровь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>
              <a:lnSpc>
                <a:spcPct val="100000"/>
              </a:lnSpc>
              <a:spcBef>
                <a:spcPts val="326"/>
              </a:spcBef>
              <a:buClr>
                <a:srgbClr val="4b2203"/>
              </a:buClr>
              <a:buFont typeface="Wingdings" charset="2"/>
              <a:buChar char="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Масло с водой не смешаеш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>
              <a:lnSpc>
                <a:spcPct val="100000"/>
              </a:lnSpc>
              <a:spcBef>
                <a:spcPts val="326"/>
              </a:spcBef>
              <a:buClr>
                <a:srgbClr val="4b2203"/>
              </a:buClr>
              <a:buFont typeface="Wingdings" charset="2"/>
              <a:buChar char="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Маслом кашу не испортиш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>
              <a:lnSpc>
                <a:spcPct val="100000"/>
              </a:lnSpc>
              <a:spcBef>
                <a:spcPts val="326"/>
              </a:spcBef>
              <a:buClr>
                <a:srgbClr val="4b2203"/>
              </a:buClr>
              <a:buFont typeface="Wingdings" charset="2"/>
              <a:buChar char="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Огонь маслом заливать – лишь огонь прибавл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>
              <a:lnSpc>
                <a:spcPct val="100000"/>
              </a:lnSpc>
              <a:spcBef>
                <a:spcPts val="326"/>
              </a:spcBef>
              <a:buClr>
                <a:srgbClr val="4b2203"/>
              </a:buClr>
              <a:buFont typeface="Wingdings" charset="2"/>
              <a:buChar char="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Как сыр в масле кат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2052720" y="4786200"/>
            <a:ext cx="2340000" cy="15717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6572160" y="1214280"/>
            <a:ext cx="1714680" cy="12988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4"/>
          <a:stretch/>
        </p:blipFill>
        <p:spPr>
          <a:xfrm>
            <a:off x="4857840" y="4786200"/>
            <a:ext cx="2662200" cy="1543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116000" y="333360"/>
            <a:ext cx="781848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ВЫВОД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65040" indent="-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b2203"/>
                </a:solidFill>
                <a:latin typeface="Arial"/>
                <a:ea typeface="Arial"/>
              </a:rPr>
              <a:t>Используя различные средства для удаления жира мы редко задумываемся над тем, что это средство само состоит из ж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Жир и мыло –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это единство и борьба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4286160" y="4500720"/>
            <a:ext cx="1352520" cy="1428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434960" y="333360"/>
            <a:ext cx="7499520" cy="59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65040" indent="-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  <a:ea typeface="Arial"/>
              </a:rPr>
              <a:t>Спасибо</a:t>
            </a:r>
            <a:r>
              <a:rPr b="1" lang="ru-RU" sz="4800" spc="-1" strike="noStrike">
                <a:solidFill>
                  <a:srgbClr val="922223"/>
                </a:solidFill>
                <a:latin typeface="Arial"/>
                <a:ea typeface="Arial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  <a:ea typeface="Arial"/>
              </a:rPr>
              <a:t>за</a:t>
            </a:r>
            <a:r>
              <a:rPr b="1" lang="ru-RU" sz="4800" spc="-1" strike="noStrike">
                <a:solidFill>
                  <a:srgbClr val="922223"/>
                </a:solidFill>
                <a:latin typeface="Arial"/>
                <a:ea typeface="Arial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  <a:ea typeface="Arial"/>
              </a:rPr>
              <a:t>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65040" indent="-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4143240" y="300024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434960" y="333360"/>
            <a:ext cx="7499520" cy="59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1800" indent="-25560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4b2203"/>
              </a:buClr>
              <a:buSzPct val="80000"/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Вопрос гигиены для человека был актуален с давних времен. Еще древние мудрецы и прародители медицины заметили, что соблюдение личной гигиены является залогом сохранения здоровья на долгие г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25560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4b2203"/>
              </a:buClr>
              <a:buSzPct val="80000"/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Совершать водные процедуры и следить 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за чистотой своего тела было принято 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практически у всех народов с самых 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древних врем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25560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4b2203"/>
              </a:buClr>
              <a:buSzPct val="80000"/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Жизнь же современного человека сегодня невозможно представить без использования таких средств личной гигиены как мыло, шампуни, гели для душа и др.</a:t>
            </a:r>
            <a:br>
              <a:rPr sz="1800"/>
            </a:br>
            <a:r>
              <a:rPr b="0" lang="ru-RU" sz="1800" spc="-1" strike="noStrike">
                <a:solidFill>
                  <a:srgbClr val="4b220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3336840" y="4849920"/>
            <a:ext cx="592200" cy="10969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1908000" y="5157720"/>
            <a:ext cx="1020960" cy="8035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7818480" y="4724280"/>
            <a:ext cx="1111320" cy="14176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5629320" y="4724280"/>
            <a:ext cx="728640" cy="12034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6">
            <a:lum bright="10000"/>
          </a:blip>
          <a:stretch/>
        </p:blipFill>
        <p:spPr>
          <a:xfrm>
            <a:off x="4246560" y="5019840"/>
            <a:ext cx="1039680" cy="8348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7">
            <a:lum bright="10000"/>
          </a:blip>
          <a:stretch/>
        </p:blipFill>
        <p:spPr>
          <a:xfrm>
            <a:off x="6748560" y="4944960"/>
            <a:ext cx="966600" cy="8240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8"/>
          <a:stretch/>
        </p:blipFill>
        <p:spPr>
          <a:xfrm>
            <a:off x="6948360" y="2060640"/>
            <a:ext cx="1800360" cy="1428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434960" y="404640"/>
            <a:ext cx="7499520" cy="58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1800" indent="-255600" algn="just">
              <a:lnSpc>
                <a:spcPct val="110000"/>
              </a:lnSpc>
              <a:spcBef>
                <a:spcPts val="601"/>
              </a:spcBef>
              <a:buClr>
                <a:srgbClr val="4b2203"/>
              </a:buClr>
              <a:buSzPct val="80000"/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Ежедневно мы сталкиваемся со множеством источников загрязнений: поручни общественного транспорта, шерсть домашнего любимца, овощи и фрукты, клавиатура домашнего компьютера, клавиатура и экран мобильного телефона… Этот список можно перечислять до бесконе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2556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2556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2556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255600" algn="just">
              <a:lnSpc>
                <a:spcPct val="110000"/>
              </a:lnSpc>
              <a:spcBef>
                <a:spcPts val="601"/>
              </a:spcBef>
              <a:buClr>
                <a:srgbClr val="4b2203"/>
              </a:buClr>
              <a:buSzPct val="80000"/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Вымыв руки после улицы, магазина, общественного транспорта можно обезопасить себя от различных заболе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255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255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255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Так что же такое МЫЛО?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4645080" y="2421000"/>
            <a:ext cx="1712880" cy="12841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6929280" y="2421000"/>
            <a:ext cx="1749600" cy="1305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3992400" y="4437000"/>
            <a:ext cx="1803600" cy="12240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5"/>
          <a:stretch/>
        </p:blipFill>
        <p:spPr>
          <a:xfrm>
            <a:off x="2031840" y="2428920"/>
            <a:ext cx="1968840" cy="127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Из чего делают мыл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617400" indent="-233280">
              <a:lnSpc>
                <a:spcPct val="100000"/>
              </a:lnSpc>
              <a:spcBef>
                <a:spcPts val="326"/>
              </a:spcBef>
              <a:buClr>
                <a:srgbClr val="4b2203"/>
              </a:buClr>
              <a:buFont typeface="Wingdings" charset="2"/>
              <a:buChar char=""/>
              <a:tabLst>
                <a:tab algn="l" pos="617400"/>
                <a:tab algn="l" pos="1065240"/>
                <a:tab algn="l" pos="1514520"/>
                <a:tab algn="l" pos="1963800"/>
                <a:tab algn="l" pos="2413080"/>
                <a:tab algn="l" pos="2862360"/>
                <a:tab algn="l" pos="3311640"/>
                <a:tab algn="l" pos="3760920"/>
                <a:tab algn="l" pos="4210200"/>
                <a:tab algn="l" pos="4659480"/>
                <a:tab algn="l" pos="5108400"/>
                <a:tab algn="l" pos="5557680"/>
                <a:tab algn="l" pos="6006960"/>
                <a:tab algn="l" pos="6456240"/>
                <a:tab algn="l" pos="6905520"/>
                <a:tab algn="l" pos="7354800"/>
                <a:tab algn="l" pos="7804080"/>
                <a:tab algn="l" pos="8253360"/>
                <a:tab algn="l" pos="8702640"/>
                <a:tab algn="l" pos="915192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Основные компоненты любого мыла это жиры и щелоч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3280">
              <a:lnSpc>
                <a:spcPct val="100000"/>
              </a:lnSpc>
              <a:spcBef>
                <a:spcPts val="326"/>
              </a:spcBef>
              <a:buClr>
                <a:srgbClr val="4b2203"/>
              </a:buClr>
              <a:buFont typeface="Wingdings" charset="2"/>
              <a:buChar char=""/>
              <a:tabLst>
                <a:tab algn="l" pos="617400"/>
                <a:tab algn="l" pos="1065240"/>
                <a:tab algn="l" pos="1514520"/>
                <a:tab algn="l" pos="1963800"/>
                <a:tab algn="l" pos="2413080"/>
                <a:tab algn="l" pos="2862360"/>
                <a:tab algn="l" pos="3311640"/>
                <a:tab algn="l" pos="3760920"/>
                <a:tab algn="l" pos="4210200"/>
                <a:tab algn="l" pos="4659480"/>
                <a:tab algn="l" pos="5108400"/>
                <a:tab algn="l" pos="5557680"/>
                <a:tab algn="l" pos="6006960"/>
                <a:tab algn="l" pos="6456240"/>
                <a:tab algn="l" pos="6905520"/>
                <a:tab algn="l" pos="7354800"/>
                <a:tab algn="l" pos="7804080"/>
                <a:tab algn="l" pos="8253360"/>
                <a:tab algn="l" pos="8702640"/>
                <a:tab algn="l" pos="915192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Жиры бывают животного происхождения (говяжий и бараний жир, жиры морских животных и рыб), а также, жиры растительного происхождения, которые получаются из пальмового, соевого, кокосового и других масе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3280">
              <a:lnSpc>
                <a:spcPct val="100000"/>
              </a:lnSpc>
              <a:spcBef>
                <a:spcPts val="326"/>
              </a:spcBef>
              <a:buClr>
                <a:srgbClr val="4b2203"/>
              </a:buClr>
              <a:buFont typeface="Wingdings" charset="2"/>
              <a:buChar char=""/>
              <a:tabLst>
                <a:tab algn="l" pos="617400"/>
                <a:tab algn="l" pos="1065240"/>
                <a:tab algn="l" pos="1514520"/>
                <a:tab algn="l" pos="1963800"/>
                <a:tab algn="l" pos="2413080"/>
                <a:tab algn="l" pos="2862360"/>
                <a:tab algn="l" pos="3311640"/>
                <a:tab algn="l" pos="3760920"/>
                <a:tab algn="l" pos="4210200"/>
                <a:tab algn="l" pos="4659480"/>
                <a:tab algn="l" pos="5108400"/>
                <a:tab algn="l" pos="5557680"/>
                <a:tab algn="l" pos="6006960"/>
                <a:tab algn="l" pos="6456240"/>
                <a:tab algn="l" pos="6905520"/>
                <a:tab algn="l" pos="7354800"/>
                <a:tab algn="l" pos="7804080"/>
                <a:tab algn="l" pos="8253360"/>
                <a:tab algn="l" pos="8702640"/>
                <a:tab algn="l" pos="915192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Жиры, являющиеся основой мыла, призваны отделять, а щелочи растворять загряз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32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617400"/>
                <a:tab algn="l" pos="1065240"/>
                <a:tab algn="l" pos="1514520"/>
                <a:tab algn="l" pos="1963800"/>
                <a:tab algn="l" pos="2413080"/>
                <a:tab algn="l" pos="2862360"/>
                <a:tab algn="l" pos="3311640"/>
                <a:tab algn="l" pos="3760920"/>
                <a:tab algn="l" pos="4210200"/>
                <a:tab algn="l" pos="4659480"/>
                <a:tab algn="l" pos="5108400"/>
                <a:tab algn="l" pos="5557680"/>
                <a:tab algn="l" pos="6006960"/>
                <a:tab algn="l" pos="6456240"/>
                <a:tab algn="l" pos="6905520"/>
                <a:tab algn="l" pos="7354800"/>
                <a:tab algn="l" pos="7804080"/>
                <a:tab algn="l" pos="8253360"/>
                <a:tab algn="l" pos="8702640"/>
                <a:tab algn="l" pos="9151920"/>
                <a:tab algn="l" pos="96012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32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617400"/>
                <a:tab algn="l" pos="1065240"/>
                <a:tab algn="l" pos="1514520"/>
                <a:tab algn="l" pos="1963800"/>
                <a:tab algn="l" pos="2413080"/>
                <a:tab algn="l" pos="2862360"/>
                <a:tab algn="l" pos="3311640"/>
                <a:tab algn="l" pos="3760920"/>
                <a:tab algn="l" pos="4210200"/>
                <a:tab algn="l" pos="4659480"/>
                <a:tab algn="l" pos="5108400"/>
                <a:tab algn="l" pos="5557680"/>
                <a:tab algn="l" pos="6006960"/>
                <a:tab algn="l" pos="6456240"/>
                <a:tab algn="l" pos="6905520"/>
                <a:tab algn="l" pos="7354800"/>
                <a:tab algn="l" pos="7804080"/>
                <a:tab algn="l" pos="8253360"/>
                <a:tab algn="l" pos="8702640"/>
                <a:tab algn="l" pos="9151920"/>
                <a:tab algn="l" pos="96012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2028960" y="4581360"/>
            <a:ext cx="2614320" cy="17384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5651640" y="4581360"/>
            <a:ext cx="2736720" cy="1808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434960" y="190440"/>
            <a:ext cx="749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Какие виды жира можно встретить в природ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2498760" y="1517760"/>
            <a:ext cx="5645160" cy="40050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1187280" y="2430360"/>
            <a:ext cx="1283040" cy="8542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2484360" y="2031840"/>
            <a:ext cx="1295640" cy="8924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1047600" y="3365640"/>
            <a:ext cx="1508400" cy="855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>
            <a:lum bright="20000"/>
          </a:blip>
          <a:stretch/>
        </p:blipFill>
        <p:spPr>
          <a:xfrm>
            <a:off x="1106640" y="5445000"/>
            <a:ext cx="1441440" cy="10796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59280" y="5661000"/>
            <a:ext cx="1873080" cy="8002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>
            <a:lum bright="20000"/>
          </a:blip>
          <a:stretch/>
        </p:blipFill>
        <p:spPr>
          <a:xfrm>
            <a:off x="1042920" y="4322880"/>
            <a:ext cx="1571760" cy="9777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9">
            <a:lum bright="10000"/>
          </a:blip>
          <a:stretch/>
        </p:blipFill>
        <p:spPr>
          <a:xfrm>
            <a:off x="7956720" y="5570640"/>
            <a:ext cx="1112760" cy="8827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10"/>
          <a:stretch/>
        </p:blipFill>
        <p:spPr>
          <a:xfrm>
            <a:off x="7885080" y="4437000"/>
            <a:ext cx="1224000" cy="8971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1"/>
          <a:stretch/>
        </p:blipFill>
        <p:spPr>
          <a:xfrm>
            <a:off x="7893000" y="3284640"/>
            <a:ext cx="1143000" cy="11444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2"/>
          <a:stretch/>
        </p:blipFill>
        <p:spPr>
          <a:xfrm>
            <a:off x="8086680" y="2155680"/>
            <a:ext cx="1022400" cy="10573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3"/>
          <a:stretch/>
        </p:blipFill>
        <p:spPr>
          <a:xfrm>
            <a:off x="5724360" y="5445000"/>
            <a:ext cx="1800360" cy="11080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4"/>
          <a:stretch/>
        </p:blipFill>
        <p:spPr>
          <a:xfrm>
            <a:off x="6789600" y="1989000"/>
            <a:ext cx="1238400" cy="924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Роль жира в прир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1444680" y="1189080"/>
            <a:ext cx="7199280" cy="38466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2050920" y="4869000"/>
            <a:ext cx="1441440" cy="10080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4"/>
          <a:stretch/>
        </p:blipFill>
        <p:spPr>
          <a:xfrm>
            <a:off x="4427640" y="4869000"/>
            <a:ext cx="1411200" cy="10033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6773760" y="4869000"/>
            <a:ext cx="1543320" cy="1023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434960" y="190440"/>
            <a:ext cx="749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Какое бывает мыло и для каких целей оно служи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847880" y="1670040"/>
            <a:ext cx="6713640" cy="4478400"/>
            <a:chOff x="1847880" y="1670040"/>
            <a:chExt cx="6713640" cy="4478400"/>
          </a:xfrm>
        </p:grpSpPr>
        <p:pic>
          <p:nvPicPr>
            <p:cNvPr id="310" name="" descr=""/>
            <p:cNvPicPr/>
            <p:nvPr/>
          </p:nvPicPr>
          <p:blipFill>
            <a:blip r:embed="rId2"/>
            <a:stretch/>
          </p:blipFill>
          <p:spPr>
            <a:xfrm>
              <a:off x="1847880" y="1670040"/>
              <a:ext cx="6713640" cy="447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847880" y="1670040"/>
              <a:ext cx="6713640" cy="447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1042920" y="22129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1258920" y="3222720"/>
            <a:ext cx="495360" cy="1143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2924280" y="206064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6"/>
          <a:stretch/>
        </p:blipFill>
        <p:spPr>
          <a:xfrm>
            <a:off x="1692360" y="2060640"/>
            <a:ext cx="1224000" cy="10731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7"/>
          <a:stretch/>
        </p:blipFill>
        <p:spPr>
          <a:xfrm>
            <a:off x="1116000" y="4535640"/>
            <a:ext cx="820800" cy="6937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8"/>
          <a:stretch/>
        </p:blipFill>
        <p:spPr>
          <a:xfrm>
            <a:off x="1042920" y="537372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9"/>
          <a:stretch/>
        </p:blipFill>
        <p:spPr>
          <a:xfrm>
            <a:off x="6632640" y="2133720"/>
            <a:ext cx="1035000" cy="7887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10"/>
          <a:stretch/>
        </p:blipFill>
        <p:spPr>
          <a:xfrm>
            <a:off x="8244000" y="2924280"/>
            <a:ext cx="865080" cy="11430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11"/>
          <a:stretch/>
        </p:blipFill>
        <p:spPr>
          <a:xfrm>
            <a:off x="7740720" y="2090880"/>
            <a:ext cx="1224000" cy="86976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12"/>
          <a:stretch/>
        </p:blipFill>
        <p:spPr>
          <a:xfrm>
            <a:off x="8442360" y="4076640"/>
            <a:ext cx="450720" cy="12067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13"/>
          <a:stretch/>
        </p:blipFill>
        <p:spPr>
          <a:xfrm>
            <a:off x="8466120" y="5381640"/>
            <a:ext cx="42696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Роль мыла в жизни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1450800" y="1189080"/>
            <a:ext cx="7193160" cy="407808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1809720" y="5013360"/>
            <a:ext cx="1825560" cy="9666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4"/>
          <a:stretch/>
        </p:blipFill>
        <p:spPr>
          <a:xfrm>
            <a:off x="4356000" y="5013360"/>
            <a:ext cx="1584360" cy="10144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5"/>
          <a:stretch/>
        </p:blipFill>
        <p:spPr>
          <a:xfrm>
            <a:off x="6723000" y="5013360"/>
            <a:ext cx="1594080" cy="1049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4T10:40:53Z</dcterms:created>
  <dc:creator>irina</dc:creator>
  <dc:description/>
  <dc:language>en-US</dc:language>
  <cp:lastModifiedBy>алекс</cp:lastModifiedBy>
  <dcterms:modified xsi:type="dcterms:W3CDTF">2013-02-03T10:05:25Z</dcterms:modified>
  <cp:revision>168</cp:revision>
  <dc:subject/>
  <dc:title>«Настоящий ученик учится открывать неизвестное с помощью известного  и тем самым приближается к учителю.»</dc:title>
</cp:coreProperties>
</file>