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33.png" ContentType="image/png"/>
  <Override PartName="/ppt/media/image53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5.jpeg" ContentType="image/jpeg"/>
  <Override PartName="/ppt/media/image37.png" ContentType="image/png"/>
  <Override PartName="/ppt/media/image34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38.jpeg" ContentType="image/jpeg"/>
  <Override PartName="/ppt/media/image7.jpeg" ContentType="image/jpeg"/>
  <Override PartName="/ppt/media/image4.png" ContentType="image/png"/>
  <Override PartName="/ppt/media/image36.jpeg" ContentType="image/jpeg"/>
  <Override PartName="/ppt/media/image20.png" ContentType="image/png"/>
  <Override PartName="/ppt/media/image51.jpeg" ContentType="image/jpeg"/>
  <Override PartName="/ppt/media/image28.jpeg" ContentType="image/jpeg"/>
  <Override PartName="/ppt/media/image11.jpeg" ContentType="image/jpeg"/>
  <Override PartName="/ppt/media/image87.jpeg" ContentType="image/jpeg"/>
  <Override PartName="/ppt/media/image9.jpeg" ContentType="image/jpeg"/>
  <Override PartName="/ppt/media/image6.jpeg" ContentType="image/jpeg"/>
  <Override PartName="/ppt/media/image50.jpeg" ContentType="image/jpeg"/>
  <Override PartName="/ppt/media/image8.jpeg" ContentType="image/jpeg"/>
  <Override PartName="/ppt/media/image39.jpeg" ContentType="image/jpeg"/>
  <Override PartName="/ppt/media/image3.png" ContentType="image/png"/>
  <Override PartName="/ppt/media/image56.jpeg" ContentType="image/jpeg"/>
  <Override PartName="/ppt/media/image24.jpeg" ContentType="image/jpeg"/>
  <Override PartName="/ppt/media/image83.jpeg" ContentType="image/jpeg"/>
  <Override PartName="/ppt/media/image77.png" ContentType="image/png"/>
  <Override PartName="/ppt/media/image16.jpeg" ContentType="image/jpeg"/>
  <Override PartName="/ppt/media/image61.jpeg" ContentType="image/jpeg"/>
  <Override PartName="/ppt/media/image74.png" ContentType="image/png"/>
  <Override PartName="/ppt/media/image78.jpeg" ContentType="image/jpeg"/>
  <Override PartName="/ppt/media/image5.jpeg" ContentType="image/jpeg"/>
  <Override PartName="/ppt/media/image60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9.jpeg" ContentType="image/jpeg"/>
  <Override PartName="/ppt/media/image75.png" ContentType="image/png"/>
  <Override PartName="/ppt/media/image81.jpeg" ContentType="image/jpeg"/>
  <Override PartName="/ppt/media/image22.jpeg" ContentType="image/jpeg"/>
  <Override PartName="/ppt/media/image91.jpeg" ContentType="image/jpeg"/>
  <Override PartName="/ppt/media/image64.jpeg" ContentType="image/jpeg"/>
  <Override PartName="/ppt/media/image89.jpeg" ContentType="image/jpeg"/>
  <Override PartName="/ppt/media/image14.jpeg" ContentType="image/jpeg"/>
  <Override PartName="/ppt/media/image41.jpeg" ContentType="image/jpeg"/>
  <Override PartName="/ppt/media/image65.jpeg" ContentType="image/jpeg"/>
  <Override PartName="/ppt/media/image49.png" ContentType="image/png"/>
  <Override PartName="/ppt/media/image82.jpeg" ContentType="image/jpeg"/>
  <Override PartName="/ppt/media/image23.jpeg" ContentType="image/jpeg"/>
  <Override PartName="/ppt/media/image67.jpeg" ContentType="image/jpeg"/>
  <Override PartName="/ppt/media/image73.jpeg" ContentType="image/jpeg"/>
  <Override PartName="/ppt/media/image68.jpeg" ContentType="image/jpeg"/>
  <Override PartName="/ppt/media/image71.jpeg" ContentType="image/jpeg"/>
  <Override PartName="/ppt/media/image76.png" ContentType="image/png"/>
  <Override PartName="/ppt/media/image66.jpeg" ContentType="image/jpeg"/>
  <Override PartName="/ppt/media/image70.jpeg" ContentType="image/jpeg"/>
  <Override PartName="/ppt/media/image80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84.jpeg" ContentType="image/jpeg"/>
  <Override PartName="/ppt/media/image25.jpeg" ContentType="image/jpeg"/>
  <Override PartName="/ppt/media/image2.png" ContentType="image/png"/>
  <Override PartName="/ppt/media/image72.jpeg" ContentType="image/jpeg"/>
  <Override PartName="/ppt/media/image17.jpeg" ContentType="image/jpeg"/>
  <Override PartName="/ppt/media/image13.jpeg" ContentType="image/jpeg"/>
  <Override PartName="/ppt/media/image40.jpeg" ContentType="image/jpeg"/>
  <Override PartName="/ppt/media/image85.jpeg" ContentType="image/jpeg"/>
  <Override PartName="/ppt/media/image26.jpeg" ContentType="image/jpeg"/>
  <Override PartName="/ppt/media/image88.jpeg" ContentType="image/jpeg"/>
  <Override PartName="/ppt/media/image12.jpeg" ContentType="image/jpeg"/>
  <Override PartName="/ppt/media/image29.jpeg" ContentType="image/jpeg"/>
  <Override PartName="/ppt/media/image1.png" ContentType="image/png"/>
  <Override PartName="/ppt/media/image52.jpeg" ContentType="image/jpeg"/>
  <Override PartName="/ppt/media/image10.jpeg" ContentType="image/jpeg"/>
  <Override PartName="/ppt/media/image86.jpeg" ContentType="image/jpeg"/>
  <Override PartName="/ppt/media/image2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dt" idx="11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82E0FF-CBCF-4E13-8B63-FEA097CF8B8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Здравствуйте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Меня зовут Аня Торопецкая и я хочу представить вам свой проект на тему «Жир и мыло: единство или борьба?»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3520D1-5E95-4C80-B71D-549FBEE32B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215968"/>
                </a:solidFill>
                <a:latin typeface="Arial"/>
                <a:ea typeface="Arial"/>
              </a:rPr>
              <a:t>Мы решили провести несколько экспериментов с жиром и мылом и посмотреть как изменятся их свойств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9AB762-AF2A-446A-8E8D-23ADCC4B25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В первом эксперименте мы подвергли мыло и жир воздействию огня.</a:t>
            </a:r>
            <a:br>
              <a:rPr sz="1200"/>
            </a:br>
            <a:r>
              <a:rPr b="0" lang="ru-RU" sz="1200" spc="-1" strike="noStrike">
                <a:solidFill>
                  <a:srgbClr val="215968"/>
                </a:solidFill>
                <a:latin typeface="Arial"/>
                <a:ea typeface="Arial"/>
              </a:rPr>
              <a:t>Над фитилем мы подержали кусочек мыла. С мылом ничего не произошл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215968"/>
                </a:solidFill>
                <a:latin typeface="Arial"/>
                <a:ea typeface="Arial"/>
              </a:rPr>
              <a:t>После этого над фитилем мы подержали кусочек жира.  Жир начал плавиться и появилось пламя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215968"/>
                </a:solidFill>
                <a:latin typeface="Arial"/>
                <a:ea typeface="Arial"/>
              </a:rPr>
              <a:t>Из чего мы сделали вывод, что жир горит, а мыло – не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83A3C6-565B-484A-800F-DF82F9267C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36036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Во втором эксперименте мы в стак</a:t>
            </a:r>
            <a:r>
              <a:rPr b="0" lang="ru-RU" sz="2000" spc="-1" strike="noStrike">
                <a:solidFill>
                  <a:srgbClr val="215968"/>
                </a:solidFill>
                <a:latin typeface="Arial"/>
                <a:ea typeface="Arial"/>
              </a:rPr>
              <a:t>ан воды капнули несколько капель подсолнечного масла. </a:t>
            </a:r>
            <a:br>
              <a:rPr sz="2000"/>
            </a:br>
            <a:r>
              <a:rPr b="0" lang="ru-RU" sz="2000" spc="-1" strike="noStrike">
                <a:solidFill>
                  <a:srgbClr val="215968"/>
                </a:solidFill>
                <a:latin typeface="Arial"/>
                <a:ea typeface="Arial"/>
              </a:rPr>
              <a:t>Капли масла так и остались на поверхности воды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036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15968"/>
                </a:solidFill>
                <a:latin typeface="Arial"/>
                <a:ea typeface="Arial"/>
              </a:rPr>
              <a:t>В другой стакан с водой мы бросили небольшой кусочек мыл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036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15968"/>
                </a:solidFill>
                <a:latin typeface="Arial"/>
                <a:ea typeface="Arial"/>
              </a:rPr>
              <a:t>Мыло сразу опустилось на дно стакан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60360" indent="0">
              <a:lnSpc>
                <a:spcPct val="100000"/>
              </a:lnSpc>
              <a:buNone/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15968"/>
                </a:solidFill>
                <a:latin typeface="Arial"/>
                <a:ea typeface="Arial"/>
              </a:rPr>
              <a:t>Вывод эксперимента: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Жир плавает в воде, мыло – не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2BC1E3-96A2-41B7-BD28-AF297EDDCF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В следующем эксперименте мы решили подогреть кусочек жира и кусочек мыла в кастрюле на плит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Жир через какое то время начал плавится, а с мылом ничего не произошло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Из этого эксперимента мы сделали вывод, что жир плавится, а мыло – нет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F03724-31FF-482A-A3C7-8A95040A0E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3603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 Unicode MS"/>
              </a:rPr>
              <a:t>В последнем эксперименте мы в</a:t>
            </a:r>
            <a:r>
              <a:rPr b="0" lang="ru-RU" sz="1700" spc="-1" strike="noStrike">
                <a:solidFill>
                  <a:srgbClr val="215968"/>
                </a:solidFill>
                <a:latin typeface="Arial"/>
                <a:ea typeface="Arial"/>
              </a:rPr>
              <a:t> посуду с теплой водой опустили кусочек мыла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603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700" spc="-1" strike="noStrike">
                <a:solidFill>
                  <a:srgbClr val="215968"/>
                </a:solidFill>
                <a:latin typeface="Arial"/>
                <a:ea typeface="Arial"/>
              </a:rPr>
              <a:t>Немного помешали и увидели, что мыло начало растворяться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603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700" spc="-1" strike="noStrike">
                <a:solidFill>
                  <a:srgbClr val="215968"/>
                </a:solidFill>
                <a:latin typeface="Arial"/>
                <a:ea typeface="Arial"/>
              </a:rPr>
              <a:t>В другую посуду мы налили немного оливкового масла. </a:t>
            </a:r>
            <a:br>
              <a:rPr sz="1700"/>
            </a:br>
            <a:r>
              <a:rPr b="0" lang="ru-RU" sz="1700" spc="-1" strike="noStrike">
                <a:solidFill>
                  <a:srgbClr val="215968"/>
                </a:solidFill>
                <a:latin typeface="Arial"/>
                <a:ea typeface="Arial"/>
              </a:rPr>
              <a:t>Масло не растворилось и осталось на поверхности воды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360360" indent="0">
              <a:lnSpc>
                <a:spcPct val="80000"/>
              </a:lnSpc>
              <a:buNone/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700" spc="-1" strike="noStrike">
                <a:solidFill>
                  <a:srgbClr val="215968"/>
                </a:solidFill>
                <a:latin typeface="Arial"/>
                <a:ea typeface="Arial"/>
              </a:rPr>
              <a:t>Вывод эксперимента: </a:t>
            </a:r>
            <a:r>
              <a:rPr b="0" lang="ru-RU" sz="1700" spc="-1" strike="noStrike">
                <a:solidFill>
                  <a:srgbClr val="c00000"/>
                </a:solidFill>
                <a:latin typeface="Arial"/>
                <a:ea typeface="Arial"/>
              </a:rPr>
              <a:t>Мыло растворимо в воде, жир – нет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8D98C4-2734-44DF-8C36-FC5F5F0F13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После экспериментов, мы решили посмотреть, как выглядит капля жира и мыла под микроскоп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И вот что мы увиде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2AF4FE-CD8F-4855-8209-30BB9BC35F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Также мы провели опрос среди родителей и выяснили как часто они моют руки, какое мыло для этого используют и знают ли они, что в мыле есть жи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3A9FE4-0D6C-4676-A28A-509E430FD1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По результатам опроса мы сделали вывод, что чаще всего родители пользуются обычным туалетным мылом и мылом детски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Так же очень популярно мыло жидко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09E14A-4AD2-4D92-9957-D1B258474A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36036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215968"/>
                </a:solidFill>
                <a:latin typeface="Arial"/>
                <a:ea typeface="Arial"/>
              </a:rPr>
              <a:t>Роль жира и мыла в жизни человека и природы </a:t>
            </a:r>
            <a:r>
              <a:rPr b="0" lang="ru-RU" sz="1200" spc="-1" strike="noStrike">
                <a:solidFill>
                  <a:srgbClr val="c00000"/>
                </a:solidFill>
                <a:latin typeface="Arial"/>
                <a:ea typeface="Arial"/>
              </a:rPr>
              <a:t>ОГРОМН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6036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215968"/>
                </a:solidFill>
                <a:latin typeface="Arial"/>
                <a:ea typeface="Arial"/>
              </a:rPr>
              <a:t>Жиры входят в состав организмов животных и растени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6036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215968"/>
                </a:solidFill>
                <a:latin typeface="Arial"/>
                <a:ea typeface="Arial"/>
              </a:rPr>
              <a:t>Попадая с пищей внутрь организма человека, жиры являются для него основным источником энерг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A38728-8467-4326-ADEB-BD202B0D3C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36036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215968"/>
                </a:solidFill>
                <a:latin typeface="Arial"/>
                <a:ea typeface="Arial"/>
              </a:rPr>
              <a:t>Но, попадая на одежду и смешиваясь с пылью, становятся ее загрязнителям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6036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215968"/>
                </a:solidFill>
                <a:latin typeface="Arial"/>
                <a:ea typeface="Arial"/>
              </a:rPr>
              <a:t>Получаемые из жиров мыла помогают нам вернуть чистот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389763-4858-47D7-9D20-AD54DDD734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Тема для проекта была выбрана мной не случайно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Сталкиваясь в жизни с известными тебе вещами, можно узнать о них еще много чего неизвестног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637FB0-E460-47AE-80A6-6EAB67E811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36036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215968"/>
                </a:solidFill>
                <a:latin typeface="Arial"/>
                <a:ea typeface="Arial"/>
              </a:rPr>
              <a:t>Тема жира и мыла не раз затрагивается в пословицах и поговорках, в стихах и загадк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6036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215968"/>
                </a:solidFill>
                <a:latin typeface="Arial"/>
                <a:ea typeface="Arial"/>
              </a:rPr>
              <a:t>В качестве примера, приведу некоторые из них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68D0EB-C416-489F-ADD6-69B253179C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3603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100" spc="-1" strike="noStrike">
                <a:solidFill>
                  <a:srgbClr val="c00000"/>
                </a:solidFill>
                <a:latin typeface="Arial"/>
                <a:ea typeface="Arial"/>
              </a:rPr>
              <a:t>ЗАГАДКА ПРО МЫЛО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2" marL="6066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215968"/>
                </a:solidFill>
                <a:latin typeface="Arial"/>
                <a:ea typeface="Arial"/>
              </a:rPr>
              <a:t>Пузыри пускало,</a:t>
            </a:r>
            <a:br>
              <a:rPr sz="1900"/>
            </a:br>
            <a:r>
              <a:rPr b="0" lang="ru-RU" sz="1900" spc="-1" strike="noStrike">
                <a:solidFill>
                  <a:srgbClr val="215968"/>
                </a:solidFill>
                <a:latin typeface="Arial"/>
                <a:ea typeface="Arial"/>
              </a:rPr>
              <a:t>Пеной кверху лезло, - </a:t>
            </a:r>
            <a:br>
              <a:rPr sz="1900"/>
            </a:br>
            <a:r>
              <a:rPr b="0" lang="ru-RU" sz="1900" spc="-1" strike="noStrike">
                <a:solidFill>
                  <a:srgbClr val="215968"/>
                </a:solidFill>
                <a:latin typeface="Arial"/>
                <a:ea typeface="Arial"/>
              </a:rPr>
              <a:t>И его  не стало,</a:t>
            </a:r>
            <a:br>
              <a:rPr sz="1900"/>
            </a:br>
            <a:r>
              <a:rPr b="0" lang="ru-RU" sz="1900" spc="-1" strike="noStrike">
                <a:solidFill>
                  <a:srgbClr val="215968"/>
                </a:solidFill>
                <a:latin typeface="Arial"/>
                <a:ea typeface="Arial"/>
              </a:rPr>
              <a:t>Вдруг оно исчезло!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3603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03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100" spc="-1" strike="noStrike">
                <a:solidFill>
                  <a:srgbClr val="c00000"/>
                </a:solidFill>
                <a:latin typeface="Arial"/>
                <a:ea typeface="Arial"/>
              </a:rPr>
              <a:t>СТИХОТВОРЕНИЕ ПРО МЫЛО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2" marL="6066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215968"/>
                </a:solidFill>
                <a:latin typeface="Arial"/>
                <a:ea typeface="Arial"/>
              </a:rPr>
              <a:t>Вот с такими он словами</a:t>
            </a:r>
            <a:br>
              <a:rPr sz="1900"/>
            </a:br>
            <a:r>
              <a:rPr b="0" lang="ru-RU" sz="1900" spc="-1" strike="noStrike">
                <a:solidFill>
                  <a:srgbClr val="215968"/>
                </a:solidFill>
                <a:latin typeface="Arial"/>
                <a:ea typeface="Arial"/>
              </a:rPr>
              <a:t>Прибежал однажды к маме:</a:t>
            </a:r>
            <a:br>
              <a:rPr sz="1900"/>
            </a:br>
            <a:r>
              <a:rPr b="0" lang="ru-RU" sz="1900" spc="-1" strike="noStrike">
                <a:solidFill>
                  <a:srgbClr val="215968"/>
                </a:solidFill>
                <a:latin typeface="Arial"/>
                <a:ea typeface="Arial"/>
              </a:rPr>
              <a:t>- Если руки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Arial Unicode MS"/>
              </a:rPr>
              <a:t>   </a:t>
            </a:r>
            <a:r>
              <a:rPr b="0" lang="ru-RU" sz="1900" spc="-1" strike="noStrike">
                <a:solidFill>
                  <a:srgbClr val="215968"/>
                </a:solidFill>
                <a:latin typeface="Arial"/>
                <a:ea typeface="Arial"/>
              </a:rPr>
              <a:t>мыли </a:t>
            </a:r>
            <a:r>
              <a:rPr b="1" lang="ru-RU" sz="1900" spc="-1" strike="noStrike" u="sng">
                <a:solidFill>
                  <a:srgbClr val="215968"/>
                </a:solidFill>
                <a:uFillTx/>
                <a:latin typeface="Arial"/>
                <a:ea typeface="Arial"/>
              </a:rPr>
              <a:t>ВЫ</a:t>
            </a:r>
            <a:r>
              <a:rPr b="0" lang="ru-RU" sz="1900" spc="-1" strike="noStrike">
                <a:solidFill>
                  <a:srgbClr val="215968"/>
                </a:solidFill>
                <a:latin typeface="Arial"/>
                <a:ea typeface="Arial"/>
              </a:rPr>
              <a:t>,</a:t>
            </a:r>
            <a:br>
              <a:rPr sz="1900"/>
            </a:br>
            <a:r>
              <a:rPr b="0" lang="ru-RU" sz="1900" spc="-1" strike="noStrike">
                <a:solidFill>
                  <a:srgbClr val="215968"/>
                </a:solidFill>
                <a:latin typeface="Arial"/>
                <a:ea typeface="Arial"/>
              </a:rPr>
              <a:t>- Если руки</a:t>
            </a:r>
            <a:br>
              <a:rPr sz="1900"/>
            </a:br>
            <a:r>
              <a:rPr b="0" lang="ru-RU" sz="1900" spc="-1" strike="noStrike">
                <a:solidFill>
                  <a:srgbClr val="215968"/>
                </a:solidFill>
                <a:latin typeface="Arial"/>
                <a:ea typeface="Arial"/>
              </a:rPr>
              <a:t>  моем </a:t>
            </a:r>
            <a:r>
              <a:rPr b="1" lang="ru-RU" sz="1900" spc="-1" strike="noStrike" u="sng">
                <a:solidFill>
                  <a:srgbClr val="215968"/>
                </a:solidFill>
                <a:uFillTx/>
                <a:latin typeface="Arial"/>
                <a:ea typeface="Arial"/>
              </a:rPr>
              <a:t>МЫ</a:t>
            </a:r>
            <a:r>
              <a:rPr b="0" lang="ru-RU" sz="1900" spc="-1" strike="noStrike">
                <a:solidFill>
                  <a:srgbClr val="215968"/>
                </a:solidFill>
                <a:latin typeface="Arial"/>
                <a:ea typeface="Arial"/>
              </a:rPr>
              <a:t>,</a:t>
            </a:r>
            <a:br>
              <a:rPr sz="1900"/>
            </a:br>
            <a:r>
              <a:rPr b="0" lang="ru-RU" sz="1900" spc="-1" strike="noStrike">
                <a:solidFill>
                  <a:srgbClr val="215968"/>
                </a:solidFill>
                <a:latin typeface="Arial"/>
                <a:ea typeface="Arial"/>
              </a:rPr>
              <a:t>- Если руки</a:t>
            </a:r>
            <a:br>
              <a:rPr sz="1900"/>
            </a:br>
            <a:r>
              <a:rPr b="0" lang="ru-RU" sz="1900" spc="-1" strike="noStrike">
                <a:solidFill>
                  <a:srgbClr val="215968"/>
                </a:solidFill>
                <a:latin typeface="Arial"/>
                <a:ea typeface="Arial"/>
              </a:rPr>
              <a:t>  моешь </a:t>
            </a:r>
            <a:r>
              <a:rPr b="1" lang="ru-RU" sz="1900" spc="-1" strike="noStrike" u="sng">
                <a:solidFill>
                  <a:srgbClr val="215968"/>
                </a:solidFill>
                <a:uFillTx/>
                <a:latin typeface="Arial"/>
                <a:ea typeface="Arial"/>
              </a:rPr>
              <a:t>ТЫ</a:t>
            </a:r>
            <a:r>
              <a:rPr b="0" lang="ru-RU" sz="1900" spc="-1" strike="noStrike">
                <a:solidFill>
                  <a:srgbClr val="215968"/>
                </a:solidFill>
                <a:latin typeface="Arial"/>
                <a:ea typeface="Arial"/>
              </a:rPr>
              <a:t>,</a:t>
            </a:r>
            <a:br>
              <a:rPr sz="1900"/>
            </a:br>
            <a:r>
              <a:rPr b="0" lang="ru-RU" sz="1900" spc="-1" strike="noStrike">
                <a:solidFill>
                  <a:srgbClr val="215968"/>
                </a:solidFill>
                <a:latin typeface="Arial"/>
                <a:ea typeface="Arial"/>
              </a:rPr>
              <a:t>Значит, руки</a:t>
            </a:r>
            <a:br>
              <a:rPr sz="1900"/>
            </a:br>
            <a:r>
              <a:rPr b="1" lang="ru-RU" sz="1900" spc="-1" strike="noStrike" u="sng">
                <a:solidFill>
                  <a:srgbClr val="215968"/>
                </a:solidFill>
                <a:uFillTx/>
                <a:latin typeface="Arial"/>
                <a:ea typeface="Arial"/>
              </a:rPr>
              <a:t>ВЫ-МЫ-ТЫ.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DA7245-2AC5-4B20-B02C-6EC7DC0E1E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36036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  <a:ea typeface="Arial"/>
              </a:rPr>
              <a:t>ПОГОВОРКИ ПРО МЫЛО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603360">
              <a:lnSpc>
                <a:spcPct val="100000"/>
              </a:lnSpc>
              <a:spcBef>
                <a:spcPts val="326"/>
              </a:spcBef>
              <a:buClr>
                <a:srgbClr val="215968"/>
              </a:buClr>
              <a:buFont typeface="Wingdings" charset="2"/>
              <a:buChar char=""/>
              <a:tabLst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15968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215968"/>
                </a:solidFill>
                <a:latin typeface="Arial"/>
                <a:ea typeface="Arial"/>
              </a:rPr>
              <a:t>Было мыло, стало сало. Сало было, стало мыл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03360">
              <a:lnSpc>
                <a:spcPct val="100000"/>
              </a:lnSpc>
              <a:spcBef>
                <a:spcPts val="326"/>
              </a:spcBef>
              <a:buClr>
                <a:srgbClr val="215968"/>
              </a:buClr>
              <a:buFont typeface="Wingdings" charset="2"/>
              <a:buChar char=""/>
              <a:tabLst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15968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215968"/>
                </a:solidFill>
                <a:latin typeface="Arial"/>
                <a:ea typeface="Arial"/>
              </a:rPr>
              <a:t>Мыло серо, да моет бел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036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  <a:ea typeface="Arial"/>
              </a:rPr>
              <a:t>ПОСЛОВИЦЫ И ПОГОВОРКИ ПРО МАСЛО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603360">
              <a:lnSpc>
                <a:spcPct val="100000"/>
              </a:lnSpc>
              <a:spcBef>
                <a:spcPts val="326"/>
              </a:spcBef>
              <a:buClr>
                <a:srgbClr val="215968"/>
              </a:buClr>
              <a:buFont typeface="Wingdings" charset="2"/>
              <a:buChar char=""/>
              <a:tabLst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15968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215968"/>
                </a:solidFill>
                <a:latin typeface="Arial"/>
                <a:ea typeface="Arial"/>
              </a:rPr>
              <a:t>Масло коровье, кушай на здоровье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03360">
              <a:lnSpc>
                <a:spcPct val="100000"/>
              </a:lnSpc>
              <a:spcBef>
                <a:spcPts val="326"/>
              </a:spcBef>
              <a:buClr>
                <a:srgbClr val="215968"/>
              </a:buClr>
              <a:buFont typeface="Wingdings" charset="2"/>
              <a:buChar char=""/>
              <a:tabLst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15968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215968"/>
                </a:solidFill>
                <a:latin typeface="Arial"/>
                <a:ea typeface="Arial"/>
              </a:rPr>
              <a:t>Масло с водой не смешаеш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03360">
              <a:lnSpc>
                <a:spcPct val="100000"/>
              </a:lnSpc>
              <a:spcBef>
                <a:spcPts val="326"/>
              </a:spcBef>
              <a:buClr>
                <a:srgbClr val="215968"/>
              </a:buClr>
              <a:buFont typeface="Wingdings" charset="2"/>
              <a:buChar char=""/>
              <a:tabLst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15968"/>
                </a:solidFill>
                <a:latin typeface="Arial"/>
                <a:ea typeface="Arial"/>
              </a:rPr>
              <a:t>Маслом кашу не испортиш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9F10A7-CA18-43FC-868C-C0C1664172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Возвращаясь к теме моего проекта «Жир и мыло – это единство или борьба?» я могу с уверенностью сказать, что «Жир и мыло – это и единство, и постоянная борьба!!!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77DB6E-938B-4853-B92B-B613375D7E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979638-A1D8-42AD-A3B4-70FBD44F00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Вопрос гигиены для человека был актуален с давних времен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Всем известно, что соблюдение личной гигиены является залогом сохранения здоровья на долгие год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D27BD5-1767-4666-9CBF-24E9AF8E9D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Ежедневно мы сталкиваемся со множеством источников загрязнений: поручни общественного транспорта, шерсть домашнего любимца, овощи и фрукты, клавиатура компьютера 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Этот список можно перечислять до бесконеч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Вымыв руки после улицы, магазина, общественного транспорта можно обезопасить себя от различных заболева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C6BB12-D416-4C10-B3FB-57089D1B46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Все мы знаем, что мыло состоит из жира и щелоч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Жиры отделяют загрязнения, а щелочи их растворяю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64E294-D9EA-42EC-A815-ED57DEB1C9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В природе можно встретить жиры животного и растительного происхожд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Источниками животных жиров являются живые организм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Растительные жиры мы получаем из растений. Чаще всего они бывают жидкими, и поэтому их называют маслам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Многие жиры обладают не только питательными свойствами, но еще и лечебны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274DE4-DCA5-4FB0-A856-803FBF1314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Жиры являются основным источником нашего пита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Они помогают переносить нам неблагоприятные условия окружающей среды и накапливать запасы энергии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DCF202-3EB7-4B9D-B53C-E42409AF08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Arial"/>
                <a:ea typeface="Arial"/>
              </a:rPr>
              <a:t>Мыло, которое получают из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595959"/>
                </a:solidFill>
                <a:latin typeface="Arial"/>
                <a:ea typeface="Arial"/>
              </a:rPr>
              <a:t>жиров, используют как средство бытовой химии или как косметическое средств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Arial"/>
                <a:ea typeface="Arial"/>
              </a:rPr>
              <a:t>Косметическими средствами мы очищаем и ухаживаем за кожей, а с помощью бытовой химии мы поддерживаем чистоту в дом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21BB8C-52DE-454D-881F-1B0F01605C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Arial"/>
                <a:ea typeface="Arial"/>
              </a:rPr>
              <a:t>Мыло эффективно избавляет кожу от грязи, пыли и бактер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Arial"/>
                <a:ea typeface="Arial"/>
              </a:rPr>
              <a:t>Многие виды мыла благодаря специальным добавкам обладают увлажняющими, заживляющими и антибактериальными свойств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342F1E-468A-446D-B17B-EE80A0847D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A2545-60B4-4F91-8ECA-315BDF00F1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25BA5-116A-43C4-8A90-77EE3A8FC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F33AA-80B3-4367-935A-D818A3A4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23744-4F92-49FF-A230-3C1827A863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D2349E-B430-4CC5-B876-645FD554A8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5CED24-9C48-44D4-B11E-6A758D65D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7A165C-277D-4E0E-A5FE-94F2EAD0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F6BEAC-0CF3-4FC0-94A0-51C81ED84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DC0BAB-D51B-40E0-93C4-68F0E60AA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62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4B9F6A-7E17-4629-845F-CA4F5389E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2CC333-0009-4676-AD93-873559D6F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6BB98-CD0A-4B37-A92B-1FCB2D289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6A19E0-2C7B-4920-8E3C-B703FEC75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3AAF9B-3B6E-4EF2-8390-22A7F217D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C5D3A8-7D7B-4E6A-AD77-4BD6C93F6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E464B9-1C9C-4D67-9D7C-8AE65D2F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BE429C-0546-4394-8D1C-416B0B3A8F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ECF91-6ED9-480E-9180-5660BD1FF4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5A67E-C74C-486F-B3C3-224D22F97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7C8AB-AC3B-43B8-A4ED-3BEE7F0EF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6D3E6-09F8-4994-9F0A-5437C9A5A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4E587-2408-4DBD-AC1E-01FB6D492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36827-FD29-427E-8A09-4DCD38BB7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62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90C0D-21A7-4CDE-A5BD-E3E2CA0FD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24253-4129-47AD-A7D3-8D96FE85B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854D4-35B6-4739-8DCE-F0E63E7AF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62408-51CF-4FEB-851A-85ACC6D0F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A37A8-8BB3-49D4-A43F-BF1E1D293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29DD4-D548-4450-9118-A84EA0E7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22C62-0453-4375-8620-C92E4E20F4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41315A-6D0D-4D40-83A3-1B7A633249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AFB71D-CECA-45EE-80C0-D46510390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B3521A-58CF-4290-84B6-8AF1CCA4B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3301C-3E55-4A2F-88C1-2C8E3ABB5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F93B7B-7357-4902-A903-832F98149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91003D-3FD2-47A2-93DB-46E730E64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62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7353AC-2150-4F64-A940-AFA58201F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0C0C64-E108-46EA-BA52-6D24A1E51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4E3754-0983-4745-8DC5-7AAAB2E6B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714B20-4D45-4A83-8FFE-4CD784BE4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85287B-FB9E-4F72-A980-494886939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63D391-1B1C-456F-9076-9E583B8A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97DE31-46E5-4CCA-B353-9274E8E7BC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0C5BC0-4404-4701-93A6-A6539384B7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84A69-4A6A-4DB1-80A6-778453183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01F5E6-C94A-4EB0-A555-BB323C891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572551-01A7-47A2-B05C-150BB104F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148026-EB0E-41DE-BD36-6BDEB7C0F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55FF16-B93E-4C8B-9B0D-31E8509FF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62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197B66-C36F-4DA4-B65C-F6909A112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8FCB50-EFF2-4D92-9AE7-2A4767435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AB8936-37AD-4BC3-A933-7A070F4A3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5C3A07-9D6B-47D2-BE2E-5BE9A6D78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743D86-159C-4A68-9999-FA2DB1F68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F8CF5A-E7DC-4071-8C87-F0585B83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62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57AD0-C7D0-4459-9AB4-5786C5F4B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FC4561-3CED-44DC-802F-C4E0EA2ADF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FFF20-B651-4A34-8FA5-A9073D5BD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89709-05A9-48FE-B4F9-0A4AF58C3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47683-C780-43B7-B383-6AEC0B93F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65240" y="1036800"/>
            <a:ext cx="1166760" cy="1166760"/>
            <a:chOff x="165240" y="1036800"/>
            <a:chExt cx="1166760" cy="1166760"/>
          </a:xfrm>
        </p:grpSpPr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6760" cy="11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40000">
              <a:off x="351000" y="1213920"/>
              <a:ext cx="79200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1280" y="630396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613360" y="6303960"/>
            <a:ext cx="45396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AC9A40-B531-42D2-B843-13D438A23A06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65240" y="1036800"/>
            <a:ext cx="1166760" cy="1166760"/>
            <a:chOff x="165240" y="1036800"/>
            <a:chExt cx="1166760" cy="1166760"/>
          </a:xfrm>
        </p:grpSpPr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6760" cy="11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40000">
              <a:off x="351000" y="1213920"/>
              <a:ext cx="79200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914400" y="1407960"/>
            <a:ext cx="228600" cy="222480"/>
            <a:chOff x="914400" y="1407960"/>
            <a:chExt cx="228600" cy="222480"/>
          </a:xfrm>
        </p:grpSpPr>
        <p:pic>
          <p:nvPicPr>
            <p:cNvPr id="56" name="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28600" cy="2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61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w="12600">
            <a:solidFill>
              <a:srgbClr val="307f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3581280" y="630396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8613360" y="6303960"/>
            <a:ext cx="45396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D5CA399-4818-49E6-95EF-E39800C07749}" type="slidenum">
              <a: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65240" y="1036800"/>
            <a:ext cx="1166760" cy="1166760"/>
            <a:chOff x="165240" y="1036800"/>
            <a:chExt cx="1166760" cy="1166760"/>
          </a:xfrm>
        </p:grpSpPr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6760" cy="11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40000">
              <a:off x="351000" y="1213920"/>
              <a:ext cx="79200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163600" y="2809800"/>
            <a:ext cx="228600" cy="222480"/>
            <a:chOff x="2163600" y="2809800"/>
            <a:chExt cx="228600" cy="222480"/>
          </a:xfrm>
        </p:grpSpPr>
        <p:pic>
          <p:nvPicPr>
            <p:cNvPr id="110" name="" descr=""/>
            <p:cNvPicPr/>
            <p:nvPr/>
          </p:nvPicPr>
          <p:blipFill>
            <a:blip r:embed="rId4"/>
            <a:stretch/>
          </p:blipFill>
          <p:spPr>
            <a:xfrm>
              <a:off x="2163600" y="2809800"/>
              <a:ext cx="228600" cy="2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203560" y="2844720"/>
              <a:ext cx="1443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w="12600">
            <a:solidFill>
              <a:srgbClr val="307f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5"/>
          </p:nvPr>
        </p:nvSpPr>
        <p:spPr>
          <a:xfrm>
            <a:off x="3581280" y="630396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6"/>
          </p:nvPr>
        </p:nvSpPr>
        <p:spPr>
          <a:xfrm>
            <a:off x="8613360" y="6303960"/>
            <a:ext cx="45396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6C5498A-0F37-4DCC-A1FC-9F2A52607420}" type="slidenum">
              <a: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65240" y="1036800"/>
            <a:ext cx="1166760" cy="1166760"/>
            <a:chOff x="165240" y="1036800"/>
            <a:chExt cx="1166760" cy="1166760"/>
          </a:xfrm>
        </p:grpSpPr>
        <p:pic>
          <p:nvPicPr>
            <p:cNvPr id="157" name="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6760" cy="11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2340000">
              <a:off x="351000" y="1213920"/>
              <a:ext cx="79200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7"/>
          </p:nvPr>
        </p:nvSpPr>
        <p:spPr>
          <a:xfrm>
            <a:off x="3581280" y="630396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8"/>
          </p:nvPr>
        </p:nvSpPr>
        <p:spPr>
          <a:xfrm>
            <a:off x="8613360" y="6303960"/>
            <a:ext cx="45396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01C0E82-0B4B-4E47-8F9E-B59928FCA45A}" type="slidenum">
              <a: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65240" y="1036800"/>
            <a:ext cx="1166760" cy="1166760"/>
            <a:chOff x="165240" y="1036800"/>
            <a:chExt cx="1166760" cy="1166760"/>
          </a:xfrm>
        </p:grpSpPr>
        <p:pic>
          <p:nvPicPr>
            <p:cNvPr id="207" name="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6760" cy="11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 rot="2340000">
              <a:off x="351000" y="1213920"/>
              <a:ext cx="79200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646200" y="969840"/>
            <a:ext cx="4800600" cy="4799160"/>
            <a:chOff x="646200" y="969840"/>
            <a:chExt cx="4800600" cy="4799160"/>
          </a:xfrm>
        </p:grpSpPr>
        <p:pic>
          <p:nvPicPr>
            <p:cNvPr id="212" name="" descr=""/>
            <p:cNvPicPr/>
            <p:nvPr/>
          </p:nvPicPr>
          <p:blipFill>
            <a:blip r:embed="rId4"/>
            <a:stretch/>
          </p:blipFill>
          <p:spPr>
            <a:xfrm>
              <a:off x="646200" y="969840"/>
              <a:ext cx="4800600" cy="479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762120" y="1066680"/>
              <a:ext cx="4568760" cy="456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 rot="19440000">
            <a:off x="39672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 rot="2100000">
            <a:off x="5003640" y="939960"/>
            <a:ext cx="64944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9"/>
          </p:nvPr>
        </p:nvSpPr>
        <p:spPr>
          <a:xfrm>
            <a:off x="3581280" y="630396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sldNum" idx="10"/>
          </p:nvPr>
        </p:nvSpPr>
        <p:spPr>
          <a:xfrm>
            <a:off x="8613360" y="6303960"/>
            <a:ext cx="45396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2C6FAF5-1001-4BD3-8CAA-DF30E5408E95}" type="slidenum">
              <a:rPr b="0" lang="ru-RU" sz="1200" spc="-1" strike="noStrike">
                <a:solidFill>
                  <a:srgbClr val="b5a788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image" Target="../media/image60.jpeg"/><Relationship Id="rId6" Type="http://schemas.openxmlformats.org/officeDocument/2006/relationships/image" Target="../media/image6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image" Target="../media/image64.jpeg"/><Relationship Id="rId5" Type="http://schemas.openxmlformats.org/officeDocument/2006/relationships/image" Target="../media/image6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image" Target="../media/image68.jpeg"/><Relationship Id="rId5" Type="http://schemas.openxmlformats.org/officeDocument/2006/relationships/image" Target="../media/image6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image" Target="../media/image7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4.png"/><Relationship Id="rId3" Type="http://schemas.openxmlformats.org/officeDocument/2006/relationships/image" Target="../media/image7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0.jpeg"/><Relationship Id="rId3" Type="http://schemas.openxmlformats.org/officeDocument/2006/relationships/image" Target="../media/image81.jpeg"/><Relationship Id="rId4" Type="http://schemas.openxmlformats.org/officeDocument/2006/relationships/image" Target="../media/image82.jpeg"/><Relationship Id="rId5" Type="http://schemas.openxmlformats.org/officeDocument/2006/relationships/image" Target="../media/image8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5.jpeg"/><Relationship Id="rId3" Type="http://schemas.openxmlformats.org/officeDocument/2006/relationships/image" Target="../media/image8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7.jpeg"/><Relationship Id="rId3" Type="http://schemas.openxmlformats.org/officeDocument/2006/relationships/image" Target="../media/image88.jpeg"/><Relationship Id="rId4" Type="http://schemas.openxmlformats.org/officeDocument/2006/relationships/image" Target="../media/image8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image" Target="../media/image28.jpeg"/><Relationship Id="rId11" Type="http://schemas.openxmlformats.org/officeDocument/2006/relationships/image" Target="../media/image29.jpeg"/><Relationship Id="rId12" Type="http://schemas.openxmlformats.org/officeDocument/2006/relationships/image" Target="../media/image30.jpeg"/><Relationship Id="rId13" Type="http://schemas.openxmlformats.org/officeDocument/2006/relationships/image" Target="../media/image31.jpeg"/><Relationship Id="rId14" Type="http://schemas.openxmlformats.org/officeDocument/2006/relationships/image" Target="../media/image32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pn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image" Target="../media/image42.jpeg"/><Relationship Id="rId8" Type="http://schemas.openxmlformats.org/officeDocument/2006/relationships/image" Target="../media/image43.jpeg"/><Relationship Id="rId9" Type="http://schemas.openxmlformats.org/officeDocument/2006/relationships/image" Target="../media/image44.jpeg"/><Relationship Id="rId10" Type="http://schemas.openxmlformats.org/officeDocument/2006/relationships/image" Target="../media/image45.jpeg"/><Relationship Id="rId11" Type="http://schemas.openxmlformats.org/officeDocument/2006/relationships/image" Target="../media/image46.jpeg"/><Relationship Id="rId12" Type="http://schemas.openxmlformats.org/officeDocument/2006/relationships/image" Target="../media/image47.jpeg"/><Relationship Id="rId13" Type="http://schemas.openxmlformats.org/officeDocument/2006/relationships/image" Target="../media/image48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9.pn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432080" y="1616040"/>
            <a:ext cx="740700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 Black"/>
                <a:ea typeface="Arial Unicode MS"/>
              </a:rPr>
              <a:t>ЖИР И МЫЛО: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Arial Black"/>
                <a:ea typeface="Arial Unicode MS"/>
              </a:rPr>
              <a:t>ЕДИНСТВО ИЛИ БОРЬБ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643280" y="5084640"/>
            <a:ext cx="3814920" cy="16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0" anchor="t">
            <a:noAutofit/>
          </a:bodyPr>
          <a:p>
            <a:pPr marL="2700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2700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9010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320e04"/>
                </a:solidFill>
                <a:latin typeface="Arial"/>
                <a:ea typeface="Arial"/>
              </a:rPr>
              <a:t>Торопецкая Анна,</a:t>
            </a:r>
            <a:br>
              <a:rPr sz="2000"/>
            </a:br>
            <a:r>
              <a:rPr b="0" i="1" lang="ru-RU" sz="2000" spc="-1" strike="noStrike">
                <a:solidFill>
                  <a:srgbClr val="320e04"/>
                </a:solidFill>
                <a:latin typeface="Arial"/>
                <a:ea typeface="Arial"/>
              </a:rPr>
              <a:t>ученица 2 «А» класса ГБОУ СОШ №662 им. Р.Л.Доват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2700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9010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320e04"/>
                </a:solidFill>
                <a:latin typeface="Arial"/>
                <a:ea typeface="Arial"/>
              </a:rPr>
              <a:t>Руководитель проекта Буданова Ирина Владими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1941480" y="3429000"/>
            <a:ext cx="2486160" cy="24861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042920" y="190440"/>
            <a:ext cx="7850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Изучаем свойства мыла и жи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187280" y="1481040"/>
            <a:ext cx="7705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7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4600"/>
                <a:tab algn="l" pos="622440"/>
                <a:tab algn="l" pos="1071720"/>
                <a:tab algn="l" pos="1521000"/>
                <a:tab algn="l" pos="1969920"/>
                <a:tab algn="l" pos="2419200"/>
                <a:tab algn="l" pos="2868480"/>
                <a:tab algn="l" pos="3317760"/>
                <a:tab algn="l" pos="3767040"/>
                <a:tab algn="l" pos="4216320"/>
                <a:tab algn="l" pos="4665600"/>
                <a:tab algn="l" pos="5114880"/>
                <a:tab algn="l" pos="5564160"/>
                <a:tab algn="l" pos="6013440"/>
                <a:tab algn="l" pos="6462720"/>
                <a:tab algn="l" pos="6912000"/>
                <a:tab algn="l" pos="7361280"/>
                <a:tab algn="l" pos="7810560"/>
                <a:tab algn="l" pos="8259840"/>
                <a:tab algn="l" pos="8709120"/>
                <a:tab algn="l" pos="9158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4b2203"/>
                </a:solidFill>
                <a:latin typeface="Arial"/>
                <a:ea typeface="Arial"/>
              </a:rPr>
              <a:t>Мы решили провести несколько экспериментов с жиром и мылом для изучения как изменятся их свойства при воздействии воды и ог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4600"/>
                <a:tab algn="l" pos="622440"/>
                <a:tab algn="l" pos="1071720"/>
                <a:tab algn="l" pos="1521000"/>
                <a:tab algn="l" pos="1969920"/>
                <a:tab algn="l" pos="2419200"/>
                <a:tab algn="l" pos="2868480"/>
                <a:tab algn="l" pos="3317760"/>
                <a:tab algn="l" pos="3767040"/>
                <a:tab algn="l" pos="4216320"/>
                <a:tab algn="l" pos="4665600"/>
                <a:tab algn="l" pos="5114880"/>
                <a:tab algn="l" pos="5564160"/>
                <a:tab algn="l" pos="6013440"/>
                <a:tab algn="l" pos="6462720"/>
                <a:tab algn="l" pos="6912000"/>
                <a:tab algn="l" pos="7361280"/>
                <a:tab algn="l" pos="7810560"/>
                <a:tab algn="l" pos="8259840"/>
                <a:tab algn="l" pos="8709120"/>
                <a:tab algn="l" pos="9158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4600"/>
                <a:tab algn="l" pos="622440"/>
                <a:tab algn="l" pos="1071720"/>
                <a:tab algn="l" pos="1521000"/>
                <a:tab algn="l" pos="1969920"/>
                <a:tab algn="l" pos="2419200"/>
                <a:tab algn="l" pos="2868480"/>
                <a:tab algn="l" pos="3317760"/>
                <a:tab algn="l" pos="3767040"/>
                <a:tab algn="l" pos="4216320"/>
                <a:tab algn="l" pos="4665600"/>
                <a:tab algn="l" pos="5114880"/>
                <a:tab algn="l" pos="5564160"/>
                <a:tab algn="l" pos="6013440"/>
                <a:tab algn="l" pos="6462720"/>
                <a:tab algn="l" pos="6912000"/>
                <a:tab algn="l" pos="7361280"/>
                <a:tab algn="l" pos="7810560"/>
                <a:tab algn="l" pos="8259840"/>
                <a:tab algn="l" pos="8709120"/>
                <a:tab algn="l" pos="9158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4600"/>
                <a:tab algn="l" pos="622440"/>
                <a:tab algn="l" pos="1071720"/>
                <a:tab algn="l" pos="1521000"/>
                <a:tab algn="l" pos="1969920"/>
                <a:tab algn="l" pos="2419200"/>
                <a:tab algn="l" pos="2868480"/>
                <a:tab algn="l" pos="3317760"/>
                <a:tab algn="l" pos="3767040"/>
                <a:tab algn="l" pos="4216320"/>
                <a:tab algn="l" pos="4665600"/>
                <a:tab algn="l" pos="5114880"/>
                <a:tab algn="l" pos="5564160"/>
                <a:tab algn="l" pos="6013440"/>
                <a:tab algn="l" pos="6462720"/>
                <a:tab algn="l" pos="6912000"/>
                <a:tab algn="l" pos="7361280"/>
                <a:tab algn="l" pos="7810560"/>
                <a:tab algn="l" pos="8259840"/>
                <a:tab algn="l" pos="8709120"/>
                <a:tab algn="l" pos="9158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4600"/>
                <a:tab algn="l" pos="622440"/>
                <a:tab algn="l" pos="1071720"/>
                <a:tab algn="l" pos="1521000"/>
                <a:tab algn="l" pos="1969920"/>
                <a:tab algn="l" pos="2419200"/>
                <a:tab algn="l" pos="2868480"/>
                <a:tab algn="l" pos="3317760"/>
                <a:tab algn="l" pos="3767040"/>
                <a:tab algn="l" pos="4216320"/>
                <a:tab algn="l" pos="4665600"/>
                <a:tab algn="l" pos="5114880"/>
                <a:tab algn="l" pos="5564160"/>
                <a:tab algn="l" pos="6013440"/>
                <a:tab algn="l" pos="6462720"/>
                <a:tab algn="l" pos="6912000"/>
                <a:tab algn="l" pos="7361280"/>
                <a:tab algn="l" pos="7810560"/>
                <a:tab algn="l" pos="8259840"/>
                <a:tab algn="l" pos="8709120"/>
                <a:tab algn="l" pos="9158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4b2203"/>
                </a:solidFill>
                <a:latin typeface="Arial"/>
                <a:ea typeface="Arial"/>
              </a:rPr>
              <a:t>А также рассмотрели капельку жира и мыла под микроскоп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4600"/>
                <a:tab algn="l" pos="622440"/>
                <a:tab algn="l" pos="1071720"/>
                <a:tab algn="l" pos="1521000"/>
                <a:tab algn="l" pos="1969920"/>
                <a:tab algn="l" pos="2419200"/>
                <a:tab algn="l" pos="2868480"/>
                <a:tab algn="l" pos="3317760"/>
                <a:tab algn="l" pos="3767040"/>
                <a:tab algn="l" pos="4216320"/>
                <a:tab algn="l" pos="4665600"/>
                <a:tab algn="l" pos="5114880"/>
                <a:tab algn="l" pos="5564160"/>
                <a:tab algn="l" pos="6013440"/>
                <a:tab algn="l" pos="6462720"/>
                <a:tab algn="l" pos="6912000"/>
                <a:tab algn="l" pos="7361280"/>
                <a:tab algn="l" pos="7810560"/>
                <a:tab algn="l" pos="8259840"/>
                <a:tab algn="l" pos="8709120"/>
                <a:tab algn="l" pos="9158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2363760" y="2697120"/>
            <a:ext cx="1847880" cy="130824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3"/>
          <a:stretch/>
        </p:blipFill>
        <p:spPr>
          <a:xfrm>
            <a:off x="5349960" y="2654280"/>
            <a:ext cx="2030400" cy="13510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4"/>
          <a:stretch/>
        </p:blipFill>
        <p:spPr>
          <a:xfrm>
            <a:off x="6996240" y="4995720"/>
            <a:ext cx="1576440" cy="157644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5"/>
          <a:stretch/>
        </p:blipFill>
        <p:spPr>
          <a:xfrm>
            <a:off x="4000680" y="4429080"/>
            <a:ext cx="1544400" cy="2205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042920" y="274680"/>
            <a:ext cx="7850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Эксперимент 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187280" y="1481040"/>
            <a:ext cx="763272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1746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174600"/>
                <a:tab algn="l" pos="622440"/>
                <a:tab algn="l" pos="1071720"/>
                <a:tab algn="l" pos="1521000"/>
                <a:tab algn="l" pos="1969920"/>
                <a:tab algn="l" pos="2419200"/>
                <a:tab algn="l" pos="2868480"/>
                <a:tab algn="l" pos="3317760"/>
                <a:tab algn="l" pos="3767040"/>
                <a:tab algn="l" pos="4216320"/>
                <a:tab algn="l" pos="4665600"/>
                <a:tab algn="l" pos="5114880"/>
                <a:tab algn="l" pos="5564160"/>
                <a:tab algn="l" pos="6013440"/>
                <a:tab algn="l" pos="6462720"/>
                <a:tab algn="l" pos="6912000"/>
                <a:tab algn="l" pos="7361280"/>
                <a:tab algn="l" pos="7810560"/>
                <a:tab algn="l" pos="8259840"/>
                <a:tab algn="l" pos="8709120"/>
                <a:tab algn="l" pos="9158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Над фитилем мы попробовали подержать кусочек туалетного мыла. Никакой реакции не произошл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46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174600"/>
                <a:tab algn="l" pos="622440"/>
                <a:tab algn="l" pos="1071720"/>
                <a:tab algn="l" pos="1521000"/>
                <a:tab algn="l" pos="1969920"/>
                <a:tab algn="l" pos="2419200"/>
                <a:tab algn="l" pos="2868480"/>
                <a:tab algn="l" pos="3317760"/>
                <a:tab algn="l" pos="3767040"/>
                <a:tab algn="l" pos="4216320"/>
                <a:tab algn="l" pos="4665600"/>
                <a:tab algn="l" pos="5114880"/>
                <a:tab algn="l" pos="5564160"/>
                <a:tab algn="l" pos="6013440"/>
                <a:tab algn="l" pos="6462720"/>
                <a:tab algn="l" pos="6912000"/>
                <a:tab algn="l" pos="7361280"/>
                <a:tab algn="l" pos="7810560"/>
                <a:tab algn="l" pos="8259840"/>
                <a:tab algn="l" pos="8709120"/>
                <a:tab algn="l" pos="9158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46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174600"/>
                <a:tab algn="l" pos="622440"/>
                <a:tab algn="l" pos="1071720"/>
                <a:tab algn="l" pos="1521000"/>
                <a:tab algn="l" pos="1969920"/>
                <a:tab algn="l" pos="2419200"/>
                <a:tab algn="l" pos="2868480"/>
                <a:tab algn="l" pos="3317760"/>
                <a:tab algn="l" pos="3767040"/>
                <a:tab algn="l" pos="4216320"/>
                <a:tab algn="l" pos="4665600"/>
                <a:tab algn="l" pos="5114880"/>
                <a:tab algn="l" pos="5564160"/>
                <a:tab algn="l" pos="6013440"/>
                <a:tab algn="l" pos="6462720"/>
                <a:tab algn="l" pos="6912000"/>
                <a:tab algn="l" pos="7361280"/>
                <a:tab algn="l" pos="7810560"/>
                <a:tab algn="l" pos="8259840"/>
                <a:tab algn="l" pos="8709120"/>
                <a:tab algn="l" pos="9158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46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174600"/>
                <a:tab algn="l" pos="622440"/>
                <a:tab algn="l" pos="1071720"/>
                <a:tab algn="l" pos="1521000"/>
                <a:tab algn="l" pos="1969920"/>
                <a:tab algn="l" pos="2419200"/>
                <a:tab algn="l" pos="2868480"/>
                <a:tab algn="l" pos="3317760"/>
                <a:tab algn="l" pos="3767040"/>
                <a:tab algn="l" pos="4216320"/>
                <a:tab algn="l" pos="4665600"/>
                <a:tab algn="l" pos="5114880"/>
                <a:tab algn="l" pos="5564160"/>
                <a:tab algn="l" pos="6013440"/>
                <a:tab algn="l" pos="6462720"/>
                <a:tab algn="l" pos="6912000"/>
                <a:tab algn="l" pos="7361280"/>
                <a:tab algn="l" pos="7810560"/>
                <a:tab algn="l" pos="8259840"/>
                <a:tab algn="l" pos="8709120"/>
                <a:tab algn="l" pos="9158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46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174600"/>
                <a:tab algn="l" pos="622440"/>
                <a:tab algn="l" pos="1071720"/>
                <a:tab algn="l" pos="1521000"/>
                <a:tab algn="l" pos="1969920"/>
                <a:tab algn="l" pos="2419200"/>
                <a:tab algn="l" pos="2868480"/>
                <a:tab algn="l" pos="3317760"/>
                <a:tab algn="l" pos="3767040"/>
                <a:tab algn="l" pos="4216320"/>
                <a:tab algn="l" pos="4665600"/>
                <a:tab algn="l" pos="5114880"/>
                <a:tab algn="l" pos="5564160"/>
                <a:tab algn="l" pos="6013440"/>
                <a:tab algn="l" pos="6462720"/>
                <a:tab algn="l" pos="6912000"/>
                <a:tab algn="l" pos="7361280"/>
                <a:tab algn="l" pos="7810560"/>
                <a:tab algn="l" pos="8259840"/>
                <a:tab algn="l" pos="8709120"/>
                <a:tab algn="l" pos="9158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46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174600"/>
                <a:tab algn="l" pos="622440"/>
                <a:tab algn="l" pos="1071720"/>
                <a:tab algn="l" pos="1521000"/>
                <a:tab algn="l" pos="1969920"/>
                <a:tab algn="l" pos="2419200"/>
                <a:tab algn="l" pos="2868480"/>
                <a:tab algn="l" pos="3317760"/>
                <a:tab algn="l" pos="3767040"/>
                <a:tab algn="l" pos="4216320"/>
                <a:tab algn="l" pos="4665600"/>
                <a:tab algn="l" pos="5114880"/>
                <a:tab algn="l" pos="5564160"/>
                <a:tab algn="l" pos="6013440"/>
                <a:tab algn="l" pos="6462720"/>
                <a:tab algn="l" pos="6912000"/>
                <a:tab algn="l" pos="7361280"/>
                <a:tab algn="l" pos="7810560"/>
                <a:tab algn="l" pos="8259840"/>
                <a:tab algn="l" pos="8709120"/>
                <a:tab algn="l" pos="9158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После этого над фитилем мы подержали кусочек свиного жира.  Жир начал плавиться и появились язычки плам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74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74600"/>
                <a:tab algn="l" pos="622440"/>
                <a:tab algn="l" pos="1071720"/>
                <a:tab algn="l" pos="1521000"/>
                <a:tab algn="l" pos="1969920"/>
                <a:tab algn="l" pos="2419200"/>
                <a:tab algn="l" pos="2868480"/>
                <a:tab algn="l" pos="3317760"/>
                <a:tab algn="l" pos="3767040"/>
                <a:tab algn="l" pos="4216320"/>
                <a:tab algn="l" pos="4665600"/>
                <a:tab algn="l" pos="5114880"/>
                <a:tab algn="l" pos="5564160"/>
                <a:tab algn="l" pos="6013440"/>
                <a:tab algn="l" pos="6462720"/>
                <a:tab algn="l" pos="6912000"/>
                <a:tab algn="l" pos="7361280"/>
                <a:tab algn="l" pos="7810560"/>
                <a:tab algn="l" pos="8259840"/>
                <a:tab algn="l" pos="8709120"/>
                <a:tab algn="l" pos="9158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74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74600"/>
                <a:tab algn="l" pos="622440"/>
                <a:tab algn="l" pos="1071720"/>
                <a:tab algn="l" pos="1521000"/>
                <a:tab algn="l" pos="1969920"/>
                <a:tab algn="l" pos="2419200"/>
                <a:tab algn="l" pos="2868480"/>
                <a:tab algn="l" pos="3317760"/>
                <a:tab algn="l" pos="3767040"/>
                <a:tab algn="l" pos="4216320"/>
                <a:tab algn="l" pos="4665600"/>
                <a:tab algn="l" pos="5114880"/>
                <a:tab algn="l" pos="5564160"/>
                <a:tab algn="l" pos="6013440"/>
                <a:tab algn="l" pos="6462720"/>
                <a:tab algn="l" pos="6912000"/>
                <a:tab algn="l" pos="7361280"/>
                <a:tab algn="l" pos="7810560"/>
                <a:tab algn="l" pos="8259840"/>
                <a:tab algn="l" pos="8709120"/>
                <a:tab algn="l" pos="9158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74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74600"/>
                <a:tab algn="l" pos="622440"/>
                <a:tab algn="l" pos="1071720"/>
                <a:tab algn="l" pos="1521000"/>
                <a:tab algn="l" pos="1969920"/>
                <a:tab algn="l" pos="2419200"/>
                <a:tab algn="l" pos="2868480"/>
                <a:tab algn="l" pos="3317760"/>
                <a:tab algn="l" pos="3767040"/>
                <a:tab algn="l" pos="4216320"/>
                <a:tab algn="l" pos="4665600"/>
                <a:tab algn="l" pos="5114880"/>
                <a:tab algn="l" pos="5564160"/>
                <a:tab algn="l" pos="6013440"/>
                <a:tab algn="l" pos="6462720"/>
                <a:tab algn="l" pos="6912000"/>
                <a:tab algn="l" pos="7361280"/>
                <a:tab algn="l" pos="7810560"/>
                <a:tab algn="l" pos="8259840"/>
                <a:tab algn="l" pos="8709120"/>
                <a:tab algn="l" pos="9158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74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74600"/>
                <a:tab algn="l" pos="622440"/>
                <a:tab algn="l" pos="1071720"/>
                <a:tab algn="l" pos="1521000"/>
                <a:tab algn="l" pos="1969920"/>
                <a:tab algn="l" pos="2419200"/>
                <a:tab algn="l" pos="2868480"/>
                <a:tab algn="l" pos="3317760"/>
                <a:tab algn="l" pos="3767040"/>
                <a:tab algn="l" pos="4216320"/>
                <a:tab algn="l" pos="4665600"/>
                <a:tab algn="l" pos="5114880"/>
                <a:tab algn="l" pos="5564160"/>
                <a:tab algn="l" pos="6013440"/>
                <a:tab algn="l" pos="6462720"/>
                <a:tab algn="l" pos="6912000"/>
                <a:tab algn="l" pos="7361280"/>
                <a:tab algn="l" pos="7810560"/>
                <a:tab algn="l" pos="8259840"/>
                <a:tab algn="l" pos="8709120"/>
                <a:tab algn="l" pos="915840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Вывод эксперимента: </a:t>
            </a:r>
            <a:r>
              <a:rPr b="1" lang="ru-RU" sz="20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Жир хорошо горит, мыло – 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4286160" y="2214720"/>
            <a:ext cx="2286000" cy="12855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2357280" y="4143240"/>
            <a:ext cx="828720" cy="150048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4"/>
          <a:stretch/>
        </p:blipFill>
        <p:spPr>
          <a:xfrm>
            <a:off x="6643800" y="4143240"/>
            <a:ext cx="1330200" cy="146700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5"/>
          <a:stretch/>
        </p:blipFill>
        <p:spPr>
          <a:xfrm>
            <a:off x="4154400" y="4143240"/>
            <a:ext cx="1560600" cy="143064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6"/>
          <a:stretch/>
        </p:blipFill>
        <p:spPr>
          <a:xfrm>
            <a:off x="3040200" y="2143080"/>
            <a:ext cx="1031760" cy="1428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042920" y="274680"/>
            <a:ext cx="7850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Эксперимент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042920" y="1125360"/>
            <a:ext cx="777708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3603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В стакан воды мы капнули несколько капель подсолнечного масла. Капли масла остались на поверхности во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03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03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03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03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03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В другой стакан с водой мы бросили небольшой кусочек мыла. Кусочек мыла сразу опустился на дно стака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6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6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6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6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6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Вывод эксперимента: </a:t>
            </a:r>
            <a:r>
              <a:rPr b="1" lang="ru-RU" sz="20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Жир плавает в воде, мыло – 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2849400" y="2071800"/>
            <a:ext cx="936720" cy="142848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3"/>
          <a:stretch/>
        </p:blipFill>
        <p:spPr>
          <a:xfrm>
            <a:off x="5357880" y="2127240"/>
            <a:ext cx="1643040" cy="137304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4"/>
          <a:stretch/>
        </p:blipFill>
        <p:spPr>
          <a:xfrm>
            <a:off x="2928960" y="4214880"/>
            <a:ext cx="792000" cy="142884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5"/>
          <a:stretch/>
        </p:blipFill>
        <p:spPr>
          <a:xfrm>
            <a:off x="5643720" y="4170240"/>
            <a:ext cx="1214280" cy="1470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042920" y="274680"/>
            <a:ext cx="7850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Эксперимент 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042920" y="1052640"/>
            <a:ext cx="777708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252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144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В кастрюлю мы положили кусочек жира и поставили кастрюлю подогреваться. Жир начал плавить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144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144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144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144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144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Тоже самое мы проделали и с кусочком мыла. С мылом ничего не произош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Вывод эксперимента</a:t>
            </a:r>
            <a:r>
              <a:rPr b="1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: </a:t>
            </a:r>
            <a:r>
              <a:rPr b="1" lang="ru-RU" sz="20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Жир легко плавится, мыло – 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2286000" y="2071800"/>
            <a:ext cx="1219320" cy="140148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4643280" y="2054160"/>
            <a:ext cx="2571840" cy="144612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4"/>
          <a:stretch/>
        </p:blipFill>
        <p:spPr>
          <a:xfrm>
            <a:off x="1928880" y="4057560"/>
            <a:ext cx="1928880" cy="15861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5"/>
          <a:stretch/>
        </p:blipFill>
        <p:spPr>
          <a:xfrm>
            <a:off x="4572000" y="4000680"/>
            <a:ext cx="2857680" cy="1571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1042920" y="274680"/>
            <a:ext cx="7850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Эксперимент 4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042920" y="1052640"/>
            <a:ext cx="810108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252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03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В посуду с теплой водой мы опустили небольшой кусочек мыла. Немного помешали. Мыло начало растворять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03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03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03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03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03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В другую посуду мы налили немного оливкового масла. </a:t>
            </a:r>
            <a:br>
              <a:rPr sz="2000"/>
            </a:b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Масло не растворилось и осталось на поверхности в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6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6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6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6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6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Вывод эксперимента: </a:t>
            </a:r>
            <a:r>
              <a:rPr b="1" lang="ru-RU" sz="20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Мыло растворимо в воде, жир – 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2695680" y="2104920"/>
            <a:ext cx="1876320" cy="137160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3"/>
          <a:stretch/>
        </p:blipFill>
        <p:spPr>
          <a:xfrm>
            <a:off x="5143680" y="2143080"/>
            <a:ext cx="1590480" cy="13050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4"/>
          <a:stretch/>
        </p:blipFill>
        <p:spPr>
          <a:xfrm>
            <a:off x="5143680" y="4071960"/>
            <a:ext cx="1623960" cy="157788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5"/>
          <a:stretch/>
        </p:blipFill>
        <p:spPr>
          <a:xfrm>
            <a:off x="2786040" y="4071960"/>
            <a:ext cx="1674720" cy="1533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1393920" y="285840"/>
            <a:ext cx="7750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Мыло и жир под микроскоп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071720" y="1500120"/>
            <a:ext cx="7777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252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2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2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2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2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2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2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2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500" spc="-1" strike="noStrike">
                <a:solidFill>
                  <a:srgbClr val="4b2203"/>
                </a:solidFill>
                <a:latin typeface="Arial"/>
                <a:ea typeface="Arial"/>
              </a:rPr>
              <a:t>	</a:t>
            </a:r>
            <a:r>
              <a:rPr b="1" lang="ru-RU" sz="2500" spc="-1" strike="noStrike">
                <a:solidFill>
                  <a:srgbClr val="4b2203"/>
                </a:solidFill>
                <a:latin typeface="Arial"/>
                <a:ea typeface="Arial"/>
              </a:rPr>
              <a:t>	</a:t>
            </a:r>
            <a:r>
              <a:rPr b="1" lang="ru-RU" sz="2500" spc="-1" strike="noStrike">
                <a:solidFill>
                  <a:srgbClr val="4b2203"/>
                </a:solidFill>
                <a:latin typeface="Arial"/>
                <a:ea typeface="Arial"/>
              </a:rPr>
              <a:t>      </a:t>
            </a:r>
            <a:r>
              <a:rPr b="1" lang="ru-RU" sz="2500" spc="-1" strike="noStrike">
                <a:solidFill>
                  <a:srgbClr val="4b2203"/>
                </a:solidFill>
                <a:latin typeface="Arial"/>
                <a:ea typeface="Arial"/>
              </a:rPr>
              <a:t>Жир</a:t>
            </a:r>
            <a:r>
              <a:rPr b="1" lang="ru-RU" sz="2500" spc="-1" strike="noStrike">
                <a:solidFill>
                  <a:srgbClr val="4b2203"/>
                </a:solidFill>
                <a:latin typeface="Arial"/>
                <a:ea typeface="Arial"/>
              </a:rPr>
              <a:t>	</a:t>
            </a:r>
            <a:r>
              <a:rPr b="1" lang="ru-RU" sz="2500" spc="-1" strike="noStrike">
                <a:solidFill>
                  <a:srgbClr val="4b2203"/>
                </a:solidFill>
                <a:latin typeface="Arial"/>
                <a:ea typeface="Arial"/>
              </a:rPr>
              <a:t>	</a:t>
            </a:r>
            <a:r>
              <a:rPr b="1" lang="ru-RU" sz="2500" spc="-1" strike="noStrike">
                <a:solidFill>
                  <a:srgbClr val="4b2203"/>
                </a:solidFill>
                <a:latin typeface="Arial"/>
                <a:ea typeface="Arial"/>
              </a:rPr>
              <a:t>             Мыл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5214960" y="207180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1714680" y="2071800"/>
            <a:ext cx="2857320" cy="2143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1143000" y="274680"/>
            <a:ext cx="7750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Результаты опроса родите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042920" y="1125360"/>
            <a:ext cx="7777080" cy="48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252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4b2203"/>
                </a:solidFill>
                <a:latin typeface="Arial"/>
                <a:ea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040" indent="-252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500" spc="-1" strike="noStrike">
                <a:solidFill>
                  <a:srgbClr val="4b2203"/>
                </a:solidFill>
                <a:latin typeface="Arial"/>
                <a:ea typeface="Arial"/>
              </a:rPr>
              <a:t>   </a:t>
            </a:r>
            <a:r>
              <a:rPr b="1" lang="ru-RU" sz="2500" spc="-1" strike="noStrike">
                <a:solidFill>
                  <a:srgbClr val="4b2203"/>
                </a:solidFill>
                <a:latin typeface="Arial"/>
                <a:ea typeface="Arial"/>
              </a:rPr>
              <a:t>В опросе приняли участие 24 родителя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2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2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2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2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2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2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2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2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500" spc="-1" strike="noStrike">
                <a:solidFill>
                  <a:srgbClr val="4b2203"/>
                </a:solidFill>
                <a:latin typeface="Arial"/>
                <a:ea typeface="Arial"/>
              </a:rPr>
              <a:t>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1496880" y="1865160"/>
            <a:ext cx="7302600" cy="4165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1042920" y="189000"/>
            <a:ext cx="8101080" cy="58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252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4b2203"/>
                </a:solidFill>
                <a:latin typeface="Arial"/>
                <a:ea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040" indent="-25236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500" spc="-1" strike="noStrike">
                <a:solidFill>
                  <a:srgbClr val="4b2203"/>
                </a:solidFill>
                <a:latin typeface="Arial"/>
                <a:ea typeface="Arial"/>
              </a:rPr>
              <a:t>   </a:t>
            </a:r>
            <a:r>
              <a:rPr b="1" lang="ru-RU" sz="2500" spc="-1" strike="noStrike">
                <a:solidFill>
                  <a:srgbClr val="4b2203"/>
                </a:solidFill>
                <a:latin typeface="Arial"/>
                <a:ea typeface="Arial"/>
              </a:rPr>
              <a:t>Виды мыла, которыми чаще всего</a:t>
            </a:r>
            <a:br>
              <a:rPr sz="2500"/>
            </a:br>
            <a:r>
              <a:rPr b="1" lang="ru-RU" sz="2500" spc="-1" strike="noStrike">
                <a:solidFill>
                  <a:srgbClr val="4b2203"/>
                </a:solidFill>
                <a:latin typeface="Arial"/>
                <a:ea typeface="Arial"/>
              </a:rPr>
              <a:t>пользуются родител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2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2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2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2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2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2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2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2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500" spc="-1" strike="noStrike">
                <a:solidFill>
                  <a:srgbClr val="4b2203"/>
                </a:solidFill>
                <a:latin typeface="Arial"/>
                <a:ea typeface="Arial"/>
              </a:rPr>
              <a:t>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1065240" y="1346040"/>
            <a:ext cx="7734240" cy="5013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1042920" y="549360"/>
            <a:ext cx="7777080" cy="54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3603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4b2203"/>
                </a:solidFill>
                <a:latin typeface="Arial"/>
                <a:ea typeface="Arial"/>
              </a:rPr>
              <a:t>Роль жира и мыла в жизни человека и природы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ОГРОМ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603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4b2203"/>
                </a:solidFill>
                <a:latin typeface="Arial"/>
                <a:ea typeface="Arial"/>
              </a:rPr>
              <a:t>Жиры входят в состав организмов животных и расте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3603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4b2203"/>
                </a:solidFill>
                <a:latin typeface="Arial"/>
                <a:ea typeface="Arial"/>
              </a:rPr>
              <a:t>Попадая с пищей внутрь организма человека, жиры являются для него основным источником энерг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1471680" y="4214880"/>
            <a:ext cx="3314520" cy="207180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3"/>
          <a:stretch/>
        </p:blipFill>
        <p:spPr>
          <a:xfrm>
            <a:off x="5072040" y="4214880"/>
            <a:ext cx="3411720" cy="2071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042920" y="549360"/>
            <a:ext cx="7777080" cy="54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3603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4b2203"/>
                </a:solidFill>
                <a:latin typeface="Arial"/>
                <a:ea typeface="Arial"/>
              </a:rPr>
              <a:t>Но, попадая на одежду и смешиваясь с пылью, становятся ее загрязнителя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4b2203"/>
                </a:solidFill>
                <a:latin typeface="Arial"/>
                <a:ea typeface="Arial"/>
              </a:rPr>
              <a:t>Получаемые из жиров мыла помогают нам вернуть чисто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5145120" y="1544760"/>
            <a:ext cx="2284560" cy="181296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3"/>
          <a:stretch/>
        </p:blipFill>
        <p:spPr>
          <a:xfrm>
            <a:off x="1714680" y="1500120"/>
            <a:ext cx="2703240" cy="181152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4"/>
          <a:stretch/>
        </p:blipFill>
        <p:spPr>
          <a:xfrm>
            <a:off x="1701720" y="4357800"/>
            <a:ext cx="2584440" cy="164304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5"/>
          <a:stretch/>
        </p:blipFill>
        <p:spPr>
          <a:xfrm>
            <a:off x="5072040" y="4357800"/>
            <a:ext cx="2475000" cy="1643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403280" y="1557360"/>
            <a:ext cx="7407360" cy="14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Arial"/>
                <a:ea typeface="Arial"/>
              </a:rPr>
              <a:t>«Настоящий ученик учится открывать неизвестное с помощью известного </a:t>
            </a:r>
            <a:br>
              <a:rPr sz="2800"/>
            </a:br>
            <a:r>
              <a:rPr b="1" lang="ru-RU" sz="2800" spc="-1" strike="noStrike">
                <a:solidFill>
                  <a:srgbClr val="572314"/>
                </a:solidFill>
                <a:latin typeface="Arial"/>
                <a:ea typeface="Arial"/>
              </a:rPr>
              <a:t>и тем самым приближается к учителю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3860640"/>
            <a:ext cx="75582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0" anchor="t">
            <a:noAutofit/>
          </a:bodyPr>
          <a:p>
            <a:pPr marL="27000"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700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9010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320e04"/>
                </a:solidFill>
                <a:latin typeface="Arial"/>
                <a:ea typeface="Arial"/>
              </a:rPr>
              <a:t>Иоганн Вольфганг Гё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1714680" y="3643200"/>
            <a:ext cx="2550960" cy="1857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042920" y="549360"/>
            <a:ext cx="8101080" cy="55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3603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4b2203"/>
                </a:solidFill>
                <a:latin typeface="Arial"/>
                <a:ea typeface="Arial"/>
              </a:rPr>
              <a:t>Тема жира и мыла не раз затрагивается в пословицах, поговорках, стихах, загад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4b2203"/>
                </a:solidFill>
                <a:latin typeface="Arial"/>
                <a:ea typeface="Arial"/>
              </a:rPr>
              <a:t>В качестве примера, приведу несколько  самых популярных из ни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3565440" y="1747800"/>
            <a:ext cx="2013120" cy="2752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1042920" y="357120"/>
            <a:ext cx="7777080" cy="62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3603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ЗАГАДКА ПРО МЫЛ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6066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Пузыри пускало,</a:t>
            </a:r>
            <a:br>
              <a:rPr sz="2000"/>
            </a:b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Пеной кверху лезло, - </a:t>
            </a:r>
            <a:br>
              <a:rPr sz="2000"/>
            </a:b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И его  не стало,</a:t>
            </a:r>
            <a:br>
              <a:rPr sz="2000"/>
            </a:b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Вдруг оно исчезл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03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3603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СТИХОТВОРЕНИЕ ПРО МЫЛ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6066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Вот с такими он словами</a:t>
            </a:r>
            <a:br>
              <a:rPr sz="2000"/>
            </a:b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Прибежал однажды к маме:</a:t>
            </a:r>
            <a:br>
              <a:rPr sz="2000"/>
            </a:b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- Если рук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rbel"/>
                <a:ea typeface="Arial Unicode MS"/>
              </a:rPr>
              <a:t>   </a:t>
            </a: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мыли </a:t>
            </a:r>
            <a:r>
              <a:rPr b="1" lang="ru-RU" sz="2000" spc="-1" strike="noStrike" u="sng">
                <a:solidFill>
                  <a:srgbClr val="4b2203"/>
                </a:solidFill>
                <a:uFillTx/>
                <a:latin typeface="Arial"/>
                <a:ea typeface="Arial"/>
              </a:rPr>
              <a:t>ВЫ</a:t>
            </a: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,</a:t>
            </a:r>
            <a:br>
              <a:rPr sz="2000"/>
            </a:b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- Если руки</a:t>
            </a:r>
            <a:br>
              <a:rPr sz="2000"/>
            </a:b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  моем </a:t>
            </a:r>
            <a:r>
              <a:rPr b="1" lang="ru-RU" sz="2000" spc="-1" strike="noStrike" u="sng">
                <a:solidFill>
                  <a:srgbClr val="4b2203"/>
                </a:solidFill>
                <a:uFillTx/>
                <a:latin typeface="Arial"/>
                <a:ea typeface="Arial"/>
              </a:rPr>
              <a:t>МЫ</a:t>
            </a: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,</a:t>
            </a:r>
            <a:br>
              <a:rPr sz="2000"/>
            </a:b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- Если руки</a:t>
            </a:r>
            <a:br>
              <a:rPr sz="2000"/>
            </a:b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  моешь </a:t>
            </a:r>
            <a:r>
              <a:rPr b="1" lang="ru-RU" sz="2000" spc="-1" strike="noStrike" u="sng">
                <a:solidFill>
                  <a:srgbClr val="4b2203"/>
                </a:solidFill>
                <a:uFillTx/>
                <a:latin typeface="Arial"/>
                <a:ea typeface="Arial"/>
              </a:rPr>
              <a:t>ТЫ</a:t>
            </a: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,</a:t>
            </a:r>
            <a:br>
              <a:rPr sz="2000"/>
            </a:b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Значит, руки</a:t>
            </a:r>
            <a:br>
              <a:rPr sz="2000"/>
            </a:br>
            <a:r>
              <a:rPr b="1" lang="ru-RU" sz="2000" spc="-1" strike="noStrike" u="sng">
                <a:solidFill>
                  <a:srgbClr val="4b2203"/>
                </a:solidFill>
                <a:uFillTx/>
                <a:latin typeface="Arial"/>
                <a:ea typeface="Arial"/>
              </a:rPr>
              <a:t>ВЫ-МЫ-ТЫ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5500800" y="436680"/>
            <a:ext cx="2112840" cy="177804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3"/>
          <a:stretch/>
        </p:blipFill>
        <p:spPr>
          <a:xfrm>
            <a:off x="4419720" y="3929040"/>
            <a:ext cx="2152440" cy="1428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857160" y="214200"/>
            <a:ext cx="8072640" cy="63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3603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3603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ПОГОВОРКИ ПРО МЫЛ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603360">
              <a:lnSpc>
                <a:spcPct val="100000"/>
              </a:lnSpc>
              <a:spcBef>
                <a:spcPts val="326"/>
              </a:spcBef>
              <a:buClr>
                <a:srgbClr val="4b2203"/>
              </a:buClr>
              <a:buFont typeface="Wingdings" charset="2"/>
              <a:buChar char=""/>
              <a:tabLst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Было мыло, стало сало. Сало было, стало мы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03360">
              <a:lnSpc>
                <a:spcPct val="100000"/>
              </a:lnSpc>
              <a:spcBef>
                <a:spcPts val="326"/>
              </a:spcBef>
              <a:buClr>
                <a:srgbClr val="4b2203"/>
              </a:buClr>
              <a:buFont typeface="Wingdings" charset="2"/>
              <a:buChar char=""/>
              <a:tabLst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Мыло серо, да моет бе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03360">
              <a:lnSpc>
                <a:spcPct val="100000"/>
              </a:lnSpc>
              <a:spcBef>
                <a:spcPts val="326"/>
              </a:spcBef>
              <a:buClr>
                <a:srgbClr val="4b2203"/>
              </a:buClr>
              <a:buFont typeface="Wingdings" charset="2"/>
              <a:buChar char=""/>
              <a:tabLst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Хоть и лыком шит, да с мылом мы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03360">
              <a:lnSpc>
                <a:spcPct val="100000"/>
              </a:lnSpc>
              <a:spcBef>
                <a:spcPts val="326"/>
              </a:spcBef>
              <a:buClr>
                <a:srgbClr val="4b2203"/>
              </a:buClr>
              <a:buFont typeface="Wingdings" charset="2"/>
              <a:buChar char=""/>
              <a:tabLst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Променял шило на мы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033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3603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ПОСЛОВИЦЫ И ПОГОВОРКИ ПРО МАСЛ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603360">
              <a:lnSpc>
                <a:spcPct val="100000"/>
              </a:lnSpc>
              <a:spcBef>
                <a:spcPts val="326"/>
              </a:spcBef>
              <a:buClr>
                <a:srgbClr val="4b2203"/>
              </a:buClr>
              <a:buFont typeface="Wingdings" charset="2"/>
              <a:buChar char=""/>
              <a:tabLst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Масло коровье, кушай на здоровь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03360">
              <a:lnSpc>
                <a:spcPct val="100000"/>
              </a:lnSpc>
              <a:spcBef>
                <a:spcPts val="326"/>
              </a:spcBef>
              <a:buClr>
                <a:srgbClr val="4b2203"/>
              </a:buClr>
              <a:buFont typeface="Wingdings" charset="2"/>
              <a:buChar char=""/>
              <a:tabLst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Масло с водой не смешаеш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03360">
              <a:lnSpc>
                <a:spcPct val="100000"/>
              </a:lnSpc>
              <a:spcBef>
                <a:spcPts val="326"/>
              </a:spcBef>
              <a:buClr>
                <a:srgbClr val="4b2203"/>
              </a:buClr>
              <a:buFont typeface="Wingdings" charset="2"/>
              <a:buChar char=""/>
              <a:tabLst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Маслом кашу не испортиш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03360">
              <a:lnSpc>
                <a:spcPct val="100000"/>
              </a:lnSpc>
              <a:spcBef>
                <a:spcPts val="326"/>
              </a:spcBef>
              <a:buClr>
                <a:srgbClr val="4b2203"/>
              </a:buClr>
              <a:buFont typeface="Wingdings" charset="2"/>
              <a:buChar char=""/>
              <a:tabLst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Огонь маслом заливать – лишь огонь прибавля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03360">
              <a:lnSpc>
                <a:spcPct val="100000"/>
              </a:lnSpc>
              <a:spcBef>
                <a:spcPts val="326"/>
              </a:spcBef>
              <a:buClr>
                <a:srgbClr val="4b2203"/>
              </a:buClr>
              <a:buFont typeface="Wingdings" charset="2"/>
              <a:buChar char=""/>
              <a:tabLst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Как сыр в масле ката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03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2052720" y="4786200"/>
            <a:ext cx="2340000" cy="157176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3"/>
          <a:stretch/>
        </p:blipFill>
        <p:spPr>
          <a:xfrm>
            <a:off x="6572160" y="1214280"/>
            <a:ext cx="1714680" cy="129888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4"/>
          <a:stretch/>
        </p:blipFill>
        <p:spPr>
          <a:xfrm>
            <a:off x="4857840" y="4786200"/>
            <a:ext cx="2662200" cy="1543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1116000" y="333360"/>
            <a:ext cx="781848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ВЫВОД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65040" indent="-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65040" indent="-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4b2203"/>
                </a:solidFill>
                <a:latin typeface="Arial"/>
                <a:ea typeface="Arial"/>
              </a:rPr>
              <a:t>Используя различные средства для удаления жира мы редко задумываемся над тем, что это средство само состоит из жи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040" indent="-1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Жир и мыло – 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это единство и борьба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65040" indent="-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4286160" y="4500720"/>
            <a:ext cx="1352520" cy="1428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1434960" y="333360"/>
            <a:ext cx="7499520" cy="59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65040" indent="-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Arial"/>
                <a:ea typeface="Arial"/>
              </a:rPr>
              <a:t>Спасибо</a:t>
            </a:r>
            <a:r>
              <a:rPr b="1" lang="ru-RU" sz="4800" spc="-1" strike="noStrike">
                <a:solidFill>
                  <a:srgbClr val="922223"/>
                </a:solidFill>
                <a:latin typeface="Arial"/>
                <a:ea typeface="Arial"/>
              </a:rPr>
              <a:t> 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  <a:ea typeface="Arial"/>
              </a:rPr>
              <a:t>за</a:t>
            </a:r>
            <a:r>
              <a:rPr b="1" lang="ru-RU" sz="4800" spc="-1" strike="noStrike">
                <a:solidFill>
                  <a:srgbClr val="922223"/>
                </a:solidFill>
                <a:latin typeface="Arial"/>
                <a:ea typeface="Arial"/>
              </a:rPr>
              <a:t> 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  <a:ea typeface="Arial"/>
              </a:rPr>
              <a:t>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65040" indent="-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4143240" y="3000240"/>
            <a:ext cx="1643040" cy="16430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434960" y="333360"/>
            <a:ext cx="7499520" cy="59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1800" indent="-25560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4b2203"/>
              </a:buClr>
              <a:buSzPct val="80000"/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Вопрос гигиены для человека был актуален с давних времен. Еще древние мудрецы и прародители медицины заметили, что соблюдение личной гигиены является залогом сохранения здоровья на долгие го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25560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4b2203"/>
              </a:buClr>
              <a:buSzPct val="80000"/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Совершать водные процедуры и следить </a:t>
            </a:r>
            <a:br>
              <a:rPr sz="2000"/>
            </a:b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за чистотой своего тела было принято </a:t>
            </a:r>
            <a:br>
              <a:rPr sz="2000"/>
            </a:b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практически у всех народов с самых </a:t>
            </a:r>
            <a:br>
              <a:rPr sz="2000"/>
            </a:b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древних време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25560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4b2203"/>
              </a:buClr>
              <a:buSzPct val="80000"/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Жизнь же современного человека сегодня невозможно представить без использования таких средств личной гигиены как мыло, шампуни, гели для душа и др.</a:t>
            </a:r>
            <a:br>
              <a:rPr sz="1800"/>
            </a:br>
            <a:r>
              <a:rPr b="0" lang="ru-RU" sz="1800" spc="-1" strike="noStrike">
                <a:solidFill>
                  <a:srgbClr val="4b220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3336840" y="4849920"/>
            <a:ext cx="592200" cy="109692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>
            <a:lum bright="10000"/>
          </a:blip>
          <a:stretch/>
        </p:blipFill>
        <p:spPr>
          <a:xfrm>
            <a:off x="1908000" y="5157720"/>
            <a:ext cx="1020960" cy="80352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4"/>
          <a:stretch/>
        </p:blipFill>
        <p:spPr>
          <a:xfrm>
            <a:off x="7818480" y="4724280"/>
            <a:ext cx="1111320" cy="141768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5"/>
          <a:stretch/>
        </p:blipFill>
        <p:spPr>
          <a:xfrm>
            <a:off x="5629320" y="4724280"/>
            <a:ext cx="728640" cy="120348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6">
            <a:lum bright="10000"/>
          </a:blip>
          <a:stretch/>
        </p:blipFill>
        <p:spPr>
          <a:xfrm>
            <a:off x="4246560" y="5019840"/>
            <a:ext cx="1039680" cy="8348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7">
            <a:lum bright="10000"/>
          </a:blip>
          <a:stretch/>
        </p:blipFill>
        <p:spPr>
          <a:xfrm>
            <a:off x="6748560" y="4944960"/>
            <a:ext cx="966600" cy="82404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8"/>
          <a:stretch/>
        </p:blipFill>
        <p:spPr>
          <a:xfrm>
            <a:off x="6948360" y="2060640"/>
            <a:ext cx="1800360" cy="1428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434960" y="404640"/>
            <a:ext cx="7499520" cy="58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1800" indent="-255600" algn="just">
              <a:lnSpc>
                <a:spcPct val="110000"/>
              </a:lnSpc>
              <a:spcBef>
                <a:spcPts val="601"/>
              </a:spcBef>
              <a:buClr>
                <a:srgbClr val="4b2203"/>
              </a:buClr>
              <a:buSzPct val="80000"/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Ежедневно мы сталкиваемся со множеством источников загрязнений: поручни общественного транспорта, шерсть домашнего любимца, овощи и фрукты, клавиатура домашнего компьютера, клавиатура и экран мобильного телефона… Этот список можно перечислять до бесконе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2556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2556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2556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255600" algn="just">
              <a:lnSpc>
                <a:spcPct val="110000"/>
              </a:lnSpc>
              <a:spcBef>
                <a:spcPts val="601"/>
              </a:spcBef>
              <a:buClr>
                <a:srgbClr val="4b2203"/>
              </a:buClr>
              <a:buSzPct val="80000"/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Вымыв руки после улицы, магазина, общественного транспорта можно обезопасить себя от различных заболев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255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255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255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Так что же такое МЫЛО?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4645080" y="2421000"/>
            <a:ext cx="1712880" cy="12841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6929280" y="2421000"/>
            <a:ext cx="1749600" cy="13050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4"/>
          <a:stretch/>
        </p:blipFill>
        <p:spPr>
          <a:xfrm>
            <a:off x="3992400" y="4437000"/>
            <a:ext cx="1803600" cy="122400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5"/>
          <a:stretch/>
        </p:blipFill>
        <p:spPr>
          <a:xfrm>
            <a:off x="2031840" y="2428920"/>
            <a:ext cx="1968840" cy="127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Из чего делают мыл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617400" indent="-233280">
              <a:lnSpc>
                <a:spcPct val="100000"/>
              </a:lnSpc>
              <a:spcBef>
                <a:spcPts val="326"/>
              </a:spcBef>
              <a:buClr>
                <a:srgbClr val="4b2203"/>
              </a:buClr>
              <a:buFont typeface="Wingdings" charset="2"/>
              <a:buChar char=""/>
              <a:tabLst>
                <a:tab algn="l" pos="617400"/>
                <a:tab algn="l" pos="1065240"/>
                <a:tab algn="l" pos="1514520"/>
                <a:tab algn="l" pos="1963800"/>
                <a:tab algn="l" pos="2413080"/>
                <a:tab algn="l" pos="2862360"/>
                <a:tab algn="l" pos="3311640"/>
                <a:tab algn="l" pos="3760920"/>
                <a:tab algn="l" pos="4210200"/>
                <a:tab algn="l" pos="4659480"/>
                <a:tab algn="l" pos="5108400"/>
                <a:tab algn="l" pos="5557680"/>
                <a:tab algn="l" pos="6006960"/>
                <a:tab algn="l" pos="6456240"/>
                <a:tab algn="l" pos="6905520"/>
                <a:tab algn="l" pos="7354800"/>
                <a:tab algn="l" pos="7804080"/>
                <a:tab algn="l" pos="8253360"/>
                <a:tab algn="l" pos="8702640"/>
                <a:tab algn="l" pos="915192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Основные компоненты любого мыла это жиры и щелоч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3280">
              <a:lnSpc>
                <a:spcPct val="100000"/>
              </a:lnSpc>
              <a:spcBef>
                <a:spcPts val="326"/>
              </a:spcBef>
              <a:buClr>
                <a:srgbClr val="4b2203"/>
              </a:buClr>
              <a:buFont typeface="Wingdings" charset="2"/>
              <a:buChar char=""/>
              <a:tabLst>
                <a:tab algn="l" pos="617400"/>
                <a:tab algn="l" pos="1065240"/>
                <a:tab algn="l" pos="1514520"/>
                <a:tab algn="l" pos="1963800"/>
                <a:tab algn="l" pos="2413080"/>
                <a:tab algn="l" pos="2862360"/>
                <a:tab algn="l" pos="3311640"/>
                <a:tab algn="l" pos="3760920"/>
                <a:tab algn="l" pos="4210200"/>
                <a:tab algn="l" pos="4659480"/>
                <a:tab algn="l" pos="5108400"/>
                <a:tab algn="l" pos="5557680"/>
                <a:tab algn="l" pos="6006960"/>
                <a:tab algn="l" pos="6456240"/>
                <a:tab algn="l" pos="6905520"/>
                <a:tab algn="l" pos="7354800"/>
                <a:tab algn="l" pos="7804080"/>
                <a:tab algn="l" pos="8253360"/>
                <a:tab algn="l" pos="8702640"/>
                <a:tab algn="l" pos="915192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Жиры бывают животного происхождения (говяжий и бараний жир, жиры морских животных и рыб), а также, жиры растительного происхождения, которые получаются из пальмового, соевого, кокосового и других масе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3280">
              <a:lnSpc>
                <a:spcPct val="100000"/>
              </a:lnSpc>
              <a:spcBef>
                <a:spcPts val="326"/>
              </a:spcBef>
              <a:buClr>
                <a:srgbClr val="4b2203"/>
              </a:buClr>
              <a:buFont typeface="Wingdings" charset="2"/>
              <a:buChar char=""/>
              <a:tabLst>
                <a:tab algn="l" pos="617400"/>
                <a:tab algn="l" pos="1065240"/>
                <a:tab algn="l" pos="1514520"/>
                <a:tab algn="l" pos="1963800"/>
                <a:tab algn="l" pos="2413080"/>
                <a:tab algn="l" pos="2862360"/>
                <a:tab algn="l" pos="3311640"/>
                <a:tab algn="l" pos="3760920"/>
                <a:tab algn="l" pos="4210200"/>
                <a:tab algn="l" pos="4659480"/>
                <a:tab algn="l" pos="5108400"/>
                <a:tab algn="l" pos="5557680"/>
                <a:tab algn="l" pos="6006960"/>
                <a:tab algn="l" pos="6456240"/>
                <a:tab algn="l" pos="6905520"/>
                <a:tab algn="l" pos="7354800"/>
                <a:tab algn="l" pos="7804080"/>
                <a:tab algn="l" pos="8253360"/>
                <a:tab algn="l" pos="8702640"/>
                <a:tab algn="l" pos="9151920"/>
                <a:tab algn="l" pos="960120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b2203"/>
                </a:solidFill>
                <a:latin typeface="Arial"/>
                <a:ea typeface="Arial"/>
              </a:rPr>
              <a:t>Жиры, являющиеся основой мыла, призваны отделять, а щелочи растворять загряз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32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617400"/>
                <a:tab algn="l" pos="1065240"/>
                <a:tab algn="l" pos="1514520"/>
                <a:tab algn="l" pos="1963800"/>
                <a:tab algn="l" pos="2413080"/>
                <a:tab algn="l" pos="2862360"/>
                <a:tab algn="l" pos="3311640"/>
                <a:tab algn="l" pos="3760920"/>
                <a:tab algn="l" pos="4210200"/>
                <a:tab algn="l" pos="4659480"/>
                <a:tab algn="l" pos="5108400"/>
                <a:tab algn="l" pos="5557680"/>
                <a:tab algn="l" pos="6006960"/>
                <a:tab algn="l" pos="6456240"/>
                <a:tab algn="l" pos="6905520"/>
                <a:tab algn="l" pos="7354800"/>
                <a:tab algn="l" pos="7804080"/>
                <a:tab algn="l" pos="8253360"/>
                <a:tab algn="l" pos="8702640"/>
                <a:tab algn="l" pos="9151920"/>
                <a:tab algn="l" pos="960120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32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617400"/>
                <a:tab algn="l" pos="1065240"/>
                <a:tab algn="l" pos="1514520"/>
                <a:tab algn="l" pos="1963800"/>
                <a:tab algn="l" pos="2413080"/>
                <a:tab algn="l" pos="2862360"/>
                <a:tab algn="l" pos="3311640"/>
                <a:tab algn="l" pos="3760920"/>
                <a:tab algn="l" pos="4210200"/>
                <a:tab algn="l" pos="4659480"/>
                <a:tab algn="l" pos="5108400"/>
                <a:tab algn="l" pos="5557680"/>
                <a:tab algn="l" pos="6006960"/>
                <a:tab algn="l" pos="6456240"/>
                <a:tab algn="l" pos="6905520"/>
                <a:tab algn="l" pos="7354800"/>
                <a:tab algn="l" pos="7804080"/>
                <a:tab algn="l" pos="8253360"/>
                <a:tab algn="l" pos="8702640"/>
                <a:tab algn="l" pos="9151920"/>
                <a:tab algn="l" pos="960120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2028960" y="4581360"/>
            <a:ext cx="2614320" cy="173844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3"/>
          <a:stretch/>
        </p:blipFill>
        <p:spPr>
          <a:xfrm>
            <a:off x="5651640" y="4581360"/>
            <a:ext cx="2736720" cy="1808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434960" y="190440"/>
            <a:ext cx="749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Какие виды жира можно встретить в природ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2498760" y="1517760"/>
            <a:ext cx="5645160" cy="400500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1187280" y="2430360"/>
            <a:ext cx="1283040" cy="85428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4"/>
          <a:stretch/>
        </p:blipFill>
        <p:spPr>
          <a:xfrm>
            <a:off x="2484360" y="2031840"/>
            <a:ext cx="1295640" cy="89244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1047600" y="3365640"/>
            <a:ext cx="1508400" cy="85536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>
            <a:lum bright="20000"/>
          </a:blip>
          <a:stretch/>
        </p:blipFill>
        <p:spPr>
          <a:xfrm>
            <a:off x="1106640" y="5445000"/>
            <a:ext cx="1441440" cy="107964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59280" y="5661000"/>
            <a:ext cx="1873080" cy="80028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>
            <a:lum bright="20000"/>
          </a:blip>
          <a:stretch/>
        </p:blipFill>
        <p:spPr>
          <a:xfrm>
            <a:off x="1042920" y="4322880"/>
            <a:ext cx="1571760" cy="9777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9">
            <a:lum bright="10000"/>
          </a:blip>
          <a:stretch/>
        </p:blipFill>
        <p:spPr>
          <a:xfrm>
            <a:off x="7956720" y="5570640"/>
            <a:ext cx="1112760" cy="88272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10"/>
          <a:stretch/>
        </p:blipFill>
        <p:spPr>
          <a:xfrm>
            <a:off x="7885080" y="4437000"/>
            <a:ext cx="1224000" cy="89712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11"/>
          <a:stretch/>
        </p:blipFill>
        <p:spPr>
          <a:xfrm>
            <a:off x="7893000" y="3284640"/>
            <a:ext cx="1143000" cy="114444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12"/>
          <a:stretch/>
        </p:blipFill>
        <p:spPr>
          <a:xfrm>
            <a:off x="8086680" y="2155680"/>
            <a:ext cx="1022400" cy="105732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13"/>
          <a:stretch/>
        </p:blipFill>
        <p:spPr>
          <a:xfrm>
            <a:off x="5724360" y="5445000"/>
            <a:ext cx="1800360" cy="110808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14"/>
          <a:stretch/>
        </p:blipFill>
        <p:spPr>
          <a:xfrm>
            <a:off x="6789600" y="1989000"/>
            <a:ext cx="1238400" cy="924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Роль жира в природ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1444680" y="1189080"/>
            <a:ext cx="7199280" cy="384660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2050920" y="4869000"/>
            <a:ext cx="1441440" cy="100800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4"/>
          <a:stretch/>
        </p:blipFill>
        <p:spPr>
          <a:xfrm>
            <a:off x="4427640" y="4869000"/>
            <a:ext cx="1411200" cy="100332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5"/>
          <a:stretch/>
        </p:blipFill>
        <p:spPr>
          <a:xfrm>
            <a:off x="6773760" y="4869000"/>
            <a:ext cx="1543320" cy="1023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1434960" y="190440"/>
            <a:ext cx="749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Какое бывает мыло и для каких целей оно служит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1847880" y="1670040"/>
            <a:ext cx="6713640" cy="4478400"/>
            <a:chOff x="1847880" y="1670040"/>
            <a:chExt cx="6713640" cy="4478400"/>
          </a:xfrm>
        </p:grpSpPr>
        <p:pic>
          <p:nvPicPr>
            <p:cNvPr id="310" name="" descr=""/>
            <p:cNvPicPr/>
            <p:nvPr/>
          </p:nvPicPr>
          <p:blipFill>
            <a:blip r:embed="rId2"/>
            <a:stretch/>
          </p:blipFill>
          <p:spPr>
            <a:xfrm>
              <a:off x="1847880" y="1670040"/>
              <a:ext cx="6713640" cy="447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1847880" y="1670040"/>
              <a:ext cx="6713640" cy="447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1042920" y="221292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4"/>
          <a:stretch/>
        </p:blipFill>
        <p:spPr>
          <a:xfrm>
            <a:off x="1258920" y="3222720"/>
            <a:ext cx="495360" cy="1143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5"/>
          <a:stretch/>
        </p:blipFill>
        <p:spPr>
          <a:xfrm>
            <a:off x="2924280" y="206064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6"/>
          <a:stretch/>
        </p:blipFill>
        <p:spPr>
          <a:xfrm>
            <a:off x="1692360" y="2060640"/>
            <a:ext cx="1224000" cy="107316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7"/>
          <a:stretch/>
        </p:blipFill>
        <p:spPr>
          <a:xfrm>
            <a:off x="1116000" y="4535640"/>
            <a:ext cx="820800" cy="69372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8"/>
          <a:stretch/>
        </p:blipFill>
        <p:spPr>
          <a:xfrm>
            <a:off x="1042920" y="537372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9"/>
          <a:stretch/>
        </p:blipFill>
        <p:spPr>
          <a:xfrm>
            <a:off x="6632640" y="2133720"/>
            <a:ext cx="1035000" cy="78876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10"/>
          <a:stretch/>
        </p:blipFill>
        <p:spPr>
          <a:xfrm>
            <a:off x="8244000" y="2924280"/>
            <a:ext cx="865080" cy="11430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11"/>
          <a:stretch/>
        </p:blipFill>
        <p:spPr>
          <a:xfrm>
            <a:off x="7740720" y="2090880"/>
            <a:ext cx="1224000" cy="86976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12"/>
          <a:stretch/>
        </p:blipFill>
        <p:spPr>
          <a:xfrm>
            <a:off x="8442360" y="4076640"/>
            <a:ext cx="450720" cy="120672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13"/>
          <a:stretch/>
        </p:blipFill>
        <p:spPr>
          <a:xfrm>
            <a:off x="8466120" y="5381640"/>
            <a:ext cx="426960" cy="100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Роль мыла в жизни челове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1450800" y="1189080"/>
            <a:ext cx="7193160" cy="407808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1809720" y="5013360"/>
            <a:ext cx="1825560" cy="96660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4"/>
          <a:stretch/>
        </p:blipFill>
        <p:spPr>
          <a:xfrm>
            <a:off x="4356000" y="5013360"/>
            <a:ext cx="1584360" cy="101448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5"/>
          <a:stretch/>
        </p:blipFill>
        <p:spPr>
          <a:xfrm>
            <a:off x="6723000" y="5013360"/>
            <a:ext cx="1594080" cy="1049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4T10:40:53Z</dcterms:created>
  <dc:creator>irina</dc:creator>
  <dc:description/>
  <dc:language>en-US</dc:language>
  <cp:lastModifiedBy>алекс</cp:lastModifiedBy>
  <dcterms:modified xsi:type="dcterms:W3CDTF">2013-02-03T10:05:25Z</dcterms:modified>
  <cp:revision>168</cp:revision>
  <dc:subject/>
  <dc:title>«Настоящий ученик учится открывать неизвестное с помощью известного  и тем самым приближается к учителю.»</dc:title>
</cp:coreProperties>
</file>