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8C23-729B-47FF-8B77-B7D81812E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9ADC-54D1-4340-8990-369B7252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581E-6755-47AC-8EE1-BADCB6051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606A-DBC7-4BF8-934C-4E9FE37F0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2CC0-EBCC-4F0E-8C82-2EB3A35B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C473-3821-4C7D-979B-5773FAA7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0C60-48CA-4310-9EB9-34917065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3CB6-B43F-4E59-9606-69A1E332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7679-B26E-4879-A5B0-6BFC8297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8123-8079-4359-BE24-81441DDB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2C95-0446-4350-A035-87E02C31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C6F8-24F2-4175-A910-FCCF8023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90D1-94F2-4D28-AC51-AE4AFB37A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87280" y="620640"/>
            <a:ext cx="6769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зентация</a:t>
            </a:r>
            <a:endParaRPr b="1" i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411280" y="1844640"/>
            <a:ext cx="4391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ворческого проекта </a:t>
            </a:r>
            <a:endParaRPr b="0" i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3 "Б" классе</a:t>
            </a:r>
            <a:endParaRPr b="0" i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516640"/>
            <a:ext cx="8964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Times New Roman"/>
              </a:rPr>
              <a:t>Муниципальное специальное (коррекционное) образовательное учре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66ff"/>
                </a:solidFill>
                <a:latin typeface="Times New Roman"/>
              </a:rPr>
              <a:t>для обучающихся воспитанников с ограниченными возможностями здоровь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66ff"/>
                </a:solidFill>
                <a:latin typeface="Times New Roman"/>
              </a:rPr>
              <a:t>специальная коррекционная школа-интернат 7 вида</a:t>
            </a:r>
            <a:br>
              <a:rPr sz="1200"/>
            </a:br>
            <a:r>
              <a:rPr b="0" lang="ru-RU" sz="1200" spc="-1" strike="noStrike">
                <a:solidFill>
                  <a:srgbClr val="3366ff"/>
                </a:solidFill>
                <a:latin typeface="Times New Roman"/>
              </a:rPr>
              <a:t> Московская область, г.Павловский Посад, ул. Тимирязева, 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3366ff"/>
                </a:solidFill>
                <a:latin typeface="Times New Roman"/>
              </a:rPr>
              <a:t>Руководитель проекта учитель начальных классов Трухачёва Г.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16360" y="3068640"/>
            <a:ext cx="2952720" cy="213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7991280" cy="5184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27120" y="1617840"/>
            <a:ext cx="1839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Monotype Corsiva"/>
              </a:rPr>
              <a:t>Докучные сказ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11280" y="1844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Докуч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1413000"/>
            <a:ext cx="215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\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6200" y="147312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484280"/>
            <a:ext cx="3743280" cy="4781520"/>
          </a:xfrm>
          <a:prstGeom prst="rect">
            <a:avLst/>
          </a:prstGeom>
          <a:solidFill>
            <a:srgbClr val="fffff7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Monotype Corsiva"/>
              </a:rPr>
              <a:t>    </a:t>
            </a:r>
            <a:r>
              <a:rPr b="1" i="1" lang="en-US" sz="1600" spc="-1" strike="noStrike">
                <a:solidFill>
                  <a:srgbClr val="ff6600"/>
                </a:solidFill>
                <a:latin typeface="Times New Roman"/>
              </a:rPr>
              <a:t>Докучные сказ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Жила-была мартышк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Любила она книж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Книжки читала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Сказку начин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Мартышка молодчи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А сказке середи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Все книжки прочитал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Не начать ли нам сначал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6600"/>
                </a:solidFill>
                <a:latin typeface="Times New Roman"/>
              </a:rPr>
              <a:t>      </a:t>
            </a:r>
            <a:r>
              <a:rPr b="1" i="1" lang="en-US" sz="1600" spc="-1" strike="noStrike">
                <a:solidFill>
                  <a:srgbClr val="ff6600"/>
                </a:solidFill>
                <a:latin typeface="Times New Roman"/>
              </a:rPr>
              <a:t>Фалеев Дени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6600"/>
                </a:solidFill>
                <a:latin typeface="Times New Roman"/>
              </a:rPr>
              <a:t>             </a:t>
            </a:r>
            <a:r>
              <a:rPr b="1" i="1" lang="en-US" sz="1600" spc="-1" strike="noStrike">
                <a:solidFill>
                  <a:srgbClr val="ff6600"/>
                </a:solidFill>
                <a:latin typeface="Times New Roman"/>
              </a:rPr>
              <a:t>3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353440" cy="5113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95280" y="1628640"/>
            <a:ext cx="3083040" cy="40417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Times New Roman"/>
              </a:rPr>
              <a:t>  </a:t>
            </a:r>
            <a:r>
              <a:rPr b="1" i="1" lang="ru-RU" sz="1600" spc="-1" strike="noStrike">
                <a:solidFill>
                  <a:srgbClr val="ff6600"/>
                </a:solidFill>
                <a:latin typeface="Times New Roman"/>
              </a:rPr>
              <a:t>Докучные сказ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Жил-был медвед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«Научи меня петь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«Конечно, науч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Только сказочку начну.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Начал Мишенька реве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И вертеться и хрипе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есня начинаетс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А сказочка кончае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Times New Roman"/>
              </a:rPr>
              <a:t>Бескашнова Алёна 3 к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424720" cy="5111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39640" y="1484280"/>
            <a:ext cx="3240360" cy="33800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Monotype Corsiva"/>
              </a:rPr>
              <a:t>   </a:t>
            </a:r>
            <a:r>
              <a:rPr b="1" i="1" lang="ru-RU" sz="1600" spc="-1" strike="noStrike">
                <a:solidFill>
                  <a:srgbClr val="ff6600"/>
                </a:solidFill>
                <a:latin typeface="Times New Roman"/>
              </a:rPr>
              <a:t>Докучные сказ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Жил-был серый вол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ерый волк - зубами щёл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бежал он по дорож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И увидел белы нож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олк за зайцем побежа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Но зайчишку не поймал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казка вся, сказка в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казка кончилася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Times New Roman"/>
              </a:rPr>
              <a:t>Фокин Николай 3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424720" cy="48848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68360" y="1484280"/>
            <a:ext cx="2808360" cy="41130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Monotype Corsiva"/>
              </a:rPr>
              <a:t> </a:t>
            </a:r>
            <a:r>
              <a:rPr b="1" lang="en-US" sz="1600" spc="-1" strike="noStrike">
                <a:solidFill>
                  <a:srgbClr val="ff6600"/>
                </a:solidFill>
                <a:latin typeface="Times New Roman"/>
              </a:rPr>
              <a:t>Докучные сказ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Жила бабочка красавиц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Всем на свете нрави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Крылышки – мали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А сказке полови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Бабочка порхае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Сказку продолжа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6600"/>
                </a:solidFill>
                <a:latin typeface="Times New Roman"/>
              </a:rPr>
              <a:t>Митина Яна 3 «Б»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6048360" cy="4751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084720" y="1557360"/>
            <a:ext cx="2818080" cy="4174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Monotype Corsiva"/>
              </a:rPr>
              <a:t>         </a:t>
            </a:r>
            <a:r>
              <a:rPr b="1" i="1" lang="en-US" sz="1600" spc="-1" strike="noStrike">
                <a:solidFill>
                  <a:srgbClr val="ff6600"/>
                </a:solidFill>
                <a:latin typeface="Times New Roman"/>
              </a:rPr>
              <a:t>Небылиц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Коля, Коля, Никола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Он запрыгнул на трамва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На трамвае борщ хлеб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И на козочку упа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Коля козочку прогна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В волосах своих застря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6600"/>
                </a:solidFill>
                <a:latin typeface="Times New Roman"/>
              </a:rPr>
              <a:t>Фокин Николай 3 «Б»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7035840" cy="47721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312960" y="1557360"/>
            <a:ext cx="2590200" cy="5392080"/>
          </a:xfrm>
          <a:prstGeom prst="rect">
            <a:avLst/>
          </a:prstGeom>
          <a:solidFill>
            <a:srgbClr val="fffff7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66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6600"/>
                </a:solidFill>
                <a:latin typeface="Times New Roman"/>
              </a:rPr>
              <a:t>      </a:t>
            </a:r>
            <a:r>
              <a:rPr b="1" i="1" lang="en-US" sz="1600" spc="-1" strike="noStrike">
                <a:solidFill>
                  <a:srgbClr val="ff6600"/>
                </a:solidFill>
                <a:latin typeface="Times New Roman"/>
              </a:rPr>
              <a:t>Небылиц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Даша в театр собирала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Умывалась, одевалас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Ласты на ножк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На голову рож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В руки портфе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Побежала быстро в двер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6600"/>
                </a:solidFill>
                <a:latin typeface="Times New Roman"/>
              </a:rPr>
              <a:t>     </a:t>
            </a:r>
            <a:r>
              <a:rPr b="1" i="1" lang="en-US" sz="1600" spc="-1" strike="noStrike">
                <a:solidFill>
                  <a:srgbClr val="ff6600"/>
                </a:solidFill>
                <a:latin typeface="Times New Roman"/>
              </a:rPr>
              <a:t>Кабанова Дарь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6600"/>
                </a:solidFill>
                <a:latin typeface="Times New Roman"/>
              </a:rPr>
              <a:t>          </a:t>
            </a:r>
            <a:r>
              <a:rPr b="1" i="1" lang="en-US" sz="1600" spc="-1" strike="noStrike">
                <a:solidFill>
                  <a:srgbClr val="ff6600"/>
                </a:solidFill>
                <a:latin typeface="Times New Roman"/>
              </a:rPr>
              <a:t>3 «Б»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183520" cy="4773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39640" y="1484280"/>
            <a:ext cx="3672000" cy="27723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6600"/>
                </a:solidFill>
                <a:latin typeface="Times New Roman"/>
              </a:rPr>
              <a:t>      </a:t>
            </a:r>
            <a:r>
              <a:rPr b="1" i="1" lang="en-US" sz="1600" spc="-1" strike="noStrike">
                <a:solidFill>
                  <a:srgbClr val="ff6600"/>
                </a:solidFill>
                <a:latin typeface="Times New Roman"/>
              </a:rPr>
              <a:t>Докучные сказ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Жили-были братца д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И сестра у них од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Они вышли погуля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И малинку пощип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Ангелина – молодец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Вот и сказочке конец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6600"/>
                </a:solidFill>
                <a:latin typeface="Times New Roman"/>
              </a:rPr>
              <a:t>Фалеев Олег 3 «Б» класс</a:t>
            </a:r>
            <a:r>
              <a:rPr b="1" lang="en-US" sz="2400" spc="-1" strike="noStrike">
                <a:solidFill>
                  <a:srgbClr val="ff66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Monotype Corsiva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207640" cy="46054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801040" y="1695600"/>
            <a:ext cx="2783880" cy="17974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6600"/>
                </a:solidFill>
                <a:latin typeface="Times New Roman"/>
              </a:rPr>
              <a:t>        </a:t>
            </a:r>
            <a:r>
              <a:rPr b="1" i="1" lang="en-US" sz="1600" spc="-1" strike="noStrike">
                <a:solidFill>
                  <a:srgbClr val="ff6600"/>
                </a:solidFill>
                <a:latin typeface="Times New Roman"/>
              </a:rPr>
              <a:t>Небылиц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Наша Яна невеличк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Спать ложится в рукавич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Утром просыпаетс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Снегом умывае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6600"/>
                </a:solidFill>
                <a:latin typeface="Times New Roman"/>
              </a:rPr>
              <a:t>Митина Яна 3 «Б»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5905440" cy="4392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309720" y="1628640"/>
            <a:ext cx="2442240" cy="4417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6600"/>
                </a:solidFill>
                <a:latin typeface="Times New Roman"/>
              </a:rPr>
              <a:t>        </a:t>
            </a:r>
            <a:r>
              <a:rPr b="1" i="1" lang="en-US" sz="1600" spc="-1" strike="noStrike">
                <a:solidFill>
                  <a:srgbClr val="ff6600"/>
                </a:solidFill>
                <a:latin typeface="Times New Roman"/>
              </a:rPr>
              <a:t>Небылиц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Летит Настя на метл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Звёзды ловит на земл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Бусы делает себ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Собирается на ба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Скоро будет карнава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6600"/>
                </a:solidFill>
                <a:latin typeface="Times New Roman"/>
              </a:rPr>
              <a:t>Князева Анастас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6600"/>
                </a:solidFill>
                <a:latin typeface="Times New Roman"/>
              </a:rPr>
              <a:t>      </a:t>
            </a:r>
            <a:r>
              <a:rPr b="1" i="1" lang="en-US" sz="1600" spc="-1" strike="noStrike">
                <a:solidFill>
                  <a:srgbClr val="ff6600"/>
                </a:solidFill>
                <a:latin typeface="Times New Roman"/>
              </a:rPr>
              <a:t>3 «Б»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Список литератур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Arial"/>
              </a:rPr>
              <a:t>Федеральный государственный образовательный стандарт начального общего образования (приказ Министерства образования и науки Российской Федерации от 6 октября 2009 года №373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Arial"/>
              </a:rPr>
              <a:t>Примерная основная образовательная программа образовательного учреждения. Серия «Стандарты второго поколения». - М.: Просвещение,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2276640"/>
            <a:ext cx="8280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ff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66ff"/>
                </a:solidFill>
                <a:latin typeface="Arial"/>
              </a:rPr>
              <a:t>Белобородов Н.В. Социальные творческие проекты в школе.  М.: Аркти, 200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ff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3366ff"/>
                </a:solidFill>
                <a:latin typeface="Arial"/>
              </a:rPr>
              <a:t>Бритвина Л.Ю. Метод творческих проектов на уроках технологии. // Нач.школа. – 2005. - №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ff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3366ff"/>
                </a:solidFill>
                <a:latin typeface="Arial"/>
              </a:rPr>
              <a:t>Бычков А.В. Метод проектов в современной школе. – М.,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4005360"/>
            <a:ext cx="82072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00"/>
                </a:solidFill>
                <a:latin typeface="Arial"/>
              </a:rPr>
              <a:t>Интернет-ресурс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66ff"/>
                </a:solidFill>
                <a:latin typeface="Arial"/>
              </a:rPr>
              <a:t>http://www.educom.ru/ru/documents/archive/advices.ph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66ff"/>
                </a:solidFill>
                <a:latin typeface="Arial"/>
              </a:rPr>
              <a:t>Методические рекомендации по организации проектной и исследовательской деятельности обучающихся в образовательных учреждениях г. Москв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66ff"/>
                </a:solidFill>
                <a:latin typeface="Arial"/>
              </a:rPr>
              <a:t>http://schools.keldysh.ru/labmr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3366ff"/>
                </a:solidFill>
                <a:latin typeface="Arial"/>
              </a:rPr>
              <a:t>Методический сайт лаборатории методики и информационной поддержки развития образования </a:t>
            </a:r>
            <a:r>
              <a:rPr b="0" lang="en-US" sz="1400" spc="-1" strike="noStrike">
                <a:solidFill>
                  <a:srgbClr val="3366ff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3366ff"/>
                </a:solidFill>
                <a:latin typeface="Arial"/>
              </a:rPr>
              <a:t>МИО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00"/>
                </a:solidFill>
                <a:latin typeface="Monotype Corsiva"/>
              </a:rPr>
              <a:t> </a:t>
            </a: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Предмет «Литература»</a:t>
            </a:r>
            <a:br>
              <a:rPr sz="3600"/>
            </a:b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устное народное творч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300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Девиз проект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Monotype Corsiva"/>
              </a:rPr>
              <a:t>«Дерзайте, вы – талантливы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8360" y="3933720"/>
            <a:ext cx="82072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грамма "Проектной деятельности" создана на основе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едерального компонента государственного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андарта начального образования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9000" y="5300640"/>
            <a:ext cx="746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Monotype Corsiva"/>
              </a:rPr>
              <a:t>Проект рассчитан на 2 меся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6048360"/>
          </a:xfrm>
          <a:prstGeom prst="rect">
            <a:avLst/>
          </a:prstGeom>
          <a:solidFill>
            <a:srgbClr val="ffffd9"/>
          </a:solidFill>
          <a:ln w="9360">
            <a:solidFill>
              <a:srgbClr val="ffffd9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Times New Roman"/>
              </a:rPr>
              <a:t>Те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Times New Roman"/>
              </a:rPr>
              <a:t>                  </a:t>
            </a:r>
            <a:r>
              <a:rPr b="1" i="1" lang="en-US" sz="2000" spc="-1" strike="noStrike">
                <a:solidFill>
                  <a:srgbClr val="ff6600"/>
                </a:solidFill>
                <a:latin typeface="Times New Roman"/>
              </a:rPr>
              <a:t>Малые жанры устного народного творчеств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Times New Roman"/>
              </a:rPr>
              <a:t>                </a:t>
            </a:r>
            <a:r>
              <a:rPr b="1" i="1" lang="en-US" sz="2000" spc="-1" strike="noStrike">
                <a:solidFill>
                  <a:srgbClr val="ff6600"/>
                </a:solidFill>
                <a:latin typeface="Times New Roman"/>
              </a:rPr>
              <a:t>Сочинения собственных произведений малых жан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Times New Roman"/>
              </a:rPr>
              <a:t>                                  </a:t>
            </a:r>
            <a:r>
              <a:rPr b="1" i="1" lang="en-US" sz="2000" spc="-1" strike="noStrike">
                <a:solidFill>
                  <a:srgbClr val="ff6600"/>
                </a:solidFill>
                <a:latin typeface="Times New Roman"/>
              </a:rPr>
              <a:t>устного народного творче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i="1" lang="en-US" sz="4800" spc="-1" strike="noStrike">
                <a:solidFill>
                  <a:srgbClr val="cc0000"/>
                </a:solidFill>
                <a:latin typeface="Monotype Corsiva"/>
              </a:rPr>
              <a:t>«Докучные сказки и небылицы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Times New Roman"/>
              </a:rPr>
              <a:t>                                                          </a:t>
            </a:r>
            <a:r>
              <a:rPr b="1" lang="en-US" sz="2000" spc="-1" strike="noStrike">
                <a:solidFill>
                  <a:srgbClr val="3366ff"/>
                </a:solidFill>
                <a:latin typeface="Times New Roman"/>
              </a:rPr>
              <a:t>Ц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6600"/>
                </a:solidFill>
                <a:latin typeface="Times New Roman"/>
              </a:rPr>
              <a:t>Развитие личности и создание творческого потенциала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Times New Roman"/>
              </a:rPr>
              <a:t>                                                         </a:t>
            </a:r>
            <a:r>
              <a:rPr b="1" lang="en-US" sz="2000" spc="-1" strike="noStrike">
                <a:solidFill>
                  <a:srgbClr val="3366ff"/>
                </a:solidFill>
                <a:latin typeface="Times New Roman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ff"/>
                </a:solidFill>
                <a:latin typeface="Times New Roman"/>
              </a:rPr>
              <a:t>  </a:t>
            </a:r>
            <a:r>
              <a:rPr b="1" i="1" lang="en-US" sz="1800" spc="-1" strike="noStrike">
                <a:solidFill>
                  <a:srgbClr val="ff6600"/>
                </a:solidFill>
                <a:latin typeface="Times New Roman"/>
              </a:rPr>
              <a:t>Формирование позитивной самооценки, самоува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Times New Roman"/>
              </a:rPr>
              <a:t>Формирование коммуникативной компетентности в сотрудничеств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Times New Roman"/>
              </a:rPr>
              <a:t>   </a:t>
            </a:r>
            <a:r>
              <a:rPr b="1" i="1" lang="en-US" sz="1800" spc="-1" strike="noStrike">
                <a:solidFill>
                  <a:srgbClr val="ff6600"/>
                </a:solidFill>
                <a:latin typeface="Times New Roman"/>
              </a:rPr>
              <a:t>формирование социально адекватных способов по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ff6600"/>
                </a:solidFill>
                <a:latin typeface="Times New Roman"/>
              </a:rPr>
              <a:t>Формирование умений решать творческие зада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Times New Roman"/>
              </a:rPr>
              <a:t>  </a:t>
            </a:r>
            <a:r>
              <a:rPr b="1" i="1" lang="en-US" sz="1800" spc="-1" strike="noStrike">
                <a:solidFill>
                  <a:srgbClr val="ff6600"/>
                </a:solidFill>
                <a:latin typeface="Times New Roman"/>
              </a:rPr>
              <a:t>Формирование способности к организации деятель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Times New Roman"/>
              </a:rPr>
              <a:t>   </a:t>
            </a:r>
            <a:r>
              <a:rPr b="1" i="1" lang="en-US" sz="1800" spc="-1" strike="noStrike">
                <a:solidFill>
                  <a:srgbClr val="ff6600"/>
                </a:solidFill>
                <a:latin typeface="Times New Roman"/>
              </a:rPr>
              <a:t>воспитание целеустремлённости и настойчив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-4843440" y="3260880"/>
            <a:ext cx="39718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грамма "Проектной деятельности"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а на основе федерального компонента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осударственного стандарта начального общего образования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5050"/>
                </a:solidFill>
                <a:latin typeface="Times New Roman"/>
              </a:rPr>
              <a:t>Основное содержание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1 Этап. Теоретиче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Поиск информации по теме: «Устное народное творчество» в различных источни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Изучение произведений устного народного твор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Знакомство с риф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2 Этап. Практиче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«Проба пера» - участники проекта пробуют свои силы в написании произвед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Коллективное обсуждение сочинений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Работа над иллюстрациями сочи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3 Этап. Презентация детских сочин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Организация выставки сочи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Оформление сборника сочинений в кни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2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826920" y="476280"/>
            <a:ext cx="7417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505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Творческие работы детей</a:t>
            </a:r>
            <a:endParaRPr b="1" i="1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ff505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8066160" cy="5112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4360" y="1628640"/>
            <a:ext cx="37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1341360"/>
            <a:ext cx="3384360" cy="27709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Times New Roman"/>
              </a:rPr>
              <a:t>  </a:t>
            </a:r>
            <a:r>
              <a:rPr b="1" i="1" lang="ru-RU" sz="1600" spc="-1" strike="noStrike">
                <a:solidFill>
                  <a:srgbClr val="ff6600"/>
                </a:solidFill>
                <a:latin typeface="Times New Roman"/>
              </a:rPr>
              <a:t>Докучная сказка. Про соба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Жила-была собак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А звали её Бя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Непослушная был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сех кусала и рв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Она прыгала, кусал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Не начать ли всё сначал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Times New Roman"/>
              </a:rPr>
              <a:t>      </a:t>
            </a:r>
            <a:r>
              <a:rPr b="1" i="1" lang="ru-RU" sz="1600" spc="-1" strike="noStrike">
                <a:solidFill>
                  <a:srgbClr val="ff6600"/>
                </a:solidFill>
                <a:latin typeface="Times New Roman"/>
              </a:rPr>
              <a:t>Кабанова Дарья 3 «Б»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7848720" cy="5184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300720" y="1844640"/>
            <a:ext cx="2521080" cy="29757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00"/>
                </a:solidFill>
                <a:latin typeface="Monotype Corsiva"/>
              </a:rPr>
              <a:t>      </a:t>
            </a:r>
            <a:r>
              <a:rPr b="1" i="1" lang="en-US" sz="1600" spc="-1" strike="noStrike">
                <a:solidFill>
                  <a:srgbClr val="ff6600"/>
                </a:solidFill>
                <a:latin typeface="Times New Roman"/>
              </a:rPr>
              <a:t>Небылицы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Наша Маша молодец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В небе ловит огурец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Помидоры ловит в море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И бросает это Бор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ff6600"/>
                </a:solidFill>
                <a:latin typeface="Times New Roman"/>
              </a:rPr>
              <a:t>Бескашнова Алё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6600"/>
                </a:solidFill>
                <a:latin typeface="Times New Roman"/>
              </a:rPr>
              <a:t>           </a:t>
            </a:r>
            <a:r>
              <a:rPr b="1" i="1" lang="en-US" sz="1600" spc="-1" strike="noStrike">
                <a:solidFill>
                  <a:srgbClr val="ff6600"/>
                </a:solidFill>
                <a:latin typeface="Times New Roman"/>
              </a:rPr>
              <a:t>3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632720" cy="5145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4360" y="1268280"/>
            <a:ext cx="2952720" cy="2577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Times New Roman"/>
              </a:rPr>
              <a:t>            </a:t>
            </a:r>
            <a:r>
              <a:rPr b="1" i="1" lang="ru-RU" sz="1400" spc="-1" strike="noStrike">
                <a:solidFill>
                  <a:srgbClr val="ff6600"/>
                </a:solidFill>
                <a:latin typeface="Times New Roman"/>
              </a:rPr>
              <a:t>Докучные сказ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Жили-были два ло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от и сказка началас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Жили-были два павлина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от и сказке полов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Жили-были два гус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от и сказка моя в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Times New Roman"/>
              </a:rPr>
              <a:t>   </a:t>
            </a:r>
            <a:r>
              <a:rPr b="1" i="1" lang="ru-RU" sz="1400" spc="-1" strike="noStrike">
                <a:solidFill>
                  <a:srgbClr val="ff6600"/>
                </a:solidFill>
                <a:latin typeface="Times New Roman"/>
              </a:rPr>
              <a:t>Шарипов Шохжахон 3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7488000" cy="4968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227640" y="1413000"/>
            <a:ext cx="2665440" cy="3362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6600"/>
                </a:solidFill>
                <a:latin typeface="Times New Roman"/>
              </a:rPr>
              <a:t>           </a:t>
            </a:r>
            <a:r>
              <a:rPr b="1" i="1" lang="en-US" sz="1600" spc="-1" strike="noStrike">
                <a:solidFill>
                  <a:srgbClr val="ff6600"/>
                </a:solidFill>
                <a:latin typeface="Times New Roman"/>
              </a:rPr>
              <a:t>Небылиц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Даня, Данечка – чуда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Окунулся в бензоба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В бензобаке захлебнулс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Улыбнулся и проснул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ff6600"/>
                </a:solidFill>
                <a:latin typeface="Times New Roman"/>
              </a:rPr>
              <a:t>Соколов Данила 3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351640" cy="5111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11280" y="1628640"/>
            <a:ext cx="3889440" cy="47178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Times New Roman"/>
              </a:rPr>
              <a:t>           </a:t>
            </a:r>
            <a:r>
              <a:rPr b="1" i="1" lang="ru-RU" sz="1600" spc="-1" strike="noStrike">
                <a:solidFill>
                  <a:srgbClr val="ff6600"/>
                </a:solidFill>
                <a:latin typeface="Times New Roman"/>
              </a:rPr>
              <a:t>Докучные сказ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Жила-была Настюш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Была у неё круж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Из кружки чай пи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На кружечке малин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А сказке середи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от кружка осерчал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От Насти убеж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Она её не мыл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На кружечке черни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рибегай ко мне быстр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Я помою тебя чист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ружка возвращаетс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А сказочка кончае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Times New Roman"/>
              </a:rPr>
              <a:t>          </a:t>
            </a:r>
            <a:r>
              <a:rPr b="1" i="1" lang="ru-RU" sz="1600" spc="-1" strike="noStrike">
                <a:solidFill>
                  <a:srgbClr val="ff6600"/>
                </a:solidFill>
                <a:latin typeface="Times New Roman"/>
              </a:rPr>
              <a:t>Князева Анастасия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Times New Roman"/>
              </a:rPr>
              <a:t>                        </a:t>
            </a:r>
            <a:r>
              <a:rPr b="1" i="1" lang="ru-RU" sz="1600" spc="-1" strike="noStrike">
                <a:solidFill>
                  <a:srgbClr val="ff6600"/>
                </a:solidFill>
                <a:latin typeface="Times New Roman"/>
              </a:rPr>
              <a:t>3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13:20:16Z</dcterms:created>
  <dc:creator>Admin</dc:creator>
  <dc:description/>
  <dc:language>en-US</dc:language>
  <cp:lastModifiedBy>Admin</cp:lastModifiedBy>
  <dcterms:modified xsi:type="dcterms:W3CDTF">2012-11-05T13:18:05Z</dcterms:modified>
  <cp:revision>7</cp:revision>
  <dc:subject/>
  <dc:title>Слайд 1</dc:title>
</cp:coreProperties>
</file>