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EF8-D833-4370-9BAC-C07C2E1C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9DD-C3FC-48D2-AF34-5925DB5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7B7-8331-4426-8211-096FD7EC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26E-24E3-4079-9D29-4CB02727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C1C-7CD7-4570-A393-BDA671E6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5D1-DCC3-4007-ADA9-36A90D41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EAF-A5B4-421B-A9B4-1D0924C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DCC-85E4-41A5-9DDF-4E1CD546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87C-56D4-4827-AFEF-8E7A56F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6B3-59AA-4527-AD09-9D695E1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985-E641-4338-AEA8-A830DB1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812-C92B-475A-AFCB-6C4C5D2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71D-194F-4E63-80E0-F205C0EEA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Приглашаю к исслед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«Незабываемые впечатления от прочитанных стран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повестей Н. В. Гоголя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де найти под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4413" r="0" b="4413"/>
          <a:stretch/>
        </p:blipFill>
        <p:spPr>
          <a:xfrm>
            <a:off x="395280" y="1484280"/>
            <a:ext cx="25052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1413000"/>
            <a:ext cx="44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Сайт «Славя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http://nfor.org/stati/znanija/slavjane-v-drevnosti-ih-byt-i-verovani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48431" t="6748" r="11210" b="63000"/>
          <a:stretch/>
        </p:blipFill>
        <p:spPr>
          <a:xfrm>
            <a:off x="3276720" y="2421000"/>
            <a:ext cx="3457440" cy="207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00720" y="4869000"/>
            <a:ext cx="26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http://www.booksite.ru/fulltext/mir/russ/dushi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Любомуд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Почему накануне Рождества обостряется борьба злых и добрых с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300720" y="3933720"/>
            <a:ext cx="1511280" cy="1008000"/>
          </a:xfrm>
          <a:custGeom>
            <a:avLst/>
            <a:gdLst>
              <a:gd name="textAreaLeft" fmla="*/ 622800 w 1511280"/>
              <a:gd name="textAreaRight" fmla="*/ 888480 w 151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6300720" y="3933720"/>
            <a:ext cx="1511280" cy="1008000"/>
          </a:xfrm>
          <a:custGeom>
            <a:avLst/>
            <a:gdLst>
              <a:gd name="textAreaLeft" fmla="*/ 622800 w 1511280"/>
              <a:gd name="textAreaRight" fmla="*/ 888480 w 151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Фольклори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Какие национальные традиции, верования использовал Н. В. Гоголь в своих повест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522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Этног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Какие предметно-бытовые детали и цветовые образы имеют в повести особое символическое знач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4724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Литературов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Как развиваются в повести образы главных героев? Художественные приёмы изображения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Роль пейзажа в п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Словесный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жителей ху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551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Задания Любомудр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3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то из героев повести олицетворяет добро? Какие положительные качества их отлич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Герои, воплощающие з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Чем они отличаются от добр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акие предания и легенды связаны с Сочельником у славянских нар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ак нечистая сила пытается навредить людям?  Почему 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это не удаё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то из героев повести одерживает победу над нечисть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Результат : презентация «Борьба доб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и злых сил на страницах п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«Ночь перед Рождеств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8317080" y="5157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Задание фольклорист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Найдите в тексте языческие обряды празднования Свя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Какие христианские традиции празднования Рожд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писываются автором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ове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Сделайте Рождественский календарь, подберите к нему иллю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редставьте костюмы для Святочного гуляния (презент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Найдите примеры Святочных колядок (тексты, музыкальные произ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1. Описание святочных и христианских обрядов из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2. Презентация «Рождественский 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3. Презентация «Святочные костюмы и мас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4.  Сборник колядок (мини-кни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4000" y="5229360"/>
            <a:ext cx="610920" cy="75564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755640"/>
              <a:gd name="textAreaBottom" fmla="*/ 716040 h 755640"/>
            </a:gdLst>
            <a:ahLst/>
            <a:rect l="textAreaLeft" t="textAreaTop" r="textAreaRight" b="textAreaBottom"/>
            <a:pathLst>
              <a:path w="21600" h="26714">
                <a:moveTo>
                  <a:pt x="0" y="0"/>
                </a:moveTo>
                <a:lnTo>
                  <a:pt x="21600" y="0"/>
                </a:lnTo>
                <a:lnTo>
                  <a:pt x="21600" y="26714"/>
                </a:lnTo>
                <a:lnTo>
                  <a:pt x="0" y="26714"/>
                </a:lnTo>
                <a:close/>
              </a:path>
              <a:path fill="lightenLess" w="21600" h="267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14">
                <a:moveTo>
                  <a:pt x="21600" y="0"/>
                </a:moveTo>
                <a:lnTo>
                  <a:pt x="21600" y="26714"/>
                </a:lnTo>
                <a:lnTo>
                  <a:pt x="20200" y="25314"/>
                </a:lnTo>
                <a:lnTo>
                  <a:pt x="20200" y="1400"/>
                </a:lnTo>
                <a:close/>
              </a:path>
              <a:path fill="darkenLess" w="21600" h="26714">
                <a:moveTo>
                  <a:pt x="21600" y="26714"/>
                </a:moveTo>
                <a:lnTo>
                  <a:pt x="0" y="26714"/>
                </a:lnTo>
                <a:lnTo>
                  <a:pt x="1400" y="25314"/>
                </a:lnTo>
                <a:lnTo>
                  <a:pt x="20200" y="25314"/>
                </a:lnTo>
                <a:close/>
              </a:path>
              <a:path fill="lighten" w="21600" h="26714">
                <a:moveTo>
                  <a:pt x="0" y="267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14"/>
                </a:lnTo>
                <a:close/>
              </a:path>
              <a:path fill="darken" w="21600" h="26714">
                <a:moveTo>
                  <a:pt x="3794" y="13357"/>
                </a:moveTo>
                <a:lnTo>
                  <a:pt x="17806" y="6350"/>
                </a:lnTo>
                <a:lnTo>
                  <a:pt x="17806" y="203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Задания Этнограф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612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дберите описания внутреннего убранства жителей ху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акие предметные детали характеризуют Окса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 помощью каких предметов быта и интерьера характеризуются Вакула, Солоха, Пацю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 помощью каких деталей Гоголь описывает Екатерину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акие цвета чаще всего упоминаются, с какими предметами они связа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зультат: 1. Убранство малороссийской х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2. Предметная характеристика гер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3. Цветовая палитра повести. Знач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вета (презент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85080" y="5877000"/>
            <a:ext cx="898560" cy="682560"/>
          </a:xfrm>
          <a:custGeom>
            <a:avLst/>
            <a:gdLst>
              <a:gd name="textAreaLeft" fmla="*/ 43920 w 898560"/>
              <a:gd name="textAreaRight" fmla="*/ 854640 w 898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8432" h="21600">
                <a:moveTo>
                  <a:pt x="0" y="0"/>
                </a:moveTo>
                <a:lnTo>
                  <a:pt x="28432" y="0"/>
                </a:lnTo>
                <a:lnTo>
                  <a:pt x="28432" y="21600"/>
                </a:lnTo>
                <a:lnTo>
                  <a:pt x="0" y="21600"/>
                </a:lnTo>
                <a:close/>
              </a:path>
              <a:path fill="lightenLess" w="28432" h="21600">
                <a:moveTo>
                  <a:pt x="0" y="0"/>
                </a:moveTo>
                <a:lnTo>
                  <a:pt x="28432" y="0"/>
                </a:lnTo>
                <a:lnTo>
                  <a:pt x="27032" y="1400"/>
                </a:lnTo>
                <a:lnTo>
                  <a:pt x="1400" y="1400"/>
                </a:lnTo>
                <a:close/>
              </a:path>
              <a:path fill="darken" w="28432" h="21600">
                <a:moveTo>
                  <a:pt x="28432" y="0"/>
                </a:moveTo>
                <a:lnTo>
                  <a:pt x="28432" y="21600"/>
                </a:lnTo>
                <a:lnTo>
                  <a:pt x="27032" y="20200"/>
                </a:lnTo>
                <a:lnTo>
                  <a:pt x="27032" y="1400"/>
                </a:lnTo>
                <a:close/>
              </a:path>
              <a:path fill="darkenLess" w="28432" h="21600">
                <a:moveTo>
                  <a:pt x="28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32" y="20200"/>
                </a:lnTo>
                <a:close/>
              </a:path>
              <a:path fill="lighten" w="28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32" h="21600">
                <a:moveTo>
                  <a:pt x="7209" y="10800"/>
                </a:moveTo>
                <a:lnTo>
                  <a:pt x="21222" y="3794"/>
                </a:lnTo>
                <a:lnTo>
                  <a:pt x="21222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5877000"/>
            <a:ext cx="898560" cy="682560"/>
          </a:xfrm>
          <a:custGeom>
            <a:avLst/>
            <a:gdLst>
              <a:gd name="textAreaLeft" fmla="*/ 43920 w 898560"/>
              <a:gd name="textAreaRight" fmla="*/ 854640 w 898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8432" h="21600">
                <a:moveTo>
                  <a:pt x="0" y="0"/>
                </a:moveTo>
                <a:lnTo>
                  <a:pt x="28432" y="0"/>
                </a:lnTo>
                <a:lnTo>
                  <a:pt x="28432" y="21600"/>
                </a:lnTo>
                <a:lnTo>
                  <a:pt x="0" y="21600"/>
                </a:lnTo>
                <a:close/>
              </a:path>
              <a:path fill="lightenLess" w="28432" h="21600">
                <a:moveTo>
                  <a:pt x="0" y="0"/>
                </a:moveTo>
                <a:lnTo>
                  <a:pt x="28432" y="0"/>
                </a:lnTo>
                <a:lnTo>
                  <a:pt x="27032" y="1400"/>
                </a:lnTo>
                <a:lnTo>
                  <a:pt x="1400" y="1400"/>
                </a:lnTo>
                <a:close/>
              </a:path>
              <a:path fill="darken" w="28432" h="21600">
                <a:moveTo>
                  <a:pt x="28432" y="0"/>
                </a:moveTo>
                <a:lnTo>
                  <a:pt x="28432" y="21600"/>
                </a:lnTo>
                <a:lnTo>
                  <a:pt x="27032" y="20200"/>
                </a:lnTo>
                <a:lnTo>
                  <a:pt x="27032" y="1400"/>
                </a:lnTo>
                <a:close/>
              </a:path>
              <a:path fill="darkenLess" w="28432" h="21600">
                <a:moveTo>
                  <a:pt x="28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32" y="20200"/>
                </a:lnTo>
                <a:close/>
              </a:path>
              <a:path fill="lighten" w="28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32" h="21600">
                <a:moveTo>
                  <a:pt x="7209" y="10800"/>
                </a:moveTo>
                <a:lnTo>
                  <a:pt x="21222" y="3794"/>
                </a:lnTo>
                <a:lnTo>
                  <a:pt x="21222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Задания Литературовед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Изменяются ли характеры главных героев? Что является причиной эт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одберите словесные описания Оксаны и Вакулы. Какими выразительными средствами создаются их обра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Зачем Гоголь включает в сю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описания приро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вязаны ли эти о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 развитием действ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5734080"/>
            <a:ext cx="611280" cy="76500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765000"/>
              <a:gd name="textAreaBottom" fmla="*/ 725400 h 765000"/>
            </a:gdLst>
            <a:ahLst/>
            <a:rect l="textAreaLeft" t="textAreaTop" r="textAreaRight" b="textAreaBottom"/>
            <a:pathLst>
              <a:path w="21600" h="27029">
                <a:moveTo>
                  <a:pt x="0" y="0"/>
                </a:moveTo>
                <a:lnTo>
                  <a:pt x="21600" y="0"/>
                </a:lnTo>
                <a:lnTo>
                  <a:pt x="21600" y="27029"/>
                </a:lnTo>
                <a:lnTo>
                  <a:pt x="0" y="27029"/>
                </a:lnTo>
                <a:close/>
              </a:path>
              <a:path fill="lightenLess" w="21600" h="270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9">
                <a:moveTo>
                  <a:pt x="21600" y="0"/>
                </a:moveTo>
                <a:lnTo>
                  <a:pt x="21600" y="27029"/>
                </a:lnTo>
                <a:lnTo>
                  <a:pt x="20200" y="25629"/>
                </a:lnTo>
                <a:lnTo>
                  <a:pt x="20200" y="1400"/>
                </a:lnTo>
                <a:close/>
              </a:path>
              <a:path fill="darkenLess" w="21600" h="27029">
                <a:moveTo>
                  <a:pt x="21600" y="27029"/>
                </a:moveTo>
                <a:lnTo>
                  <a:pt x="0" y="27029"/>
                </a:lnTo>
                <a:lnTo>
                  <a:pt x="1400" y="25629"/>
                </a:lnTo>
                <a:lnTo>
                  <a:pt x="20200" y="25629"/>
                </a:lnTo>
                <a:close/>
              </a:path>
              <a:path fill="lighten" w="21600" h="27029">
                <a:moveTo>
                  <a:pt x="0" y="270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9"/>
                </a:lnTo>
                <a:close/>
              </a:path>
              <a:path fill="darken" w="21600" h="27029">
                <a:moveTo>
                  <a:pt x="3794" y="13514"/>
                </a:moveTo>
                <a:lnTo>
                  <a:pt x="17806" y="6508"/>
                </a:lnTo>
                <a:lnTo>
                  <a:pt x="17806" y="205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6:07:41Z</dcterms:created>
  <dc:creator>Наташа</dc:creator>
  <dc:description/>
  <dc:language>en-US</dc:language>
  <cp:lastModifiedBy>User</cp:lastModifiedBy>
  <dcterms:modified xsi:type="dcterms:W3CDTF">2013-01-21T17:16:02Z</dcterms:modified>
  <cp:revision>6</cp:revision>
  <dc:subject/>
  <dc:title>Приглашаю к исследованию</dc:title>
</cp:coreProperties>
</file>