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thunder2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E35-27C6-43F6-933E-06C9738D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105-D0FD-4ED6-8EA9-7AA1A35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57C-1522-4667-80D4-275EC3D0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46F-9D87-4954-831E-A99BC95A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8CB-52C7-4964-821F-AF73480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ECB-1FA2-4DA6-B1AF-0933E50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910-46B8-49AA-81B0-93A33F1F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C01-8B88-4E05-B645-7433928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507-B772-46DC-B8A3-BE0E749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97A-5BB7-4CB8-A917-89E6082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C04-12BB-4897-B7A7-CF73EEA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C7A-D634-4D70-ADA1-95AD6BB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5E7-BF9D-49B0-8307-71DFB44F9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hunder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5920" y="2133360"/>
            <a:ext cx="5683320" cy="20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РИ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Ы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</a:t>
            </a:r>
            <a:br>
              <a:rPr sz="6600"/>
            </a:b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Я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В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5120" y="5029560"/>
            <a:ext cx="5078520" cy="2163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ПА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Е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ЛИ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Й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-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Ж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Л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62400" y="5943600"/>
            <a:ext cx="2181240" cy="91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ЛУ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7648" t="0" r="0" b="0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5520" y="5851440"/>
            <a:ext cx="394812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851440"/>
            <a:ext cx="842796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ЗА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Т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4920" y="6285960"/>
            <a:ext cx="8975880" cy="564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Н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НО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 ЗА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Е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ИЗ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С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МО</a:t>
            </a:r>
            <a:r>
              <a:rPr b="0" lang="en-US" sz="3700" spc="-1" strike="noStrike">
                <a:solidFill>
                  <a:srgbClr val="009999"/>
                </a:solidFill>
                <a:latin typeface="Arial"/>
              </a:rPr>
              <a:t>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2113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851440"/>
            <a:ext cx="880596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О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   ЗА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Т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6600" spc="-1" strike="noStrike">
                <a:solidFill>
                  <a:srgbClr val="009999"/>
                </a:solidFill>
                <a:latin typeface="Arial"/>
              </a:rPr>
              <a:t>НИ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9600" y="5760360"/>
            <a:ext cx="3524400" cy="109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en-US" sz="7200" spc="-1" strike="noStrike">
                <a:solidFill>
                  <a:srgbClr val="009999"/>
                </a:solidFill>
                <a:latin typeface="Arial"/>
              </a:rPr>
              <a:t>ДУ</a:t>
            </a: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10257" b="0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50080" y="5851440"/>
            <a:ext cx="3193920" cy="100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МИ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5567" t="0" r="3811" b="0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943600"/>
            <a:ext cx="6170760" cy="914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ФА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ТА-МО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Р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195" t="0" r="0" b="0"/>
          <a:stretch/>
        </p:blipFill>
        <p:spPr>
          <a:xfrm>
            <a:off x="0" y="0"/>
            <a:ext cx="9431280" cy="6913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5851440"/>
            <a:ext cx="7164360" cy="1006560"/>
          </a:xfrm>
          <a:prstGeom prst="rect">
            <a:avLst/>
          </a:prstGeom>
          <a:solidFill>
            <a:srgbClr val="eaeaea">
              <a:alpha val="88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Р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НО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Е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СИ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НИ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6286" b="0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9760" y="5638680"/>
            <a:ext cx="2154240" cy="1524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Г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4:28:01Z</dcterms:created>
  <dc:creator>Шевченко</dc:creator>
  <dc:description/>
  <dc:language>en-US</dc:language>
  <cp:lastModifiedBy>Шевченко</cp:lastModifiedBy>
  <dcterms:modified xsi:type="dcterms:W3CDTF">2006-04-07T12:31:33Z</dcterms:modified>
  <cp:revision>30</cp:revision>
  <dc:subject/>
  <dc:title>РАДУГА</dc:title>
</cp:coreProperties>
</file>