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jpeg" ContentType="image/jpeg"/>
  <Override PartName="/ppt/media/image22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6.gif" ContentType="image/gif"/>
  <Override PartName="/ppt/media/image20.wmf" ContentType="image/x-wmf"/>
  <Override PartName="/ppt/media/image18.wmf" ContentType="image/x-wmf"/>
  <Override PartName="/ppt/media/image15.png" ContentType="image/png"/>
  <Override PartName="/ppt/media/image14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E48-E065-4A2A-9434-E32F34B1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CC6-6400-4738-BBFF-8419FE93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141A8-A259-4FD8-8E29-D7C31BAE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7E030-2381-4EC7-A120-8EAAE4BF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FFB42-8883-4E3F-9C90-C54DE909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AC7A7-0226-4DC5-B779-72756D04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17EEE-625E-440D-868D-59718CEE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5EB94-802A-438C-8335-FB4306A8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C315F-4D28-43D2-B157-1F40E8DD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E1E87-44AC-471B-9035-8CD5292B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38511-09DC-4FD2-984C-C002F708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EC173-3DF6-4C89-B7C0-95C7832F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C7D-2D07-4930-B8CF-FAB03811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47FF6-D8FB-416A-B683-AE0BEFBF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9BC3A-DFAB-4790-B37A-7449DDFA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3BAFD-73C9-4555-A3A8-4A8C9E9D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CF7B7-D3DB-431D-BCDB-7440413E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B7B20-0EAB-49B5-9D15-48DE4863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DE734-5B1F-402D-B98E-8112DB76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F4AFD-FCB6-4E1E-9591-4E8B6462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264D2-4EE3-4C8E-B5A8-49CC8EB0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CAB49-5943-4D2E-915F-EB570C8D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82B30-BBE9-4603-AD08-BC987855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C4A-D56B-4A67-AB32-530EB4C4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A4AB0-92A7-4754-9839-527DF638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55673-2B89-4DC3-B18B-E8AA8C2E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2F7B7-AEB1-47B5-9611-85A1C724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3D9C1-CD82-4574-8C27-02B8E11B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3F714-D818-4DC1-80DB-0ECA8AAD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9BF2F-4A3F-481A-9A3F-162A039D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6662B-C290-4E46-8561-492C965C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E867C-1115-4E3F-A349-A7773687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1486A-4542-4FC1-8805-95549EEF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B0355-BA93-41DA-8979-329C435A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AF6C-32C2-4263-9550-B9DF426F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249AD-D78C-4B31-83B5-14B90246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E7930-BF24-4331-8246-9BAD753B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4573F-401A-4AE2-8CF3-24D69EC6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85F31-9C9D-4B90-9489-C1885350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1DA36-4E63-4E31-A12B-9DF1C6A0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4A11C-9916-41EE-8424-63387AB2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9E19B-55EE-40EB-A53C-BFC5D9AA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38AE0-4F22-4638-BCB1-A29CE837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800BD-DA55-47C1-947B-A367904B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56E87-9CE6-458B-8C66-78BC1D9C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21DC-7F04-4D8E-A640-20CF4B6D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78468-9E5B-4A1D-899F-5B466D6C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362B0-D225-4398-AAD7-59712754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9A0FB-19C3-4FA4-9129-A6D775B1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2C0E1-C64F-4CA6-BADF-ED051B2C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D4558-BFD2-4508-A04F-031D27AA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BC596-594F-44B3-AB02-B74A8A05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7BC57-8682-458E-9AF1-20B68211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52BCF-3ED5-4019-9E46-D64343AC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83B38-8574-4A82-86A0-C498622B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291E9-19EF-49A8-A5EB-24784FF9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A7E3-C5A2-491E-98F8-1250F0F2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FE19A-1EE9-4229-937D-8E761EE5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C379B-C81D-4C0C-AC7E-BAE57689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4CB7B-641A-4D8A-AD8F-CBF5854B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E8772-2285-4DBB-B54A-1CFF9BB3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C4A5B-47FB-4212-AE6B-B3C2B090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1976A-A8B1-4392-943E-08DA25C3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FD750-DEAC-443F-96FB-B9246159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3AE8E7-D6F0-4350-AE7C-6B612576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AA284-5812-4277-B3B0-0F1341F2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7585EE-EE68-4C07-9001-5D172597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39E0-0969-4E3D-A0C6-7B7091B1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13B15C-1FFC-4FF0-A4F5-26A62A80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9B429-BF62-42BE-983B-E89B2A4B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FA537-B2F6-4038-9B48-3D368ECD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2BAFA-6D0F-487A-8887-B95AECD6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C785D-E242-4D06-A88B-C7FC0ABD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60764-0400-425B-BDD9-184336B1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913EA8-5285-43E1-A071-6B9225EF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2F5E87-52BC-4EC1-9B0D-D766534D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6E701-1EE7-487F-B2EB-BCBE318D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1C264F-0F0C-4B00-9354-012B996B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4073-EFE3-4ADA-B2A9-08347858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8E27F9-BE14-419E-BEDE-E9597375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938CCE-8B37-42E6-A67A-D3948592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5A61CB-9516-4861-83C7-A6EE3331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4CBD62-3813-437A-9165-332ED132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C2E156-6C8B-4970-996F-990CBFDA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D0982A-9036-4740-966F-AFFC1399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809E10-D512-414A-B1B8-5033E402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49713-B3FC-4C37-9080-F73B9B21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47E139-E7EF-43B5-8744-83AB9048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4B402B-636C-4CD3-B978-CCF79357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F15A-68B2-4C17-9C18-2360773E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9D1C61-BA3D-480E-B19A-9FE010E5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897DDD-65BF-4C82-9465-E1BB5F8D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885478-E9BB-4350-9E6E-8E820807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5AED44-C867-436C-9985-5A320BE1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FE54F3-DC09-4F40-B1E8-4519A52F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79E9BC-8512-4AA4-A04E-E57B2AEC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D84F18-A927-47B2-8377-639D52CB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93DC74-8D1B-4D2A-B734-22106DE0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033ABB-548A-4028-8BF9-9712C4E0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E8AE15-279B-4211-89EF-EBF83BDD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1DD9-7C9A-4201-A7B7-CE910FB4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D248D5-27AB-4C71-A528-C92FE76F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560D4E-68F8-491D-BBAE-604A5977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8E8DCB-6574-46A6-A25D-3BA500DF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FB26-6F70-450B-9645-D1CB4441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E26A-3B2A-4633-8C21-E5B32797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1C2E-B0BC-42E2-9B9D-394E0CA0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CED8-B131-46E9-9768-79D21E7C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F309-15DE-43AD-8711-8242607B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D6A2-DC5B-4507-9CB6-9F40CCBD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014BE-098C-46FB-B38B-800BD8A0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B8C69-E3F6-49DC-9C7F-F774C72B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53A44-5568-4327-9B4D-B4C27F52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E5568-F949-4A43-95D3-ADEE31EC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9C957-FC2E-4D58-913C-307AF586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8CB-A9D2-47FE-9380-B293AFF7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46F32-C5B1-43F8-98FB-0A9E9D4B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F794C-BAEC-49FF-9848-8FAA9CB7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17665-0BA5-42A0-BFC8-FBFF2F19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F4DA9-0E59-47F7-996A-3A1F3EFE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23B1A-C961-4B0D-9DF7-F0A7E06D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A5D52-3C54-42E9-B8C4-5DF65AA8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6C56-0DCD-42D2-A55D-DFE5438F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22C56-D6BF-43B8-94A7-30972FF9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4EE47-8932-4410-B532-97A2A730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5D713-66F3-4584-B5D0-64AFF63D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AF9-9A2B-4CFD-9D45-F79D1D5F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C1DC1-C1B3-43A1-A2CB-942FAF78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007CC-2F51-4700-9EFA-34EBBAB7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C9117-A368-46EB-8DE5-B6D91210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28ADA-9E3A-4197-BE25-90975461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5368D-5B6A-468B-880E-EC5B6DCC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ED155-C6D9-45CA-AA1B-97AF1902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2770C-A055-4732-B6FE-08A8C522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F2158-27D8-4B4B-963D-07155DCD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1BC96-BB21-4F6E-B8FA-881431E3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0A073-9A0A-43C1-ACCB-31D97EAB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085F-374B-43C0-BF27-32AD9A0F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262C9-08F9-411E-87C7-3731F120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B4467-B50F-44C3-B51A-4BD51774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197C5-D2DD-4204-B1A5-6E4381C7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0E8F0-2A79-471A-AB8D-AB960300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D552D-7CDC-442E-9885-371A1BE2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A28CB-3934-42F4-978C-05C296AA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7FEE9-BFCB-4DE3-8B8F-3C0F1C32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9A7E8-78F6-4593-A72E-100F0ED4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04B77-C95F-4F1D-B30D-E8C74A18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C8452-DBD6-4454-BA05-09BB02EF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13AC-5A21-4CC5-BE1E-10C8D433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F5788-5FB2-4F4E-9086-D1AD937C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D2189-9F37-42F7-9ED7-8B577FAB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127B9-7E4F-4CF9-BB37-70ECEB97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C7AE2-A02B-4D09-8082-80AA083A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10254-C625-4575-9A92-5564AAA6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53A59-A4AB-4DF4-B75F-4F1ECFD7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0174D-F0DA-41A5-9E1A-A95DCA36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B5C9D-7A25-4851-98FE-0C7CD4BB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21577-AE11-4E4A-9A1B-2C29DA48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C0D87-256A-4A7F-A544-A3388C82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3A80-1D57-4808-AD86-E67C00F8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EFB0B-6D97-4C37-810B-0FDBEDAA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D54CA-2A4C-4D87-8422-6474BF69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BB25C-F05B-424E-86C9-F5482660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A7D4F-3A78-4984-8F5D-CD369BEF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047E6-7319-4C4B-A383-F366B31F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1E5D9-887F-4258-80D8-32E5687C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83BA1-8960-4FCA-91D3-014F7DB1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84C79-6DB8-428C-99E7-76322E9F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E81BC-5E3D-4AF3-8D78-C48B8EC9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DC5EF-59BE-450E-A8B6-D6F93F4D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E47-2067-4ADA-A26A-FF91DFD3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85A3B-1591-466C-BF36-416A35FD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03050-18B4-4019-8D56-6EC0C156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706CE-CF64-4D74-86E9-1473DA51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C75C0-E84F-44E0-821F-E841A4E8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1605A-A382-470D-B032-9C85F967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A1E0D-1653-4F45-A7B2-628979E1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27368-675F-4FE7-8BCD-BADC58A1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33E6E-6C2A-48E8-9D5C-D3115B6B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D7E01-0307-4274-AAF1-FED06012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50124-9004-442E-931F-CED8A4A0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5AF-9350-4CA6-8FF1-655CD564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B3DC7-7A7E-42A5-85EF-EBDA9EF3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791DD-5200-4A91-AE5F-4C82B485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792DD-6A75-4D7A-B253-7239EF2B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E8D27-596F-435B-A108-C1B825CD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912EA-0778-42AE-B26D-E716D0F5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237AC-76CE-4DCD-875F-92216469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AFFA0-46C8-4C8E-89C6-384BD671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B4E25-02BD-4ED4-971C-E814165F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82473-5E13-4C22-98F4-A9BA369C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90F91-7C78-4ECB-B8D1-DB78F603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1C4E-4153-4748-B4A7-0C1ABE4F5D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Горизонтальный свиток 6"/>
          <p:cNvSpPr/>
          <p:nvPr/>
        </p:nvSpPr>
        <p:spPr>
          <a:xfrm rot="5400000">
            <a:off x="5028480" y="2285640"/>
            <a:ext cx="5334120" cy="243828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Рисунок 7" descr="Безимени-1.gif"/>
          <p:cNvPicPr/>
          <p:nvPr/>
        </p:nvPicPr>
        <p:blipFill>
          <a:blip r:embed="rId3"/>
          <a:srcRect l="35003" t="50940" r="45001" b="32187"/>
          <a:stretch/>
        </p:blipFill>
        <p:spPr>
          <a:xfrm>
            <a:off x="6072120" y="5143680"/>
            <a:ext cx="1397160" cy="157140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8" descr="logotip[1].png"/>
          <p:cNvPicPr/>
          <p:nvPr/>
        </p:nvPicPr>
        <p:blipFill>
          <a:blip r:embed="rId4"/>
          <a:stretch/>
        </p:blipFill>
        <p:spPr>
          <a:xfrm>
            <a:off x="6297480" y="5462640"/>
            <a:ext cx="706680" cy="9381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2630-4821-451A-8D0D-A23645F039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5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6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0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451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3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D14C-8EA1-4721-B59D-FB321F2BD3B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7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498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0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A016-53C6-4D53-A300-FE9BFBFCFB2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C476-C74E-4A36-A777-F04DA14DB2F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071D-4A69-43C8-BD8F-1DDB0CC4E35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9405-91A4-42F7-89BB-F31BCDA5668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668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70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48E7-B9C1-47C2-A45D-850185CD236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C124-26B0-432F-B9F6-5CA9EF415F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Горизонтальный свиток 8"/>
          <p:cNvSpPr/>
          <p:nvPr/>
        </p:nvSpPr>
        <p:spPr>
          <a:xfrm>
            <a:off x="380880" y="685800"/>
            <a:ext cx="8382240" cy="144792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Рисунок 9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7858080" y="150012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logotip[1].png"/>
          <p:cNvPicPr/>
          <p:nvPr/>
        </p:nvPicPr>
        <p:blipFill>
          <a:blip r:embed="rId4"/>
          <a:stretch/>
        </p:blipFill>
        <p:spPr>
          <a:xfrm>
            <a:off x="7997760" y="1779480"/>
            <a:ext cx="768240" cy="585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40AB-1DF7-4F8D-B2EC-3EE03E63222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3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61D1-2536-4855-8768-D2873C1F562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Горизонтальный свиток 6"/>
          <p:cNvSpPr/>
          <p:nvPr/>
        </p:nvSpPr>
        <p:spPr>
          <a:xfrm>
            <a:off x="685800" y="1905120"/>
            <a:ext cx="7924680" cy="198108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Рисунок 7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7429680" y="1119240"/>
            <a:ext cx="1714320" cy="15238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8" descr="logotip[1].png"/>
          <p:cNvPicPr/>
          <p:nvPr/>
        </p:nvPicPr>
        <p:blipFill>
          <a:blip r:embed="rId4"/>
          <a:stretch/>
        </p:blipFill>
        <p:spPr>
          <a:xfrm>
            <a:off x="7424640" y="1279440"/>
            <a:ext cx="1311480" cy="1201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4660-2FE7-49FE-B6AA-70D5079278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Горизонтальный свиток 6"/>
          <p:cNvSpPr/>
          <p:nvPr/>
        </p:nvSpPr>
        <p:spPr>
          <a:xfrm>
            <a:off x="685800" y="3962520"/>
            <a:ext cx="7924680" cy="198108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Рисунок 7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7562880" y="4881600"/>
            <a:ext cx="1581120" cy="14050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8" descr="logotip[1].png"/>
          <p:cNvPicPr/>
          <p:nvPr/>
        </p:nvPicPr>
        <p:blipFill>
          <a:blip r:embed="rId4"/>
          <a:stretch/>
        </p:blipFill>
        <p:spPr>
          <a:xfrm>
            <a:off x="7821720" y="5254560"/>
            <a:ext cx="944280" cy="719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A6EE-2638-4C4D-99AA-011E82E736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4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7500960" y="428760"/>
            <a:ext cx="1527120" cy="135720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5" descr="logotip[1].png"/>
          <p:cNvPicPr/>
          <p:nvPr/>
        </p:nvPicPr>
        <p:blipFill>
          <a:blip r:embed="rId4"/>
          <a:stretch/>
        </p:blipFill>
        <p:spPr>
          <a:xfrm>
            <a:off x="7736040" y="706320"/>
            <a:ext cx="914400" cy="6955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2357-9119-496D-83DD-5D9805DBDE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Горизонтальный свиток 8"/>
          <p:cNvSpPr/>
          <p:nvPr/>
        </p:nvSpPr>
        <p:spPr>
          <a:xfrm>
            <a:off x="380880" y="685800"/>
            <a:ext cx="3124440" cy="83808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2" name="Рисунок 9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3071880" y="1143000"/>
            <a:ext cx="642960" cy="57168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10" descr="logotip[1].png"/>
          <p:cNvPicPr/>
          <p:nvPr/>
        </p:nvPicPr>
        <p:blipFill>
          <a:blip r:embed="rId4"/>
          <a:stretch/>
        </p:blipFill>
        <p:spPr>
          <a:xfrm>
            <a:off x="3139920" y="1279440"/>
            <a:ext cx="389160" cy="3002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47BD-26B8-4129-8EE9-E2DB7AC9B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Горизонтальный свиток 7"/>
          <p:cNvSpPr/>
          <p:nvPr/>
        </p:nvSpPr>
        <p:spPr>
          <a:xfrm>
            <a:off x="1676520" y="4572000"/>
            <a:ext cx="5715000" cy="99072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Рисунок 8" descr="Безимени-1.gif"/>
          <p:cNvPicPr/>
          <p:nvPr/>
        </p:nvPicPr>
        <p:blipFill>
          <a:blip r:embed="rId3"/>
          <a:srcRect l="32187" t="45001" r="50940" b="35003"/>
          <a:stretch/>
        </p:blipFill>
        <p:spPr>
          <a:xfrm>
            <a:off x="500040" y="507204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9" descr="logotip[1].png"/>
          <p:cNvPicPr/>
          <p:nvPr/>
        </p:nvPicPr>
        <p:blipFill>
          <a:blip r:embed="rId4"/>
          <a:stretch/>
        </p:blipFill>
        <p:spPr>
          <a:xfrm>
            <a:off x="920880" y="5353200"/>
            <a:ext cx="774720" cy="5839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E625-2155-4C4A-BD6F-1E19015598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msterdam_vp"/>
              </a:rPr>
              <a:t>Исследовательская работа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Amsterdam_vp"/>
              </a:rPr>
              <a:t>«Слова- «паразиты» в русском языке»</a:t>
            </a:r>
            <a:br>
              <a:rPr sz="6000"/>
            </a:br>
            <a:r>
              <a:rPr b="0" lang="ru-RU" sz="2000" spc="-1" strike="noStrike">
                <a:solidFill>
                  <a:srgbClr val="0070c0"/>
                </a:solidFill>
                <a:latin typeface="Amsterdam_vp"/>
              </a:rPr>
              <a:t>Подготовили: учащиеся 7 класса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Amsterdam_vp"/>
              </a:rPr>
              <a:t>Руководитель: учитель русского языка Пялькина М.Н.</a:t>
            </a:r>
            <a:br>
              <a:rPr sz="2000"/>
            </a:br>
            <a:br>
              <a:rPr sz="1600"/>
            </a:br>
            <a:br>
              <a:rPr sz="1600"/>
            </a:br>
            <a:r>
              <a:rPr b="0" lang="ru-RU" sz="1800" spc="-1" strike="noStrike">
                <a:solidFill>
                  <a:srgbClr val="0070c0"/>
                </a:solidFill>
                <a:latin typeface="Amsterdam_vp"/>
              </a:rPr>
              <a:t>2012г.</a:t>
            </a:r>
            <a:endParaRPr b="0" lang="en-US" sz="1800" spc="-1" strike="noStrike">
              <a:solidFill>
                <a:srgbClr val="000000"/>
              </a:solidFill>
              <a:latin typeface="Amsterdam_vp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msterdam_vp"/>
              </a:rPr>
              <a:t>Экспериментальное исследование употребления слов-«паразитов».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msterdam_vp"/>
              </a:rPr>
              <a:t>Постановка проблемы и организация её исследования.</a:t>
            </a:r>
            <a:endParaRPr b="0" lang="en-US" sz="32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merican Retro"/>
              </a:rPr>
              <a:t>Цель работы – </a:t>
            </a: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изучить особенности употребления слов-«паразитов» и провести сравнительный анализ  употребления их учениками разного возраста и в разных обстоятельствах.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merican Retro"/>
              </a:rPr>
              <a:t>Предмет исследования –  </a:t>
            </a: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употребление слов-«паразитов» подростками 5-8 классов.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merican Retro"/>
              </a:rPr>
              <a:t>Объект исследования – </a:t>
            </a: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дети подросткового возраста (45 человек) из санаторно-лесной школы №1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Анкетирование с целью выяснения осведомлённости детей подросткового возраста о словах- «паразитах»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1.Знаете ли вы, что такое слова-«паразиты»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45" name="Object 4"/>
          <p:cNvGraphicFramePr/>
          <p:nvPr/>
        </p:nvGraphicFramePr>
        <p:xfrm>
          <a:off x="285840" y="228600"/>
          <a:ext cx="845964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28600"/>
                    <a:ext cx="845964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2.Употребляете ли вы слова-«паразиты»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49" name="Object 4"/>
          <p:cNvGraphicFramePr/>
          <p:nvPr/>
        </p:nvGraphicFramePr>
        <p:xfrm>
          <a:off x="428760" y="1000080"/>
          <a:ext cx="8496000" cy="52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000080"/>
                    <a:ext cx="8496000" cy="52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3.Откуда вы узнали о словах-«паразитах»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53" name="Object 4"/>
          <p:cNvGraphicFramePr/>
          <p:nvPr/>
        </p:nvGraphicFramePr>
        <p:xfrm>
          <a:off x="0" y="1413000"/>
          <a:ext cx="882000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882000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4.Считаете ли вы, что слова-«паразиты» нужно искоренять из русской речи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6" name="Rectangle 5"/>
          <p:cNvSpPr/>
          <p:nvPr/>
        </p:nvSpPr>
        <p:spPr>
          <a:xfrm>
            <a:off x="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57" name="Object 4"/>
          <p:cNvGraphicFramePr/>
          <p:nvPr/>
        </p:nvGraphicFramePr>
        <p:xfrm>
          <a:off x="0" y="1096920"/>
          <a:ext cx="88200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6920"/>
                    <a:ext cx="88200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msterdam_vp"/>
              </a:rPr>
              <a:t>Анализ полученных результатов</a:t>
            </a:r>
            <a:endParaRPr b="0" lang="en-US" sz="36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merican Retr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merican Retro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Из проведённого нами исследования мы выяснили, что, к сожалению, все подростки знают о словах- «паразитах» и понимают необходимость их искоренения из речи. Мы думаем, что нужно проводить больше разъяснительных бесед и классных часов  о культуре речи,  объяснять людям, что слова-«паразиты» - это  «сорняки нашей речи». Необходимо объяснять так, чтобы человеку самому захотелось избавиться от этого мусора.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Анкетирование с целью выявления  особенности употребления слов-«паразитов» в зависимости от пола человека в 7 класс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евочки (9 человек)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395280" y="2421000"/>
          <a:ext cx="8280360" cy="34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421000"/>
                    <a:ext cx="8280360" cy="34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49" descr="MM900043717[1]"/>
          <p:cNvPicPr/>
          <p:nvPr/>
        </p:nvPicPr>
        <p:blipFill>
          <a:blip r:embed="rId1"/>
          <a:stretch/>
        </p:blipFill>
        <p:spPr>
          <a:xfrm>
            <a:off x="3708360" y="2130480"/>
            <a:ext cx="1870200" cy="2176560"/>
          </a:xfrm>
          <a:prstGeom prst="rect">
            <a:avLst/>
          </a:prstGeom>
          <a:ln w="0">
            <a:noFill/>
          </a:ln>
        </p:spPr>
      </p:pic>
      <p:sp>
        <p:nvSpPr>
          <p:cNvPr id="715" name="AutoShape 55"/>
          <p:cNvSpPr/>
          <p:nvPr/>
        </p:nvSpPr>
        <p:spPr>
          <a:xfrm>
            <a:off x="6300720" y="1989000"/>
            <a:ext cx="2448000" cy="1150920"/>
          </a:xfrm>
          <a:prstGeom prst="wedgeEllipseCallout">
            <a:avLst>
              <a:gd name="adj1" fmla="val -94486"/>
              <a:gd name="adj2" fmla="val 35379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акскать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так сказат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AutoShape 56"/>
          <p:cNvSpPr/>
          <p:nvPr/>
        </p:nvSpPr>
        <p:spPr>
          <a:xfrm>
            <a:off x="4067280" y="765000"/>
            <a:ext cx="2233440" cy="648000"/>
          </a:xfrm>
          <a:prstGeom prst="wedgeEllipseCallout">
            <a:avLst>
              <a:gd name="adj1" fmla="val -10912"/>
              <a:gd name="adj2" fmla="val 104657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то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AutoShape 57"/>
          <p:cNvSpPr/>
          <p:nvPr/>
        </p:nvSpPr>
        <p:spPr>
          <a:xfrm>
            <a:off x="6804000" y="620640"/>
            <a:ext cx="1871640" cy="1295640"/>
          </a:xfrm>
          <a:prstGeom prst="wedgeEllipseCallout">
            <a:avLst>
              <a:gd name="adj1" fmla="val -126166"/>
              <a:gd name="adj2" fmla="val 80884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 именно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AutoShape 58"/>
          <p:cNvSpPr/>
          <p:nvPr/>
        </p:nvSpPr>
        <p:spPr>
          <a:xfrm>
            <a:off x="5867280" y="3284640"/>
            <a:ext cx="2664000" cy="792000"/>
          </a:xfrm>
          <a:prstGeom prst="wedgeEllipseCallout">
            <a:avLst>
              <a:gd name="adj1" fmla="val -66805"/>
              <a:gd name="adj2" fmla="val -42185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апример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AutoShape 59"/>
          <p:cNvSpPr/>
          <p:nvPr/>
        </p:nvSpPr>
        <p:spPr>
          <a:xfrm>
            <a:off x="900000" y="4076640"/>
            <a:ext cx="2374920" cy="1152720"/>
          </a:xfrm>
          <a:prstGeom prst="wedgeEllipseCallout">
            <a:avLst>
              <a:gd name="adj1" fmla="val 79611"/>
              <a:gd name="adj2" fmla="val -91736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то само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AutoShape 60"/>
          <p:cNvSpPr/>
          <p:nvPr/>
        </p:nvSpPr>
        <p:spPr>
          <a:xfrm>
            <a:off x="971640" y="476280"/>
            <a:ext cx="2448000" cy="1081080"/>
          </a:xfrm>
          <a:prstGeom prst="wedgeEllipseCallout">
            <a:avLst>
              <a:gd name="adj1" fmla="val 87092"/>
              <a:gd name="adj2" fmla="val 94935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 принцип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AutoShape 61"/>
          <p:cNvSpPr/>
          <p:nvPr/>
        </p:nvSpPr>
        <p:spPr>
          <a:xfrm>
            <a:off x="1403280" y="1628640"/>
            <a:ext cx="1873440" cy="648000"/>
          </a:xfrm>
          <a:prstGeom prst="wedgeEllipseCallout">
            <a:avLst>
              <a:gd name="adj1" fmla="val 69069"/>
              <a:gd name="adj2" fmla="val 80884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ип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AutoShape 62"/>
          <p:cNvSpPr/>
          <p:nvPr/>
        </p:nvSpPr>
        <p:spPr>
          <a:xfrm>
            <a:off x="5867280" y="4292640"/>
            <a:ext cx="1729080" cy="647640"/>
          </a:xfrm>
          <a:prstGeom prst="wedgeEllipseCallout">
            <a:avLst>
              <a:gd name="adj1" fmla="val -81865"/>
              <a:gd name="adj2" fmla="val -91912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от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AutoShape 63"/>
          <p:cNvSpPr/>
          <p:nvPr/>
        </p:nvSpPr>
        <p:spPr>
          <a:xfrm>
            <a:off x="3059280" y="5734080"/>
            <a:ext cx="2808000" cy="647640"/>
          </a:xfrm>
          <a:prstGeom prst="wedgeEllipseCallout">
            <a:avLst>
              <a:gd name="adj1" fmla="val 1837"/>
              <a:gd name="adj2" fmla="val -249018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нимаешь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AutoShape 64"/>
          <p:cNvSpPr/>
          <p:nvPr/>
        </p:nvSpPr>
        <p:spPr>
          <a:xfrm>
            <a:off x="0" y="2276640"/>
            <a:ext cx="2736720" cy="863280"/>
          </a:xfrm>
          <a:prstGeom prst="wedgeEllipseCallout">
            <a:avLst>
              <a:gd name="adj1" fmla="val 100291"/>
              <a:gd name="adj2" fmla="val 41726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Короче говор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AutoShape 65"/>
          <p:cNvSpPr/>
          <p:nvPr/>
        </p:nvSpPr>
        <p:spPr>
          <a:xfrm>
            <a:off x="179280" y="3213000"/>
            <a:ext cx="2376720" cy="865440"/>
          </a:xfrm>
          <a:prstGeom prst="wedgeEllipseCallout">
            <a:avLst>
              <a:gd name="adj1" fmla="val 98564"/>
              <a:gd name="adj2" fmla="val -35504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 натур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AutoShape 66"/>
          <p:cNvSpPr/>
          <p:nvPr/>
        </p:nvSpPr>
        <p:spPr>
          <a:xfrm>
            <a:off x="1403280" y="5300640"/>
            <a:ext cx="2592360" cy="503280"/>
          </a:xfrm>
          <a:prstGeom prst="wedgeEllipseCallout">
            <a:avLst>
              <a:gd name="adj1" fmla="val 58879"/>
              <a:gd name="adj2" fmla="val -255995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Бли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AutoShape 67"/>
          <p:cNvSpPr/>
          <p:nvPr/>
        </p:nvSpPr>
        <p:spPr>
          <a:xfrm>
            <a:off x="4932360" y="5084640"/>
            <a:ext cx="2881440" cy="649440"/>
          </a:xfrm>
          <a:prstGeom prst="wedgeEllipseCallout">
            <a:avLst>
              <a:gd name="adj1" fmla="val -52643"/>
              <a:gd name="adj2" fmla="val -176407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ообщем-то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альчики (4 человека)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69" name="Object 4"/>
          <p:cNvGraphicFramePr/>
          <p:nvPr/>
        </p:nvGraphicFramePr>
        <p:xfrm>
          <a:off x="468360" y="1989000"/>
          <a:ext cx="792144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792144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msterdam_vp"/>
              </a:rPr>
              <a:t>Анализ полученных результатов</a:t>
            </a:r>
            <a:r>
              <a:rPr b="1" lang="ru-RU" sz="5400" spc="-1" strike="noStrike">
                <a:solidFill>
                  <a:srgbClr val="c00000"/>
                </a:solidFill>
                <a:latin typeface="Amsterdam_vp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27003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merican Retro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merican Retro"/>
              </a:rPr>
              <a:t>Проведя эти исследования , мы выяснили, что различия в употреблении слов-«паразитов» есть даже в соотношении полов. Девочкам присущи свои слова, мальчикам - свои.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msterdam_vp"/>
              </a:rPr>
              <a:t>Как излечиться от словарных паразитов?</a:t>
            </a:r>
            <a:endParaRPr b="0" lang="en-US" sz="32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6840" y="2514600"/>
            <a:ext cx="40402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merican Retro"/>
              </a:rPr>
              <a:t>Знаменитый господин Шахиджанян (автор множества книг по психологии) советует принудительно заменять каждого сорвавшегося с языка паразита звуками типа «мяу-мяу». Или «ква-ква». В общем, голос какого животного вам ближе по духу, того и используйте для лечения и профилактики. Может статься, что вся фраза превратиться в сплошные звериные звуки. </a:t>
            </a:r>
            <a:endParaRPr b="0" lang="en-US" sz="1800" spc="-1" strike="noStrike">
              <a:solidFill>
                <a:srgbClr val="000000"/>
              </a:solidFill>
              <a:latin typeface="American Retro"/>
            </a:endParaRPr>
          </a:p>
          <a:p>
            <a:pPr marL="329040" indent="-329040">
              <a:spcBef>
                <a:spcPts val="451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4644720" y="2514600"/>
            <a:ext cx="40417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Retro"/>
            </a:endParaRPr>
          </a:p>
        </p:txBody>
      </p:sp>
      <p:pic>
        <p:nvPicPr>
          <p:cNvPr id="778" name="Рисунок 6" descr="C:\Documents and Settings\Admin\Мои документы\Downloads\54316492.jpg"/>
          <p:cNvPicPr/>
          <p:nvPr/>
        </p:nvPicPr>
        <p:blipFill>
          <a:blip r:embed="rId1"/>
          <a:stretch/>
        </p:blipFill>
        <p:spPr>
          <a:xfrm>
            <a:off x="5286240" y="2071800"/>
            <a:ext cx="3286440" cy="43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msterdam_vp"/>
              </a:rPr>
              <a:t>Рекомендации для устранения слов-«паразитов».</a:t>
            </a:r>
            <a:r>
              <a:rPr b="0" lang="ru-RU" sz="3200" spc="-1" strike="noStrike">
                <a:solidFill>
                  <a:srgbClr val="c00000"/>
                </a:solidFill>
                <a:latin typeface="Amsterdam_v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Начни возвращать словам их смысл.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Попробуй заменить слова каким-нибудь звуком, как это делают с нецензурными словами на ТВ.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Наказывай себя штрафом.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Доведи ситуацию до абсурда – устрой себе «День Паразита».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Читай больше – это обогатит твой словарный запас .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msterdam_vp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merican Retro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merican Retro"/>
              </a:rPr>
              <a:t>Подводя итоги проделанной работы, приходим к выводу, что общая и словесная культура в нашей стране снижается, а эстетический вкус носителей языка портится под влиянием тех перемен, что происходят в обществе.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457200" y="2209320"/>
            <a:ext cx="8229600" cy="3916440"/>
          </a:xfrm>
          <a:prstGeom prst="rect">
            <a:avLst/>
          </a:prstGeom>
          <a:ln w="0">
            <a:noFill/>
          </a:ln>
        </p:spPr>
      </p:pic>
      <p:pic>
        <p:nvPicPr>
          <p:cNvPr id="78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2749680"/>
            <a:ext cx="915696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merican Retro"/>
              </a:rPr>
              <a:t>  </a:t>
            </a:r>
            <a:r>
              <a:rPr b="0" lang="ru-RU" sz="2800" spc="-1" strike="noStrike">
                <a:solidFill>
                  <a:srgbClr val="c00000"/>
                </a:solidFill>
                <a:latin typeface="American Retro"/>
              </a:rPr>
              <a:t>  </a:t>
            </a:r>
            <a:r>
              <a:rPr b="0" lang="ru-RU" sz="4000" spc="-1" strike="noStrike">
                <a:solidFill>
                  <a:srgbClr val="c00000"/>
                </a:solidFill>
                <a:latin typeface="American Retro"/>
              </a:rPr>
              <a:t>К.Г.Паустовский писал: </a:t>
            </a:r>
            <a:endParaRPr b="0" lang="en-US" sz="4000" spc="-1" strike="noStrike">
              <a:solidFill>
                <a:srgbClr val="000000"/>
              </a:solidFill>
              <a:latin typeface="American Retro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merican Retro"/>
              </a:rPr>
              <a:t>   </a:t>
            </a:r>
            <a:r>
              <a:rPr b="0" lang="ru-RU" sz="4000" spc="-1" strike="noStrike">
                <a:solidFill>
                  <a:srgbClr val="002060"/>
                </a:solidFill>
                <a:latin typeface="American Retro"/>
              </a:rPr>
              <a:t>«С русским языком можно творить чудеса.… Нет таких звуков, красок и мыслей – сложных и простых,- для которых не нашлось бы в нашем языке точного выражения».</a:t>
            </a:r>
            <a:endParaRPr b="0" lang="en-US" sz="4000" spc="-1" strike="noStrike">
              <a:solidFill>
                <a:srgbClr val="000000"/>
              </a:solidFill>
              <a:latin typeface="American Retro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merican Retro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merican Retro"/>
              </a:rPr>
              <a:t>«Слова-паразиты»</a:t>
            </a:r>
            <a:r>
              <a:rPr b="0" lang="ru-RU" sz="3200" spc="-1" strike="noStrike">
                <a:solidFill>
                  <a:srgbClr val="c00000"/>
                </a:solidFill>
                <a:latin typeface="American Retro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merican Retro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merican Retro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merican Retro"/>
              </a:rPr>
              <a:t>лингвистическое явление, выраженное в употреблении лишних и бессмысленных в данном контексте слов, имеют место в спонтанной, слабо контролируемой устной речи.. Синтаксически большинство «слов-паразитов» являются вводными словами. 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msterdam_vp"/>
              </a:rPr>
              <a:t>Истинные значения некоторых слов-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msterdam_vp"/>
              </a:rPr>
              <a:t>«паразитов»</a:t>
            </a:r>
            <a:endParaRPr b="0" lang="en-US" sz="32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merican Retro"/>
              </a:rPr>
              <a:t>   </a:t>
            </a:r>
            <a:r>
              <a:rPr b="1" lang="ru-RU" sz="2200" spc="-1" strike="noStrike">
                <a:solidFill>
                  <a:srgbClr val="002060"/>
                </a:solidFill>
                <a:latin typeface="American Retro"/>
              </a:rPr>
              <a:t>Блин</a:t>
            </a:r>
            <a:r>
              <a:rPr b="0" lang="ru-RU" sz="2200" spc="-1" strike="noStrike">
                <a:solidFill>
                  <a:srgbClr val="002060"/>
                </a:solidFill>
                <a:latin typeface="American Retro"/>
              </a:rPr>
              <a:t> - тонкая лепешка из жидкого теста, испеченная на сковородке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American Retro"/>
              </a:rPr>
              <a:t>В натуре</a:t>
            </a:r>
            <a:r>
              <a:rPr b="0" lang="ru-RU" sz="2200" spc="-1" strike="noStrike">
                <a:solidFill>
                  <a:srgbClr val="002060"/>
                </a:solidFill>
                <a:latin typeface="American Retro"/>
              </a:rPr>
              <a:t> - то, что существует в действительности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American Retro"/>
              </a:rPr>
              <a:t>В принципе</a:t>
            </a:r>
            <a:r>
              <a:rPr b="0" lang="ru-RU" sz="2200" spc="-1" strike="noStrike">
                <a:solidFill>
                  <a:srgbClr val="002060"/>
                </a:solidFill>
                <a:latin typeface="American Retro"/>
              </a:rPr>
              <a:t> - то, что заложено в основном, исходном положении какой-нибудь теории, учения, науки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American Retro"/>
              </a:rPr>
              <a:t>Как бы</a:t>
            </a:r>
            <a:r>
              <a:rPr b="0" lang="ru-RU" sz="2200" spc="-1" strike="noStrike">
                <a:solidFill>
                  <a:srgbClr val="002060"/>
                </a:solidFill>
                <a:latin typeface="American Retro"/>
              </a:rPr>
              <a:t> - частица со значением условно-предположительного сравнения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American Retro"/>
              </a:rPr>
              <a:t>На самом деле</a:t>
            </a:r>
            <a:r>
              <a:rPr b="0" lang="ru-RU" sz="2200" spc="-1" strike="noStrike">
                <a:solidFill>
                  <a:srgbClr val="002060"/>
                </a:solidFill>
                <a:latin typeface="American Retro"/>
              </a:rPr>
              <a:t> - в действительности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American Retro"/>
              </a:rPr>
              <a:t>Типа</a:t>
            </a:r>
            <a:r>
              <a:rPr b="0" lang="ru-RU" sz="2200" spc="-1" strike="noStrike">
                <a:solidFill>
                  <a:srgbClr val="002060"/>
                </a:solidFill>
                <a:latin typeface="American Retro"/>
              </a:rPr>
              <a:t> - производное от тип: форма, вид чего-нибудь, обладающие определенными признаками, а также образец, которому соответствует известная группа предметов, явлений.</a:t>
            </a:r>
            <a:endParaRPr b="0" lang="en-US" sz="22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468360" y="112536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merican Retro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merican Retro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American Retro"/>
              </a:rPr>
              <a:t>Есть интересная теория о том, что слово-«паразит», живущее в лексиконе человека, может рассказать о его натуре, характере, сущности мышления и видения мира…</a:t>
            </a:r>
            <a:endParaRPr b="0" lang="en-US" sz="4000" spc="-1" strike="noStrike">
              <a:solidFill>
                <a:srgbClr val="000000"/>
              </a:solidFill>
              <a:latin typeface="American Retro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785520" y="189000"/>
            <a:ext cx="79009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     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Если человек употребляет слово-«паразит»  </a:t>
            </a: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«просто»,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значит, он считает, что в жизни все должно быть просто, разумно, даже банально и никаких сложностей! Но на самом деле это слово используют люди, привыкшие всё в жизни усложнять. Еще этим словом злоупотребляют люди зависимые, часто оправдывающиеся: «Я </a:t>
            </a: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просто 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хотела посмотреть вазочку, а она вдруг разбилась». Или: «Я </a:t>
            </a: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просто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сказала ему, чтобы он не вмешивался не в свое дело, а он </a:t>
            </a: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просто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взял и обиделся». 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 «Сами понимаете»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- это классический пример «маленького» человека – робкого и постоянно перед всеми извиняющегося.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«Короче»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– человек не расположен к общению, он не любит разговоры, поэтому хочет сократить свою речь. Однако из-за этого бесконечного «короче» достигается обратный эффект. 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У молодежи в ходу словечко </a:t>
            </a: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«как бы».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Оно означает условность. Молодежь так и живет – «</a:t>
            </a: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как бы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пойдем, а </a:t>
            </a: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как бы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и не пойдем»; «как бы будем, а </a:t>
            </a: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как бы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и не будем». Молодежь не обременена ответственностью, это сказывается и на речи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msterdam_vp"/>
              </a:rPr>
              <a:t>Причины возникновения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Бедность словарного запаса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Своего рода «мода»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Иногда «слова-сорняки» используются для того, чтобы «выиграть время»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Тактическая роль в речи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В некоторых случаях слова-«паразиты» говорят о психологических особенностях человека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msterdam_vp"/>
              </a:rPr>
              <a:t>Негативное влияние слов-«паразитов» на русскую речь</a:t>
            </a:r>
            <a:endParaRPr b="0" lang="en-US" sz="32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merican Retro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merican Retro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merican Retro"/>
              </a:rPr>
              <a:t>На наших глазах происходит нравственная деградация общества, наблюдается удручающе низкий уровень духовности. Это напрямую отражается в языке. С экранов телевизоров, по радио на улицах городов мы слышим сниженную, вульгарную речь, граничащую с уголовным жаргоном, перегруженную словами-«паразитами».  В начале 20 века Максим Горький сделал такое замечание о языке тех лет: «Вообще с русским языком обращаются зверски». И в наши дни можно привести примеры «зверского» обращения с родным языком.  И один из них - употребление слов - «паразитов» в русской речи.</a:t>
            </a:r>
            <a:endParaRPr b="0" lang="en-US" sz="24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7:48:42Z</dcterms:created>
  <dc:creator>BOSS</dc:creator>
  <dc:description/>
  <dc:language>en-US</dc:language>
  <cp:lastModifiedBy>Admin</cp:lastModifiedBy>
  <dcterms:modified xsi:type="dcterms:W3CDTF">2012-02-06T10:06:07Z</dcterms:modified>
  <cp:revision>39</cp:revision>
  <dc:subject/>
  <dc:title>Муниципальное образовательное учреждение средняя общеобразовательная школа №6 г. Павлово Нижегородской области    Исследовательская работа «Слова-паразиты в русском языке»</dc:title>
</cp:coreProperties>
</file>