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4.png" ContentType="image/png"/>
  <Override PartName="/ppt/media/image23.jpeg" ContentType="image/jpeg"/>
  <Override PartName="/ppt/media/image22.wmf" ContentType="image/x-wmf"/>
  <Override PartName="/ppt/media/image5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16.gif" ContentType="image/gif"/>
  <Override PartName="/ppt/media/image20.wmf" ContentType="image/x-wmf"/>
  <Override PartName="/ppt/media/image18.wmf" ContentType="image/x-wmf"/>
  <Override PartName="/ppt/media/image15.png" ContentType="image/png"/>
  <Override PartName="/ppt/media/image14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C9A4-05C3-4DB6-ABBD-180BFA9D2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1A3A-F403-40A2-9369-118CBBD9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0B343-CB87-4C40-B5BF-207CF990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E82F1-4AB1-46C3-BAAB-C8D9A3AE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80880" y="762120"/>
            <a:ext cx="8229600" cy="54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0D9D8-965E-47A1-A9B4-8E1C061D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50CE90-3786-4588-9F50-F60577BB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108C54-3766-480B-86FC-DF29AF2A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67692C-AF02-43FC-9DFC-859AB8FD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2B0C9-7753-4762-BD32-F4F01B6C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35BEA-3F1B-477F-873C-43F00D80B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FB7E2-62F1-4741-AC86-08FAC3F8A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F20B80-C492-4D68-8F13-815934ED8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0BB6-9C8D-439A-83D4-B1AF22698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F73FAC-A016-4028-96C5-E43CDD99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02CD9E-26C4-4BB4-AD4C-956B03FA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B8E65D-099A-4190-9FCF-6ECCF001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73565E-F0AA-444B-A1B2-D2A1BACE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380880" y="762120"/>
            <a:ext cx="8229600" cy="54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52BAF-87F6-481F-9C98-DB6671A3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B9B546-77A4-467D-8D39-8A721CD4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349D2F-1AB3-4EAE-BFA8-B7F9615D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F8B564-5762-4DE8-8040-7421F53A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B61432-CA01-4510-AE52-C3D6B6AC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C4773-B009-4458-AB4A-01AC8A272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95EC-9CA7-4C4A-986B-F955B0253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9093B-B590-4DD5-8269-6FB7B2CFC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CDF68-B911-48FE-B6CD-2D9584814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FCEA8-8A54-40C2-93B1-4B69ACA1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AA4CB-4AAF-46E5-AE88-7C2E4EE9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C9604-01A5-4102-9E71-E1156C2C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7858D-381A-4DB1-A48D-B9270B4A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80880" y="762120"/>
            <a:ext cx="8229600" cy="54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548E9-796B-4002-BB35-EEBAD228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3BDDC-72C8-4E17-BEA5-DA1B2799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45374-86ED-4313-AA24-9569BBA8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D9A25-FC08-4301-9C61-6A1FB927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1B6D-F85D-45F3-B1AF-2F29BA4AF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7F3896-D7E2-4DCD-A2EB-5F4FF3DE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422E51-282B-4424-A22F-A6090058E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9F8CF-A69E-4C3D-8FE6-9397F9F2E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000A87-EA2B-4BED-81D8-21CCCCD4A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8246BD-0309-46A6-B767-B709D7BD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CF327C-2ED7-4117-A4E1-547B24A0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F265C6-F2F9-44FF-9CD5-792E3486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57E4FD-1129-47FF-9DA5-CC47B64F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80880" y="762120"/>
            <a:ext cx="8229600" cy="54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6A30E8-B7CA-426D-ADE7-854211BF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001B95-CE34-4112-AF7D-87B73A0B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74BF-CD8D-4713-91F8-D10245E8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FA759C-14C3-418B-9383-60CCA034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B9AD4B-5158-49D9-944D-840E8639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5F26A2-E8B2-4AA5-9D21-8C9C02EC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C48A0A-1049-40C8-8E6E-CF09A457F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99E628-FD1A-45D4-B76A-E08EBC02F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E82546-AE78-4017-AC06-D3F8B3106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D9D4A6-CABA-4482-9000-8136F161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0B1867-4B47-4684-9019-906D7EB2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2EA317-AA42-43A1-89F4-BFDD402B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D87B0B-B50B-4C1B-ABAD-129E88C8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7208-444D-488C-9F22-29399BAB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380880" y="762120"/>
            <a:ext cx="8229600" cy="54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F4E6C3-9C15-4CEF-A906-F614E363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F9E1FC-055A-49B8-BCAE-30867D80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970C5F-322E-4B75-BB72-E305B4FB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8B2210-FFB4-40EB-833A-D361B6E1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4775DB-84AB-45F1-9C97-9662230E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3E0CC8-B6BE-4AF8-BF9C-5F69E2F32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E36CCA-30CD-4BE4-8D94-3CD678B5E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6FFADF-8100-4994-BDA3-48AD232AB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0F0BDE-B1D8-4C82-BC20-7A6962AF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97158D-55C9-427F-AF33-4AED4BEA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7AC6-8D15-45F2-80F6-BDF14B39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516929-2602-4746-BC4B-93B41124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6ECC7C-87AC-42A9-9487-8869C11B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380880" y="762120"/>
            <a:ext cx="8229600" cy="54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9C760A-F57C-49CA-97A7-C03E67BB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AD4A49-06D4-4F6A-A498-70EBB474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6879E7-3ECD-4D86-A646-2F1236C1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1B990E-321A-41FB-97F0-5D73AC3B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D576DD-5849-4068-892D-5BBCE705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209BD3-FFF3-4262-A753-C5615A204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3964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2208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3964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2208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BE4199-07C5-4394-9380-CFF87B24B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22FDB7-F267-4CD4-A13E-C0A562E5E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6792-071F-4371-A743-8513D05B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5C7458-0AE1-4B92-B97F-22F18407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5401BA-4BC4-442C-9409-98A93C0E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4BC479-5182-407E-9D7F-CB1F72E2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B8AE15-444A-49A4-A26F-D1086BB6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380880" y="762120"/>
            <a:ext cx="8229600" cy="54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AEC2C1-D2DA-4117-96C9-8C0BA24C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AE55CF-5C5D-4BFF-B9AF-8A9D38D3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769FE8-7919-44F6-A2C7-573826C3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9924F0-7C19-4B8D-AEF2-FA2BE1AD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D9C1BF-4F44-4863-A346-15263E94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17E2BE-25EA-404F-BA64-B1035C9A1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80880" y="762120"/>
            <a:ext cx="8229600" cy="54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ACAA-1439-4835-B58C-7A1DAAE1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64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208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64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208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084D5C-42A8-4D20-8F14-0A83B12CD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37AF80-2E95-4C26-8F06-33E95AA90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57AEE6-3D09-4955-BD01-5B7F180C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DE62B7-EE5A-4707-ACFA-9A65A6DD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A11027-CB2C-4FDB-8EF6-92BEC290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053887-6858-46B0-8326-7D46C6A4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380880" y="762120"/>
            <a:ext cx="8229600" cy="54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93B52A-FCEF-4279-B9F7-17AD0E7B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8BDE0E-EEA4-4008-B5B9-DA793C9E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D07EF2-DB32-4F26-9343-C83BC6B1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2E7EED-E2EF-4B3E-9EEE-970A3909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B023-3748-4016-A50E-A2CA98CD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E8466C-EE5C-4A41-AFAD-C17A473E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A3C266-F2D8-4829-AE59-81798E7F2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48B766-7BC7-447E-870C-75FC38CD7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9A0C-323E-484B-ACB7-1200509E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708C-2A00-4615-98E8-093BE617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66E6-9780-4DC3-8753-C500E5D1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2768-5DCA-4EA9-B1A8-A5945F0A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A52E-6351-44DC-A2E5-B79961C94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98D7-F4FF-401F-97EB-50A2D7CEB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299D0-3233-4C25-9431-4E3A261F0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4ECCE-2D8C-4596-92E4-D50A1350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F6232-2328-45C9-91B1-20140DE5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9BBCA-49A5-40CA-AF96-83EAB3CE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9B194-ABD9-4424-BCE8-3F122600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ABBF-3C38-4E26-96C2-8D07D31C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380880" y="762120"/>
            <a:ext cx="8229600" cy="54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BC564-975B-49F3-A33D-4674CC2F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D1A0B-FF5D-4256-BEC5-E6DAFC3F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2A39A-084E-4A83-A65A-A1ED090E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6338C-49CB-4FAF-8B29-6C048AA4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14832-22C0-46F6-BD15-D08DEFD3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9DB79-CB9A-417A-BE53-6288FA86D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8D7A8-57E8-44AA-A4B8-2D4B73CFC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8BCC6-302A-463A-B263-15D9E349D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A947A-76B6-41B2-8FCD-C6F6364C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9E93F-0962-425F-8DCE-713A5E49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5BFB-A86F-4552-BE06-EB4C322F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08CFB-8C75-4B37-A19A-1FB89198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E4400-5A38-476A-9AAD-8092171D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380880" y="762120"/>
            <a:ext cx="8229600" cy="54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1086F-A642-47E1-BBA6-AE9CF192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C7647-6390-499F-982E-30F64475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32524-5EE4-4B01-B9EE-B59B4F21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47492-3888-44B1-803E-A41FAF0E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D8BD1-6400-42FE-B338-0719F687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92F51-6975-43A7-9BEF-D31172A68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6F979-D3D7-4839-8C8C-F44884012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C8E15-F617-4271-8E73-02A6DCB84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D9DE-1940-414B-9E9F-A51BA3DA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0DB16-6F7B-42E0-92FD-DBF22261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1AFFE-031B-4491-89DF-CF160CFB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845A8-EFC3-4723-BE16-57EAA3C0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3F7EE-2605-467D-85C1-F193E7A5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80880" y="762120"/>
            <a:ext cx="8229600" cy="54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C1E77-34A6-49AA-B3C3-F127F917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21417-1D99-4C62-8F9E-AFD7220A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5EEDB-9C10-4E1F-8E00-06643CF3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5C653-2D55-4709-B575-AE58AB36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D4FED-0F79-4117-8EDD-C9CDE4FA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873A8-EAE3-46F5-8399-41861BB9B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762120"/>
            <a:ext cx="8229600" cy="54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67FE-053A-4CE8-897E-E2A455FD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CDBD4-C4AF-4FE2-BDB8-91C0E303B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548AC-06B3-425A-8EE9-FFFC97F0D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7B1D3-717D-4DED-8B86-055B6087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7DB9E-7AED-4124-9332-BE0245F2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C47FE-AFBF-48E0-AAE8-62662753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5AA84-CC89-4738-B537-2A86BFB1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380880" y="762120"/>
            <a:ext cx="8229600" cy="54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122A5-065C-4094-B5C9-8913969F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19CCE-34CF-4409-8B79-86B4CF8E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BDC04-8328-47E4-880B-D80A283D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2C2DA-756E-43F4-B7EC-CB1FEFC4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563E-7AB8-4707-AD78-B7D1E8FB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96DF5-8CDF-4B89-900B-5A38BEFC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43E88-FD16-4253-99DD-85A0669D2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5D98C-285B-4BFC-8831-70D1B5E03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EB8C3-C06A-4F96-9E06-8510BC6E7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9B8BE-103E-434A-B322-F3357E90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E590D-33C4-434F-B24A-6660534A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12C67-E3D6-477F-83DF-B6332179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D7C6D-EBC1-46F9-A56C-ABFC97BB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380880" y="762120"/>
            <a:ext cx="8229600" cy="54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09586-0F17-4DAB-8F57-D2F3E469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FF16C-D8B9-4688-90F8-AD14D458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849C-E14C-40D5-A46B-19392053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21547-E8ED-42EB-BDC5-5D890D9E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4072D-E4B0-47CF-A198-22C0247F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717C6-248C-49D5-B6E4-5DA27805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518DD-26AB-4856-8BF7-205AB6D42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72168-57DE-4E53-963C-66EC91D6A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F72E1-6B22-4B8B-82B6-280E11E36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CDF32-B92A-4C77-9D12-C41344D9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C8A86-BE54-44D2-83B8-5A0ED663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86C21-8A3D-4AF6-85BA-E3B30E6D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09C8E-B2B0-4E44-9178-73D451CC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3755-3951-4A87-A88F-A26F6F9D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80880" y="762120"/>
            <a:ext cx="8229600" cy="54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5FFFA-EDB3-47B4-AE3E-38F49FBB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F319B-F27C-49EB-A58A-C3E4EF09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78AAC-13A1-4EE6-9802-AB9B8E1E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B684C-29CA-4113-84DB-3BDCA22B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CC63A-9E3F-49C3-BC8F-90960C40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A865D-5729-41A0-B896-695545CD6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8FB9F-CBF6-4D14-971D-1CED76513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3ACEE-510C-4FC0-B12F-F6A99E0FC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EB7CED-60BD-4FA7-A555-F3380682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74FE6-ECE8-4930-9C38-D82F9367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9D7C-C8EC-4C7D-A7DB-0CCE5F5634D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Горизонтальный свиток 6"/>
          <p:cNvSpPr/>
          <p:nvPr/>
        </p:nvSpPr>
        <p:spPr>
          <a:xfrm rot="5400000">
            <a:off x="5028480" y="2285640"/>
            <a:ext cx="5334120" cy="2438280"/>
          </a:xfrm>
          <a:prstGeom prst="horizontalScroll">
            <a:avLst>
              <a:gd name="adj" fmla="val 12500"/>
            </a:avLst>
          </a:prstGeom>
          <a:solidFill>
            <a:srgbClr val="662406">
              <a:alpha val="29000"/>
            </a:srgbClr>
          </a:solidFill>
          <a:ln w="25560">
            <a:solidFill>
              <a:srgbClr val="663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Рисунок 7" descr="Безимени-1.gif"/>
          <p:cNvPicPr/>
          <p:nvPr/>
        </p:nvPicPr>
        <p:blipFill>
          <a:blip r:embed="rId3"/>
          <a:srcRect l="35003" t="50940" r="45001" b="32187"/>
          <a:stretch/>
        </p:blipFill>
        <p:spPr>
          <a:xfrm>
            <a:off x="6072120" y="5143680"/>
            <a:ext cx="1397160" cy="157140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8" descr="logotip[1].png"/>
          <p:cNvPicPr/>
          <p:nvPr/>
        </p:nvPicPr>
        <p:blipFill>
          <a:blip r:embed="rId4"/>
          <a:stretch/>
        </p:blipFill>
        <p:spPr>
          <a:xfrm>
            <a:off x="6297480" y="5462640"/>
            <a:ext cx="706680" cy="9381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merican Ret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sterdam_vp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8A0E-188F-4DBE-9ABF-A10EFCF008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45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46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48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50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451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53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5046-CB9C-4A0F-9297-9AD66EF78DB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97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498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00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99BA-A0CA-4549-B118-A26E80F5849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3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3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C2ED-D5D6-4CD6-8FBE-617218F114E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4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4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4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0E84-37C2-4489-8B7C-BF546C77C66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4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4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4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A2E7-F372-4A3D-B11F-7E0FEB401C0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668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70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4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4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4013-3209-4C2C-A503-C220B0A4AE8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merican Ret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5BEA-F3BC-4A57-9D22-00FDFA2A29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Горизонтальный свиток 8"/>
          <p:cNvSpPr/>
          <p:nvPr/>
        </p:nvSpPr>
        <p:spPr>
          <a:xfrm>
            <a:off x="380880" y="685800"/>
            <a:ext cx="8382240" cy="1447920"/>
          </a:xfrm>
          <a:prstGeom prst="horizontalScroll">
            <a:avLst>
              <a:gd name="adj" fmla="val 12500"/>
            </a:avLst>
          </a:prstGeom>
          <a:solidFill>
            <a:srgbClr val="662406">
              <a:alpha val="29000"/>
            </a:srgbClr>
          </a:solidFill>
          <a:ln w="25560">
            <a:solidFill>
              <a:srgbClr val="663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Рисунок 9" descr="Безимени-1.gif"/>
          <p:cNvPicPr/>
          <p:nvPr/>
        </p:nvPicPr>
        <p:blipFill>
          <a:blip r:embed="rId3"/>
          <a:srcRect l="50943" t="45002" r="32187" b="35005"/>
          <a:stretch/>
        </p:blipFill>
        <p:spPr>
          <a:xfrm>
            <a:off x="7858080" y="1500120"/>
            <a:ext cx="128592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0" descr="logotip[1].png"/>
          <p:cNvPicPr/>
          <p:nvPr/>
        </p:nvPicPr>
        <p:blipFill>
          <a:blip r:embed="rId4"/>
          <a:stretch/>
        </p:blipFill>
        <p:spPr>
          <a:xfrm>
            <a:off x="7997760" y="1779480"/>
            <a:ext cx="768240" cy="585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sterdam_vp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9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6095-BA10-4B1F-B481-99A7BC02D75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37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C110-8839-4538-B5DF-082B3AB9ADC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Горизонтальный свиток 6"/>
          <p:cNvSpPr/>
          <p:nvPr/>
        </p:nvSpPr>
        <p:spPr>
          <a:xfrm>
            <a:off x="685800" y="1905120"/>
            <a:ext cx="7924680" cy="1981080"/>
          </a:xfrm>
          <a:prstGeom prst="horizontalScroll">
            <a:avLst>
              <a:gd name="adj" fmla="val 12500"/>
            </a:avLst>
          </a:prstGeom>
          <a:solidFill>
            <a:srgbClr val="662406">
              <a:alpha val="29000"/>
            </a:srgbClr>
          </a:solidFill>
          <a:ln w="25560">
            <a:solidFill>
              <a:srgbClr val="663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Рисунок 7" descr="Безимени-1.gif"/>
          <p:cNvPicPr/>
          <p:nvPr/>
        </p:nvPicPr>
        <p:blipFill>
          <a:blip r:embed="rId3"/>
          <a:srcRect l="50943" t="45002" r="32187" b="35005"/>
          <a:stretch/>
        </p:blipFill>
        <p:spPr>
          <a:xfrm>
            <a:off x="7429680" y="1119240"/>
            <a:ext cx="1714320" cy="152388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8" descr="logotip[1].png"/>
          <p:cNvPicPr/>
          <p:nvPr/>
        </p:nvPicPr>
        <p:blipFill>
          <a:blip r:embed="rId4"/>
          <a:stretch/>
        </p:blipFill>
        <p:spPr>
          <a:xfrm>
            <a:off x="7424640" y="1279440"/>
            <a:ext cx="1311480" cy="12016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merican Ret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sterdam_vp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BBD2-C54D-4F4D-BE23-6495E79298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Горизонтальный свиток 6"/>
          <p:cNvSpPr/>
          <p:nvPr/>
        </p:nvSpPr>
        <p:spPr>
          <a:xfrm>
            <a:off x="685800" y="3962520"/>
            <a:ext cx="7924680" cy="1981080"/>
          </a:xfrm>
          <a:prstGeom prst="horizontalScroll">
            <a:avLst>
              <a:gd name="adj" fmla="val 12500"/>
            </a:avLst>
          </a:prstGeom>
          <a:solidFill>
            <a:srgbClr val="662406">
              <a:alpha val="29000"/>
            </a:srgbClr>
          </a:solidFill>
          <a:ln w="25560">
            <a:solidFill>
              <a:srgbClr val="663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5" name="Рисунок 7" descr="Безимени-1.gif"/>
          <p:cNvPicPr/>
          <p:nvPr/>
        </p:nvPicPr>
        <p:blipFill>
          <a:blip r:embed="rId3"/>
          <a:srcRect l="50943" t="45002" r="32187" b="35005"/>
          <a:stretch/>
        </p:blipFill>
        <p:spPr>
          <a:xfrm>
            <a:off x="7562880" y="4881600"/>
            <a:ext cx="1581120" cy="140508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8" descr="logotip[1].png"/>
          <p:cNvPicPr/>
          <p:nvPr/>
        </p:nvPicPr>
        <p:blipFill>
          <a:blip r:embed="rId4"/>
          <a:stretch/>
        </p:blipFill>
        <p:spPr>
          <a:xfrm>
            <a:off x="7821720" y="5254560"/>
            <a:ext cx="944280" cy="719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merican Ret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sterdam_vp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1DF7-0627-4587-878F-89E4C6AA6A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Рисунок 4" descr="Безимени-1.gif"/>
          <p:cNvPicPr/>
          <p:nvPr/>
        </p:nvPicPr>
        <p:blipFill>
          <a:blip r:embed="rId3"/>
          <a:srcRect l="50943" t="45002" r="32187" b="35005"/>
          <a:stretch/>
        </p:blipFill>
        <p:spPr>
          <a:xfrm>
            <a:off x="7500960" y="428760"/>
            <a:ext cx="1527120" cy="135720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5" descr="logotip[1].png"/>
          <p:cNvPicPr/>
          <p:nvPr/>
        </p:nvPicPr>
        <p:blipFill>
          <a:blip r:embed="rId4"/>
          <a:stretch/>
        </p:blipFill>
        <p:spPr>
          <a:xfrm>
            <a:off x="7736040" y="706320"/>
            <a:ext cx="914400" cy="6955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merican Ret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sterdam_vp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9D94-E914-49E5-B79D-4D8B3F973E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Горизонтальный свиток 8"/>
          <p:cNvSpPr/>
          <p:nvPr/>
        </p:nvSpPr>
        <p:spPr>
          <a:xfrm>
            <a:off x="380880" y="685800"/>
            <a:ext cx="3124440" cy="838080"/>
          </a:xfrm>
          <a:prstGeom prst="horizontalScroll">
            <a:avLst>
              <a:gd name="adj" fmla="val 12500"/>
            </a:avLst>
          </a:prstGeom>
          <a:solidFill>
            <a:srgbClr val="662406">
              <a:alpha val="29000"/>
            </a:srgbClr>
          </a:solidFill>
          <a:ln w="25560">
            <a:solidFill>
              <a:srgbClr val="663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2" name="Рисунок 9" descr="Безимени-1.gif"/>
          <p:cNvPicPr/>
          <p:nvPr/>
        </p:nvPicPr>
        <p:blipFill>
          <a:blip r:embed="rId3"/>
          <a:srcRect l="50943" t="45002" r="32187" b="35005"/>
          <a:stretch/>
        </p:blipFill>
        <p:spPr>
          <a:xfrm>
            <a:off x="3071880" y="1143000"/>
            <a:ext cx="642960" cy="57168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10" descr="logotip[1].png"/>
          <p:cNvPicPr/>
          <p:nvPr/>
        </p:nvPicPr>
        <p:blipFill>
          <a:blip r:embed="rId4"/>
          <a:stretch/>
        </p:blipFill>
        <p:spPr>
          <a:xfrm>
            <a:off x="3139920" y="1279440"/>
            <a:ext cx="389160" cy="30024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merican Ret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sterdam_vp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72F3-4B46-497D-9B10-8F8C389E90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Горизонтальный свиток 7"/>
          <p:cNvSpPr/>
          <p:nvPr/>
        </p:nvSpPr>
        <p:spPr>
          <a:xfrm>
            <a:off x="1676520" y="4572000"/>
            <a:ext cx="5715000" cy="990720"/>
          </a:xfrm>
          <a:prstGeom prst="horizontalScroll">
            <a:avLst>
              <a:gd name="adj" fmla="val 12500"/>
            </a:avLst>
          </a:prstGeom>
          <a:solidFill>
            <a:srgbClr val="662406">
              <a:alpha val="29000"/>
            </a:srgbClr>
          </a:solidFill>
          <a:ln w="25560">
            <a:solidFill>
              <a:srgbClr val="663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6" name="Рисунок 8" descr="Безимени-1.gif"/>
          <p:cNvPicPr/>
          <p:nvPr/>
        </p:nvPicPr>
        <p:blipFill>
          <a:blip r:embed="rId3"/>
          <a:srcRect l="32187" t="45001" r="50940" b="35003"/>
          <a:stretch/>
        </p:blipFill>
        <p:spPr>
          <a:xfrm>
            <a:off x="500040" y="5072040"/>
            <a:ext cx="1285920" cy="114300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9" descr="logotip[1].png"/>
          <p:cNvPicPr/>
          <p:nvPr/>
        </p:nvPicPr>
        <p:blipFill>
          <a:blip r:embed="rId4"/>
          <a:stretch/>
        </p:blipFill>
        <p:spPr>
          <a:xfrm>
            <a:off x="920880" y="5353200"/>
            <a:ext cx="774720" cy="58392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merican Ret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merican Ret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Retr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sterdam_vp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1217-78C4-412F-BC04-412E09BD4F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Amsterdam_vp"/>
              </a:rPr>
              <a:t>Исследовательская работа</a:t>
            </a:r>
            <a:br>
              <a:rPr sz="6000"/>
            </a:br>
            <a:r>
              <a:rPr b="0" lang="ru-RU" sz="6000" spc="-1" strike="noStrike">
                <a:solidFill>
                  <a:srgbClr val="002060"/>
                </a:solidFill>
                <a:latin typeface="Amsterdam_vp"/>
              </a:rPr>
              <a:t>«Слова- «паразиты» в русском языке»</a:t>
            </a:r>
            <a:br>
              <a:rPr sz="6000"/>
            </a:br>
            <a:r>
              <a:rPr b="0" lang="ru-RU" sz="2000" spc="-1" strike="noStrike">
                <a:solidFill>
                  <a:srgbClr val="0070c0"/>
                </a:solidFill>
                <a:latin typeface="Amsterdam_vp"/>
              </a:rPr>
              <a:t>Подготовили: учащиеся 7 класса</a:t>
            </a:r>
            <a:br>
              <a:rPr sz="2000"/>
            </a:br>
            <a:r>
              <a:rPr b="0" lang="ru-RU" sz="2000" spc="-1" strike="noStrike">
                <a:solidFill>
                  <a:srgbClr val="0070c0"/>
                </a:solidFill>
                <a:latin typeface="Amsterdam_vp"/>
              </a:rPr>
              <a:t>Руководитель: учитель русского языка Пялькина М.Н.</a:t>
            </a:r>
            <a:br>
              <a:rPr sz="2000"/>
            </a:br>
            <a:br>
              <a:rPr sz="1600"/>
            </a:br>
            <a:br>
              <a:rPr sz="1600"/>
            </a:br>
            <a:r>
              <a:rPr b="0" lang="ru-RU" sz="1800" spc="-1" strike="noStrike">
                <a:solidFill>
                  <a:srgbClr val="0070c0"/>
                </a:solidFill>
                <a:latin typeface="Amsterdam_vp"/>
              </a:rPr>
              <a:t>2012г.</a:t>
            </a:r>
            <a:endParaRPr b="0" lang="en-US" sz="1800" spc="-1" strike="noStrike">
              <a:solidFill>
                <a:srgbClr val="000000"/>
              </a:solidFill>
              <a:latin typeface="Amsterdam_vp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msterdam_vp"/>
              </a:rPr>
              <a:t>Экспериментальное исследование употребления слов-«паразитов».</a:t>
            </a: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msterdam_vp"/>
              </a:rPr>
              <a:t>Постановка проблемы и организация её исследования.</a:t>
            </a:r>
            <a:endParaRPr b="0" lang="en-US" sz="32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merican Retro"/>
              </a:rPr>
              <a:t>Цель работы – </a:t>
            </a:r>
            <a:r>
              <a:rPr b="0" lang="ru-RU" sz="2800" spc="-1" strike="noStrike">
                <a:solidFill>
                  <a:srgbClr val="002060"/>
                </a:solidFill>
                <a:latin typeface="American Retro"/>
              </a:rPr>
              <a:t>изучить особенности употребления слов-«паразитов» и провести сравнительный анализ  употребления их учениками разного возраста и в разных обстоятельствах.</a:t>
            </a:r>
            <a:endParaRPr b="0" lang="en-US" sz="2800" spc="-1" strike="noStrike">
              <a:solidFill>
                <a:srgbClr val="000000"/>
              </a:solidFill>
              <a:latin typeface="American Retr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merican Retro"/>
              </a:rPr>
              <a:t>Предмет исследования –  </a:t>
            </a:r>
            <a:r>
              <a:rPr b="0" lang="ru-RU" sz="2800" spc="-1" strike="noStrike">
                <a:solidFill>
                  <a:srgbClr val="002060"/>
                </a:solidFill>
                <a:latin typeface="American Retro"/>
              </a:rPr>
              <a:t>употребление слов-«паразитов» подростками 5-8 классов.</a:t>
            </a:r>
            <a:endParaRPr b="0" lang="en-US" sz="2800" spc="-1" strike="noStrike">
              <a:solidFill>
                <a:srgbClr val="000000"/>
              </a:solidFill>
              <a:latin typeface="American Retr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merican Retro"/>
              </a:rPr>
              <a:t>Объект исследования – </a:t>
            </a:r>
            <a:r>
              <a:rPr b="0" lang="ru-RU" sz="2800" spc="-1" strike="noStrike">
                <a:solidFill>
                  <a:srgbClr val="002060"/>
                </a:solidFill>
                <a:latin typeface="American Retro"/>
              </a:rPr>
              <a:t>дети подросткового возраста (45 человек) из санаторно-лесной школы №1</a:t>
            </a:r>
            <a:endParaRPr b="0" lang="en-US" sz="2800" spc="-1" strike="noStrike">
              <a:solidFill>
                <a:srgbClr val="000000"/>
              </a:solidFill>
              <a:latin typeface="American Retr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merican Retro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53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Анкетирование с целью выяснения осведомлённости детей подросткового возраста о словах- «паразитах»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1.Знаете ли вы, что такое слова-«паразиты»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45" name="Object 4"/>
          <p:cNvGraphicFramePr/>
          <p:nvPr/>
        </p:nvGraphicFramePr>
        <p:xfrm>
          <a:off x="285840" y="228600"/>
          <a:ext cx="845964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228600"/>
                    <a:ext cx="845964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2.Употребляете ли вы слова-«паразиты»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17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49" name="Object 4"/>
          <p:cNvGraphicFramePr/>
          <p:nvPr/>
        </p:nvGraphicFramePr>
        <p:xfrm>
          <a:off x="428760" y="1000080"/>
          <a:ext cx="8496000" cy="52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000080"/>
                    <a:ext cx="8496000" cy="52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3.Откуда вы узнали о словах-«паразитах»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2" name="Rectangle 5"/>
          <p:cNvSpPr/>
          <p:nvPr/>
        </p:nvSpPr>
        <p:spPr>
          <a:xfrm>
            <a:off x="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53" name="Object 4"/>
          <p:cNvGraphicFramePr/>
          <p:nvPr/>
        </p:nvGraphicFramePr>
        <p:xfrm>
          <a:off x="0" y="1413000"/>
          <a:ext cx="8820000" cy="51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8820000" cy="51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4.Считаете ли вы, что слова-«паразиты» нужно искоренять из русской речи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6" name="Rectangle 5"/>
          <p:cNvSpPr/>
          <p:nvPr/>
        </p:nvSpPr>
        <p:spPr>
          <a:xfrm>
            <a:off x="0" y="15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57" name="Object 4"/>
          <p:cNvGraphicFramePr/>
          <p:nvPr/>
        </p:nvGraphicFramePr>
        <p:xfrm>
          <a:off x="0" y="1096920"/>
          <a:ext cx="8820000" cy="57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96920"/>
                    <a:ext cx="882000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msterdam_vp"/>
              </a:rPr>
              <a:t>Анализ полученных результатов</a:t>
            </a:r>
            <a:endParaRPr b="0" lang="en-US" sz="36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merican Retr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merican Retro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merican Retro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American Retro"/>
              </a:rPr>
              <a:t>Из проведённого нами исследования мы выяснили, что, к сожалению, все подростки знают о словах- «паразитах» и понимают необходимость их искоренения из речи. Мы думаем, что нужно проводить больше разъяснительных бесед и классных часов  о культуре речи,  объяснять людям, что слова-«паразиты» - это  «сорняки нашей речи». Необходимо объяснять так, чтобы человеку самому захотелось избавиться от этого мусора. </a:t>
            </a:r>
            <a:endParaRPr b="0" lang="en-US" sz="2800" spc="-1" strike="noStrike">
              <a:solidFill>
                <a:srgbClr val="000000"/>
              </a:solidFill>
              <a:latin typeface="American Retro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Анкетирование с целью выявления  особенности употребления слов-«паразитов» в зависимости от пола человека в 7 классе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Девочки (9 человек)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65" name="Object 4"/>
          <p:cNvGraphicFramePr/>
          <p:nvPr/>
        </p:nvGraphicFramePr>
        <p:xfrm>
          <a:off x="395280" y="2421000"/>
          <a:ext cx="8280360" cy="347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421000"/>
                    <a:ext cx="8280360" cy="34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49" descr="MM900043717[1]"/>
          <p:cNvPicPr/>
          <p:nvPr/>
        </p:nvPicPr>
        <p:blipFill>
          <a:blip r:embed="rId1"/>
          <a:stretch/>
        </p:blipFill>
        <p:spPr>
          <a:xfrm>
            <a:off x="3708360" y="2130480"/>
            <a:ext cx="1870200" cy="2176560"/>
          </a:xfrm>
          <a:prstGeom prst="rect">
            <a:avLst/>
          </a:prstGeom>
          <a:ln w="0">
            <a:noFill/>
          </a:ln>
        </p:spPr>
      </p:pic>
      <p:sp>
        <p:nvSpPr>
          <p:cNvPr id="715" name="AutoShape 55"/>
          <p:cNvSpPr/>
          <p:nvPr/>
        </p:nvSpPr>
        <p:spPr>
          <a:xfrm>
            <a:off x="6300720" y="1989000"/>
            <a:ext cx="2448000" cy="1150920"/>
          </a:xfrm>
          <a:prstGeom prst="wedgeEllipseCallout">
            <a:avLst>
              <a:gd name="adj1" fmla="val -94486"/>
              <a:gd name="adj2" fmla="val 35379"/>
            </a:avLst>
          </a:prstGeom>
          <a:solidFill>
            <a:srgbClr val="8c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акскать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так сказать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AutoShape 56"/>
          <p:cNvSpPr/>
          <p:nvPr/>
        </p:nvSpPr>
        <p:spPr>
          <a:xfrm>
            <a:off x="4067280" y="765000"/>
            <a:ext cx="2233440" cy="648000"/>
          </a:xfrm>
          <a:prstGeom prst="wedgeEllipseCallout">
            <a:avLst>
              <a:gd name="adj1" fmla="val -10912"/>
              <a:gd name="adj2" fmla="val 104657"/>
            </a:avLst>
          </a:prstGeom>
          <a:solidFill>
            <a:srgbClr val="8c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Это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AutoShape 57"/>
          <p:cNvSpPr/>
          <p:nvPr/>
        </p:nvSpPr>
        <p:spPr>
          <a:xfrm>
            <a:off x="6804000" y="620640"/>
            <a:ext cx="1871640" cy="1295640"/>
          </a:xfrm>
          <a:prstGeom prst="wedgeEllipseCallout">
            <a:avLst>
              <a:gd name="adj1" fmla="val -126166"/>
              <a:gd name="adj2" fmla="val 80884"/>
            </a:avLst>
          </a:prstGeom>
          <a:solidFill>
            <a:srgbClr val="8c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А именно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AutoShape 58"/>
          <p:cNvSpPr/>
          <p:nvPr/>
        </p:nvSpPr>
        <p:spPr>
          <a:xfrm>
            <a:off x="5867280" y="3284640"/>
            <a:ext cx="2664000" cy="792000"/>
          </a:xfrm>
          <a:prstGeom prst="wedgeEllipseCallout">
            <a:avLst>
              <a:gd name="adj1" fmla="val -66805"/>
              <a:gd name="adj2" fmla="val -42185"/>
            </a:avLst>
          </a:prstGeom>
          <a:solidFill>
            <a:srgbClr val="8c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Например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AutoShape 59"/>
          <p:cNvSpPr/>
          <p:nvPr/>
        </p:nvSpPr>
        <p:spPr>
          <a:xfrm>
            <a:off x="900000" y="4076640"/>
            <a:ext cx="2374920" cy="1152720"/>
          </a:xfrm>
          <a:prstGeom prst="wedgeEllipseCallout">
            <a:avLst>
              <a:gd name="adj1" fmla="val 79611"/>
              <a:gd name="adj2" fmla="val -91736"/>
            </a:avLst>
          </a:prstGeom>
          <a:solidFill>
            <a:srgbClr val="8c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Это самое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AutoShape 60"/>
          <p:cNvSpPr/>
          <p:nvPr/>
        </p:nvSpPr>
        <p:spPr>
          <a:xfrm>
            <a:off x="971640" y="476280"/>
            <a:ext cx="2448000" cy="1081080"/>
          </a:xfrm>
          <a:prstGeom prst="wedgeEllipseCallout">
            <a:avLst>
              <a:gd name="adj1" fmla="val 87092"/>
              <a:gd name="adj2" fmla="val 94935"/>
            </a:avLst>
          </a:prstGeom>
          <a:solidFill>
            <a:srgbClr val="8c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В принципе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AutoShape 61"/>
          <p:cNvSpPr/>
          <p:nvPr/>
        </p:nvSpPr>
        <p:spPr>
          <a:xfrm>
            <a:off x="1403280" y="1628640"/>
            <a:ext cx="1873440" cy="648000"/>
          </a:xfrm>
          <a:prstGeom prst="wedgeEllipseCallout">
            <a:avLst>
              <a:gd name="adj1" fmla="val 69069"/>
              <a:gd name="adj2" fmla="val 80884"/>
            </a:avLst>
          </a:prstGeom>
          <a:solidFill>
            <a:srgbClr val="8c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ип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AutoShape 62"/>
          <p:cNvSpPr/>
          <p:nvPr/>
        </p:nvSpPr>
        <p:spPr>
          <a:xfrm>
            <a:off x="5867280" y="4292640"/>
            <a:ext cx="1729080" cy="647640"/>
          </a:xfrm>
          <a:prstGeom prst="wedgeEllipseCallout">
            <a:avLst>
              <a:gd name="adj1" fmla="val -81865"/>
              <a:gd name="adj2" fmla="val -91912"/>
            </a:avLst>
          </a:prstGeom>
          <a:solidFill>
            <a:srgbClr val="8c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Вот»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AutoShape 63"/>
          <p:cNvSpPr/>
          <p:nvPr/>
        </p:nvSpPr>
        <p:spPr>
          <a:xfrm>
            <a:off x="3059280" y="5734080"/>
            <a:ext cx="2808000" cy="647640"/>
          </a:xfrm>
          <a:prstGeom prst="wedgeEllipseCallout">
            <a:avLst>
              <a:gd name="adj1" fmla="val 1837"/>
              <a:gd name="adj2" fmla="val -249018"/>
            </a:avLst>
          </a:prstGeom>
          <a:solidFill>
            <a:srgbClr val="8c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онимаешь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AutoShape 64"/>
          <p:cNvSpPr/>
          <p:nvPr/>
        </p:nvSpPr>
        <p:spPr>
          <a:xfrm>
            <a:off x="0" y="2276640"/>
            <a:ext cx="2736720" cy="863280"/>
          </a:xfrm>
          <a:prstGeom prst="wedgeEllipseCallout">
            <a:avLst>
              <a:gd name="adj1" fmla="val 100291"/>
              <a:gd name="adj2" fmla="val 41726"/>
            </a:avLst>
          </a:prstGeom>
          <a:solidFill>
            <a:srgbClr val="8c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Короче говоря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AutoShape 65"/>
          <p:cNvSpPr/>
          <p:nvPr/>
        </p:nvSpPr>
        <p:spPr>
          <a:xfrm>
            <a:off x="179280" y="3213000"/>
            <a:ext cx="2376720" cy="865440"/>
          </a:xfrm>
          <a:prstGeom prst="wedgeEllipseCallout">
            <a:avLst>
              <a:gd name="adj1" fmla="val 98564"/>
              <a:gd name="adj2" fmla="val -35504"/>
            </a:avLst>
          </a:prstGeom>
          <a:solidFill>
            <a:srgbClr val="8c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В натуре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AutoShape 66"/>
          <p:cNvSpPr/>
          <p:nvPr/>
        </p:nvSpPr>
        <p:spPr>
          <a:xfrm>
            <a:off x="1403280" y="5300640"/>
            <a:ext cx="2592360" cy="503280"/>
          </a:xfrm>
          <a:prstGeom prst="wedgeEllipseCallout">
            <a:avLst>
              <a:gd name="adj1" fmla="val 58879"/>
              <a:gd name="adj2" fmla="val -255995"/>
            </a:avLst>
          </a:prstGeom>
          <a:solidFill>
            <a:srgbClr val="8c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Блин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AutoShape 67"/>
          <p:cNvSpPr/>
          <p:nvPr/>
        </p:nvSpPr>
        <p:spPr>
          <a:xfrm>
            <a:off x="4932360" y="5084640"/>
            <a:ext cx="2881440" cy="649440"/>
          </a:xfrm>
          <a:prstGeom prst="wedgeEllipseCallout">
            <a:avLst>
              <a:gd name="adj1" fmla="val -52643"/>
              <a:gd name="adj2" fmla="val -176407"/>
            </a:avLst>
          </a:prstGeom>
          <a:solidFill>
            <a:srgbClr val="8c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Вообщем-то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Мальчики (4 человека)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69" name="Object 4"/>
          <p:cNvGraphicFramePr/>
          <p:nvPr/>
        </p:nvGraphicFramePr>
        <p:xfrm>
          <a:off x="468360" y="1989000"/>
          <a:ext cx="7921440" cy="361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989000"/>
                    <a:ext cx="7921440" cy="36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Amsterdam_vp"/>
              </a:rPr>
              <a:t>Анализ полученных результатов</a:t>
            </a:r>
            <a:r>
              <a:rPr b="1" lang="ru-RU" sz="5400" spc="-1" strike="noStrike">
                <a:solidFill>
                  <a:srgbClr val="c00000"/>
                </a:solidFill>
                <a:latin typeface="Amsterdam_vp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457200" y="27003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merican Retro"/>
              </a:rPr>
              <a:t>   </a:t>
            </a:r>
            <a:r>
              <a:rPr b="0" lang="ru-RU" sz="3200" spc="-1" strike="noStrike">
                <a:solidFill>
                  <a:srgbClr val="002060"/>
                </a:solidFill>
                <a:latin typeface="American Retro"/>
              </a:rPr>
              <a:t>Проведя эти исследования , мы выяснили, что различия в употреблении слов-«паразитов» есть даже в соотношении полов. Девочкам присущи свои слова, мальчикам - свои.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msterdam_vp"/>
              </a:rPr>
              <a:t>Как излечиться от словарных паразитов?</a:t>
            </a:r>
            <a:endParaRPr b="0" lang="en-US" sz="32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456840" y="2514600"/>
            <a:ext cx="404028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206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merican Retro"/>
              </a:rPr>
              <a:t>Знаменитый господин Шахиджанян (автор множества книг по психологии) советует принудительно заменять каждого сорвавшегося с языка паразита звуками типа «мяу-мяу». Или «ква-ква». В общем, голос какого животного вам ближе по духу, того и используйте для лечения и профилактики. Может статься, что вся фраза превратиться в сплошные звериные звуки. </a:t>
            </a:r>
            <a:endParaRPr b="0" lang="en-US" sz="1800" spc="-1" strike="noStrike">
              <a:solidFill>
                <a:srgbClr val="000000"/>
              </a:solidFill>
              <a:latin typeface="American Retro"/>
            </a:endParaRPr>
          </a:p>
          <a:p>
            <a:pPr marL="329040" indent="-329040">
              <a:spcBef>
                <a:spcPts val="451"/>
              </a:spcBef>
              <a:buClr>
                <a:srgbClr val="00206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merican Retro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4644720" y="2514600"/>
            <a:ext cx="40417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merican Retro"/>
            </a:endParaRPr>
          </a:p>
        </p:txBody>
      </p:sp>
      <p:pic>
        <p:nvPicPr>
          <p:cNvPr id="778" name="Рисунок 6" descr="C:\Documents and Settings\Admin\Мои документы\Downloads\54316492.jpg"/>
          <p:cNvPicPr/>
          <p:nvPr/>
        </p:nvPicPr>
        <p:blipFill>
          <a:blip r:embed="rId1"/>
          <a:stretch/>
        </p:blipFill>
        <p:spPr>
          <a:xfrm>
            <a:off x="5286240" y="2071800"/>
            <a:ext cx="3286440" cy="43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msterdam_vp"/>
              </a:rPr>
              <a:t>Рекомендации для устранения слов-«паразитов».</a:t>
            </a:r>
            <a:r>
              <a:rPr b="0" lang="ru-RU" sz="3200" spc="-1" strike="noStrike">
                <a:solidFill>
                  <a:srgbClr val="c00000"/>
                </a:solidFill>
                <a:latin typeface="Amsterdam_vp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457200" y="159984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merican Retro"/>
              </a:rPr>
              <a:t>Начни возвращать словам их смысл. </a:t>
            </a:r>
            <a:endParaRPr b="0" lang="en-US" sz="28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merican Retro"/>
              </a:rPr>
              <a:t>Попробуй заменить слова каким-нибудь звуком, как это делают с нецензурными словами на ТВ. </a:t>
            </a:r>
            <a:endParaRPr b="0" lang="en-US" sz="28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merican Retro"/>
              </a:rPr>
              <a:t>Наказывай себя штрафом. </a:t>
            </a:r>
            <a:endParaRPr b="0" lang="en-US" sz="28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merican Retro"/>
              </a:rPr>
              <a:t>Доведи ситуацию до абсурда – устрой себе «День Паразита». </a:t>
            </a:r>
            <a:endParaRPr b="0" lang="en-US" sz="28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merican Retro"/>
              </a:rPr>
              <a:t>Читай больше – это обогатит твой словарный запас .</a:t>
            </a:r>
            <a:endParaRPr b="0" lang="en-US" sz="2800" spc="-1" strike="noStrike">
              <a:solidFill>
                <a:srgbClr val="000000"/>
              </a:solidFill>
              <a:latin typeface="American Retro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msterdam_vp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merican Retro"/>
              </a:rPr>
              <a:t>   </a:t>
            </a:r>
            <a:r>
              <a:rPr b="0" lang="ru-RU" sz="3200" spc="-1" strike="noStrike">
                <a:solidFill>
                  <a:srgbClr val="002060"/>
                </a:solidFill>
                <a:latin typeface="American Retro"/>
              </a:rPr>
              <a:t>Подводя итоги проделанной работы, приходим к выводу, что общая и словесная культура в нашей стране снижается, а эстетический вкус носителей языка портится под влиянием тех перемен, что происходят в обществе.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1"/>
          <a:stretch/>
        </p:blipFill>
        <p:spPr>
          <a:xfrm>
            <a:off x="457200" y="2209320"/>
            <a:ext cx="8229600" cy="3916440"/>
          </a:xfrm>
          <a:prstGeom prst="rect">
            <a:avLst/>
          </a:prstGeom>
          <a:ln w="0">
            <a:noFill/>
          </a:ln>
        </p:spPr>
      </p:pic>
      <p:pic>
        <p:nvPicPr>
          <p:cNvPr id="785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2749680"/>
            <a:ext cx="9156960" cy="119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merican Retro"/>
              </a:rPr>
              <a:t>  </a:t>
            </a:r>
            <a:r>
              <a:rPr b="0" lang="ru-RU" sz="2800" spc="-1" strike="noStrike">
                <a:solidFill>
                  <a:srgbClr val="c00000"/>
                </a:solidFill>
                <a:latin typeface="American Retro"/>
              </a:rPr>
              <a:t>  </a:t>
            </a:r>
            <a:r>
              <a:rPr b="0" lang="ru-RU" sz="4000" spc="-1" strike="noStrike">
                <a:solidFill>
                  <a:srgbClr val="c00000"/>
                </a:solidFill>
                <a:latin typeface="American Retro"/>
              </a:rPr>
              <a:t>К.Г.Паустовский писал: </a:t>
            </a:r>
            <a:endParaRPr b="0" lang="en-US" sz="4000" spc="-1" strike="noStrike">
              <a:solidFill>
                <a:srgbClr val="000000"/>
              </a:solidFill>
              <a:latin typeface="American Retro"/>
            </a:endParaRPr>
          </a:p>
          <a:p>
            <a:pPr marL="318960" indent="-318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merican Retro"/>
              </a:rPr>
              <a:t>   </a:t>
            </a:r>
            <a:r>
              <a:rPr b="0" lang="ru-RU" sz="4000" spc="-1" strike="noStrike">
                <a:solidFill>
                  <a:srgbClr val="002060"/>
                </a:solidFill>
                <a:latin typeface="American Retro"/>
              </a:rPr>
              <a:t>«С русским языком можно творить чудеса.… Нет таких звуков, красок и мыслей – сложных и простых,- для которых не нашлось бы в нашем языке точного выражения».</a:t>
            </a:r>
            <a:endParaRPr b="0" lang="en-US" sz="4000" spc="-1" strike="noStrike">
              <a:solidFill>
                <a:srgbClr val="000000"/>
              </a:solidFill>
              <a:latin typeface="American Retro"/>
            </a:endParaRPr>
          </a:p>
          <a:p>
            <a:pPr marL="318960" indent="-318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merican Retro"/>
              </a:rPr>
              <a:t>  </a:t>
            </a:r>
            <a:endParaRPr b="0" lang="en-US" sz="4000" spc="-1" strike="noStrike">
              <a:solidFill>
                <a:srgbClr val="000000"/>
              </a:solidFill>
              <a:latin typeface="American Retro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merican Retro"/>
              </a:rPr>
              <a:t>«Слова-паразиты»</a:t>
            </a:r>
            <a:r>
              <a:rPr b="0" lang="ru-RU" sz="3200" spc="-1" strike="noStrike">
                <a:solidFill>
                  <a:srgbClr val="c00000"/>
                </a:solidFill>
                <a:latin typeface="American Retro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merican Retro"/>
              </a:rPr>
              <a:t>—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merican Retro"/>
              </a:rPr>
              <a:t>   </a:t>
            </a:r>
            <a:r>
              <a:rPr b="0" lang="ru-RU" sz="3200" spc="-1" strike="noStrike">
                <a:solidFill>
                  <a:srgbClr val="002060"/>
                </a:solidFill>
                <a:latin typeface="American Retro"/>
              </a:rPr>
              <a:t>лингвистическое явление, выраженное в употреблении лишних и бессмысленных в данном контексте слов, имеют место в спонтанной, слабо контролируемой устной речи.. Синтаксически большинство «слов-паразитов» являются вводными словами. </a:t>
            </a:r>
            <a:endParaRPr b="0" lang="en-US" sz="3200" spc="-1" strike="noStrike">
              <a:solidFill>
                <a:srgbClr val="000000"/>
              </a:solidFill>
              <a:latin typeface="American Retr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msterdam_vp"/>
              </a:rPr>
              <a:t>Истинные значения некоторых слов-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msterdam_vp"/>
              </a:rPr>
              <a:t>«паразитов»</a:t>
            </a:r>
            <a:endParaRPr b="0" lang="en-US" sz="32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merican Retro"/>
              </a:rPr>
              <a:t>   </a:t>
            </a:r>
            <a:r>
              <a:rPr b="1" lang="ru-RU" sz="2200" spc="-1" strike="noStrike">
                <a:solidFill>
                  <a:srgbClr val="002060"/>
                </a:solidFill>
                <a:latin typeface="American Retro"/>
              </a:rPr>
              <a:t>Блин</a:t>
            </a:r>
            <a:r>
              <a:rPr b="0" lang="ru-RU" sz="2200" spc="-1" strike="noStrike">
                <a:solidFill>
                  <a:srgbClr val="002060"/>
                </a:solidFill>
                <a:latin typeface="American Retro"/>
              </a:rPr>
              <a:t> - тонкая лепешка из жидкого теста, испеченная на сковородке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2060"/>
                </a:solidFill>
                <a:latin typeface="American Retro"/>
              </a:rPr>
              <a:t>В натуре</a:t>
            </a:r>
            <a:r>
              <a:rPr b="0" lang="ru-RU" sz="2200" spc="-1" strike="noStrike">
                <a:solidFill>
                  <a:srgbClr val="002060"/>
                </a:solidFill>
                <a:latin typeface="American Retro"/>
              </a:rPr>
              <a:t> - то, что существует в действительности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2060"/>
                </a:solidFill>
                <a:latin typeface="American Retro"/>
              </a:rPr>
              <a:t>В принципе</a:t>
            </a:r>
            <a:r>
              <a:rPr b="0" lang="ru-RU" sz="2200" spc="-1" strike="noStrike">
                <a:solidFill>
                  <a:srgbClr val="002060"/>
                </a:solidFill>
                <a:latin typeface="American Retro"/>
              </a:rPr>
              <a:t> - то, что заложено в основном, исходном положении какой-нибудь теории, учения, науки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2060"/>
                </a:solidFill>
                <a:latin typeface="American Retro"/>
              </a:rPr>
              <a:t>Как бы</a:t>
            </a:r>
            <a:r>
              <a:rPr b="0" lang="ru-RU" sz="2200" spc="-1" strike="noStrike">
                <a:solidFill>
                  <a:srgbClr val="002060"/>
                </a:solidFill>
                <a:latin typeface="American Retro"/>
              </a:rPr>
              <a:t> - частица со значением условно-предположительного сравнения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2060"/>
                </a:solidFill>
                <a:latin typeface="American Retro"/>
              </a:rPr>
              <a:t>На самом деле</a:t>
            </a:r>
            <a:r>
              <a:rPr b="0" lang="ru-RU" sz="2200" spc="-1" strike="noStrike">
                <a:solidFill>
                  <a:srgbClr val="002060"/>
                </a:solidFill>
                <a:latin typeface="American Retro"/>
              </a:rPr>
              <a:t> - в действительности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2060"/>
                </a:solidFill>
                <a:latin typeface="American Retro"/>
              </a:rPr>
              <a:t>Типа</a:t>
            </a:r>
            <a:r>
              <a:rPr b="0" lang="ru-RU" sz="2200" spc="-1" strike="noStrike">
                <a:solidFill>
                  <a:srgbClr val="002060"/>
                </a:solidFill>
                <a:latin typeface="American Retro"/>
              </a:rPr>
              <a:t> - производное от тип: форма, вид чего-нибудь, обладающие определенными признаками, а также образец, которому соответствует известная группа предметов, явлений.</a:t>
            </a:r>
            <a:endParaRPr b="0" lang="en-US" sz="22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merican Retro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 txBox="1"/>
          <p:nvPr/>
        </p:nvSpPr>
        <p:spPr>
          <a:xfrm>
            <a:off x="468360" y="1125360"/>
            <a:ext cx="82296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merican Retro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merican Retro"/>
              </a:rPr>
              <a:t>  </a:t>
            </a:r>
            <a:r>
              <a:rPr b="0" lang="ru-RU" sz="4000" spc="-1" strike="noStrike">
                <a:solidFill>
                  <a:srgbClr val="002060"/>
                </a:solidFill>
                <a:latin typeface="American Retro"/>
              </a:rPr>
              <a:t>Есть интересная теория о том, что слово-«паразит», живущее в лексиконе человека, может рассказать о его натуре, характере, сущности мышления и видения мира…</a:t>
            </a:r>
            <a:endParaRPr b="0" lang="en-US" sz="4000" spc="-1" strike="noStrike">
              <a:solidFill>
                <a:srgbClr val="000000"/>
              </a:solidFill>
              <a:latin typeface="American Retro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merican Retro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 txBox="1"/>
          <p:nvPr/>
        </p:nvSpPr>
        <p:spPr>
          <a:xfrm>
            <a:off x="785520" y="189000"/>
            <a:ext cx="79009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Corbel"/>
              </a:rPr>
              <a:t>      </a:t>
            </a:r>
            <a:r>
              <a:rPr b="0" lang="ru-RU" sz="2100" spc="-1" strike="noStrike">
                <a:solidFill>
                  <a:srgbClr val="002060"/>
                </a:solidFill>
                <a:latin typeface="Corbel"/>
              </a:rPr>
              <a:t>Если человек употребляет слово-«паразит»  </a:t>
            </a:r>
            <a:r>
              <a:rPr b="1" lang="ru-RU" sz="2100" spc="-1" strike="noStrike">
                <a:solidFill>
                  <a:srgbClr val="002060"/>
                </a:solidFill>
                <a:latin typeface="Corbel"/>
              </a:rPr>
              <a:t>«просто»,</a:t>
            </a:r>
            <a:r>
              <a:rPr b="0" lang="ru-RU" sz="2100" spc="-1" strike="noStrike">
                <a:solidFill>
                  <a:srgbClr val="002060"/>
                </a:solidFill>
                <a:latin typeface="Corbel"/>
              </a:rPr>
              <a:t> значит, он считает, что в жизни все должно быть просто, разумно, даже банально и никаких сложностей! Но на самом деле это слово используют люди, привыкшие всё в жизни усложнять. Еще этим словом злоупотребляют люди зависимые, часто оправдывающиеся: «Я </a:t>
            </a:r>
            <a:r>
              <a:rPr b="1" lang="ru-RU" sz="2100" spc="-1" strike="noStrike">
                <a:solidFill>
                  <a:srgbClr val="002060"/>
                </a:solidFill>
                <a:latin typeface="Corbel"/>
              </a:rPr>
              <a:t>просто </a:t>
            </a:r>
            <a:r>
              <a:rPr b="0" lang="ru-RU" sz="2100" spc="-1" strike="noStrike">
                <a:solidFill>
                  <a:srgbClr val="002060"/>
                </a:solidFill>
                <a:latin typeface="Corbel"/>
              </a:rPr>
              <a:t>хотела посмотреть вазочку, а она вдруг разбилась». Или: «Я </a:t>
            </a:r>
            <a:r>
              <a:rPr b="1" lang="ru-RU" sz="2100" spc="-1" strike="noStrike">
                <a:solidFill>
                  <a:srgbClr val="002060"/>
                </a:solidFill>
                <a:latin typeface="Corbel"/>
              </a:rPr>
              <a:t>просто</a:t>
            </a:r>
            <a:r>
              <a:rPr b="0" lang="ru-RU" sz="2100" spc="-1" strike="noStrike">
                <a:solidFill>
                  <a:srgbClr val="002060"/>
                </a:solidFill>
                <a:latin typeface="Corbel"/>
              </a:rPr>
              <a:t> сказала ему, чтобы он не вмешивался не в свое дело, а он </a:t>
            </a:r>
            <a:r>
              <a:rPr b="1" lang="ru-RU" sz="2100" spc="-1" strike="noStrike">
                <a:solidFill>
                  <a:srgbClr val="002060"/>
                </a:solidFill>
                <a:latin typeface="Corbel"/>
              </a:rPr>
              <a:t>просто</a:t>
            </a:r>
            <a:r>
              <a:rPr b="0" lang="ru-RU" sz="2100" spc="-1" strike="noStrike">
                <a:solidFill>
                  <a:srgbClr val="002060"/>
                </a:solidFill>
                <a:latin typeface="Corbel"/>
              </a:rPr>
              <a:t> взял и обиделся». </a:t>
            </a:r>
            <a:br>
              <a:rPr sz="2100"/>
            </a:br>
            <a:r>
              <a:rPr b="1" lang="ru-RU" sz="2100" spc="-1" strike="noStrike">
                <a:solidFill>
                  <a:srgbClr val="002060"/>
                </a:solidFill>
                <a:latin typeface="Corbel"/>
              </a:rPr>
              <a:t> «Сами понимаете»</a:t>
            </a:r>
            <a:r>
              <a:rPr b="0" lang="ru-RU" sz="2100" spc="-1" strike="noStrike">
                <a:solidFill>
                  <a:srgbClr val="002060"/>
                </a:solidFill>
                <a:latin typeface="Corbel"/>
              </a:rPr>
              <a:t> - это классический пример «маленького» человека – робкого и постоянно перед всеми извиняющегося.</a:t>
            </a:r>
            <a:br>
              <a:rPr sz="2100"/>
            </a:br>
            <a:r>
              <a:rPr b="1" lang="ru-RU" sz="2100" spc="-1" strike="noStrike">
                <a:solidFill>
                  <a:srgbClr val="002060"/>
                </a:solidFill>
                <a:latin typeface="Corbel"/>
              </a:rPr>
              <a:t>«Короче»</a:t>
            </a:r>
            <a:r>
              <a:rPr b="0" lang="ru-RU" sz="2100" spc="-1" strike="noStrike">
                <a:solidFill>
                  <a:srgbClr val="002060"/>
                </a:solidFill>
                <a:latin typeface="Corbel"/>
              </a:rPr>
              <a:t> – человек не расположен к общению, он не любит разговоры, поэтому хочет сократить свою речь. Однако из-за этого бесконечного «короче» достигается обратный эффект. </a:t>
            </a:r>
            <a:br>
              <a:rPr sz="2100"/>
            </a:br>
            <a:r>
              <a:rPr b="0" lang="ru-RU" sz="2100" spc="-1" strike="noStrike">
                <a:solidFill>
                  <a:srgbClr val="002060"/>
                </a:solidFill>
                <a:latin typeface="Corbel"/>
              </a:rPr>
              <a:t>У молодежи в ходу словечко </a:t>
            </a:r>
            <a:r>
              <a:rPr b="1" lang="ru-RU" sz="2100" spc="-1" strike="noStrike">
                <a:solidFill>
                  <a:srgbClr val="002060"/>
                </a:solidFill>
                <a:latin typeface="Corbel"/>
              </a:rPr>
              <a:t>«как бы».</a:t>
            </a:r>
            <a:r>
              <a:rPr b="0" lang="ru-RU" sz="2100" spc="-1" strike="noStrike">
                <a:solidFill>
                  <a:srgbClr val="002060"/>
                </a:solidFill>
                <a:latin typeface="Corbel"/>
              </a:rPr>
              <a:t> Оно означает условность. Молодежь так и живет – «</a:t>
            </a:r>
            <a:r>
              <a:rPr b="1" lang="ru-RU" sz="2100" spc="-1" strike="noStrike">
                <a:solidFill>
                  <a:srgbClr val="002060"/>
                </a:solidFill>
                <a:latin typeface="Corbel"/>
              </a:rPr>
              <a:t>как бы</a:t>
            </a:r>
            <a:r>
              <a:rPr b="0" lang="ru-RU" sz="2100" spc="-1" strike="noStrike">
                <a:solidFill>
                  <a:srgbClr val="002060"/>
                </a:solidFill>
                <a:latin typeface="Corbel"/>
              </a:rPr>
              <a:t> пойдем, а </a:t>
            </a:r>
            <a:r>
              <a:rPr b="1" lang="ru-RU" sz="2100" spc="-1" strike="noStrike">
                <a:solidFill>
                  <a:srgbClr val="002060"/>
                </a:solidFill>
                <a:latin typeface="Corbel"/>
              </a:rPr>
              <a:t>как бы</a:t>
            </a:r>
            <a:r>
              <a:rPr b="0" lang="ru-RU" sz="2100" spc="-1" strike="noStrike">
                <a:solidFill>
                  <a:srgbClr val="002060"/>
                </a:solidFill>
                <a:latin typeface="Corbel"/>
              </a:rPr>
              <a:t> и не пойдем»; «как бы будем, а </a:t>
            </a:r>
            <a:r>
              <a:rPr b="1" lang="ru-RU" sz="2100" spc="-1" strike="noStrike">
                <a:solidFill>
                  <a:srgbClr val="002060"/>
                </a:solidFill>
                <a:latin typeface="Corbel"/>
              </a:rPr>
              <a:t>как бы</a:t>
            </a:r>
            <a:r>
              <a:rPr b="0" lang="ru-RU" sz="2100" spc="-1" strike="noStrike">
                <a:solidFill>
                  <a:srgbClr val="002060"/>
                </a:solidFill>
                <a:latin typeface="Corbel"/>
              </a:rPr>
              <a:t> и не будем». Молодежь не обременена ответственностью, это сказывается и на речи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msterdam_vp"/>
              </a:rPr>
              <a:t>Причины возникновения</a:t>
            </a:r>
            <a:endParaRPr b="0" lang="en-US" sz="44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merican Retro"/>
              </a:rPr>
              <a:t>Бедность словарного запаса </a:t>
            </a:r>
            <a:endParaRPr b="0" lang="en-US" sz="28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merican Retro"/>
              </a:rPr>
              <a:t>Своего рода «мода» </a:t>
            </a:r>
            <a:endParaRPr b="0" lang="en-US" sz="28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merican Retro"/>
              </a:rPr>
              <a:t>Иногда «слова-сорняки» используются для того, чтобы «выиграть время» </a:t>
            </a:r>
            <a:endParaRPr b="0" lang="en-US" sz="28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merican Retro"/>
              </a:rPr>
              <a:t>Тактическая роль в речи</a:t>
            </a:r>
            <a:endParaRPr b="0" lang="en-US" sz="28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merican Ret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merican Retro"/>
              </a:rPr>
              <a:t>В некоторых случаях слова-«паразиты» говорят о психологических особенностях человека </a:t>
            </a:r>
            <a:endParaRPr b="0" lang="en-US" sz="2800" spc="-1" strike="noStrike">
              <a:solidFill>
                <a:srgbClr val="000000"/>
              </a:solidFill>
              <a:latin typeface="American Retro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msterdam_vp"/>
              </a:rPr>
              <a:t>Негативное влияние слов-«паразитов» на русскую речь</a:t>
            </a:r>
            <a:endParaRPr b="0" lang="en-US" sz="3200" spc="-1" strike="noStrike">
              <a:solidFill>
                <a:srgbClr val="000000"/>
              </a:solidFill>
              <a:latin typeface="Amsterdam_vp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merican Retro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merican Retro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merican Retro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American Retro"/>
              </a:rPr>
              <a:t>На наших глазах происходит нравственная деградация общества, наблюдается удручающе низкий уровень духовности. Это напрямую отражается в языке. С экранов телевизоров, по радио на улицах городов мы слышим сниженную, вульгарную речь, граничащую с уголовным жаргоном, перегруженную словами-«паразитами».  В начале 20 века Максим Горький сделал такое замечание о языке тех лет: «Вообще с русским языком обращаются зверски». И в наши дни можно привести примеры «зверского» обращения с родным языком.  И один из них - употребление слов - «паразитов» в русской речи.</a:t>
            </a:r>
            <a:endParaRPr b="0" lang="en-US" sz="2400" spc="-1" strike="noStrike">
              <a:solidFill>
                <a:srgbClr val="000000"/>
              </a:solidFill>
              <a:latin typeface="American Retr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17:48:42Z</dcterms:created>
  <dc:creator>BOSS</dc:creator>
  <dc:description/>
  <dc:language>en-US</dc:language>
  <cp:lastModifiedBy>Admin</cp:lastModifiedBy>
  <dcterms:modified xsi:type="dcterms:W3CDTF">2012-02-06T10:06:07Z</dcterms:modified>
  <cp:revision>39</cp:revision>
  <dc:subject/>
  <dc:title>Муниципальное образовательное учреждение средняя общеобразовательная школа №6 г. Павлово Нижегородской области    Исследовательская работа «Слова-паразиты в русском языке»</dc:title>
</cp:coreProperties>
</file>