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2.jpeg" ContentType="image/jpeg"/>
  <Override PartName="/ppt/media/image46.gif" ContentType="image/gif"/>
  <Override PartName="/ppt/media/image45.jpeg" ContentType="image/jpeg"/>
  <Override PartName="/ppt/media/image33.jpeg" ContentType="image/jpeg"/>
  <Override PartName="/ppt/media/image6.jpeg" ContentType="image/jpeg"/>
  <Override PartName="/ppt/media/image30.jpeg" ContentType="image/jpeg"/>
  <Override PartName="/ppt/media/image47.jpeg" ContentType="image/jpeg"/>
  <Override PartName="/ppt/media/image12.wmf" ContentType="image/x-wmf"/>
  <Override PartName="/ppt/media/image31.jpeg" ContentType="image/jpeg"/>
  <Override PartName="/ppt/media/image48.jpeg" ContentType="image/jpeg"/>
  <Override PartName="/ppt/media/image10.jpeg" ContentType="image/jpeg"/>
  <Override PartName="/ppt/media/image29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CF4-95E0-4784-B05D-CA537699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A4F-E95D-41D5-8FD0-E613884B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8B9-5E13-46B9-8C8B-F87C07EC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E0E-1221-47F9-809C-4E331949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3BA5-72C0-4733-BE63-3327A17E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3906-F356-4DA3-A1E9-6F4B808D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DD9E-4104-4585-A70C-12716F3A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3214-7D6D-4911-9AF7-C0CCD6C5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A7AB-6D88-4195-BF9C-7B4D0D8B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EF40-975C-42E7-9E7A-9CF6C601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0428-DB27-480B-8DCE-6541153E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AC9-ECCA-4C92-8666-B699F78C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651B-2EF5-446B-936D-328ECB5E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9A5B-5F77-4729-AB4C-E315637F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6B19-F72D-4091-B6D0-88BCC967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8164-8C54-49A1-BF07-6C92AE5E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FE10-0467-40FD-BCAD-DD22543D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458-9F02-4834-9305-46895D86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2A7-8259-42F7-8CD3-834103DB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1F9-9666-40C7-8543-62E435DE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4C7-D187-48D7-A277-744CC6F8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53F-62B1-4E44-A3C8-3AB5EE7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24B-9F41-45F4-8B88-F3212E6F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294-7B82-45ED-B28E-90D9F8B6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AEA0-3E0A-4943-B683-94B9281E48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A58A-708A-43E8-9F13-BF939EC59E8F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7.xml"/><Relationship Id="rId3" Type="http://schemas.openxmlformats.org/officeDocument/2006/relationships/slide" Target="slide21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16.xml"/><Relationship Id="rId8" Type="http://schemas.openxmlformats.org/officeDocument/2006/relationships/slide" Target="slide19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6.xml"/><Relationship Id="rId3" Type="http://schemas.openxmlformats.org/officeDocument/2006/relationships/slide" Target="slide30.xml"/><Relationship Id="rId4" Type="http://schemas.openxmlformats.org/officeDocument/2006/relationships/slide" Target="slide25.xml"/><Relationship Id="rId5" Type="http://schemas.openxmlformats.org/officeDocument/2006/relationships/slide" Target="slide28.xml"/><Relationship Id="rId6" Type="http://schemas.openxmlformats.org/officeDocument/2006/relationships/slide" Target="slide31.xml"/><Relationship Id="rId7" Type="http://schemas.openxmlformats.org/officeDocument/2006/relationships/slide" Target="slide27.xml"/><Relationship Id="rId8" Type="http://schemas.openxmlformats.org/officeDocument/2006/relationships/slide" Target="slide29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280" y="1412640"/>
            <a:ext cx="6372360" cy="38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d60093"/>
                </a:solidFill>
                <a:latin typeface="Monotype Corsiva"/>
              </a:rPr>
              <a:t>Проще </a:t>
            </a:r>
            <a:br>
              <a:rPr sz="13800"/>
            </a:br>
            <a:r>
              <a:rPr b="0" lang="ru-RU" sz="13800" spc="-1" strike="noStrike">
                <a:solidFill>
                  <a:srgbClr val="d60093"/>
                </a:solidFill>
                <a:latin typeface="Monotype Corsiva"/>
              </a:rPr>
              <a:t>простого</a:t>
            </a:r>
            <a:endParaRPr b="0" lang="en-US" sz="13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15"/>
          <p:cNvPicPr/>
          <p:nvPr/>
        </p:nvPicPr>
        <p:blipFill>
          <a:blip r:embed="rId1"/>
          <a:stretch/>
        </p:blipFill>
        <p:spPr>
          <a:xfrm>
            <a:off x="250920" y="189000"/>
            <a:ext cx="3249360" cy="34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Verdana"/>
              </a:rPr>
              <a:t>8. КТО ОТКРЫЛ НЕЙТРОН</a:t>
            </a:r>
            <a:r>
              <a:rPr b="1" lang="en-US" sz="4000" spc="-1" strike="noStrike">
                <a:solidFill>
                  <a:srgbClr val="0000cc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4" descr="QI8KRVCA5TFTDACAPDWXTKCAOM40IRCA0TVALQCA06F39DCA7H6HA5CAQDOUZOCASAHEPDCADVUJ7FCAGFRBDPCAB6VX9GCAMQ88VCCAW8UXYTCAU8DHU4CAG8YO1TCAQAGILECABCZ6XTCAT4HJ5CCAZZT96N"/>
          <p:cNvPicPr/>
          <p:nvPr/>
        </p:nvPicPr>
        <p:blipFill>
          <a:blip r:embed="rId1"/>
          <a:stretch/>
        </p:blipFill>
        <p:spPr>
          <a:xfrm>
            <a:off x="395280" y="1700280"/>
            <a:ext cx="4464000" cy="38466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7"/>
          <p:cNvGrpSpPr/>
          <p:nvPr/>
        </p:nvGrpSpPr>
        <p:grpSpPr>
          <a:xfrm>
            <a:off x="5435640" y="1628640"/>
            <a:ext cx="3455640" cy="4613040"/>
            <a:chOff x="5435640" y="1628640"/>
            <a:chExt cx="3455640" cy="4613040"/>
          </a:xfrm>
        </p:grpSpPr>
        <p:pic>
          <p:nvPicPr>
            <p:cNvPr id="198" name="Picture 6" descr=""/>
            <p:cNvPicPr/>
            <p:nvPr/>
          </p:nvPicPr>
          <p:blipFill>
            <a:blip r:embed="rId2"/>
            <a:srcRect l="0" t="4663" r="42180" b="0"/>
            <a:stretch/>
          </p:blipFill>
          <p:spPr>
            <a:xfrm>
              <a:off x="5435640" y="1628640"/>
              <a:ext cx="345564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5"/>
            <p:cNvSpPr/>
            <p:nvPr/>
          </p:nvSpPr>
          <p:spPr>
            <a:xfrm>
              <a:off x="5782320" y="5424840"/>
              <a:ext cx="303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Verdana"/>
                </a:rPr>
                <a:t>ЧЕДВИК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9. ФИЗИК - ЛАУРЕАТ НОБЕЛЕВСКОЙ ПРЕМИИ ПО ФИЗИКЕ И ХИМИ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4" descr="74"/>
          <p:cNvPicPr/>
          <p:nvPr/>
        </p:nvPicPr>
        <p:blipFill>
          <a:blip r:embed="rId1"/>
          <a:stretch/>
        </p:blipFill>
        <p:spPr>
          <a:xfrm>
            <a:off x="468360" y="2349360"/>
            <a:ext cx="3827520" cy="42213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4259160" y="4221000"/>
            <a:ext cx="48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М. СКЛАДОВСКА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-КЮР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95280" y="3645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Verdana"/>
              </a:rPr>
              <a:t>10. АТОМЫ ОДНОГО И ТОГО ЖЕ ВЕЩЕСТВА, ОТЛИЧАЮЩИЕСЯ ЧИСЛОМ НЕЙТРОНОВ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4" descr="1LZMWJCA0H3OW4CA86VQF0CA9GANKCCA4TUIOUCATP0AZ2CAVX9R9ACA9UX82GCAX2T4AOCAFNQB2OCAG8OKD0CA9EJ0Y0CAR94Y1SCA4MIQ3FCAHAI0HOCAWDYXHOCA9JESSJCARLM3XQCA8BSKKDCAPKPGYL"/>
          <p:cNvPicPr/>
          <p:nvPr/>
        </p:nvPicPr>
        <p:blipFill>
          <a:blip r:embed="rId1"/>
          <a:stretch/>
        </p:blipFill>
        <p:spPr>
          <a:xfrm>
            <a:off x="6012000" y="549360"/>
            <a:ext cx="2609640" cy="244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1909800" y="103500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Verdana"/>
              </a:rPr>
              <a:t>ИЗОТОПЫ</a:t>
            </a:r>
            <a:r>
              <a:rPr b="1" lang="ru-RU" sz="4800" spc="-1" strike="noStrike">
                <a:solidFill>
                  <a:srgbClr val="008000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916360" y="1628640"/>
          <a:ext cx="5843520" cy="4786560"/>
        </p:xfrm>
        <a:graphic>
          <a:graphicData uri="http://schemas.openxmlformats.org/drawingml/2006/table">
            <a:tbl>
              <a:tblPr/>
              <a:tblGrid>
                <a:gridCol w="1947600"/>
                <a:gridCol w="1947960"/>
                <a:gridCol w="1947960"/>
              </a:tblGrid>
              <a:tr h="16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Picture 26" descr="C41-12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24000" y="260280"/>
            <a:ext cx="2259000" cy="2799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7"/>
          <p:cNvSpPr/>
          <p:nvPr/>
        </p:nvSpPr>
        <p:spPr>
          <a:xfrm>
            <a:off x="1935360" y="-176040"/>
            <a:ext cx="743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Monotype Corsiva"/>
              </a:rPr>
              <a:t>Первая</a:t>
            </a:r>
            <a:r>
              <a:rPr b="1" lang="ru-RU" sz="88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8800" spc="-1" strike="noStrike">
                <a:solidFill>
                  <a:srgbClr val="ff0066"/>
                </a:solidFill>
                <a:latin typeface="Monotype Corsiva"/>
              </a:rPr>
              <a:t>игра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44000" cy="21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ХИМИЧЕСКИЙ ЭЛЕМЕНТ С ОДНИМ ЭЛЕКТРОНОМ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Picture 4" descr="водород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88000" y="1989000"/>
            <a:ext cx="2847960" cy="27878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539640" y="2349360"/>
            <a:ext cx="457200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А.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ГЕЛИЙ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Б.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ВОДОРОД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                   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Arial"/>
              </a:rPr>
              <a:t>В.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ЛИТИЙ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Verdana"/>
              </a:rPr>
              <a:t>КАК ПЕРЕВОДИТСЯ СЛОВО РАДИЙ</a:t>
            </a:r>
            <a:r>
              <a:rPr b="1" lang="en-US" sz="4000" spc="-1" strike="noStrike">
                <a:solidFill>
                  <a:srgbClr val="9900cc"/>
                </a:solidFill>
                <a:latin typeface="Verdana"/>
              </a:rPr>
              <a:t>?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547200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. РАДИО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СВЕРКАЮЩ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ЛУЧИСТЫЙ</a:t>
            </a: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Picture 5" descr="3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1484280"/>
            <a:ext cx="2835000" cy="287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Verdana"/>
              </a:rPr>
              <a:t>ЭЛЕМЕНТ С 45 НЕЙТРОНАМ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3213000"/>
            <a:ext cx="325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РАД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СЕЛЕ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БРО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WordArt 8"/>
          <p:cNvSpPr txBox="1"/>
          <p:nvPr/>
        </p:nvSpPr>
        <p:spPr>
          <a:xfrm>
            <a:off x="3995640" y="2276640"/>
            <a:ext cx="4392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33cccc">
                    <a:alpha val="77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e</a:t>
            </a:r>
            <a:endParaRPr b="0" i="1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33cccc">
                  <a:alpha val="77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43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ОБОЗНАЧЕНИЕ ЧИСЛА НУКЛОНОВ В ЯД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303552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А.  </a:t>
            </a:r>
            <a:r>
              <a:rPr b="1" lang="en-US" sz="5400" spc="-1" strike="noStrike">
                <a:solidFill>
                  <a:srgbClr val="ff3300"/>
                </a:solidFill>
                <a:latin typeface="Verdana"/>
              </a:rPr>
              <a:t>Z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5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Verdana"/>
              </a:rPr>
              <a:t> N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5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Verdana"/>
              </a:rPr>
              <a:t> A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Picture 5" descr="1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00720" y="2349360"/>
            <a:ext cx="3960720" cy="29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42920" y="1844640"/>
            <a:ext cx="3754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ЭЙНШТЕЙ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ТОМСО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ЧЕДВИ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ОН ОТКРЫЛ ЧАСТИЦУ ЭЛЕКТРОН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12" descr="">
            <a:hlinkClick r:id="rId1" action="ppaction://hlinksldjump"/>
          </p:cNvPr>
          <p:cNvPicPr/>
          <p:nvPr/>
        </p:nvPicPr>
        <p:blipFill>
          <a:blip r:embed="rId2"/>
          <a:srcRect l="11975" t="40410" r="70612" b="27780"/>
          <a:stretch/>
        </p:blipFill>
        <p:spPr>
          <a:xfrm>
            <a:off x="826920" y="2133720"/>
            <a:ext cx="2610000" cy="308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4752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КОБАЛЬ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МАРГАНЕЦ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АРГОН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5" name="Picture 4" descr="3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8360" y="3068640"/>
            <a:ext cx="3530520" cy="3106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332000" y="333360"/>
            <a:ext cx="63007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ПРИ БОМБАРДИРОВКЕ ЖЕЛЕЗА-56 НЕЙТРОНА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ВЫДЕЛИЛСЯ ПРОТОН И ОБРАЗОВАЛСЯ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180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800" spc="-1" strike="noStrike">
                <a:solidFill>
                  <a:srgbClr val="6600cc"/>
                </a:solidFill>
                <a:latin typeface="Verdana"/>
              </a:rPr>
              <a:t>Разминка</a:t>
            </a:r>
            <a:endParaRPr b="0" lang="en-US" sz="9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Picture 8" descr="C41-07"/>
          <p:cNvPicPr/>
          <p:nvPr/>
        </p:nvPicPr>
        <p:blipFill>
          <a:blip r:embed="rId1"/>
          <a:stretch/>
        </p:blipFill>
        <p:spPr>
          <a:xfrm>
            <a:off x="1979640" y="1197000"/>
            <a:ext cx="5264280" cy="523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619280" y="2852280"/>
            <a:ext cx="7129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СТРОЕНИЕ АТОМ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СТРОЕНИЕ ЯДРА АТОМ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СОСТАВ РАДИОАКТИВНОГО ИЗЛУЧ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Picture 4" descr="4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1722600" cy="1873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1547640" y="260280"/>
            <a:ext cx="73454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ЧТО ИССЛЕДОВАЛ РЕЗЕРФОРД С ПОМОЩЬЮ МАГНИТНОГО ПОЛЯ</a:t>
            </a:r>
            <a:r>
              <a:rPr b="1" lang="en-US" sz="4400" spc="-1" strike="noStrike">
                <a:solidFill>
                  <a:srgbClr val="9900cc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3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3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3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3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6059520" cy="36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ПРОТОН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НЕЙТРОН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ЭЛЕКТРОН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КАКИХ ЧАСТИЦ СТАНОВИТСЯ БОЛЬШЕ ПРИ БЕТТА-РАСПАДЕ</a:t>
            </a:r>
            <a:r>
              <a:rPr b="1" lang="en-US" sz="4400" spc="-1" strike="noStrike">
                <a:solidFill>
                  <a:srgbClr val="9900cc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2" name="Picture 8" descr="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80000" y="2708280"/>
            <a:ext cx="2104920" cy="162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3640" y="2060280"/>
            <a:ext cx="8064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. СПЕКТРОГРАФ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СЧЁТЧИК 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ГЕЙГЕР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ГАЛЬВАНОМЕТР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Picture 4" descr="счётчик гейгер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56360" y="1844640"/>
            <a:ext cx="2668680" cy="13813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829440" y="281160"/>
            <a:ext cx="7111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Verdana"/>
              </a:rPr>
              <a:t>ПРИБОР, РЕГИСТРИРУЮЩ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9900cc"/>
                </a:solidFill>
                <a:latin typeface="Verdana"/>
              </a:rPr>
              <a:t>ЧАСТИЦЫ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Monotype Corsiva"/>
              </a:rPr>
              <a:t>Вторая игра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03640" y="1600200"/>
          <a:ext cx="5483160" cy="4492800"/>
        </p:xfrm>
        <a:graphic>
          <a:graphicData uri="http://schemas.openxmlformats.org/drawingml/2006/table">
            <a:tbl>
              <a:tblPr/>
              <a:tblGrid>
                <a:gridCol w="1827000"/>
                <a:gridCol w="1828800"/>
                <a:gridCol w="1827360"/>
              </a:tblGrid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4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Picture 28" descr="C41-32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11280" y="1413000"/>
            <a:ext cx="1996920" cy="358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63640" y="2349360"/>
            <a:ext cx="2665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 N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 A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 Z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0" name="Picture 4" descr="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3141720"/>
            <a:ext cx="3516480" cy="25765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250920" y="1890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Verdana"/>
              </a:rPr>
              <a:t>КАКОЙ БУКВОЙ ОБОЗНАЧАЮТ ПОРЯДКОВЫЙ НОМЕР В ТАБЛИЦЕ МЕНДЕЛЕЕВА</a:t>
            </a:r>
            <a:r>
              <a:rPr b="1" lang="en-US" sz="4000" spc="-1" strike="noStrike">
                <a:solidFill>
                  <a:srgbClr val="99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1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Verdana"/>
              </a:rPr>
              <a:t>ЭЛЕМЕНТ, В КОТОРОМ  186 ПРОТОНОВ И НЕЙТРОНОВ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42920" y="2421000"/>
            <a:ext cx="433080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РЕ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КАДМ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ИТТР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4" name="Picture 4" descr="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32360" y="2852640"/>
            <a:ext cx="3529080" cy="313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101920" y="2707920"/>
            <a:ext cx="4041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ДЕЙТЕР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ПРОТ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ТРИТ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04292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КАКОЙ ИЗОТОП ВОДОРОДА ВХОДИТ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В СОСТАВ ПИТЬЕВОЙ ВОДЫ</a:t>
            </a: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7" name="Picture 8" descr="DSC04667"/>
          <p:cNvPicPr/>
          <p:nvPr/>
        </p:nvPicPr>
        <p:blipFill>
          <a:blip r:embed="rId1"/>
          <a:stretch/>
        </p:blipFill>
        <p:spPr>
          <a:xfrm>
            <a:off x="179280" y="2852640"/>
            <a:ext cx="4681800" cy="35118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71280" y="2060280"/>
            <a:ext cx="4259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ПОЛОН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РАДОН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ТОР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0" name="Picture 4" descr="42"/>
          <p:cNvPicPr/>
          <p:nvPr/>
        </p:nvPicPr>
        <p:blipFill>
          <a:blip r:embed="rId1"/>
          <a:stretch/>
        </p:blipFill>
        <p:spPr>
          <a:xfrm>
            <a:off x="5724360" y="1989000"/>
            <a:ext cx="3054600" cy="3529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179280" y="549360"/>
            <a:ext cx="8732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ВО ЧТО ПРЕВРАЩАЕТСЯ РАДИЙ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ПРИ АЛЬФА - ИЗЛУЧЕНИИ</a:t>
            </a: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5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5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5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5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708360" y="2420640"/>
            <a:ext cx="4618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БОР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ФЕРМИ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ГЕЙЗЕНБЕРГ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3" name="Picture 4" descr="ферми"/>
          <p:cNvPicPr/>
          <p:nvPr/>
        </p:nvPicPr>
        <p:blipFill>
          <a:blip r:embed="rId1"/>
          <a:stretch/>
        </p:blipFill>
        <p:spPr>
          <a:xfrm>
            <a:off x="324000" y="2133720"/>
            <a:ext cx="3079440" cy="4390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"/>
          <p:cNvSpPr/>
          <p:nvPr/>
        </p:nvSpPr>
        <p:spPr>
          <a:xfrm>
            <a:off x="324000" y="333360"/>
            <a:ext cx="846108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ЭТОТ ИТАЛЬЯНСКИЙ УЧЁНЫЙ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ПОСТРОИЛ ПЕРВЫЙ В МИРЕ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ЯДЕРНЫЙ РЕАКТОР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6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4920" y="2276280"/>
            <a:ext cx="5194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ПРОТОНО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ЭЛЕКТРОНО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НЕЙТРОНО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6" name="Picture 4" descr="42"/>
          <p:cNvPicPr/>
          <p:nvPr/>
        </p:nvPicPr>
        <p:blipFill>
          <a:blip r:embed="rId1"/>
          <a:stretch/>
        </p:blipFill>
        <p:spPr>
          <a:xfrm>
            <a:off x="5724360" y="2637000"/>
            <a:ext cx="2865600" cy="33130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1403280" y="0"/>
            <a:ext cx="662472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КАКИХ ЧАСТИЦ СТАНОВИТСЯ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МЕНЬШЕ ПРИ АЛЬФА- РАСПАДЕ</a:t>
            </a: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5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5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58"/>
          <p:cNvPicPr/>
          <p:nvPr/>
        </p:nvPicPr>
        <p:blipFill>
          <a:blip r:embed="rId1"/>
          <a:stretch/>
        </p:blipFill>
        <p:spPr>
          <a:xfrm>
            <a:off x="2195640" y="2421000"/>
            <a:ext cx="4824360" cy="4174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1. Масса какой частицы больше: протона или нейтрона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1332000" y="2708280"/>
            <a:ext cx="684036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ейтр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15640" y="1915920"/>
            <a:ext cx="2879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12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6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9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9" name="Picture 4" descr="3"/>
          <p:cNvPicPr/>
          <p:nvPr/>
        </p:nvPicPr>
        <p:blipFill>
          <a:blip r:embed="rId1"/>
          <a:stretch/>
        </p:blipFill>
        <p:spPr>
          <a:xfrm>
            <a:off x="4356000" y="1916280"/>
            <a:ext cx="4380120" cy="43909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5"/>
          <p:cNvSpPr/>
          <p:nvPr/>
        </p:nvSpPr>
        <p:spPr>
          <a:xfrm>
            <a:off x="848520" y="260280"/>
            <a:ext cx="74181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СКОЛЬКО ВСЕГО ЧАСТИЦ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В АТОМЕ ЛИТИЯ</a:t>
            </a:r>
            <a:r>
              <a:rPr b="1" lang="en-US" sz="4400" spc="-1" strike="noStrike">
                <a:solidFill>
                  <a:srgbClr val="990000"/>
                </a:solidFill>
                <a:latin typeface="Verdana"/>
              </a:rPr>
              <a:t>?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24000" y="3933720"/>
            <a:ext cx="55432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В АТОМЕ ЕСТ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ПУСТОТ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ЕСТЬ ЯДР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ЯДРО ИМЕЕТ (+) ЗАРЯД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2" name="Picture 4" descr="6"/>
          <p:cNvPicPr/>
          <p:nvPr/>
        </p:nvPicPr>
        <p:blipFill>
          <a:blip r:embed="rId1"/>
          <a:stretch/>
        </p:blipFill>
        <p:spPr>
          <a:xfrm>
            <a:off x="4643280" y="1125360"/>
            <a:ext cx="4167360" cy="3596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61"/>
          <p:cNvPicPr/>
          <p:nvPr/>
        </p:nvPicPr>
        <p:blipFill>
          <a:blip r:embed="rId2"/>
          <a:stretch/>
        </p:blipFill>
        <p:spPr>
          <a:xfrm>
            <a:off x="395280" y="1197000"/>
            <a:ext cx="3527280" cy="26305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1260360" y="0"/>
            <a:ext cx="64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КАКИЕ ВЫВОДЫ СЛЕДУЮ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Verdana"/>
              </a:rPr>
              <a:t>ИЗ ДАННОГО ОПЫТА</a:t>
            </a: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5931360" y="5473800"/>
            <a:ext cx="25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99"/>
                </a:solidFill>
                <a:latin typeface="Verdana"/>
              </a:rPr>
              <a:t>А,Б,В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858920" y="3141720"/>
            <a:ext cx="3900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РУБИД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СТРОНЦ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ФРАНЦ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7" name="Picture 4" descr="63"/>
          <p:cNvPicPr/>
          <p:nvPr/>
        </p:nvPicPr>
        <p:blipFill>
          <a:blip r:embed="rId1"/>
          <a:srcRect l="0" t="0" r="81" b="10710"/>
          <a:stretch/>
        </p:blipFill>
        <p:spPr>
          <a:xfrm>
            <a:off x="1692360" y="0"/>
            <a:ext cx="5400720" cy="28526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0" y="3141720"/>
            <a:ext cx="45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Verdana"/>
              </a:rPr>
              <a:t>ЭЛЕМЕНТ С 87 ПРОТОНАМИ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6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6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6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6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Monotype Corsiva"/>
              </a:rPr>
              <a:t>Финальная игра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0" name="Picture 6" descr="C41-33"/>
          <p:cNvPicPr/>
          <p:nvPr/>
        </p:nvPicPr>
        <p:blipFill>
          <a:blip r:embed="rId1"/>
          <a:stretch/>
        </p:blipFill>
        <p:spPr>
          <a:xfrm>
            <a:off x="2843280" y="1268280"/>
            <a:ext cx="3716280" cy="532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ФИНАЛ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648320" y="1600200"/>
          <a:ext cx="4038480" cy="44560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3" name="Picture 25" descr="belouss4"/>
          <p:cNvPicPr/>
          <p:nvPr/>
        </p:nvPicPr>
        <p:blipFill>
          <a:blip r:embed="rId1"/>
          <a:stretch/>
        </p:blipFill>
        <p:spPr>
          <a:xfrm>
            <a:off x="468360" y="1628640"/>
            <a:ext cx="3122640" cy="445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3640" y="2924280"/>
            <a:ext cx="577044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ЯДЕР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ГРАВИТАЦИОН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 ЭЛЕКТРОМАГНИТ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6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Verdana"/>
              </a:rPr>
              <a:t>КАКАЯ СИЛА УДЕРЖИВАЕТ НУКЛОНЫ В ЯДРЕ</a:t>
            </a: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6" name="Picture 6" descr="30"/>
          <p:cNvPicPr/>
          <p:nvPr/>
        </p:nvPicPr>
        <p:blipFill>
          <a:blip r:embed="rId1"/>
          <a:stretch/>
        </p:blipFill>
        <p:spPr>
          <a:xfrm>
            <a:off x="6084720" y="1916280"/>
            <a:ext cx="2708280" cy="228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7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7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7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7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924360" y="3213000"/>
            <a:ext cx="4968720" cy="30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КАПИЦ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ЛАНДАУ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КУРЧАТОВ</a:t>
            </a:r>
            <a:r>
              <a:rPr b="0" lang="ru-RU" sz="3600" spc="-1" strike="noStrike">
                <a:solidFill>
                  <a:srgbClr val="ff3300"/>
                </a:solidFill>
                <a:latin typeface="Verdana"/>
              </a:rPr>
              <a:t>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8" name="Picture 4" descr="курчатов"/>
          <p:cNvPicPr/>
          <p:nvPr/>
        </p:nvPicPr>
        <p:blipFill>
          <a:blip r:embed="rId1"/>
          <a:stretch/>
        </p:blipFill>
        <p:spPr>
          <a:xfrm>
            <a:off x="324000" y="2349360"/>
            <a:ext cx="3240000" cy="42483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684360" y="260280"/>
            <a:ext cx="777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СОВЕТСКИЙ УЧЁНЫЙ - ТРИЖДЫ ГЕРОЙ СОЦИАЛИСТИЧЕСКОГО ТРУДА, СОЗДАВШИЙ ЯДЕРНЫЙ РЕАКТОР В ССС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0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7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7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7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7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Verdana"/>
              </a:rPr>
              <a:t>КАКОЙ ЭЛЕМЕНТ ОБРАЗУЕТСЯ ИЗ ПРОТАКТИНИЯ- 231 ПРИ АЛЬФА - РАСПАДЕ</a:t>
            </a:r>
            <a:r>
              <a:rPr b="1" lang="en-US" sz="4400" spc="-1" strike="noStrike">
                <a:solidFill>
                  <a:srgbClr val="0066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4475160" cy="21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А. 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ФРАНЦ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 АКТИН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 НЕПТУН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5148360" y="2852640"/>
            <a:ext cx="3384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c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3251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Times New Roman"/>
              </a:rPr>
              <a:t>А.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F=ma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Times New Roman"/>
              </a:rPr>
              <a:t>Б.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E=mc</a:t>
            </a:r>
            <a:r>
              <a:rPr b="1" lang="ru-RU" sz="6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Times New Roman"/>
              </a:rPr>
              <a:t>В.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I=U/R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Picture 4" descr="50"/>
          <p:cNvPicPr/>
          <p:nvPr/>
        </p:nvPicPr>
        <p:blipFill>
          <a:blip r:embed="rId1"/>
          <a:stretch/>
        </p:blipFill>
        <p:spPr>
          <a:xfrm>
            <a:off x="4067280" y="2205000"/>
            <a:ext cx="4468680" cy="35402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725840" y="247680"/>
            <a:ext cx="61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КАКУЮ ФОРМУЛ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НАЗЫВАЮТ </a:t>
            </a:r>
            <a:r>
              <a:rPr b="1" lang="en-US" sz="3600" spc="-1" strike="noStrike">
                <a:solidFill>
                  <a:srgbClr val="006600"/>
                </a:solidFill>
                <a:latin typeface="Verdana"/>
              </a:rPr>
              <a:t>“</a:t>
            </a: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ВЕЛИКОЙ</a:t>
            </a:r>
            <a:r>
              <a:rPr b="1" lang="en-US" sz="3600" spc="-1" strike="noStrike">
                <a:solidFill>
                  <a:srgbClr val="006600"/>
                </a:solidFill>
                <a:latin typeface="Verdana"/>
              </a:rPr>
              <a:t>”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7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7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9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7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8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382752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УРА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РАД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ПОЛО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7" name="Picture 5" descr="41"/>
          <p:cNvPicPr/>
          <p:nvPr/>
        </p:nvPicPr>
        <p:blipFill>
          <a:blip r:embed="rId1"/>
          <a:stretch/>
        </p:blipFill>
        <p:spPr>
          <a:xfrm>
            <a:off x="5651640" y="1989000"/>
            <a:ext cx="2938320" cy="2457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1154880" y="189000"/>
            <a:ext cx="68907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КАКОЙ ХИМИЧЕСКИЙ ЭЛЕМЕН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И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C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ЛЬЗОВАЛ РЕЗЕРФОРД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В СВОИХ ОПЫТАХ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WordArt 7"/>
          <p:cNvSpPr txBox="1"/>
          <p:nvPr/>
        </p:nvSpPr>
        <p:spPr>
          <a:xfrm>
            <a:off x="3780000" y="3933720"/>
            <a:ext cx="309564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a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636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Verdana"/>
              </a:rPr>
              <a:t>2. Кто открыл явление радиоактивности?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2987640" y="2421000"/>
            <a:ext cx="3239640" cy="3789000"/>
            <a:chOff x="2987640" y="2421000"/>
            <a:chExt cx="3239640" cy="3789000"/>
          </a:xfrm>
        </p:grpSpPr>
        <p:pic>
          <p:nvPicPr>
            <p:cNvPr id="176" name="Picture 4" descr="беккерель"/>
            <p:cNvPicPr/>
            <p:nvPr/>
          </p:nvPicPr>
          <p:blipFill>
            <a:blip r:embed="rId1"/>
            <a:stretch/>
          </p:blipFill>
          <p:spPr>
            <a:xfrm>
              <a:off x="3063600" y="2421000"/>
              <a:ext cx="3043800" cy="37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Rectangle 5"/>
            <p:cNvSpPr/>
            <p:nvPr/>
          </p:nvSpPr>
          <p:spPr>
            <a:xfrm>
              <a:off x="2987640" y="5467320"/>
              <a:ext cx="32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Verdana"/>
                </a:rPr>
                <a:t>Беккерель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3322800" cy="35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БЕТ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АЛЬФ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 ГАММ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1" name="Picture 4" descr="7"/>
          <p:cNvPicPr/>
          <p:nvPr/>
        </p:nvPicPr>
        <p:blipFill>
          <a:blip r:embed="rId1"/>
          <a:stretch/>
        </p:blipFill>
        <p:spPr>
          <a:xfrm>
            <a:off x="3995640" y="1844640"/>
            <a:ext cx="4464000" cy="25369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5"/>
          <p:cNvSpPr/>
          <p:nvPr/>
        </p:nvSpPr>
        <p:spPr>
          <a:xfrm>
            <a:off x="851760" y="263520"/>
            <a:ext cx="73771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ЛУЧИ, С НАИМЕНЬШЕ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РОНИКАЮЩЕЙ СПОСОБНОСТЬ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1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1" dur="2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4535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СОЛНЕЧ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ЛЁГ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ПРОЗРАЧ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4" name="Picture 4" descr="WP10VBCA04I0E2CASO148DCA8IU8LACARDFXYTCAA30BJECAKIRO0ICA38BYEPCALID0GZCAP0AWNPCASOEB78CARZMDGRCAHXT2N9CANZ84XKCANJF6YICA53J9P5CAJY1ZM0CAP6MYBMCAK2M9J0CA2K9BDL"/>
          <p:cNvPicPr/>
          <p:nvPr/>
        </p:nvPicPr>
        <p:blipFill>
          <a:blip r:embed="rId1"/>
          <a:stretch/>
        </p:blipFill>
        <p:spPr>
          <a:xfrm>
            <a:off x="4284720" y="1916280"/>
            <a:ext cx="4537080" cy="39081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778040" y="260280"/>
            <a:ext cx="524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Verdana"/>
              </a:rPr>
              <a:t>КАК ПЕРЕВОДИТСЯ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Verdana"/>
              </a:rPr>
              <a:t>СЛОВО ГЕЛИЙ</a:t>
            </a: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5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0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44000" cy="18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ПЕРВАЯ АТОМНАЯ БОМБА БЫЛА СБРОШЕНА НА 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Г. ХИРОСИМА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4475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8.08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6.08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 4.08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8" name="Picture 6" descr="й"/>
          <p:cNvPicPr/>
          <p:nvPr/>
        </p:nvPicPr>
        <p:blipFill>
          <a:blip r:embed="rId1"/>
          <a:stretch/>
        </p:blipFill>
        <p:spPr>
          <a:xfrm>
            <a:off x="4500720" y="2205000"/>
            <a:ext cx="425736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8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1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8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8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9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9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8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8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23640" y="2636640"/>
            <a:ext cx="332244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УРА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Б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ПОЛО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.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РАД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754920" y="765000"/>
            <a:ext cx="76453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Verdana"/>
              </a:rPr>
              <a:t>ПЕРВЫЙ ОБНАРУЖЕННЫЙ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Verdana"/>
              </a:rPr>
              <a:t>РАДИОАКТИВНЫЙ ЭЛЕМЕН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WordArt 7"/>
          <p:cNvSpPr txBox="1"/>
          <p:nvPr/>
        </p:nvSpPr>
        <p:spPr>
          <a:xfrm>
            <a:off x="5292720" y="2997360"/>
            <a:ext cx="216072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80"/>
                  </a:solidFill>
                  <a:miter/>
                </a:ln>
                <a:solidFill>
                  <a:srgbClr val="33cc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U</a:t>
            </a:r>
            <a:endParaRPr b="0" lang="en-US" sz="1800" spc="1" strike="noStrike">
              <a:ln w="12600">
                <a:solidFill>
                  <a:srgbClr val="008080"/>
                </a:solidFill>
                <a:miter/>
              </a:ln>
              <a:solidFill>
                <a:srgbClr val="33cc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7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0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3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03280" y="836280"/>
            <a:ext cx="5545080" cy="30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Monotype Corsiva"/>
              </a:rPr>
              <a:t>Самый 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Monotype Corsiva"/>
              </a:rPr>
              <a:t>«сильный»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3" name="Picture 4" descr="C45-20"/>
          <p:cNvPicPr/>
          <p:nvPr/>
        </p:nvPicPr>
        <p:blipFill>
          <a:blip r:embed="rId1"/>
          <a:stretch/>
        </p:blipFill>
        <p:spPr>
          <a:xfrm>
            <a:off x="492120" y="1268280"/>
            <a:ext cx="3017880" cy="47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0920" y="3573360"/>
            <a:ext cx="260172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ЛЬФ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5" name="Picture 5" descr="ц"/>
          <p:cNvPicPr/>
          <p:nvPr/>
        </p:nvPicPr>
        <p:blipFill>
          <a:blip r:embed="rId1"/>
          <a:stretch/>
        </p:blipFill>
        <p:spPr>
          <a:xfrm>
            <a:off x="3995640" y="3429000"/>
            <a:ext cx="3544920" cy="270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30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Verdana"/>
              </a:rPr>
              <a:t>В РЕЗУЛЬТАТЕ КАКОГО РАДИОАКТИВНОГО РАСПАДА ПЛУТОНИЙ ПРЕВРАЩАЕТСЯ В УРАН</a:t>
            </a:r>
            <a:r>
              <a:rPr b="1" lang="en-US" sz="4000" spc="-1" strike="noStrike">
                <a:solidFill>
                  <a:srgbClr val="660033"/>
                </a:solidFill>
                <a:latin typeface="Verdana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5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В КАКОЙ ЭЛЕМЕНТ ПРЕВРАЩАЕТСЯ УГЛЕРОД ПРИ </a:t>
            </a:r>
            <a:br>
              <a:rPr sz="4400"/>
            </a:b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БЕТТА-РАССПАДЕ</a:t>
            </a:r>
            <a:r>
              <a:rPr b="1" lang="en-US" sz="4400" spc="-1" strike="noStrike">
                <a:solidFill>
                  <a:srgbClr val="9900cc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715680" y="3860640"/>
            <a:ext cx="4626360" cy="18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2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006699"/>
                </a:solidFill>
                <a:latin typeface="Verdana"/>
              </a:rPr>
              <a:t>АЗОТ</a:t>
            </a:r>
            <a:endParaRPr b="0" lang="en-US" sz="129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9" name="Picture 6" descr="7f4"/>
          <p:cNvPicPr/>
          <p:nvPr/>
        </p:nvPicPr>
        <p:blipFill>
          <a:blip r:embed="rId1"/>
          <a:stretch/>
        </p:blipFill>
        <p:spPr>
          <a:xfrm>
            <a:off x="6084720" y="299736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6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КАК ПЕРЕВЕСТИ С ГРЕЧЕСКОГО СЛОВО </a:t>
            </a:r>
            <a:r>
              <a:rPr b="1" lang="en-US" sz="4400" spc="-1" strike="noStrike">
                <a:solidFill>
                  <a:srgbClr val="9900cc"/>
                </a:solidFill>
                <a:latin typeface="Verdana"/>
              </a:rPr>
              <a:t>“</a:t>
            </a: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АТОМИС</a:t>
            </a:r>
            <a:r>
              <a:rPr b="1" lang="en-US" sz="4400" spc="-1" strike="noStrike">
                <a:solidFill>
                  <a:srgbClr val="9900cc"/>
                </a:solidFill>
                <a:latin typeface="Verdana"/>
              </a:rPr>
              <a:t>” 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1332000" y="4365720"/>
            <a:ext cx="68403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Verdana"/>
              </a:rPr>
              <a:t>НЕДЕЛИМАЯ  </a:t>
            </a: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2" name="Picture 14" descr="i?id=986824&amp;tov=2"/>
          <p:cNvPicPr/>
          <p:nvPr/>
        </p:nvPicPr>
        <p:blipFill>
          <a:blip r:embed="rId1"/>
          <a:stretch/>
        </p:blipFill>
        <p:spPr>
          <a:xfrm>
            <a:off x="3348000" y="2133720"/>
            <a:ext cx="2544840" cy="218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8706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ЭЛЕМЕНТ ЯДЕРНОГО РЕАКТОРА, ЗАМЕДЛЯЮЩИЙ НЕЙТРОНЫ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4" name="Picture 4" descr="77"/>
          <p:cNvPicPr/>
          <p:nvPr/>
        </p:nvPicPr>
        <p:blipFill>
          <a:blip r:embed="rId1"/>
          <a:stretch/>
        </p:blipFill>
        <p:spPr>
          <a:xfrm>
            <a:off x="324000" y="2997360"/>
            <a:ext cx="4319280" cy="36129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5408640" y="3860640"/>
            <a:ext cx="303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ТЯЖЁЛАЯ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ВОД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Verdana"/>
              </a:rPr>
              <a:t>ЧАСТИЦА БЕЗ ЗАРЯДА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Verdana"/>
              </a:rPr>
              <a:t>В СОСТАВЕ ЯДР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7" name="Picture 4" descr="33"/>
          <p:cNvPicPr/>
          <p:nvPr/>
        </p:nvPicPr>
        <p:blipFill>
          <a:blip r:embed="rId1"/>
          <a:stretch/>
        </p:blipFill>
        <p:spPr>
          <a:xfrm>
            <a:off x="468360" y="3429000"/>
            <a:ext cx="3311640" cy="2641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5"/>
          <p:cNvSpPr/>
          <p:nvPr/>
        </p:nvSpPr>
        <p:spPr>
          <a:xfrm>
            <a:off x="4691520" y="4005360"/>
            <a:ext cx="355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Verdana"/>
              </a:rPr>
              <a:t>НЕЙТРО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5580000" cy="29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Verdana"/>
              </a:rPr>
              <a:t>3. Кто создал ядерную (планетарную)модель атома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5651640" y="1052640"/>
            <a:ext cx="3138480" cy="3932280"/>
            <a:chOff x="5651640" y="1052640"/>
            <a:chExt cx="3138480" cy="3932280"/>
          </a:xfrm>
        </p:grpSpPr>
        <p:pic>
          <p:nvPicPr>
            <p:cNvPr id="180" name="Picture 7" descr=""/>
            <p:cNvPicPr/>
            <p:nvPr/>
          </p:nvPicPr>
          <p:blipFill>
            <a:blip r:embed="rId1"/>
            <a:srcRect l="46222" t="39660" r="34555" b="31083"/>
            <a:stretch/>
          </p:blipFill>
          <p:spPr>
            <a:xfrm>
              <a:off x="5651640" y="1052640"/>
              <a:ext cx="309528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5"/>
            <p:cNvSpPr/>
            <p:nvPr/>
          </p:nvSpPr>
          <p:spPr>
            <a:xfrm>
              <a:off x="6279120" y="4217400"/>
              <a:ext cx="251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Verdana"/>
                </a:rPr>
                <a:t>Резерфорд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182" name="Picture 10" descr="82"/>
          <p:cNvPicPr/>
          <p:nvPr/>
        </p:nvPicPr>
        <p:blipFill>
          <a:blip r:embed="rId2"/>
          <a:stretch/>
        </p:blipFill>
        <p:spPr>
          <a:xfrm>
            <a:off x="1042920" y="3933720"/>
            <a:ext cx="2403720" cy="252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Verdana"/>
              </a:rPr>
              <a:t>УСКОРИТЕЛЬ ЭЛЕМЕНТАРНЫХ ЧАСТИЦ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20" name="Picture 4" descr="синхрофазатрон"/>
          <p:cNvPicPr/>
          <p:nvPr/>
        </p:nvPicPr>
        <p:blipFill>
          <a:blip r:embed="rId1"/>
          <a:stretch/>
        </p:blipFill>
        <p:spPr>
          <a:xfrm>
            <a:off x="2268360" y="2565360"/>
            <a:ext cx="4108680" cy="299736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2339640" y="587700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ИНХРОФАЗОТРО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Verdana"/>
              </a:rPr>
              <a:t>4. Назовите заряженную частицу, входящую в состав ядр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4" descr="45"/>
          <p:cNvPicPr/>
          <p:nvPr/>
        </p:nvPicPr>
        <p:blipFill>
          <a:blip r:embed="rId1"/>
          <a:stretch/>
        </p:blipFill>
        <p:spPr>
          <a:xfrm>
            <a:off x="5292720" y="2924280"/>
            <a:ext cx="3178080" cy="3122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468360" y="3933720"/>
            <a:ext cx="331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Verdana"/>
              </a:rPr>
              <a:t>ПРОТОН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43640" cy="40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Verdana"/>
              </a:rPr>
              <a:t>5. КАКОЕ РАДИОАКТИВНОЕ ИЗЛУЧЕНИЕ ЯВЛЯЕТСЯ ПОТОКОМ ЯДЕР</a:t>
            </a:r>
            <a:r>
              <a:rPr b="1" lang="en-US" sz="4400" spc="-1" strike="noStrike">
                <a:solidFill>
                  <a:srgbClr val="0000cc"/>
                </a:solidFill>
                <a:latin typeface="Verdana"/>
              </a:rPr>
              <a:t>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4365720"/>
            <a:ext cx="4032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Verdana"/>
              </a:rPr>
              <a:t>АЛЬФ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5003640" y="3357720"/>
            <a:ext cx="3238560" cy="308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31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Verdana"/>
              </a:rPr>
              <a:t>6. ПРИ КАКОМ ИЗЛУЧЕНИИ ХИМИЧЕСКИЙ  ЭЛЕМЕНТ НЕ ИЗМЕНЯЕТСЯ</a:t>
            </a:r>
            <a:r>
              <a:rPr b="1" lang="en-US" sz="4400" spc="-1" strike="noStrike">
                <a:solidFill>
                  <a:srgbClr val="0000cc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84480" y="2997000"/>
            <a:ext cx="4259160" cy="8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1234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123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123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Verdana"/>
              </a:rPr>
              <a:t>ГАММ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123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4" descr="гамма"/>
          <p:cNvPicPr/>
          <p:nvPr/>
        </p:nvPicPr>
        <p:blipFill>
          <a:blip r:embed="rId1"/>
          <a:stretch/>
        </p:blipFill>
        <p:spPr>
          <a:xfrm>
            <a:off x="395280" y="3500280"/>
            <a:ext cx="4175280" cy="263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Verdana"/>
              </a:rPr>
              <a:t>7. Что в переводе с греческого означает «</a:t>
            </a:r>
            <a:r>
              <a:rPr b="1" lang="ru-RU" sz="4000" spc="-1" strike="noStrike">
                <a:solidFill>
                  <a:srgbClr val="0033cc"/>
                </a:solidFill>
                <a:latin typeface="Verdana"/>
              </a:rPr>
              <a:t>ЭЛЕКТРОН»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Picture 4" descr="20"/>
          <p:cNvPicPr/>
          <p:nvPr/>
        </p:nvPicPr>
        <p:blipFill>
          <a:blip r:embed="rId1"/>
          <a:stretch/>
        </p:blipFill>
        <p:spPr>
          <a:xfrm>
            <a:off x="684360" y="2276640"/>
            <a:ext cx="3456000" cy="3398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5307840" y="2924280"/>
            <a:ext cx="21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Verdana"/>
              </a:rPr>
              <a:t>ЯНТАР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7:09:17Z</dcterms:created>
  <dc:creator>Registered User</dc:creator>
  <dc:description/>
  <dc:language>en-US</dc:language>
  <cp:lastModifiedBy>vitalya</cp:lastModifiedBy>
  <dcterms:modified xsi:type="dcterms:W3CDTF">2013-02-06T15:24:41Z</dcterms:modified>
  <cp:revision>28</cp:revision>
  <dc:subject/>
  <dc:title>Масса какой частицы больше: протона или нейтрона?</dc:title>
</cp:coreProperties>
</file>