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3BE-53DD-4121-A2A1-12CDDB54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E05-D42E-4061-BD4D-75FAA26C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840-4CB9-4964-B083-9694EFA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C3F-3C1A-44FC-86D4-9828C917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697-979C-4882-8E2F-C7F29DC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52E-7A5A-40F9-81E0-42E9A34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995-B26A-4BAF-8C27-7722EAAE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F9E-DCC2-4076-A2CE-F5194ED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EA7-30E9-4A81-86CE-32CF306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1FE-D736-40F7-BDBB-1AD09D4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093-429F-484F-A0FB-E0AFD1D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393-CEF9-4F1F-BABD-F6794115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9C3-B9FD-417C-A319-C8D31F36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ование текста. Поиск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 - это мотивированная активизация знаний, хранящихся в памяти, или приобретение информации из внешней ср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мические спутники постоянно снимают данные о различных явлениях, происходящих на поверхности Земли, и посылают их в специальные учре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143600" cy="32860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 обычно производится в некотором хранилище информации — телефонном справочнике, словаре, энциклопедии, сети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60" y="3429000"/>
            <a:ext cx="2316240" cy="241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1766880" cy="212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1671840" cy="239904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rcRect l="8669" t="12591" r="6916" b="0"/>
          <a:stretch/>
        </p:blipFill>
        <p:spPr>
          <a:xfrm>
            <a:off x="6372360" y="4653000"/>
            <a:ext cx="2520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ение формы информации с числовой на графическ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49480" y="2690640"/>
            <a:ext cx="51865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идёт ремонт дороги, и проезд по ней временно закрыт, то сообщать об этом водителям можно словами «Проезд запрещён», а можно поставить дорожный знак, имеющий такой же смыс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3263" r="19304" b="0"/>
          <a:stretch/>
        </p:blipFill>
        <p:spPr>
          <a:xfrm>
            <a:off x="2627280" y="3860640"/>
            <a:ext cx="345600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.9 (с. 91-92), § 1.13 (с.49-51), №7-№8 (на стр. учебника 52-53), РТ: №44 (с.7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9:22:19Z</dcterms:created>
  <dc:creator>WiZaRd</dc:creator>
  <dc:description/>
  <dc:language>en-US</dc:language>
  <cp:lastModifiedBy>WiZaRd</cp:lastModifiedBy>
  <dcterms:modified xsi:type="dcterms:W3CDTF">2013-02-06T09:38:29Z</dcterms:modified>
  <cp:revision>2</cp:revision>
  <dc:subject/>
  <dc:title>Редактирование текста. Поиск информации.</dc:title>
</cp:coreProperties>
</file>