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66FA-791D-482A-A060-CBA2419A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51D-B5A3-4561-8CA5-0C00B27C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653-F9D9-4F87-A204-81765FA3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8C1-8383-4707-8824-B7292247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53C9-36B4-40C2-A76C-140CD9DF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CD9-F176-4741-86AE-6FB80C9E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F07-AF4E-4B23-A334-EE0C4DAD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865-A160-4FD6-84AA-EF2AFC42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8DD9-9A37-413D-B06D-75AC1D26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9F41-AEE2-4BD5-9263-4B0C07F1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175B-7975-40A6-86A8-C2825CC9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D316-4B41-49E9-B089-E685A9C6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D7BB-38EF-4656-A3FD-0BF740B8A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дактирование текста. Поиск информ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иск информации - это мотивированная активизация знаний, хранящихся в памяти, или приобретение информации из внешней сре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3457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смические спутники постоянно снимают данные о различных явлениях, происходящих на поверхности Земли, и посылают их в специальные учре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4143600" cy="328608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иск информации обычно производится в некотором хранилище информации — телефонном справочнике, словаре, энциклопедии, сети Интерн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760" y="3429000"/>
            <a:ext cx="2316240" cy="2417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340000" y="4508640"/>
            <a:ext cx="1766880" cy="212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356000" y="3500280"/>
            <a:ext cx="1671840" cy="239904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4"/>
          <a:srcRect l="8669" t="12591" r="6916" b="0"/>
          <a:stretch/>
        </p:blipFill>
        <p:spPr>
          <a:xfrm>
            <a:off x="6372360" y="4653000"/>
            <a:ext cx="25207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менение формы информации с числовой на графическ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49480" y="2690640"/>
            <a:ext cx="518652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идёт ремонт дороги, и проезд по ней временно закрыт, то сообщать об этом водителям можно словами «Проезд запрещён», а можно поставить дорожный знак, имеющий такой же смыс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13263" r="19304" b="0"/>
          <a:stretch/>
        </p:blipFill>
        <p:spPr>
          <a:xfrm>
            <a:off x="2627280" y="3860640"/>
            <a:ext cx="345600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2.9 (с. 91-92), § 1.13 (с.49-51), №7-№8 (на стр. учебника 52-53), РТ: №44 (с.78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09:22:19Z</dcterms:created>
  <dc:creator>WiZaRd</dc:creator>
  <dc:description/>
  <dc:language>en-US</dc:language>
  <cp:lastModifiedBy>WiZaRd</cp:lastModifiedBy>
  <dcterms:modified xsi:type="dcterms:W3CDTF">2013-02-06T09:38:29Z</dcterms:modified>
  <cp:revision>2</cp:revision>
  <dc:subject/>
  <dc:title>Редактирование текста. Поиск информации.</dc:title>
</cp:coreProperties>
</file>