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C637-0C83-4A3F-AD53-23C02FF07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3132-2B7D-468F-A319-70337955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C5F4-D4DF-447B-B77B-18A22D6F9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E557-CEB1-4BDF-AA79-E33B13325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A281-BB8F-494A-AF76-DFD0D3D05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D89F-DFEC-4D4A-91C0-4B8DAFE9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0F51-1E79-4286-BC4A-4357AD71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EAE8-4B0D-415F-9A02-BFB47BBF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9842-D7CA-4891-8FFE-9A643B15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2180-F225-44DF-8308-D5C1D7CC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DB2B-DFE3-421A-851F-49208C9B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DB7E-6983-44AF-B7AA-A45B69A1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2818-C0E2-421A-88AF-4AE8425D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4910-D631-452B-BB8E-12F187A3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08FF-1B29-44DB-B4D6-DE971F80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0E27-ED33-48AB-A013-F3A588E95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28A5-3A28-4BA6-BBD8-DEC594480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58E5-DBDB-47ED-BFF7-B5EE28CD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1984-C307-441D-A37C-312704B6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DAA4-4CE5-49C8-82CF-D876B5D6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35A8-EE13-48B7-91D9-EC595864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C388-AFC1-43AC-B6B5-B689EF6A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C974-0191-4D15-9F2A-955D4CA2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DAF7-C3DF-4144-B6E5-DDE8386C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BDA7-722D-478A-950B-F9E2E9B46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E475-0B2B-46AD-B35E-B0FD12E46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cc3300"/>
                </a:solidFill>
                <a:latin typeface="Impact"/>
              </a:rPr>
              <a:t>Русская кухня</a:t>
            </a:r>
            <a:br>
              <a:rPr sz="12000"/>
            </a:br>
            <a:r>
              <a:rPr b="1" lang="ru-RU" sz="6000" spc="-1" strike="noStrike">
                <a:solidFill>
                  <a:srgbClr val="cc3300"/>
                </a:solidFill>
                <a:latin typeface="Impact"/>
              </a:rPr>
              <a:t>часть </a:t>
            </a:r>
            <a:r>
              <a:rPr b="1" lang="en-US" sz="6000" spc="-1" strike="noStrike">
                <a:solidFill>
                  <a:srgbClr val="cc3300"/>
                </a:solidFill>
                <a:latin typeface="Impact"/>
              </a:rPr>
              <a:t>I</a:t>
            </a: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Impact"/>
              </a:rPr>
              <a:t>Чёрная икр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8" name="реда-черн%20икра" descr=""/>
          <p:cNvPicPr/>
          <p:nvPr/>
        </p:nvPicPr>
        <p:blipFill>
          <a:blip r:embed="rId1"/>
          <a:stretch/>
        </p:blipFill>
        <p:spPr>
          <a:xfrm>
            <a:off x="2057400" y="6858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Impact"/>
              </a:rPr>
              <a:t>Манная каш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0" name="реда-манка" descr=""/>
          <p:cNvPicPr/>
          <p:nvPr/>
        </p:nvPicPr>
        <p:blipFill>
          <a:blip r:embed="rId1"/>
          <a:stretch/>
        </p:blipFill>
        <p:spPr>
          <a:xfrm>
            <a:off x="2133720" y="68580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Impact"/>
              </a:rPr>
              <a:t>Мё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2" name="реда-мед" descr=""/>
          <p:cNvPicPr/>
          <p:nvPr/>
        </p:nvPicPr>
        <p:blipFill>
          <a:blip r:embed="rId1"/>
          <a:stretch/>
        </p:blipFill>
        <p:spPr>
          <a:xfrm>
            <a:off x="1981080" y="68580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Impact"/>
              </a:rPr>
              <a:t>Овсяная каш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4" name="реда-овсян" descr=""/>
          <p:cNvPicPr/>
          <p:nvPr/>
        </p:nvPicPr>
        <p:blipFill>
          <a:blip r:embed="rId1"/>
          <a:stretch/>
        </p:blipFill>
        <p:spPr>
          <a:xfrm>
            <a:off x="2209680" y="60948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еда-чай,бли" descr=""/>
          <p:cNvPicPr/>
          <p:nvPr/>
        </p:nvPicPr>
        <p:blipFill>
          <a:blip r:embed="rId1"/>
          <a:stretch/>
        </p:blipFill>
        <p:spPr>
          <a:xfrm>
            <a:off x="4572000" y="121932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Impact"/>
              </a:rPr>
              <a:t>Блин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2" name="реда-блины" descr=""/>
          <p:cNvPicPr/>
          <p:nvPr/>
        </p:nvPicPr>
        <p:blipFill>
          <a:blip r:embed="rId2"/>
          <a:stretch/>
        </p:blipFill>
        <p:spPr>
          <a:xfrm>
            <a:off x="1066680" y="533520"/>
            <a:ext cx="37339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Impact"/>
              </a:rPr>
              <a:t>Борщ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4" name="реда-борщ" descr=""/>
          <p:cNvPicPr/>
          <p:nvPr/>
        </p:nvPicPr>
        <p:blipFill>
          <a:blip r:embed="rId1"/>
          <a:stretch/>
        </p:blipFill>
        <p:spPr>
          <a:xfrm>
            <a:off x="1981080" y="762120"/>
            <a:ext cx="4267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Impact"/>
              </a:rPr>
              <a:t>Вареник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6" name="реда-варен" descr=""/>
          <p:cNvPicPr/>
          <p:nvPr/>
        </p:nvPicPr>
        <p:blipFill>
          <a:blip r:embed="rId1"/>
          <a:stretch/>
        </p:blipFill>
        <p:spPr>
          <a:xfrm>
            <a:off x="2362320" y="60948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Impact"/>
              </a:rPr>
              <a:t>Гречневая каш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8" name="реда-гречка" descr=""/>
          <p:cNvPicPr/>
          <p:nvPr/>
        </p:nvPicPr>
        <p:blipFill>
          <a:blip r:embed="rId1"/>
          <a:stretch/>
        </p:blipFill>
        <p:spPr>
          <a:xfrm>
            <a:off x="2209680" y="533520"/>
            <a:ext cx="4496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Impact"/>
              </a:rPr>
              <a:t>Жареный карас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0" name="реда-жарен%20карась" descr=""/>
          <p:cNvPicPr/>
          <p:nvPr/>
        </p:nvPicPr>
        <p:blipFill>
          <a:blip r:embed="rId1"/>
          <a:stretch/>
        </p:blipFill>
        <p:spPr>
          <a:xfrm>
            <a:off x="1981080" y="38088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Impact"/>
              </a:rPr>
              <a:t>Жареный поросёнок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2" name="реда-жарен%20порос" descr=""/>
          <p:cNvPicPr/>
          <p:nvPr/>
        </p:nvPicPr>
        <p:blipFill>
          <a:blip r:embed="rId1"/>
          <a:stretch/>
        </p:blipFill>
        <p:spPr>
          <a:xfrm>
            <a:off x="1905120" y="533520"/>
            <a:ext cx="46479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Impact"/>
              </a:rPr>
              <a:t>Картофель отварно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4" name="реда-картоф" descr=""/>
          <p:cNvPicPr/>
          <p:nvPr/>
        </p:nvPicPr>
        <p:blipFill>
          <a:blip r:embed="rId1"/>
          <a:stretch/>
        </p:blipFill>
        <p:spPr>
          <a:xfrm>
            <a:off x="1981080" y="762120"/>
            <a:ext cx="4496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Impact"/>
              </a:rPr>
              <a:t>Красная икр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6" name="реда-красн%20икра" descr=""/>
          <p:cNvPicPr/>
          <p:nvPr/>
        </p:nvPicPr>
        <p:blipFill>
          <a:blip r:embed="rId1"/>
          <a:stretch/>
        </p:blipFill>
        <p:spPr>
          <a:xfrm>
            <a:off x="2590920" y="76212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2:51:01Z</dcterms:created>
  <dc:creator>Светланка</dc:creator>
  <dc:description/>
  <dc:language>en-US</dc:language>
  <cp:lastModifiedBy>Светланка</cp:lastModifiedBy>
  <dcterms:modified xsi:type="dcterms:W3CDTF">2006-04-07T16:21:32Z</dcterms:modified>
  <cp:revision>2</cp:revision>
  <dc:subject/>
  <dc:title>Русская кухня</dc:title>
</cp:coreProperties>
</file>