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8CD-DA2C-4FDC-AE15-469F6FAB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753-8126-47D7-92DF-2FBA7F2F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282D-7D7F-4870-A4EF-C848389B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DE1-8DE9-43D7-B2BE-979C8E69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48E1-F11B-4300-AA41-E689DA38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49B1-60AD-4D68-BA6E-D1632066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3461-BA0E-4DC6-9FEC-62729E2F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F00A-A8CA-4B5E-AA18-8254A8C8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3A34-3D3F-4ADD-B996-49F5D73B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A500-D00F-4109-B8C3-897607B8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10BF-41DF-4E60-9371-A790FAA2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227-2509-4052-91C4-B7685461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E7F2-8C72-4821-9F24-33D44F80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DFD5-170C-4C46-9499-1943021B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F1F1-5CDB-4D17-B35F-C681BEEF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4D72-22C3-4FC4-B4A1-EC12F73F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357C-9FB9-4139-A15F-474F9DAC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9E4-194D-4DC5-8240-D4838CB5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916-42F6-41C0-9F61-68DCD62E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DCE-959D-474D-B63D-47ACFD11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39C-2011-464C-9EC2-FDFA56D6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483-9433-4DA9-B6A0-9616EC73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6951-1FA8-4CC0-823A-5E1C6D76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07C7-B8F3-4BF3-9FDD-C50A8B75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09BF-AD51-4F80-AB55-716038912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D4D6-10ED-4361-BA3D-0332BD600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cc3300"/>
                </a:solidFill>
                <a:latin typeface="Impact"/>
              </a:rPr>
              <a:t>Русская кухня</a:t>
            </a:r>
            <a:br>
              <a:rPr sz="12000"/>
            </a:br>
            <a:r>
              <a:rPr b="1" lang="ru-RU" sz="6000" spc="-1" strike="noStrike">
                <a:solidFill>
                  <a:srgbClr val="cc3300"/>
                </a:solidFill>
                <a:latin typeface="Impact"/>
              </a:rPr>
              <a:t>часть </a:t>
            </a:r>
            <a:r>
              <a:rPr b="1" lang="en-US" sz="6000" spc="-1" strike="noStrike">
                <a:solidFill>
                  <a:srgbClr val="cc3300"/>
                </a:solidFill>
                <a:latin typeface="Impact"/>
              </a:rPr>
              <a:t>I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Чёрная ик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реда-черн%20икра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Манная каш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0" name="реда-манка" descr=""/>
          <p:cNvPicPr/>
          <p:nvPr/>
        </p:nvPicPr>
        <p:blipFill>
          <a:blip r:embed="rId1"/>
          <a:stretch/>
        </p:blipFill>
        <p:spPr>
          <a:xfrm>
            <a:off x="2133720" y="6858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Мё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2" name="реда-мед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Овсяная каш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4" name="реда-овсян" descr=""/>
          <p:cNvPicPr/>
          <p:nvPr/>
        </p:nvPicPr>
        <p:blipFill>
          <a:blip r:embed="rId1"/>
          <a:stretch/>
        </p:blipFill>
        <p:spPr>
          <a:xfrm>
            <a:off x="2209680" y="6094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еда-чай,бли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Б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2" name="реда-блины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Борщ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4" name="реда-борщ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4267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Варени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6" name="реда-варен" descr=""/>
          <p:cNvPicPr/>
          <p:nvPr/>
        </p:nvPicPr>
        <p:blipFill>
          <a:blip r:embed="rId1"/>
          <a:stretch/>
        </p:blipFill>
        <p:spPr>
          <a:xfrm>
            <a:off x="2362320" y="6094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Гречневая каш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реда-гречка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496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Жареный карас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0" name="реда-жарен%20карась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Жареный поросёно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реда-жарен%20порос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46479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Картофель отварно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4" name="реда-картоф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4496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Impact"/>
              </a:rPr>
              <a:t>Красная ик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6" name="реда-красн%20икра" descr=""/>
          <p:cNvPicPr/>
          <p:nvPr/>
        </p:nvPicPr>
        <p:blipFill>
          <a:blip r:embed="rId1"/>
          <a:stretch/>
        </p:blipFill>
        <p:spPr>
          <a:xfrm>
            <a:off x="2590920" y="7621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2:51:01Z</dcterms:created>
  <dc:creator>Светланка</dc:creator>
  <dc:description/>
  <dc:language>en-US</dc:language>
  <cp:lastModifiedBy>Светланка</cp:lastModifiedBy>
  <dcterms:modified xsi:type="dcterms:W3CDTF">2006-04-07T16:21:32Z</dcterms:modified>
  <cp:revision>2</cp:revision>
  <dc:subject/>
  <dc:title>Русская кухня</dc:title>
</cp:coreProperties>
</file>