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B5B-CD0B-4746-BB08-0CE24D7B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FC3-DE10-4048-A38F-52E179A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A39-9783-43A7-AABB-9EC34BC0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479-F40B-4F71-9004-35DDB685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5F41E-92A3-443D-B65C-B898B414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A501-3CE0-4781-AA4A-8707215E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DE62F-17BB-41F5-9DF0-9F7EF8D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D36A-C22D-4112-892C-1F49D520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206C-06BD-49C9-A601-8E15737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2135-B35C-4A4D-893C-2AA96CBC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3CB7-8468-4C5C-B32B-32CE84C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64B-74C8-4B51-AEEF-08BBA7F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405DC-A5DB-472A-8193-DC2C0FF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FA2A8-2F66-4DD5-BC88-DEC6195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78BDB-926D-47F6-B26C-814DA5A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08DE9-E57E-41F6-B7B1-2A428C42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A8CA6-313F-4AE8-A0B9-6F96114F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B5D-C9CE-4296-8154-49B81053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5F5-F7CC-4416-B576-D2A0B1B2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07D-B7BA-4765-AE5E-DA29965D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444-D20F-4AEF-BBCF-C6A63FA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EC4-1C7D-466F-BCA4-FFA2BAA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F43-AE7F-4640-8F2B-9EB8E77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2D2-6427-4C55-8173-F344F13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7FB-7DD0-4EA8-B748-F87E2685F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B22-9058-4C3D-B85C-8F6CE61E63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736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416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цепция преподавания физики на базовом и профильном уров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стоятельной работе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валенко М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Этапы  обучения школьников рациональным приемам самостоятельной работы с учебником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Умение вчитываться в текст, находить в нем ответы на вопросы, получать необходимую информацию из рисунков, таблиц и графиков, умение пользоваться оглавлением учеб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 – научить самостоятельно выделять главные мысли в предлагаемом тексте с помощью планов обобщен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 – определять тип текста, круг основных вопросов в нем и соответствующий тексту план построения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4 – формирование у учащихся умения самостоятельно работать с комбинированным текстом, включающим вопросы нескольких типов, научить анализировать такой текст, расчленять его на самостоятельные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 – написание сочинений и рефератов, подготовка докладов и сообщений для конференций и семин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Домашняя самостоятельная работа по физике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ин из необходимых элементов учебного процесса. Она способствует закреплению и углублению знаний, прочному овладению ими, выработке умения самостоятельно работать с книгой, вести наблюдения, ставить опыты, пробуждает желание самостоятельно разобраться в том или ин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ика домашних зад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 инструктаже на уроке следу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аскрыть цель и значение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ать соответствующие рекомендации по ее выполнению и оформ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едупредить о возможных затруднениях и возможных недочетах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Рекомендовать наиболее целесообразные способы самоконтр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олезно давать задания в 2-3 вариантах на выбор учащихся, особенно, если это задания творческого харак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ряду с общими для всех заданиями, следует давать индивидуальные задания: отставшим ученикам – более легкие, сильным и интересующимся физикой – более слож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собый, индивидуальный подход необходим к учащимся, интерес которых к предмету не удалось пробудить на уро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машнее задание – это, как правило, подготовка к более осмысленному и глубокому пониманию нового, поэтому проверку в основном осуществляют перед изучением нового материала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омашнее задание должно быть проверено обязатель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эффективность</a:t>
            </a:r>
            <a:br>
              <a:rPr sz="4400"/>
            </a:b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самостоятельной работы </a:t>
            </a:r>
            <a:br>
              <a:rPr sz="4400"/>
            </a:b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с учебнико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Задачи формирования у школьников самостоятельност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вивать у учащихся самостоятельность в познавательной деятельности, т.е. научить их самостоятельно овладевать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учить школьников самостоятельно применять знания в учении 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иды самостоятельной работы учащихс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учебной  и справочной литерату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нообразные формы работы, связанные с решением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абораторно-практические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Фронтальный эксперимент с элементами ис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раздаточным матер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с кинематическими схем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ецензирование ответов своих товарищей на уроках, а также докладов на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блюдение за опытами, демонстрируемыми учителем, и выводы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ыполнение индивидуальных и групповых заданий в связи с проведением экскурсий в природу и на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нципы организации самостоятельной работ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оступ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атич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вязь теории с прак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тепенность в нарастании тру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ворческая акт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ифференцированный подход к учащи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обенности руководства самостоятельной работо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держание посильное дл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допускать действий по готовым рецептам и шабло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дания должны вызывать интер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ъяснение задач работы и требований к ее выполн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именение дидактических карточек, тетрадей для самостоятельных работ, иллюстрированного раздаточн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ключение в учебный процесс планомерно и систематически различные самостоятельные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умное сочетание самостоятельной работы учащихся и изложений материала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Умения и навыки в работе с книгой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делять главное в текс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о разбираться в математических выводах форму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ьзоваться рисунками, таблицами, графи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план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конспект прочитан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лагать прочитанное своими словами, логично, последовательн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ять материал учебника сведениями, полученными из других источ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ьзоваться оглавлением, предметным и именным указа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ть с каталогом, составлять библиографию по интересующему вопро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еобходимо для продолжения образования в ВУЗе, особенно в системе заочного и вечерне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3-02-06T05:31:4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