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8F4-748C-4324-830B-A4BD5118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D19-1467-4325-8DA7-33393E34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E8E-2440-44DB-8593-45CA5C6B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B95-A586-47CF-AAF1-81BFB7D8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A51A5-EEA3-4379-ADB7-0C5C0D6C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246C0-4FB6-4528-B49B-5514E44D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4C0A9-34F1-44BA-B4DE-49153959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D8CE0-88D3-4DFD-A9D7-B41EA9F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C7DAE-780A-4491-8DD4-F397F47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0F886-30A7-4F68-A42E-BF7FBDF6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B08B7-CFCE-4F93-9F3C-81B7A15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606-F7F8-455C-898D-42A6DDA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9145-24D1-4C85-8F8C-AF64E03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99C46-919F-482E-AA04-C4C3117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C021-3810-4F1E-9C6E-577023B2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8EFEB-4932-4FB8-BF07-CA4271E6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3575D-60DF-483F-BBDA-9CF6AD3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49C-4900-4E9F-9BB7-17D100A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100-2A0F-4EB0-9660-D68FFCF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E25-D0B3-4FC6-BA80-C4730D17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BAA-DBFF-40DE-8AC1-135FB520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D76-F1F0-41E7-B8C7-CB29546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263-18F9-4D5A-A483-4E2432C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8BB-976D-42AF-81DF-15C5CDF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C6B6-8CBE-44E3-A9FA-9D7A7B182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50F2-CFBE-4A1E-BC6E-1A88AC1B4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416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цепция преподавания физики на базовом и профильном уров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стоятельной работе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валенко М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Этапы  обучения школьников рациональным приемам самостоятельной работы с учебником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Умение вчитываться в текст, находить в нем ответы на вопросы, получать необходимую информацию из рисунков, таблиц и графиков, умение пользоваться оглавлением учеб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 – научить самостоятельно выделять главные мысли в предлагаемом тексте с помощью планов обобщенн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 – определять тип текста, круг основных вопросов в нем и соответствующий тексту план построения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4 – формирование у учащихся умения самостоятельно работать с комбинированным текстом, включающим вопросы нескольких типов, научить анализировать такой текст, расчленять его на самостоятельные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 – написание сочинений и рефератов, подготовка докладов и сообщений для конференций и семин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Домашняя самостоятельная работа по физике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дин из необходимых элементов учебного процесса. Она способствует закреплению и углублению знаний, прочному овладению ими, выработке умения самостоятельно работать с книгой, вести наблюдения, ставить опыты, пробуждает желание самостоятельно разобраться в том или ином вопр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ика домашних зада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 инструктаже на уроке следу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скрыть цель и значение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ать соответствующие рекомендации по ее выполнению и оформ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едупредить о возможных затруднениях и возможных недочетах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екомендовать наиболее целесообразные способы само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лезно давать задания в 2-3 вариантах на выбор учащихся, особенно, если это задания творческого харак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ряду с общими для всех заданиями, следует давать индивидуальные задания: отставшим ученикам – более легкие, сильным и интересующимся физикой – более сложные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обый, индивидуальный подход необходим к учащимся, интерес которых к предмету не удалось пробудить на уро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машнее задание – это, как правило, подготовка к более осмысленному и глубокому пониманию нового, поэтому проверку в основном осуществляют перед изучением нового материала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омашнее задание должно быть проверено обязатель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эффективность</a:t>
            </a:r>
            <a:br>
              <a:rPr sz="4400"/>
            </a:b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самостоятельной работы </a:t>
            </a:r>
            <a:br>
              <a:rPr sz="4400"/>
            </a:b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с учебник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Задачи формирования у школьников самостоятельност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ивать у учащихся самостоятельность в познавательной деятельности, т.е. научить их самостоятельно овладевать зн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учить школьников самостоятельно применять знания в учении 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иды самостоятельной работы учащихс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с учебной  и справочной литерату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нообразные формы работы, связанные с решением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абораторно-практические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Фронтальный эксперимент с элементами ис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с раздаточным матери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с кинематическими схем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ецензирование ответов своих товарищей на уроках, а также докладов на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блюдение за опытами, демонстрируемыми учителем, и выводы из 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ыполнение индивидуальных и групповых заданий в связи с проведением экскурсий в природу и на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нципы организации самостоятельной работ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ступ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ати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вязь теории с прак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тепенность в нарастании труд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ворческая акт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ифференцированный подход к учащи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обенности руководства самостоятельной работо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одержание посильное дл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допускать действий по готовым рецептам и шабло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дания должны вызывать инте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ъяснение задач работы и требований к ее выполн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именение дидактических карточек, тетрадей для самостоятельных работ, иллюстрированного раздаточн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ключение в учебный процесс планомерно и систематически различные самостоятель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умное сочетание самостоятельной работы учащихся и изложений материала уч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Умения и навыки в работе с книгой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делять главное в текс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стоятельно разбираться в математических выводах форму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ьзоваться рисунками, таблицами, графи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план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конспект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лагать прочитанное своими словами, логично, последовательн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олнять материал учебника сведениями, полученными из других источ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ьзоваться оглавлением, предметным и именным указа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ть с каталогом, составлять библиографию по интересующему вопро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еобходимо для продолжения образования в ВУЗе, особенно в системе заочного и вечерне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3-02-06T05:31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