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8A3-C547-4123-9990-E3560D97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FA6-474C-429D-A070-1348B99C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BCC-B9D0-4069-8CA7-338E890E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0E3-423F-4AD6-9576-9DE6F5EB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85AC4-8EA8-4973-9C22-4BFA2EB9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9F1FD-80B1-41D3-976E-1233B835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CBDBC-BCE8-4CD7-A672-1671CEE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835B0-0137-40AD-BB55-DCB8F60D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1E95C-75BB-4445-878A-30D14BBF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22BCB-C665-41A6-8AA6-B04BF5AA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D5557-228B-4F6E-BF73-823220F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F7A-20D4-44E2-9FC0-1A994D0E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2E2EF-20A1-4905-A923-62857E44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65ECF-C017-4DBF-B6D5-32787B7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54877-AE70-49A7-8AF3-A3AC82E0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E22C1-5839-48A4-B434-18F1FED7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351F7-A451-4121-9204-D9CD4E5D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0C4-237B-4F9D-9FBF-2408BAA3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495-731F-404C-AC6E-E8033E6D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6BF-2DCD-49BF-B9FF-BAA84D64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263-3B47-4DD5-99E7-1F3F87AF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BC8-D233-4AE1-8F0E-79A11036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7A8-A2DA-4B81-94BA-BF2DDB9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C03-219C-4A67-8169-369270C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835-6A93-49EF-A187-660B04539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F72A-5716-49B4-AFE2-8DD2F9A1E4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20" y="2057400"/>
            <a:ext cx="890892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цепция преподавания физики на базовом и профильном уров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мостоятельной работе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дготовила  Коваленко М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Этапы  обучения школьников рациональным приемам самостоятельной работы с учебником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Умение вчитываться в текст, находить в нем ответы на вопросы, получать необходимую информацию из рисунков, таблиц и графиков, умение пользоваться оглавлением учеб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 – научить самостоятельно выделять главные мысли в предлагаемом тексте с помощью планов обобщенного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 – определять тип текста, круг основных вопросов в нем и соответствующий тексту план построения от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 – формирование у учащихся умения самостоятельно работать с комбинированным текстом, включающим вопросы нескольких типов, научить анализировать такой текст, расчленять его на самостоятельные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5 – написание сочинений и рефератов, подготовка докладов и сообщений для конференций и семин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омашняя самостоятельная работа по физике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дин из необходимых элементов учебного процесса. Она способствует закреплению и углублению знаний, прочному овладению ими, выработке умения самостоятельно работать с книгой, вести наблюдения, ставить опыты, пробуждает желание самостоятельно разобраться в том или ином вопр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домашних зада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и инструктаже на уроке следу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крыть цель и значение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ать соответствующие рекомендации по ее выполнению и оформл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упредить о возможных затруднениях и возможных недочетах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екомендовать наиболее целесообразные способы самоконтр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лезно давать задания в 2-3 вариантах на выбор учащихся, особенно, если это задания творческого харак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ряду с общими для всех заданиями, следует давать индивидуальные задания: отставшим ученикам – более легкие, сильным и интересующимся физикой – более сложные за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собый, индивидуальный подход необходим к учащимся, интерес которых к предмету не удалось пробудить на уро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машнее задание – это, как правило, подготовка к более осмысленному и глубокому пониманию нового, поэтому проверку в основном осуществляют перед изучением нового материала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омашнее задание должно быть проверено обязатель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эффективность</a:t>
            </a:r>
            <a:br>
              <a:rPr sz="4400"/>
            </a:b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самостоятельной работы </a:t>
            </a:r>
            <a:br>
              <a:rPr sz="4400"/>
            </a:b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с учебник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формирования у школьников самостоятельност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вивать у учащихся самостоятельность в познавательной деятельности, т.е. научить их самостоятельно овладевать зн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учить школьников самостоятельно применять знания в учении и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иды самостоятельной работы учащихс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бота с учебной  и справочной литератур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нообразные формы работы, связанные с решением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абораторно-практические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ронтальный эксперимент с элементами ис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бота с раздаточным матери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бота с кинематическими схем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цензирование ответов своих товарищей на уроках, а также докладов на конфер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блюдение за опытами, демонстрируемыми учителем, и выводы из 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ыполнение индивидуальных и групповых заданий в связи с проведением экскурсий в природу и на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инципы организации самостоятельной работы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оступ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атич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вязь теории с практ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степенность в нарастании труд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ворческая акт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ифференцированный подход к учащим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обенности руководства самостоятельной работо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посильное для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допускать действий по готовым рецептам и шабло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дания должны вызывать инте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ъяснение задач работы и требований к ее выполн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менение дидактических карточек, тетрадей для самостоятельных работ, иллюстрированного раздаточн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ключение в учебный процесс планомерно и систематически различные самостоятельны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умное сочетание самостоятельной работы учащихся и изложений материала учи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Умения и навыки в работе с книгой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ять главное в текс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 разбираться в математических выводах форму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ться рисунками, таблицами, графи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ть план прочитан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ть конспект прочитан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лагать прочитанное своими словами, логично, последовательн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ять материал учебника сведениями, полученными из других источ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ться оглавлением, предметным и именным указател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ть с каталогом, составлять библиографию по интересующему вопро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обходимо для продолжения образования в ВУЗе, особенно в системе заочного и вечерне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Марина</cp:lastModifiedBy>
  <dcterms:modified xsi:type="dcterms:W3CDTF">2013-02-06T12:57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