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670F-2494-4BFE-9C20-661336D6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89C-259D-4F6B-8510-BC62FCFD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1CDA-AFCB-407D-8277-D7496092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46D-DF0A-477E-B0F3-4218C25B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A71E5-EA4F-46D5-A809-A13B92BA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B4202-DD8D-463B-B207-8D54B59F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C020A-AFDC-44F6-9DD5-8B63C7C9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0A95E-B571-439A-B554-099C20B4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E918B-940C-45AE-BF34-FC0980F2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E0897-304D-457B-99EF-0C29749A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CB790-D61E-4714-9F70-0C0B6AE8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4E19-5F53-45EB-9AD5-E0D08C74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76B7F-2274-4A13-8B82-763B1039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2AF6E-61E3-48A7-81A2-28917AD4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4582C-B743-4C41-8B5A-3C2D3EFE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9D521-42BC-4F8F-9104-027B3469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130EA-781C-404E-975A-E9AD7D69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CAD0-DE9C-4801-B037-7EA50EFD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A733-82A6-4183-912E-692A280F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CAE6-271C-4570-9F6E-CCEAED61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ACF-3514-4F58-A38C-BB81942B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1A7-B34A-41A7-AC8A-B2DF5A6A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089C-F9CE-4226-807E-25309193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0941-1083-4D57-BED1-8B3C6E47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5F11-DFBC-4804-853C-AC8AEEEAD4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262D-1687-4891-8768-E85B2396B3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120" y="2057400"/>
            <a:ext cx="890892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цепция преподавания физики на базовом и профильном уров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амостоятельной работе учащих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одготовила  Коваленко М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Этапы  обучения школьников рациональным приемам самостоятельной работы с учебником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Умение вчитываться в текст, находить в нем ответы на вопросы, получать необходимую информацию из рисунков, таблиц и графиков, умение пользоваться оглавлением учеб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2 – научить самостоятельно выделять главные мысли в предлагаемом тексте с помощью планов обобщенного характ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3 – определять тип текста, круг основных вопросов в нем и соответствующий тексту план построения отв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4 – формирование у учащихся умения самостоятельно работать с комбинированным текстом, включающим вопросы нескольких типов, научить анализировать такой текст, расчленять его на самостоятельные ч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5 – написание сочинений и рефератов, подготовка докладов и сообщений для конференций и семина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Домашняя самостоятельная работа по физике…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дин из необходимых элементов учебного процесса. Она способствует закреплению и углублению знаний, прочному овладению ими, выработке умения самостоятельно работать с книгой, вести наблюдения, ставить опыты, пробуждает желание самостоятельно разобраться в том или ином вопро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етодика домашних задани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54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и инструктаже на уроке следу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аскрыть цель и значение рабо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ать соответствующие рекомендации по ее выполнению и оформлен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едупредить о возможных затруднениях и возможных недочетах рабо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екомендовать наиболее целесообразные способы самоконтро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лезно давать задания в 2-3 вариантах на выбор учащихся, особенно, если это задания творческого характе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аряду с общими для всех заданиями, следует давать индивидуальные задания: отставшим ученикам – более легкие, сильным и интересующимся физикой – более сложные зад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собый, индивидуальный подход необходим к учащимся, интерес которых к предмету не удалось пробудить на урок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машнее задание – это, как правило, подготовка к более осмысленному и глубокому пониманию нового, поэтому проверку в основном осуществляют перед изучением нового материала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омашнее задание должно быть проверено обязательно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3e3ff"/>
                </a:solidFill>
                <a:latin typeface="Arial"/>
              </a:rPr>
              <a:t>эффективность</a:t>
            </a:r>
            <a:br>
              <a:rPr sz="4400"/>
            </a:br>
            <a:r>
              <a:rPr b="1" i="1" lang="ru-RU" sz="4400" spc="-1" strike="noStrike">
                <a:solidFill>
                  <a:srgbClr val="e3e3ff"/>
                </a:solidFill>
                <a:latin typeface="Arial"/>
              </a:rPr>
              <a:t>самостоятельной работы </a:t>
            </a:r>
            <a:br>
              <a:rPr sz="4400"/>
            </a:br>
            <a:r>
              <a:rPr b="1" i="1" lang="ru-RU" sz="4400" spc="-1" strike="noStrike">
                <a:solidFill>
                  <a:srgbClr val="e3e3ff"/>
                </a:solidFill>
                <a:latin typeface="Arial"/>
              </a:rPr>
              <a:t>с учебником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чи формирования у школьников самостоятельности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азвивать у учащихся самостоятельность в познавательной деятельности, т.е. научить их самостоятельно овладевать знания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учить школьников самостоятельно применять знания в учении и практическ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иды самостоятельной работы учащихс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бота с учебной  и справочной литератур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знообразные формы работы, связанные с решением задач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Лабораторно-практические рабо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Фронтальный эксперимент с элементами исслед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бота с раздаточным материал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бота с кинематическими схем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ецензирование ответов своих товарищей на уроках, а также докладов на конферен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блюдение за опытами, демонстрируемыми учителем, и выводы из ни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ыполнение индивидуальных и групповых заданий в связи с проведением экскурсий в природу и на производ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ринципы организации самостоятельной работы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оступ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истематич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вязь теории с практи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остепенность в нарастании труд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ворческая актив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ифференцированный подход к учащим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собенности руководства самостоятельной работой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одержание посильное для школь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 допускать действий по готовым рецептам и шаблон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дания должны вызывать интер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зъяснение задач работы и требований к ее выполн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менение дидактических карточек, тетрадей для самостоятельных работ, иллюстрированного раздаточного матери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ключение в учебный процесс планомерно и систематически различные самостоятельные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зумное сочетание самостоятельной работы учащихся и изложений материала учител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Arial"/>
              </a:rPr>
              <a:t>Умения и навыки в работе с книгой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лять главное в текст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остоятельно разбираться в математических выводах форму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ьзоваться рисунками, таблицами, график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ить план прочитанног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ить конспект прочитанног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лагать прочитанное своими словами, логично, последовательн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полнять материал учебника сведениями, полученными из других источник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ьзоваться оглавлением, предметным и именным указателя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тать с каталогом, составлять библиографию по интересующему вопрос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обходимо для продолжения образования в ВУЗе, особенно в системе заочного и вечернего 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на</dc:creator>
  <dc:description/>
  <dc:language>en-US</dc:language>
  <cp:lastModifiedBy>Марина</cp:lastModifiedBy>
  <dcterms:modified xsi:type="dcterms:W3CDTF">2013-02-06T12:57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