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24.jpeg" ContentType="image/jpeg"/>
  <Override PartName="/ppt/media/image11.jpeg" ContentType="image/jpeg"/>
  <Override PartName="/ppt/media/image9.gif" ContentType="image/gif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28.png" ContentType="image/png"/>
  <Override PartName="/ppt/media/image6.gif" ContentType="image/gif"/>
  <Override PartName="/ppt/media/image5.gif" ContentType="image/gif"/>
  <Override PartName="/ppt/media/image4.png" ContentType="image/png"/>
  <Override PartName="/ppt/media/image27.png" ContentType="image/png"/>
  <Override PartName="/ppt/media/image26.gif" ContentType="image/gif"/>
  <Override PartName="/ppt/media/image20.jpeg" ContentType="image/jpeg"/>
  <Override PartName="/ppt/media/image14.gif" ContentType="image/gif"/>
  <Override PartName="/ppt/media/image23.jpeg" ContentType="image/jpeg"/>
  <Override PartName="/ppt/media/image19.jpeg" ContentType="image/jpeg"/>
  <Override PartName="/ppt/media/image18.gif" ContentType="image/gif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C49-8B14-455C-84B6-7D5B55B0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EBA-C3EA-4F75-A679-CCA51341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5C6-897F-4294-A05E-493063D2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9E2-B691-4936-9B2F-12598EE5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8E4-4C1D-4A71-A138-18C7F0D8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3A6-7A97-4DC6-AE5C-7417E7A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000-E58B-4D57-87BE-478748C4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6D4-1DE7-42BB-8881-DAC00D0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09E-A0B0-4465-8331-85F9D617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8B0-0BCE-4B7F-A266-E20457D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E1C-56CF-4FA9-B331-FFBA6AB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FDA-E91D-43E6-ADAB-3738D20A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E3DD-4B75-46D1-AAF7-BD030703B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slide" Target="slide39.xml"/><Relationship Id="rId38" Type="http://schemas.openxmlformats.org/officeDocument/2006/relationships/slide" Target="slide40.xml"/><Relationship Id="rId39" Type="http://schemas.openxmlformats.org/officeDocument/2006/relationships/slide" Target="slide41.xml"/><Relationship Id="rId4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41-07"/>
          <p:cNvPicPr/>
          <p:nvPr/>
        </p:nvPicPr>
        <p:blipFill>
          <a:blip r:embed="rId1"/>
          <a:stretch/>
        </p:blipFill>
        <p:spPr>
          <a:xfrm>
            <a:off x="0" y="3200400"/>
            <a:ext cx="367668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 flipH="1">
            <a:off x="9144000" y="6429240"/>
            <a:ext cx="46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1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3640" y="3716280"/>
            <a:ext cx="3178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907560"/>
            <a:ext cx="5194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КОНЦЕНТРАЦИЮ МОЛЕКУ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5"/>
          <p:cNvPicPr/>
          <p:nvPr/>
        </p:nvPicPr>
        <p:blipFill>
          <a:blip r:embed="rId1"/>
          <a:stretch/>
        </p:blipFill>
        <p:spPr>
          <a:xfrm>
            <a:off x="5648400" y="692280"/>
            <a:ext cx="3495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3357720"/>
            <a:ext cx="410508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9900"/>
                </a:solidFill>
                <a:latin typeface="Times New Roman"/>
              </a:rPr>
              <a:t>р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000" y="404280"/>
            <a:ext cx="8351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КАКОЙ БУКВОЙ ОБОЗНАЧАЮТ ДАВЛЕНИ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41-12"/>
          <p:cNvPicPr/>
          <p:nvPr/>
        </p:nvPicPr>
        <p:blipFill>
          <a:blip r:embed="rId1"/>
          <a:stretch/>
        </p:blipFill>
        <p:spPr>
          <a:xfrm>
            <a:off x="6443640" y="3429000"/>
            <a:ext cx="2216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178440" cy="24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200" spc="-1" strike="noStrike">
                <a:solidFill>
                  <a:srgbClr val="ff9900"/>
                </a:solidFill>
                <a:latin typeface="Times New Roman"/>
              </a:rPr>
              <a:t>ρ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ПЛОТН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45-20"/>
          <p:cNvPicPr/>
          <p:nvPr/>
        </p:nvPicPr>
        <p:blipFill>
          <a:blip r:embed="rId1"/>
          <a:stretch/>
        </p:blipFill>
        <p:spPr>
          <a:xfrm>
            <a:off x="6458040" y="2349360"/>
            <a:ext cx="2685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г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98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МАСС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19"/>
          <p:cNvPicPr/>
          <p:nvPr/>
        </p:nvPicPr>
        <p:blipFill>
          <a:blip r:embed="rId1"/>
          <a:stretch/>
        </p:blipFill>
        <p:spPr>
          <a:xfrm>
            <a:off x="3708360" y="299736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8280360" cy="17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оль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333360"/>
            <a:ext cx="8013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КОЛИЧЕСТВА ВЕЩЕСТВ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36_2_62"/>
          <p:cNvPicPr/>
          <p:nvPr/>
        </p:nvPicPr>
        <p:blipFill>
          <a:blip r:embed="rId1"/>
          <a:stretch/>
        </p:blipFill>
        <p:spPr>
          <a:xfrm>
            <a:off x="6804000" y="3284640"/>
            <a:ext cx="2033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г</a:t>
            </a:r>
            <a:r>
              <a:rPr b="1" lang="en-US" sz="142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оль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60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МОЛЯРНОЙ МАССЫ ВЕЩЕСТВ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16"/>
          <p:cNvPicPr/>
          <p:nvPr/>
        </p:nvPicPr>
        <p:blipFill>
          <a:blip r:embed="rId1"/>
          <a:stretch/>
        </p:blipFill>
        <p:spPr>
          <a:xfrm>
            <a:off x="324000" y="2708280"/>
            <a:ext cx="23158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Дж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54936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ЭНЕРГИ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0" descr="http://class-fizika.narod.ru/7_class/7_davl/10.gif"/>
          <p:cNvPicPr/>
          <p:nvPr/>
        </p:nvPicPr>
        <p:blipFill>
          <a:blip r:embed="rId1"/>
          <a:stretch/>
        </p:blipFill>
        <p:spPr>
          <a:xfrm>
            <a:off x="6659640" y="2924280"/>
            <a:ext cx="2109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443664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602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ТЕМПЕР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13"/>
          <p:cNvPicPr/>
          <p:nvPr/>
        </p:nvPicPr>
        <p:blipFill>
          <a:blip r:embed="rId1"/>
          <a:stretch/>
        </p:blipFill>
        <p:spPr>
          <a:xfrm>
            <a:off x="5508720" y="2492280"/>
            <a:ext cx="29052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27280" y="501300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1" lang="ru-RU" sz="14200" spc="-1" strike="noStrike" baseline="30000">
                <a:solidFill>
                  <a:srgbClr val="ff00ff"/>
                </a:solidFill>
                <a:latin typeface="Times New Roman"/>
              </a:rPr>
              <a:t>-3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4360" y="25992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КОНЦЕНТРАЦИИ МОЛЕКУ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11"/>
          <p:cNvPicPr/>
          <p:nvPr/>
        </p:nvPicPr>
        <p:blipFill>
          <a:blip r:embed="rId1"/>
          <a:stretch/>
        </p:blipFill>
        <p:spPr>
          <a:xfrm>
            <a:off x="468360" y="2852640"/>
            <a:ext cx="23209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3672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Па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333000"/>
            <a:ext cx="822960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ДАВЛ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4"/>
          <p:cNvPicPr/>
          <p:nvPr/>
        </p:nvPicPr>
        <p:blipFill>
          <a:blip r:embed="rId1"/>
          <a:stretch/>
        </p:blipFill>
        <p:spPr>
          <a:xfrm>
            <a:off x="3924360" y="3213000"/>
            <a:ext cx="489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63528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бозначение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Единицы измерени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Формулы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Знаем, проходи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140360" y="260280"/>
          <a:ext cx="4595760" cy="4891320"/>
        </p:xfrm>
        <a:graphic>
          <a:graphicData uri="http://schemas.openxmlformats.org/drawingml/2006/table">
            <a:tbl>
              <a:tblPr/>
              <a:tblGrid>
                <a:gridCol w="460080"/>
                <a:gridCol w="459000"/>
                <a:gridCol w="460440"/>
                <a:gridCol w="458640"/>
                <a:gridCol w="458640"/>
                <a:gridCol w="460440"/>
                <a:gridCol w="459000"/>
                <a:gridCol w="460080"/>
                <a:gridCol w="459000"/>
                <a:gridCol w="46044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2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0" lang="ru-RU" sz="14200" spc="-1" strike="noStrike" baseline="30000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ОБЪЁМ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i?id=1842594&amp;tov=3"/>
          <p:cNvPicPr/>
          <p:nvPr/>
        </p:nvPicPr>
        <p:blipFill>
          <a:blip r:embed="rId1"/>
          <a:stretch/>
        </p:blipFill>
        <p:spPr>
          <a:xfrm>
            <a:off x="2700360" y="2492280"/>
            <a:ext cx="35560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кг</a:t>
            </a:r>
            <a:r>
              <a:rPr b="1" lang="en-US" sz="142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м</a:t>
            </a:r>
            <a:r>
              <a:rPr b="1" lang="ru-RU" sz="14200" spc="-1" strike="noStrike" baseline="30000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5992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ПЛОТНОСТ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C09-19"/>
          <p:cNvPicPr/>
          <p:nvPr/>
        </p:nvPicPr>
        <p:blipFill>
          <a:blip r:embed="rId1"/>
          <a:stretch/>
        </p:blipFill>
        <p:spPr>
          <a:xfrm rot="606600">
            <a:off x="1187280" y="2565360"/>
            <a:ext cx="2430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508640"/>
            <a:ext cx="511344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4042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33cc33"/>
                </a:solidFill>
                <a:latin typeface="Times New Roman"/>
              </a:rPr>
              <a:t>НАЗОВИТЕ ЕДИНИЦУ ИЗМЕРЕНИЯ ЧИСЛА МОЛЕКУЛ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09-13"/>
          <p:cNvPicPr/>
          <p:nvPr/>
        </p:nvPicPr>
        <p:blipFill>
          <a:blip r:embed="rId1"/>
          <a:stretch/>
        </p:blipFill>
        <p:spPr>
          <a:xfrm rot="409200">
            <a:off x="5796000" y="3284280"/>
            <a:ext cx="24350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СКОРОСТИ ДВИЖЕНИЯ МОЛЕКУ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0" y="2643120"/>
                <a:ext cx="4714920" cy="23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4286160" y="4286160"/>
                <a:ext cx="42926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" name="Picture 7" descr="C09-13"/>
          <p:cNvPicPr/>
          <p:nvPr/>
        </p:nvPicPr>
        <p:blipFill>
          <a:blip r:embed="rId1"/>
          <a:stretch/>
        </p:blipFill>
        <p:spPr>
          <a:xfrm rot="409200">
            <a:off x="6948360" y="2349360"/>
            <a:ext cx="1859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11280" y="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: УРАВНЕНИЕ СОСТОЯНИЯ ИДЕАЛЬНОГО ГАЗ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3479760" y="3933720"/>
                <a:ext cx="566424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2" name="Picture 6" descr="5"/>
          <p:cNvPicPr/>
          <p:nvPr/>
        </p:nvPicPr>
        <p:blipFill>
          <a:blip r:embed="rId1"/>
          <a:stretch/>
        </p:blipFill>
        <p:spPr>
          <a:xfrm>
            <a:off x="0" y="1989000"/>
            <a:ext cx="32767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26028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, СВЯЗЫВАЮЩУЮ ДАВЛЕНИЕ И ТЕМПЕРАТУРУ</a:t>
            </a:r>
            <a:r>
              <a:rPr b="0" lang="ru-RU" sz="4400" spc="-1" strike="noStrike">
                <a:solidFill>
                  <a:srgbClr val="9900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468360" y="4149720"/>
                <a:ext cx="703728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k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Picture 6" descr="19"/>
          <p:cNvPicPr/>
          <p:nvPr/>
        </p:nvPicPr>
        <p:blipFill>
          <a:blip r:embed="rId1"/>
          <a:stretch/>
        </p:blipFill>
        <p:spPr>
          <a:xfrm>
            <a:off x="6804000" y="213372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333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, СВЯЗЫВАЮЩУЮ ДАВЛЕНИЕ И ПЛОТ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3780000" y="3645000"/>
                <a:ext cx="5072040" cy="30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8" name="Picture 7" descr="C41-32"/>
          <p:cNvPicPr/>
          <p:nvPr/>
        </p:nvPicPr>
        <p:blipFill>
          <a:blip r:embed="rId1"/>
          <a:stretch/>
        </p:blipFill>
        <p:spPr>
          <a:xfrm>
            <a:off x="395280" y="2565360"/>
            <a:ext cx="199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528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КОНЦЕНТРАЦИИ МОЛЕКУ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5219640" y="3213000"/>
                <a:ext cx="3502080" cy="31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2" name="Picture 7" descr="i?id=7566740&amp;tov=5"/>
          <p:cNvPicPr/>
          <p:nvPr/>
        </p:nvPicPr>
        <p:blipFill>
          <a:blip r:embed="rId1"/>
          <a:stretch/>
        </p:blipFill>
        <p:spPr>
          <a:xfrm>
            <a:off x="250920" y="2708280"/>
            <a:ext cx="2895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, СВЯЗЫВАЮЩУЮ ЭНЕРГИЮ И ТЕМПЕРАТУР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755640" y="3933720"/>
                <a:ext cx="421308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5" name="Picture 6" descr="C41-33"/>
          <p:cNvPicPr/>
          <p:nvPr/>
        </p:nvPicPr>
        <p:blipFill>
          <a:blip r:embed="rId1"/>
          <a:stretch/>
        </p:blipFill>
        <p:spPr>
          <a:xfrm>
            <a:off x="6516720" y="2924280"/>
            <a:ext cx="239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000" y="189000"/>
            <a:ext cx="82803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АЗОВИТЕ ФОРМУЛУ ДЛЯ ВЫЧИСЛЕНИЯ ПЛОТНОСТИ ВЕЩЕ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468360" y="3068640"/>
                <a:ext cx="3595680" cy="31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8" name="Picture 7" descr="5"/>
          <p:cNvPicPr/>
          <p:nvPr/>
        </p:nvPicPr>
        <p:blipFill>
          <a:blip r:embed="rId1"/>
          <a:stretch/>
        </p:blipFill>
        <p:spPr>
          <a:xfrm>
            <a:off x="5580000" y="3284640"/>
            <a:ext cx="24368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3640" y="1988640"/>
            <a:ext cx="3400560" cy="451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1" lang="ru-RU" sz="14200" spc="-1" strike="noStrike" baseline="-25000">
                <a:solidFill>
                  <a:srgbClr val="ff9900"/>
                </a:solidFill>
                <a:latin typeface="Times New Roman"/>
              </a:rPr>
              <a:t>0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11970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МАССУ МОЛЕКУЛ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5416560" y="1125360"/>
            <a:ext cx="2158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40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ЧИСЛА МОЛЕКУ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395280" y="4005360"/>
                <a:ext cx="48578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1" name="Picture 6" descr="1"/>
          <p:cNvPicPr/>
          <p:nvPr/>
        </p:nvPicPr>
        <p:blipFill>
          <a:blip r:embed="rId1"/>
          <a:stretch/>
        </p:blipFill>
        <p:spPr>
          <a:xfrm>
            <a:off x="6084720" y="2781360"/>
            <a:ext cx="25196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 ДЛЯ ВЫЧИСЛЕНИЯ КОЛИЧЕСТВА ВЕЩЕСТ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5003640" y="2924280"/>
                <a:ext cx="374508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5" name="Picture 8" descr="На колесо, проскальзывающее по дороге, действует сила трения. Она направлена в сторону, противоположную направлению скольжения"/>
          <p:cNvPicPr/>
          <p:nvPr/>
        </p:nvPicPr>
        <p:blipFill>
          <a:blip r:embed="rId1"/>
          <a:stretch/>
        </p:blipFill>
        <p:spPr>
          <a:xfrm>
            <a:off x="826920" y="3357720"/>
            <a:ext cx="2583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71320" y="189000"/>
            <a:ext cx="7600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НАЗОВИТЕ ФОРМУЛУ: ОСНОВНОЕ УРАВНЕНИЕ МКТ ИДЕАЛЬНОГО Г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250920" y="4005360"/>
                <a:ext cx="585792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9" name="Picture 6" descr="На тела, погруженные в жидкость или газ, действует выталкивающая сила, обычно направленная вверх"/>
          <p:cNvPicPr/>
          <p:nvPr/>
        </p:nvPicPr>
        <p:blipFill>
          <a:blip r:embed="rId1"/>
          <a:stretch/>
        </p:blipFill>
        <p:spPr>
          <a:xfrm>
            <a:off x="6588000" y="2349360"/>
            <a:ext cx="2301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является наиболее наглядным опытным подтверждением движения молекул?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 Возникновение сил упругости при деформации тела?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. Броуновское движение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. Наблюдение с помощью оптического микроскоп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285800"/>
            <a:ext cx="404352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Б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36_2_62"/>
          <p:cNvPicPr/>
          <p:nvPr/>
        </p:nvPicPr>
        <p:blipFill>
          <a:blip r:embed="rId1"/>
          <a:stretch/>
        </p:blipFill>
        <p:spPr>
          <a:xfrm>
            <a:off x="6072120" y="4572000"/>
            <a:ext cx="2033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зывается процесс при неизменном значении температур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ТЕРМИЧЕ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19"/>
          <p:cNvPicPr/>
          <p:nvPr/>
        </p:nvPicPr>
        <p:blipFill>
          <a:blip r:embed="rId1"/>
          <a:stretch/>
        </p:blipFill>
        <p:spPr>
          <a:xfrm>
            <a:off x="3571920" y="4786200"/>
            <a:ext cx="20304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зывается процесс при неизменном значении объё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4357440"/>
            <a:ext cx="68580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ХОРНЫ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C41-33"/>
          <p:cNvPicPr/>
          <p:nvPr/>
        </p:nvPicPr>
        <p:blipFill>
          <a:blip r:embed="rId1"/>
          <a:stretch/>
        </p:blipFill>
        <p:spPr>
          <a:xfrm>
            <a:off x="6748560" y="2286000"/>
            <a:ext cx="239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называется процесс при неизменном значении давл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466056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БАР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C09-13"/>
          <p:cNvPicPr/>
          <p:nvPr/>
        </p:nvPicPr>
        <p:blipFill>
          <a:blip r:embed="rId1"/>
          <a:stretch/>
        </p:blipFill>
        <p:spPr>
          <a:xfrm rot="409200">
            <a:off x="6351480" y="2279160"/>
            <a:ext cx="24354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изменится давление идеального газа при увеличении концентрации его молекул в 2 раза, если средняя квадратичная скорость молекул остается неизменной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8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ВЕЛИЧИТСЯ В 2 РАЗА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36_2_62"/>
          <p:cNvPicPr/>
          <p:nvPr/>
        </p:nvPicPr>
        <p:blipFill>
          <a:blip r:embed="rId1"/>
          <a:stretch/>
        </p:blipFill>
        <p:spPr>
          <a:xfrm>
            <a:off x="0" y="4786200"/>
            <a:ext cx="20336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изменится средняя кинетическая энергия теплового движения молекул идеального газа при увеличении абсолютной температуры в 4 р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УВЕЛИЧИТСЯ В 4 РА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19"/>
          <p:cNvPicPr/>
          <p:nvPr/>
        </p:nvPicPr>
        <p:blipFill>
          <a:blip r:embed="rId1"/>
          <a:stretch/>
        </p:blipFill>
        <p:spPr>
          <a:xfrm>
            <a:off x="6643800" y="471492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 ИЗМЕНИТС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изменится давление гелия массой 2 кг, если его объём увеличили в 4 раза, а температуру уменьшили в 4 раз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19"/>
          <p:cNvPicPr/>
          <p:nvPr/>
        </p:nvPicPr>
        <p:blipFill>
          <a:blip r:embed="rId1"/>
          <a:stretch/>
        </p:blipFill>
        <p:spPr>
          <a:xfrm>
            <a:off x="6572160" y="4286160"/>
            <a:ext cx="20304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720" y="1484280"/>
            <a:ext cx="425736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ЧИСЛО МОЛЕКУ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516720" y="0"/>
            <a:ext cx="22273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из приведенных уравнений соответствует изобарному процессу?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Содержимое 3"/>
              <p:cNvSpPr txBox="1"/>
              <p:nvPr/>
            </p:nvSpPr>
            <p:spPr>
              <a:xfrm>
                <a:off x="4486320" y="5651640"/>
                <a:ext cx="171360" cy="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357200" y="1928880"/>
                <a:ext cx="20005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43040" y="3500280"/>
                <a:ext cx="16430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1357200" y="5072040"/>
                <a:ext cx="3319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Прямоугольник 8"/>
          <p:cNvSpPr/>
          <p:nvPr/>
        </p:nvSpPr>
        <p:spPr>
          <a:xfrm>
            <a:off x="7358040" y="528624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9"/>
          <p:cNvPicPr/>
          <p:nvPr/>
        </p:nvPicPr>
        <p:blipFill>
          <a:blip r:embed="rId1"/>
          <a:stretch/>
        </p:blipFill>
        <p:spPr>
          <a:xfrm>
            <a:off x="6072120" y="2857680"/>
            <a:ext cx="20304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 - 2  - изобарное расширение</a:t>
            </a:r>
            <a:br>
              <a:rPr sz="4400"/>
            </a:b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 – 3 –изотермическое сжатие</a:t>
            </a:r>
            <a:br>
              <a:rPr sz="4400"/>
            </a:br>
            <a:r>
              <a:rPr b="1" lang="ru-RU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 – 1 – изохорное охлажд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9680" y="3214800"/>
            <a:ext cx="86439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т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Группа 26"/>
          <p:cNvGrpSpPr/>
          <p:nvPr/>
        </p:nvGrpSpPr>
        <p:grpSpPr>
          <a:xfrm>
            <a:off x="1214280" y="3928680"/>
            <a:ext cx="1929240" cy="1859760"/>
            <a:chOff x="1214280" y="3928680"/>
            <a:chExt cx="1929240" cy="1859760"/>
          </a:xfrm>
        </p:grpSpPr>
        <p:cxnSp>
          <p:nvCxnSpPr>
            <p:cNvPr id="171" name="Прямая со стрелкой 4"/>
            <p:cNvCxnSpPr/>
            <p:nvPr/>
          </p:nvCxnSpPr>
          <p:spPr>
            <a:xfrm flipV="1">
              <a:off x="1214280" y="3928680"/>
              <a:ext cx="2160" cy="185832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172" name="Прямая со стрелкой 6"/>
            <p:cNvCxnSpPr/>
            <p:nvPr/>
          </p:nvCxnSpPr>
          <p:spPr>
            <a:xfrm>
              <a:off x="1214280" y="5786640"/>
              <a:ext cx="1929600" cy="216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</p:grpSp>
      <p:sp>
        <p:nvSpPr>
          <p:cNvPr id="173" name="Прямая соединительная линия 8"/>
          <p:cNvSpPr/>
          <p:nvPr/>
        </p:nvSpPr>
        <p:spPr>
          <a:xfrm>
            <a:off x="1785960" y="5214960"/>
            <a:ext cx="928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3143160" y="55008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Группа 29"/>
          <p:cNvGrpSpPr/>
          <p:nvPr/>
        </p:nvGrpSpPr>
        <p:grpSpPr>
          <a:xfrm>
            <a:off x="1763640" y="4149360"/>
            <a:ext cx="1000080" cy="1001880"/>
            <a:chOff x="1763640" y="4149360"/>
            <a:chExt cx="1000080" cy="1001880"/>
          </a:xfrm>
        </p:grpSpPr>
        <p:sp>
          <p:nvSpPr>
            <p:cNvPr id="176" name="Прямая соединительная линия 10"/>
            <p:cNvSpPr/>
            <p:nvPr/>
          </p:nvSpPr>
          <p:spPr>
            <a:xfrm flipV="1">
              <a:off x="2691000" y="4150800"/>
              <a:ext cx="2880" cy="10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16"/>
            <p:cNvSpPr/>
            <p:nvPr/>
          </p:nvSpPr>
          <p:spPr>
            <a:xfrm flipV="1">
              <a:off x="1763640" y="4149360"/>
              <a:ext cx="1000080" cy="10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21"/>
          <p:cNvSpPr/>
          <p:nvPr/>
        </p:nvSpPr>
        <p:spPr>
          <a:xfrm>
            <a:off x="1428840" y="51436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2714760" y="5143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2786040" y="3929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C09-19"/>
          <p:cNvPicPr/>
          <p:nvPr/>
        </p:nvPicPr>
        <p:blipFill>
          <a:blip r:embed="rId1"/>
          <a:stretch/>
        </p:blipFill>
        <p:spPr>
          <a:xfrm rot="606600">
            <a:off x="6052680" y="4232160"/>
            <a:ext cx="243072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овите проце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378612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 – 2 –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обарное расши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 – 3 – изохорное нагре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 – 4 – изотермическое сжа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 – 1- изохорное охла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Группа 28"/>
          <p:cNvGrpSpPr/>
          <p:nvPr/>
        </p:nvGrpSpPr>
        <p:grpSpPr>
          <a:xfrm>
            <a:off x="1143000" y="1642680"/>
            <a:ext cx="1929240" cy="1643400"/>
            <a:chOff x="1143000" y="1642680"/>
            <a:chExt cx="1929240" cy="1643400"/>
          </a:xfrm>
        </p:grpSpPr>
        <p:cxnSp>
          <p:nvCxnSpPr>
            <p:cNvPr id="185" name="Прямая со стрелкой 7"/>
            <p:cNvCxnSpPr/>
            <p:nvPr/>
          </p:nvCxnSpPr>
          <p:spPr>
            <a:xfrm>
              <a:off x="1143000" y="3214800"/>
              <a:ext cx="1929600" cy="216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186" name="Прямая со стрелкой 8"/>
            <p:cNvCxnSpPr/>
            <p:nvPr/>
          </p:nvCxnSpPr>
          <p:spPr>
            <a:xfrm flipV="1">
              <a:off x="1143000" y="1642680"/>
              <a:ext cx="2160" cy="164376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</p:grpSp>
      <p:grpSp>
        <p:nvGrpSpPr>
          <p:cNvPr id="187" name="Группа 21"/>
          <p:cNvGrpSpPr/>
          <p:nvPr/>
        </p:nvGrpSpPr>
        <p:grpSpPr>
          <a:xfrm>
            <a:off x="1428480" y="1928880"/>
            <a:ext cx="1214640" cy="930240"/>
            <a:chOff x="1428480" y="1928880"/>
            <a:chExt cx="1214640" cy="930240"/>
          </a:xfrm>
        </p:grpSpPr>
        <p:sp>
          <p:nvSpPr>
            <p:cNvPr id="188" name="Прямая соединительная линия 13"/>
            <p:cNvSpPr/>
            <p:nvPr/>
          </p:nvSpPr>
          <p:spPr>
            <a:xfrm>
              <a:off x="1428840" y="2857680"/>
              <a:ext cx="1214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15"/>
            <p:cNvSpPr/>
            <p:nvPr/>
          </p:nvSpPr>
          <p:spPr>
            <a:xfrm flipV="1">
              <a:off x="2641680" y="1930320"/>
              <a:ext cx="1440" cy="92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17"/>
            <p:cNvSpPr/>
            <p:nvPr/>
          </p:nvSpPr>
          <p:spPr>
            <a:xfrm>
              <a:off x="2000160" y="1928880"/>
              <a:ext cx="642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19"/>
            <p:cNvSpPr/>
            <p:nvPr/>
          </p:nvSpPr>
          <p:spPr>
            <a:xfrm flipH="1">
              <a:off x="1428480" y="1928880"/>
              <a:ext cx="571320" cy="9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22"/>
          <p:cNvSpPr/>
          <p:nvPr/>
        </p:nvSpPr>
        <p:spPr>
          <a:xfrm>
            <a:off x="571680" y="15717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3071880" y="3071880"/>
            <a:ext cx="5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4"/>
          <p:cNvSpPr/>
          <p:nvPr/>
        </p:nvSpPr>
        <p:spPr>
          <a:xfrm>
            <a:off x="128880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1717200" y="164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2646000" y="1643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2788920" y="271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C09-19"/>
          <p:cNvPicPr/>
          <p:nvPr/>
        </p:nvPicPr>
        <p:blipFill>
          <a:blip r:embed="rId1"/>
          <a:stretch/>
        </p:blipFill>
        <p:spPr>
          <a:xfrm rot="606600">
            <a:off x="6195960" y="1409760"/>
            <a:ext cx="243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0000" y="2349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ν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700280"/>
            <a:ext cx="4546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КОЛИЧЕСТВО ВЕЩЕ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22622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7640" y="980640"/>
            <a:ext cx="26640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V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620640"/>
            <a:ext cx="505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ОБЪЁ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3"/>
          <p:cNvPicPr/>
          <p:nvPr/>
        </p:nvPicPr>
        <p:blipFill>
          <a:blip r:embed="rId1"/>
          <a:stretch/>
        </p:blipFill>
        <p:spPr>
          <a:xfrm>
            <a:off x="3132000" y="4005360"/>
            <a:ext cx="3257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35280" y="476280"/>
            <a:ext cx="32511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9900"/>
                </a:solidFill>
                <a:latin typeface="Times New Roman"/>
              </a:rPr>
              <a:t>M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62864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МОЛЯРНУЮ МАССУ ВЕЩЕСТ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5"/>
          <p:cNvPicPr/>
          <p:nvPr/>
        </p:nvPicPr>
        <p:blipFill>
          <a:blip r:embed="rId1"/>
          <a:stretch/>
        </p:blipFill>
        <p:spPr>
          <a:xfrm>
            <a:off x="5508720" y="4005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79640" y="404640"/>
            <a:ext cx="31179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9900"/>
                </a:solidFill>
                <a:latin typeface="Times New Roman"/>
              </a:rPr>
              <a:t>Е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55736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АКОЙ БУКВОЙ ОБОЗНАЧАЮТ ЭНЕРГ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14-50"/>
          <p:cNvPicPr/>
          <p:nvPr/>
        </p:nvPicPr>
        <p:blipFill>
          <a:blip r:embed="rId1"/>
          <a:stretch/>
        </p:blipFill>
        <p:spPr>
          <a:xfrm>
            <a:off x="5003640" y="4365720"/>
            <a:ext cx="36576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35280" y="3212640"/>
            <a:ext cx="3322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ff9900"/>
                </a:solidFill>
                <a:latin typeface="Times New Roman"/>
              </a:rPr>
              <a:t>Т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260280"/>
            <a:ext cx="77058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КОЙ БУКВОЙ ОБОЗНАЧАЮТ ТЕМПЕРАТУР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14-32"/>
          <p:cNvPicPr/>
          <p:nvPr/>
        </p:nvPicPr>
        <p:blipFill>
          <a:blip r:embed="rId1"/>
          <a:stretch/>
        </p:blipFill>
        <p:spPr>
          <a:xfrm>
            <a:off x="971640" y="3284640"/>
            <a:ext cx="2668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3:58:03Z</dcterms:created>
  <dc:creator>Toshiba</dc:creator>
  <dc:description/>
  <dc:language>en-US</dc:language>
  <cp:lastModifiedBy>vitalya</cp:lastModifiedBy>
  <dcterms:modified xsi:type="dcterms:W3CDTF">2013-02-06T14:46:03Z</dcterms:modified>
  <cp:revision>37</cp:revision>
  <dc:subject/>
  <dc:title>Слайд 1</dc:title>
</cp:coreProperties>
</file>