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02BB-9B7C-42F9-A729-3B731706E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8510-86C9-403E-8383-EBF4B8114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Но прежде чем говорить о них, необходимо уяснить само понятие «пушкинская пора». Если границы определять формально, то все поэты, писавшие в период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А.С. Пушкина, 1799–1837, включаются в этот кр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308-F69A-4A3E-8224-E59FC1C29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Составной частью понятия «пушкинская пора» является «пушкинская плеяда» — круг, включающий в себя поэтов, лично знавших А. С. Пушкина и близких ему по художественным взглядам. Здесь общение происходило как на творческом, так и на личностно-дружеском уровне. К поэтам «пушкинской плеяды» относятся А.А.Дельвиг, Е.А.Баратынский,, П.А.Вяземский,  Д. В. Давыдов, Н. М.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6E7-F5A5-46CD-8D12-5356D645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033-DB49-42C0-A574-A5C50B2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9D9-249E-4B8F-87A1-E101B019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2A5-5B38-4C41-AA22-364E6BB5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112-7879-4F31-9059-5738155E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263-779B-4E60-B747-2D82256B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63A-85A1-4DD3-BE9F-869D71AE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A3B-C220-4CFC-9503-672F7C4B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2FB-BEB9-483E-94BE-48407F27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7AB-817A-4C3E-B1EA-A0A9E34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B7F-A0A4-40A4-8A67-248D2AB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995-BC40-477F-B9D0-3A89BDAE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4CF7-F919-4B1E-8DB4-FC6E1DEFD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8;&#1088;&#1080;&#1086;%20&#1052;&#1077;&#1088;&#1080;&#1076;&#1080;&#1072;&#1085;%20&#1055;&#1083;&#1086;&#1074;&#1077;&#1094;.mp3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35280" y="260280"/>
            <a:ext cx="5508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Первая треть XIX века — период расцвета русской поэзии. Именно она, а не проза (это произойдет позднее) определяла развитие рус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Вместе с А.С. Пушкиным творили его современники — поэты пушкинской п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64080" cy="453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28960" cy="417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158760" y="460044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 Антонович Дельв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15040" cy="4680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3996720" y="765000"/>
            <a:ext cx="53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гений Абрамович Бораты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3824280" cy="5154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250920" y="692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 Андреевич Вязем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"/>
          <p:cNvPicPr/>
          <p:nvPr/>
        </p:nvPicPr>
        <p:blipFill>
          <a:blip r:embed="rId4"/>
          <a:stretch/>
        </p:blipFill>
        <p:spPr>
          <a:xfrm>
            <a:off x="4716360" y="549360"/>
            <a:ext cx="4170600" cy="482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4719600" y="544500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нис Васильевич Давы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72320" cy="6429240"/>
          </a:xfrm>
          <a:prstGeom prst="rect">
            <a:avLst/>
          </a:prstGeom>
          <a:ln w="0">
            <a:noFill/>
          </a:ln>
        </p:spPr>
      </p:pic>
      <p:pic>
        <p:nvPicPr>
          <p:cNvPr id="61" name="pogud30.mp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20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8569440" cy="568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rcRect l="0" t="1858" r="1720" b="2984"/>
          <a:stretch/>
        </p:blipFill>
        <p:spPr>
          <a:xfrm>
            <a:off x="0" y="549360"/>
            <a:ext cx="896472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5266"/>
          <p:cNvPicPr/>
          <p:nvPr/>
        </p:nvPicPr>
        <p:blipFill>
          <a:blip r:embed="rId1"/>
          <a:stretch/>
        </p:blipFill>
        <p:spPr>
          <a:xfrm>
            <a:off x="395280" y="476280"/>
            <a:ext cx="3079800" cy="410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95280" y="333360"/>
            <a:ext cx="46911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882360" y="4743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03 - 18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4716360" y="47628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икол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хайл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Язы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933800" y="3141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52720" y="2637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086160" y="3789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7165800" y="4437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7886520" y="5157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«Пес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ему посвящена эта пес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ие строки воспринимаются как призы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ую мелодию бы вы предложили для этой пес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акие слова могут прозвучать очень торжественно и горд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80417-bgn-izstrany.mp3" descr=""/>
          <p:cNvPicPr/>
          <p:nvPr/>
        </p:nvPicPr>
        <p:blipFill>
          <a:blip r:embed="rId1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1107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«Пловец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аботаем с таблиц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ушаем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сн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стихи Язы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им лакуны в карточке-подска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шкин писал о Языков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С самого появления своего сей поэт удивляет нас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гн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ило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языка. Никто самовластнее его не владеет стихом и периодом. Кажется,  нет предмета, коего поэтическую сторону не мог бы он постигнуть и выразить живостью ему свойственною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егодня на урок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было интересно /ску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всё получилось/ не всё получи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трудно, но я справился (-лас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нужно будет ещё постар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что я узнал(а), мне ещё пригодится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6944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3:07:24Z</dcterms:created>
  <dc:creator>Наташа</dc:creator>
  <dc:description/>
  <dc:language>en-US</dc:language>
  <cp:lastModifiedBy>user</cp:lastModifiedBy>
  <dcterms:modified xsi:type="dcterms:W3CDTF">2012-12-19T05:41:37Z</dcterms:modified>
  <cp:revision>5</cp:revision>
  <dc:subject/>
  <dc:title>Слайд 1</dc:title>
</cp:coreProperties>
</file>