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D318-F791-4988-BB8D-6E71C6F2F3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F696-449D-41D8-98EC-2ECA50D87D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Но прежде чем говорить о них, необходимо уяснить само понятие «пушкинская пора». Если границы определять формально, то все поэты, писавшие в период жиз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А.С. Пушкина, 1799–1837, включаются в этот кр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854A-CD3E-4957-936D-2B268373C2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Составной частью понятия «пушкинская пора» является «пушкинская плеяда» — круг, включающий в себя поэтов, лично знавших А. С. Пушкина и близких ему по художественным взглядам. Здесь общение происходило как на творческом, так и на личностно-дружеском уровне. К поэтам «пушкинской плеяды» относятся А.А.Дельвиг, Е.А.Баратынский,, П.А.Вяземский,  Д. В. Давыдов, Н. М. Язы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A413-9362-4DF8-AD08-62E15847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B98D-3B5E-4D96-B0F1-84696F0A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0989-79DD-4E65-BB15-8B46EE51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9F7F-9B7E-445A-8090-10DF0650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430-7B9F-4CCE-96AC-994BE35F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CB60-E47A-4EFA-86E0-A0A9A659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DE34-647F-4C96-AD30-ABCE9952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F23A-7D7F-4050-BE6E-05150576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3FCD-9D05-4F73-855F-9098DE5A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E381-D37D-408B-B265-5EC34E79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89E6-41CE-4E6E-929D-4EE33F50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4572-548E-446F-A2B4-E40A377C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9ED2-BDC1-49E8-B771-506FA1F66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8;&#1088;&#1080;&#1086;%20&#1052;&#1077;&#1088;&#1080;&#1076;&#1080;&#1072;&#1085;%20&#1055;&#1083;&#1086;&#1074;&#1077;&#1094;.mp3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635280" y="260280"/>
            <a:ext cx="55087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Первая треть XIX века — период расцвета русской поэзии. Именно она, а не проза (это произойдет позднее) определяла развитие русской литерату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Вместе с А.С. Пушкиным творили его современники — поэты пушкинской по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664080" cy="4535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828960" cy="4176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158760" y="4600440"/>
            <a:ext cx="44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он Антонович Дельви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515040" cy="4680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2"/>
          <p:cNvSpPr/>
          <p:nvPr/>
        </p:nvSpPr>
        <p:spPr>
          <a:xfrm>
            <a:off x="3996720" y="765000"/>
            <a:ext cx="537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гений Абрамович Бораты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"/>
          <p:cNvPicPr/>
          <p:nvPr/>
        </p:nvPicPr>
        <p:blipFill>
          <a:blip r:embed="rId3"/>
          <a:stretch/>
        </p:blipFill>
        <p:spPr>
          <a:xfrm>
            <a:off x="539640" y="1341360"/>
            <a:ext cx="3824280" cy="51548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5"/>
          <p:cNvSpPr/>
          <p:nvPr/>
        </p:nvSpPr>
        <p:spPr>
          <a:xfrm>
            <a:off x="250920" y="69228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ётр Андреевич Вязем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"/>
          <p:cNvPicPr/>
          <p:nvPr/>
        </p:nvPicPr>
        <p:blipFill>
          <a:blip r:embed="rId4"/>
          <a:stretch/>
        </p:blipFill>
        <p:spPr>
          <a:xfrm>
            <a:off x="4716360" y="549360"/>
            <a:ext cx="4170600" cy="4824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7"/>
          <p:cNvSpPr/>
          <p:nvPr/>
        </p:nvSpPr>
        <p:spPr>
          <a:xfrm>
            <a:off x="4719600" y="5445000"/>
            <a:ext cx="45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нис Васильевич Давы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72320" cy="6429240"/>
          </a:xfrm>
          <a:prstGeom prst="rect">
            <a:avLst/>
          </a:prstGeom>
          <a:ln w="0">
            <a:noFill/>
          </a:ln>
        </p:spPr>
      </p:pic>
      <p:pic>
        <p:nvPicPr>
          <p:cNvPr id="61" name="pogud30.mp3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8207280" cy="6203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4"/>
          <a:stretch/>
        </p:blipFill>
        <p:spPr>
          <a:xfrm>
            <a:off x="179280" y="549360"/>
            <a:ext cx="8569440" cy="568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5"/>
          <a:srcRect l="0" t="1858" r="1720" b="2984"/>
          <a:stretch/>
        </p:blipFill>
        <p:spPr>
          <a:xfrm>
            <a:off x="0" y="549360"/>
            <a:ext cx="8964720" cy="5975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5266"/>
          <p:cNvPicPr/>
          <p:nvPr/>
        </p:nvPicPr>
        <p:blipFill>
          <a:blip r:embed="rId1"/>
          <a:stretch/>
        </p:blipFill>
        <p:spPr>
          <a:xfrm>
            <a:off x="395280" y="476280"/>
            <a:ext cx="3079800" cy="4105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95280" y="333360"/>
            <a:ext cx="469116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882360" y="474336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803 - 18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11"/>
          <p:cNvSpPr txBox="1"/>
          <p:nvPr/>
        </p:nvSpPr>
        <p:spPr>
          <a:xfrm>
            <a:off x="4716360" y="476280"/>
            <a:ext cx="3600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икола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хайлови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Язык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4933800" y="31417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8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852720" y="263700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8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6086160" y="37893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8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7165800" y="443700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8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7886520" y="51577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8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«Песн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Чему посвящена эта пес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Какие строки воспринимаются как призы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Какую мелодию бы вы предложили для этой пес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Какие слова могут прозвучать очень торжественно и горд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080417-bgn-izstrany.mp3" descr=""/>
          <p:cNvPicPr/>
          <p:nvPr/>
        </p:nvPicPr>
        <p:blipFill>
          <a:blip r:embed="rId1"/>
          <a:stretch/>
        </p:blipFill>
        <p:spPr>
          <a:xfrm>
            <a:off x="795672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04" dur="indefinite" restart="never" nodeType="tmRoot">
          <p:childTnLst>
            <p:seq>
              <p:cTn id="10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11079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«Пловец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аботаем с таблиц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ушаем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есн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стихи Язык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олним лакуны в карточке-подсказ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шкин писал о Языков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С самого появления своего сей поэт удивляет нас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гне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ило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языка. Никто самовластнее его не владеет стихом и периодом. Кажется,  нет предмета, коего поэтическую сторону не мог бы он постигнуть и выразить живостью ему свойственною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Сегодня на урок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 было интересно /ску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меня всё получилось/ не всё получил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ло трудно, но я справился (-лас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 нужно будет ещё постар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, что я узнал(а), мне ещё пригодится в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56944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3:07:24Z</dcterms:created>
  <dc:creator>Наташа</dc:creator>
  <dc:description/>
  <dc:language>en-US</dc:language>
  <cp:lastModifiedBy>user</cp:lastModifiedBy>
  <dcterms:modified xsi:type="dcterms:W3CDTF">2012-12-19T05:41:37Z</dcterms:modified>
  <cp:revision>5</cp:revision>
  <dc:subject/>
  <dc:title>Слайд 1</dc:title>
</cp:coreProperties>
</file>