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9FC-F9B9-4092-A90C-7DE97F72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2F-8CD2-435B-A27A-4920DB27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7A9-E2B3-4373-BB64-2BB8A8C4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C92-00A5-448C-BD15-7929D85C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761-2510-471B-A4C9-29DA8220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A1F-5D82-4BDE-8F04-36F5B9E3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F4B-A74D-48B8-8CC2-F38AEF19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C23-3FB7-45E0-AA62-A8F14D3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0F6-8B34-4DD4-982E-23C10F4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04E-EEE1-48C3-B021-180A3BE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10A-2BF3-4857-9435-0AE3CA5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75F-8438-4D0E-A880-4B563363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B945-DFBD-4823-97CC-9CFD8A748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57200" y="4572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РОК ПОВТОРЕНИЯ, ЗАКРЕПЛЕНИЯ, ОБОБЩЕНИЯ  И ПОДГОТОВКИ К КОНТРОЛЬНОЙ РАБОТЕ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 ТЕМЕ: «НЕМЕТАЛ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380880" y="4114800"/>
            <a:ext cx="1832040" cy="2462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66040" y="4114800"/>
            <a:ext cx="50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шановская Евген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 8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3149640" y="228600"/>
            <a:ext cx="1477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K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aH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a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P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(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)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Ba(N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)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Дарья\AppData\Local\Microsoft\Windows\Temporary Internet Files\Content.IE5\5LD4DJP4\MC900370140[1].wmf"/>
          <p:cNvPicPr/>
          <p:nvPr/>
        </p:nvPicPr>
        <p:blipFill>
          <a:blip r:embed="rId1"/>
          <a:stretch/>
        </p:blipFill>
        <p:spPr>
          <a:xfrm>
            <a:off x="304920" y="228600"/>
            <a:ext cx="1739880" cy="18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094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айте названия данным соединениям и проставьте в них степени окисления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21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04920" y="0"/>
            <a:ext cx="869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 каким из веществ вступит в реакцию фосфорная кисл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Б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Хлорид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Углекислый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Нитрат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56680" y="1828800"/>
            <a:ext cx="594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 какими из веществ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не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ступит в реа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аствор серной кисл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т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я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тр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сф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л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бонат амм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хлор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6858000" y="4038480"/>
            <a:ext cx="183204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04920" y="60948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астворе какого вещества метиловый оранжевый окрашивается в желтый ц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дроксид л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трат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астворе какого вещества лакмус окрашивается в красный ц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дроксид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бонат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лоро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6934320" y="1523880"/>
            <a:ext cx="1831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838080" y="53352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каких рядах химические элементы расположены в порядке уменьшения кислотных свойств их высших окс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р---углерод---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сфор—мышьяк—сур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рманий---кремний---угле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лор---бром---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сфор---сера---х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ьций---магний---берил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а---кремний---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28600" y="12193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названием вещества и реагентами, с которыми оно может вступать в реа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гний                           сульфид натрия, сульфат меди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        углекислый газ,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бария         серная кислота, 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сфорная кислота    соляная кислота, 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трат свинц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       гидроксид натрия, хлорид каль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62120" y="228600"/>
            <a:ext cx="7772400" cy="70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оставить уравнения реа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бонат аммония + 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льфид аммония + гидроксид л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сид азота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+ гидроксид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ммиак + серо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сид серы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+ гидроксид л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4572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существите цепочку превращ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80880" y="24382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миак---оксид азот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оксид азот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lV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зотная кислота---нитрат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идроксид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сульфат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457200" y="411480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09480" y="304920"/>
            <a:ext cx="7848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ЕШИТЕ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пределите массу осадочного продукта, е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итрат меди(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) реагирует с 600 г 50%-ного раствора гидроксида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304920" y="4191120"/>
            <a:ext cx="18316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37:23Z</dcterms:created>
  <dc:creator>Дарья</dc:creator>
  <dc:description/>
  <dc:language>en-US</dc:language>
  <cp:lastModifiedBy>Дарья</cp:lastModifiedBy>
  <dcterms:modified xsi:type="dcterms:W3CDTF">2013-02-06T14:48:35Z</dcterms:modified>
  <cp:revision>9</cp:revision>
  <dc:subject/>
  <dc:title>Слайд 1</dc:title>
</cp:coreProperties>
</file>