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E1A7-3FC2-414F-818D-6B563D9EC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62DF-C2CB-4268-87E3-2B4E5123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DF7B-99F6-4FC6-8473-3EAB07250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E898-4542-4FD4-BF22-4CE2567DD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775F-87C2-4806-B94D-5DE33D4B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8AC8-3059-44ED-87DC-A6971F78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59DB-277F-4C74-A694-C479E56A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7116-1949-422D-8C0B-FC1FAD68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0116-B555-4CB4-95AF-8E4FBA11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A2CE-881C-4735-8316-8A742296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96F3-A63B-47C7-9850-E09BE005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3094-90B3-4CC1-A35E-0DA97521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32C3-F7B2-4A5D-AFF2-88ED4D31E3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457200" y="457200"/>
            <a:ext cx="8229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УРОК ПОВТОРЕНИЯ, ЗАКРЕПЛЕНИЯ, ОБОБЩЕНИЯ  И ПОДГОТОВКИ К КОНТРОЛЬНОЙ РАБОТЕ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ПО ТЕМЕ: «НЕМЕТАЛЛ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Users\Дарья\AppData\Local\Microsoft\Windows\Temporary Internet Files\Content.IE5\Y4J1TB1Z\MC900280936[2].wmf"/>
          <p:cNvPicPr/>
          <p:nvPr/>
        </p:nvPicPr>
        <p:blipFill>
          <a:blip r:embed="rId1"/>
          <a:stretch/>
        </p:blipFill>
        <p:spPr>
          <a:xfrm>
            <a:off x="7010280" y="4191120"/>
            <a:ext cx="1832040" cy="2462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Users\Дарья\AppData\Local\Microsoft\Windows\Temporary Internet Files\Content.IE5\Y4J1TB1Z\MC900280936[2].wmf"/>
          <p:cNvPicPr/>
          <p:nvPr/>
        </p:nvPicPr>
        <p:blipFill>
          <a:blip r:embed="rId2"/>
          <a:stretch/>
        </p:blipFill>
        <p:spPr>
          <a:xfrm>
            <a:off x="380880" y="4114800"/>
            <a:ext cx="1832040" cy="24620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066040" y="4114800"/>
            <a:ext cx="50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ршановская Евгения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БОУ СОШ № 8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род 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4"/>
          <p:cNvSpPr/>
          <p:nvPr/>
        </p:nvSpPr>
        <p:spPr>
          <a:xfrm>
            <a:off x="3149640" y="228600"/>
            <a:ext cx="14778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3152"/>
                </a:solidFill>
                <a:latin typeface="Calibri"/>
              </a:rPr>
              <a:t>NH</a:t>
            </a: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3152"/>
                </a:solidFill>
                <a:latin typeface="Calibri"/>
              </a:rPr>
              <a:t>K</a:t>
            </a: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403152"/>
                </a:solidFill>
                <a:latin typeface="Calibri"/>
              </a:rPr>
              <a:t>CO</a:t>
            </a: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3152"/>
                </a:solidFill>
                <a:latin typeface="Calibri"/>
              </a:rPr>
              <a:t>CO</a:t>
            </a: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3152"/>
                </a:solidFill>
                <a:latin typeface="Calibri"/>
              </a:rPr>
              <a:t>NaHCO</a:t>
            </a: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3152"/>
                </a:solidFill>
                <a:latin typeface="Calibri"/>
              </a:rPr>
              <a:t>Na</a:t>
            </a: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403152"/>
                </a:solidFill>
                <a:latin typeface="Calibri"/>
              </a:rPr>
              <a:t>PO</a:t>
            </a: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3152"/>
                </a:solidFill>
                <a:latin typeface="Calibri"/>
              </a:rPr>
              <a:t>(NH</a:t>
            </a: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4</a:t>
            </a:r>
            <a:r>
              <a:rPr b="1" lang="en-US" sz="2400" spc="-1" strike="noStrike">
                <a:solidFill>
                  <a:srgbClr val="403152"/>
                </a:solidFill>
                <a:latin typeface="Calibri"/>
              </a:rPr>
              <a:t>)</a:t>
            </a: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403152"/>
                </a:solidFill>
                <a:latin typeface="Calibri"/>
              </a:rPr>
              <a:t>CO</a:t>
            </a: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3152"/>
                </a:solidFill>
                <a:latin typeface="Calibri"/>
              </a:rPr>
              <a:t>CH</a:t>
            </a: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3152"/>
                </a:solidFill>
                <a:latin typeface="Calibri"/>
              </a:rPr>
              <a:t>Ba(NO</a:t>
            </a: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403152"/>
                </a:solidFill>
                <a:latin typeface="Calibri"/>
              </a:rPr>
              <a:t>)</a:t>
            </a: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3152"/>
                </a:solidFill>
                <a:latin typeface="Calibri"/>
              </a:rPr>
              <a:t>NH</a:t>
            </a:r>
            <a:r>
              <a:rPr b="1" lang="en-US" sz="1800" spc="-1" strike="noStrike">
                <a:solidFill>
                  <a:srgbClr val="403152"/>
                </a:solidFill>
                <a:latin typeface="Calibri"/>
              </a:rPr>
              <a:t>4</a:t>
            </a:r>
            <a:r>
              <a:rPr b="1" lang="en-US" sz="2400" spc="-1" strike="noStrike">
                <a:solidFill>
                  <a:srgbClr val="403152"/>
                </a:solidFill>
                <a:latin typeface="Calibri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Users\Дарья\AppData\Local\Microsoft\Windows\Temporary Internet Files\Content.IE5\5LD4DJP4\MC900370140[1].wmf"/>
          <p:cNvPicPr/>
          <p:nvPr/>
        </p:nvPicPr>
        <p:blipFill>
          <a:blip r:embed="rId1"/>
          <a:stretch/>
        </p:blipFill>
        <p:spPr>
          <a:xfrm>
            <a:off x="304920" y="228600"/>
            <a:ext cx="1739880" cy="183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Users\Дарья\AppData\Local\Microsoft\Windows\Temporary Internet Files\Content.IE5\Y4J1TB1Z\MC900280936[2].wmf"/>
          <p:cNvPicPr/>
          <p:nvPr/>
        </p:nvPicPr>
        <p:blipFill>
          <a:blip r:embed="rId2"/>
          <a:stretch/>
        </p:blipFill>
        <p:spPr>
          <a:xfrm>
            <a:off x="7010280" y="4191120"/>
            <a:ext cx="1832040" cy="246204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609480" y="1981080"/>
            <a:ext cx="769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Дайте названия данным соединениям и проставьте в них степени окисления элеме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xit" presetID="21" presetSubtype="4">
                                  <p:stCondLst>
                                    <p:cond delay="55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7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95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304920" y="0"/>
            <a:ext cx="869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 каким из веществ вступит в реакцию фосфорная кисло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3152"/>
                </a:solidFill>
                <a:latin typeface="Calibri"/>
              </a:rPr>
              <a:t>Ба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3152"/>
                </a:solidFill>
                <a:latin typeface="Calibri"/>
              </a:rPr>
              <a:t>Хлорид на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3152"/>
                </a:solidFill>
                <a:latin typeface="Calibri"/>
              </a:rPr>
              <a:t>Углекислый г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3152"/>
                </a:solidFill>
                <a:latin typeface="Calibri"/>
              </a:rPr>
              <a:t>Нитрат б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256680" y="1828800"/>
            <a:ext cx="5949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 какими из веществ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не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вступит в реакц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раствор серной кисл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т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ксид ка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идроксид железа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ляная 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итрат каль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оло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осфат ка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идроксид л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рбонат аммо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ксид хлора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ll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Users\Дарья\AppData\Local\Microsoft\Windows\Temporary Internet Files\Content.IE5\Y4J1TB1Z\MC900280936[2].wmf"/>
          <p:cNvPicPr/>
          <p:nvPr/>
        </p:nvPicPr>
        <p:blipFill>
          <a:blip r:embed="rId1"/>
          <a:stretch/>
        </p:blipFill>
        <p:spPr>
          <a:xfrm>
            <a:off x="6858000" y="4038480"/>
            <a:ext cx="183204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304920" y="609480"/>
            <a:ext cx="88390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 растворе какого вещества метиловый оранжевый окрашивается в желтый ц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идроксид л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итрат нат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еровод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 растворе какого вещества лакмус окрашивается в красный ц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идроксид нат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рбонат каль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лоровод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Users\Дарья\AppData\Local\Microsoft\Windows\Temporary Internet Files\Content.IE5\Y4J1TB1Z\MC900280936[2].wmf"/>
          <p:cNvPicPr/>
          <p:nvPr/>
        </p:nvPicPr>
        <p:blipFill>
          <a:blip r:embed="rId1"/>
          <a:stretch/>
        </p:blipFill>
        <p:spPr>
          <a:xfrm>
            <a:off x="6934320" y="1523880"/>
            <a:ext cx="183168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838080" y="533520"/>
            <a:ext cx="7391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 каких рядах химические элементы расположены в порядке уменьшения кислотных свойств их высших оксид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ор---углерод---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осфор—мышьяк—сурь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ерманий---кремний---угле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лор---бром---и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осфор---сера---хл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льций---магний---берилл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ера---кремний---алюми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228600" y="1219320"/>
            <a:ext cx="86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Установите соответствие между названием вещества и реагентами, с которыми оно может вступать в реакц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гний                           сульфид натрия, сульфат меди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ксид железа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          углекислый газ, 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идроксид бария         серная кислота, оксид железа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ll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осфорная кислота    соляная кислота, алюми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итрат свинца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         гидроксид натрия, хлорид каль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Дарья\AppData\Local\Microsoft\Windows\Temporary Internet Files\Content.IE5\Y4J1TB1Z\MC900280936[2].wmf"/>
          <p:cNvPicPr/>
          <p:nvPr/>
        </p:nvPicPr>
        <p:blipFill>
          <a:blip r:embed="rId1"/>
          <a:stretch/>
        </p:blipFill>
        <p:spPr>
          <a:xfrm>
            <a:off x="7086600" y="4191120"/>
            <a:ext cx="183204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5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8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1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4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7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0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3" dur="2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762120" y="228600"/>
            <a:ext cx="7772400" cy="70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Составить уравнения реакц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рбонат аммония + серная кисл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льфид аммония + гидроксид л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ксид азота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) + гидроксид на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ммиак + серовод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ксид серы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V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) + гидроксид л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Users\Дарья\AppData\Local\Microsoft\Windows\Temporary Internet Files\Content.IE5\Y4J1TB1Z\MC900280936[2].wmf"/>
          <p:cNvPicPr/>
          <p:nvPr/>
        </p:nvPicPr>
        <p:blipFill>
          <a:blip r:embed="rId1"/>
          <a:stretch/>
        </p:blipFill>
        <p:spPr>
          <a:xfrm>
            <a:off x="7086600" y="4191120"/>
            <a:ext cx="183204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457200" y="45720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Осуществите цепочку превращен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380880" y="2438280"/>
            <a:ext cx="853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Аммиак---оксид азота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(ll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)---оксид азота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(lV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)---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---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азотная кислота---нитрат меди(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)---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гидроксид меди(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)---сульфат меди(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)---ме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Users\Дарья\AppData\Local\Microsoft\Windows\Temporary Internet Files\Content.IE5\Y4J1TB1Z\MC900280936[2].wmf"/>
          <p:cNvPicPr/>
          <p:nvPr/>
        </p:nvPicPr>
        <p:blipFill>
          <a:blip r:embed="rId1"/>
          <a:stretch/>
        </p:blipFill>
        <p:spPr>
          <a:xfrm>
            <a:off x="7086600" y="4191120"/>
            <a:ext cx="1832040" cy="2462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Дарья\AppData\Local\Microsoft\Windows\Temporary Internet Files\Content.IE5\Y4J1TB1Z\MC900280936[2].wmf"/>
          <p:cNvPicPr/>
          <p:nvPr/>
        </p:nvPicPr>
        <p:blipFill>
          <a:blip r:embed="rId2"/>
          <a:stretch/>
        </p:blipFill>
        <p:spPr>
          <a:xfrm>
            <a:off x="457200" y="4114800"/>
            <a:ext cx="183204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609480" y="304920"/>
            <a:ext cx="784872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РЕШИТЕ ЗАДА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Определите массу осадочного продукта, ес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нитрат меди(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) реагирует с 600 г 50%-ного раствора гидроксида кал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Users\Дарья\AppData\Local\Microsoft\Windows\Temporary Internet Files\Content.IE5\Y4J1TB1Z\MC900280936[2].wmf"/>
          <p:cNvPicPr/>
          <p:nvPr/>
        </p:nvPicPr>
        <p:blipFill>
          <a:blip r:embed="rId1"/>
          <a:stretch/>
        </p:blipFill>
        <p:spPr>
          <a:xfrm>
            <a:off x="7010280" y="4191120"/>
            <a:ext cx="1832040" cy="2462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Дарья\AppData\Local\Microsoft\Windows\Temporary Internet Files\Content.IE5\Y4J1TB1Z\MC900280936[2].wmf"/>
          <p:cNvPicPr/>
          <p:nvPr/>
        </p:nvPicPr>
        <p:blipFill>
          <a:blip r:embed="rId2"/>
          <a:stretch/>
        </p:blipFill>
        <p:spPr>
          <a:xfrm>
            <a:off x="304920" y="4191120"/>
            <a:ext cx="183168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08:37:23Z</dcterms:created>
  <dc:creator>Дарья</dc:creator>
  <dc:description/>
  <dc:language>en-US</dc:language>
  <cp:lastModifiedBy>Дарья</cp:lastModifiedBy>
  <dcterms:modified xsi:type="dcterms:W3CDTF">2013-02-06T14:48:35Z</dcterms:modified>
  <cp:revision>9</cp:revision>
  <dc:subject/>
  <dc:title>Слайд 1</dc:title>
</cp:coreProperties>
</file>