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5A3-7E55-4E20-95BB-82A59EA5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70A-455D-4C0B-AA1B-A0D97368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5C6-ED8B-4511-A3F0-802B66C2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0B3-962C-4495-9A96-877387F6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A0A-5E6A-498E-ADAB-C36917E5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1CD-4463-4D43-94A5-F2E929B9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AD1-7E18-40B6-964E-5F304EA9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D17-7253-4FBA-B7A7-3BED1E98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CB8-E85F-46F5-A40F-27FF9122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DFC-488D-4CE5-9C97-648FBAA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61B-729B-4CCD-88E0-20D2DCD3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D03-2676-4140-B190-D983A97D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22FA-E191-4AB1-8F88-3DF8F092B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000" y="43498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f5f5f"/>
                </a:solidFill>
                <a:latin typeface="Comic Sans MS"/>
              </a:rPr>
              <a:t>Я</a:t>
            </a:r>
            <a:r>
              <a:rPr b="1" lang="en-US" sz="8000" spc="-1" strike="noStrike">
                <a:solidFill>
                  <a:srgbClr val="009900"/>
                </a:solidFill>
                <a:latin typeface="Comic Sans MS"/>
              </a:rPr>
              <a:t>ГО</a:t>
            </a:r>
            <a:r>
              <a:rPr b="1" lang="en-US" sz="8000" spc="-1" strike="noStrike">
                <a:solidFill>
                  <a:srgbClr val="00ff00"/>
                </a:solidFill>
                <a:latin typeface="Comic Sans MS"/>
              </a:rPr>
              <a:t>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60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42920" y="30168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М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Д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БЕ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Л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2560" y="15732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М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Д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Н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5640" y="18900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О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25800" y="33336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5440" y="571680"/>
            <a:ext cx="56862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5800" y="4428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8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5800" y="33336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25800" y="-2700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25800" y="-10008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44280"/>
            <a:ext cx="51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06560" y="11592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А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80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91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6560" y="-10008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М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22:07:01Z</dcterms:created>
  <dc:creator>Alex.au</dc:creator>
  <dc:description/>
  <dc:language>en-US</dc:language>
  <cp:lastModifiedBy>Alex.au</cp:lastModifiedBy>
  <dcterms:modified xsi:type="dcterms:W3CDTF">2006-04-23T22:07:11Z</dcterms:modified>
  <cp:revision>1</cp:revision>
  <dc:subject/>
  <dc:title>Слайд 1</dc:title>
</cp:coreProperties>
</file>