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7B7-0465-4DE2-A8CC-48FB43CB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B6FD-EE0E-462B-8DD9-8722B545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22F-2761-40DE-ABC5-954CCF3E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530-E872-46B9-BE45-FA42AB0B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76A-B926-435A-A9B3-71D91984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E2E4-19FB-4CA4-88F2-B50E934B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E791-5F64-4EE3-BE48-4BB80FE3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0D7-CACE-44B7-A1BD-30D26330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F6BD-5F5E-42B0-82F9-50911356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FDF2-A1F0-425A-B746-52D839A8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BAA7-F3D7-40B0-9DF0-4E7062F2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AE9-EE94-46E5-8635-C76F9686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6b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EDFB-7990-43B1-8524-C8E04A1EC2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836640"/>
            <a:ext cx="561672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ВОКРУГ ЗЕМЛ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Ю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71280" y="5373360"/>
            <a:ext cx="4038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так живут в жарких, южных стра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4038480" cy="37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925720"/>
            <a:ext cx="9144000" cy="3932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57800" y="1844640"/>
            <a:ext cx="426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ЗЕМЛЯН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836640"/>
            <a:ext cx="75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нашей планете живут разные люди разного цве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все мы должны дружить, чтобы сохранить нашу планету цвету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45">
                                  <p:stCondLst>
                                    <p:cond delay="4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600"/>
                            </p:stCondLst>
                            <p:childTnLst>
                              <p:par>
                                <p:cTn id="350" nodeType="afterEffect" fill="hold" presetClass="emph" presetID="35" repeatCount="1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КОНЕ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4996080" cy="4937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53800" y="549360"/>
            <a:ext cx="309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372360" y="1844640"/>
            <a:ext cx="2016000" cy="1874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00720" y="393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ЕМЛЯ постоянно вертится вокруг себ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5800" y="90792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ы живем на план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6000" y="4941720"/>
            <a:ext cx="3176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наша планета выглядит из косм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Земле шесть материков - частей суши, а большую часть земли покрывает Оке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80" y="836640"/>
            <a:ext cx="270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атер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360" y="5877000"/>
            <a:ext cx="17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ке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1557360"/>
            <a:ext cx="2890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162864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68360" y="1557360"/>
            <a:ext cx="2590920" cy="26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1557360"/>
            <a:ext cx="2592360" cy="1511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79640" y="4652640"/>
            <a:ext cx="1655640" cy="1584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1115640" y="3860640"/>
            <a:ext cx="360360" cy="216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6b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71640" y="0"/>
            <a:ext cx="7283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КАРТА МИ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3480" y="189000"/>
            <a:ext cx="61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ЕВЕРНАЯ АМЕ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360" y="620640"/>
            <a:ext cx="4235400" cy="3745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84360" y="6237360"/>
            <a:ext cx="820872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9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3.05556E-006 4.21965E-006 L 0.26632 0.1889 E">
                                      <p:cBhvr>
                                        <p:cTn id="127" dur="18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26632 0.1889 L -0.00139 4.21965E-006 E">
                                      <p:cBhvr>
                                        <p:cTn id="139" dur="19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6b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338560" y="189000"/>
            <a:ext cx="528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ЮЖНАЯ АМЕ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68360" y="3860640"/>
            <a:ext cx="1440000" cy="2592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84360" y="6237360"/>
            <a:ext cx="820872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1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63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3.88889E-006 -2.65896E-006 L 0.19687 -0.15722 E">
                                      <p:cBhvr>
                                        <p:cTn id="16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3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170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19687 -0.15722 L 3.88889E-006 0.00023 E">
                                      <p:cBhvr>
                                        <p:cTn id="17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17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6b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51280" y="3090960"/>
            <a:ext cx="2143080" cy="2549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784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64720" y="836640"/>
            <a:ext cx="24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Ф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84360" y="6237360"/>
            <a:ext cx="820872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93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9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1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6b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941640" y="577800"/>
            <a:ext cx="5129280" cy="3848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132360" y="260280"/>
            <a:ext cx="28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ЕВР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84360" y="6237360"/>
            <a:ext cx="820872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2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600"/>
                            </p:stCondLst>
                            <p:childTnLst>
                              <p:par>
                                <p:cTn id="2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06358E-006 L -0.18004 0.13503 E">
                                      <p:cBhvr>
                                        <p:cTn id="233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600"/>
                            </p:stCondLst>
                            <p:childTnLst>
                              <p:par>
                                <p:cTn id="235" nodeType="afterEffect" fill="hold" presetClass="path" presetID="56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18004 0.13503 L 0.00121 -0.00138 E">
                                      <p:cBhvr>
                                        <p:cTn id="23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38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9">
                                  <p:stCondLst>
                                    <p:cond delay="2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8600"/>
                            </p:stCondLst>
                            <p:childTnLst>
                              <p:par>
                                <p:cTn id="2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6b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191360" y="4537080"/>
            <a:ext cx="1749600" cy="1363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627280" y="1484280"/>
            <a:ext cx="359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ВСТРА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84360" y="6237360"/>
            <a:ext cx="820872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11022E-016 L -0.37431 -0.17665 E">
                                      <p:cBhvr>
                                        <p:cTn id="26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path" presetID="49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37431 -0.17665 L -0.00417 0.00162 E">
                                      <p:cBhvr>
                                        <p:cTn id="27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19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77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6b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7640" y="155700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НТАРКТ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6237360"/>
            <a:ext cx="820872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15607E-006 L -0.00781 -0.42821 E">
                                      <p:cBhvr>
                                        <p:cTn id="29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42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781 -0.42821 L -1.11111E-006 0.00162 E">
                                      <p:cBhvr>
                                        <p:cTn id="30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408720" cy="3119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27280" y="3330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СЕВЕ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00360" y="54450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 живут люди на севере, в снежных стра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00:59Z</dcterms:created>
  <dc:creator>User</dc:creator>
  <dc:description/>
  <dc:language>en-US</dc:language>
  <cp:lastModifiedBy>User</cp:lastModifiedBy>
  <dcterms:modified xsi:type="dcterms:W3CDTF">2006-04-24T18:50:13Z</dcterms:modified>
  <cp:revision>30</cp:revision>
  <dc:subject/>
  <dc:title>ПО  КОНТЕНЕНТАМ</dc:title>
</cp:coreProperties>
</file>