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CAF-6531-45D0-9D00-3D82B51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BDC-1031-4B11-BC46-CBE8542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BD6-3E27-4FB4-9FE7-E7012A69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FC5-D9CE-4F60-A302-7B807891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C16-B3D8-4BA6-A7AE-C4B98C63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6F1-2115-40BD-AA1A-E376CD57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498-C879-42FA-BC7D-039C41F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AAE-0669-4DDE-90FC-EF81CC6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2EC-F6D1-4511-A0FB-4BB29BF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56B-5400-4604-BE0F-80AC91C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FCE-246E-4B6D-8955-3316AEF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8C4-8B67-467F-A153-B039E15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BEF8-39A6-4598-A563-9C9C508A4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561672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ВОКРУГ ЗЕМЛ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Ю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71280" y="5373360"/>
            <a:ext cx="40388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 живут в жарких, южны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03848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92572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57800" y="1844640"/>
            <a:ext cx="426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ЗЕМЛЯН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836640"/>
            <a:ext cx="75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ашей планете живут разные люди разного ц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се мы должны дружить, чтобы сохранить нашу планету цвету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00"/>
                            </p:stCondLst>
                            <p:childTnLst>
                              <p:par>
                                <p:cTn id="350" nodeType="afterEffect" fill="hold" presetClass="emph" presetID="35" repeatCount="1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c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996080" cy="493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53800" y="549360"/>
            <a:ext cx="309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016000" cy="1874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00720" y="393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 постоянно вертится вокруг себ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5800" y="907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живем на пла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4941720"/>
            <a:ext cx="3176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наша планета выглядит из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емле шесть материков - частей суши, а большую часть земли покрывает Оке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0" y="836640"/>
            <a:ext cx="27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360" y="5877000"/>
            <a:ext cx="17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55736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62864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1557360"/>
            <a:ext cx="259092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1557360"/>
            <a:ext cx="2592360" cy="1511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79640" y="4652640"/>
            <a:ext cx="1655640" cy="158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115640" y="3860640"/>
            <a:ext cx="360360" cy="216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71640" y="0"/>
            <a:ext cx="7283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АРТА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18900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360" y="620640"/>
            <a:ext cx="4235400" cy="3745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05556E-006 4.21965E-006 L 0.26632 0.1889 E">
                                      <p:cBhvr>
                                        <p:cTn id="127" dur="18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6632 0.1889 L -0.00139 4.21965E-006 E">
                                      <p:cBhvr>
                                        <p:cTn id="139" dur="19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38560" y="189000"/>
            <a:ext cx="52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ЮЖ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1440000" cy="259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88889E-006 -2.65896E-006 L 0.19687 -0.15722 E">
                                      <p:cBhvr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3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9687 -0.15722 L 3.88889E-006 0.00023 E"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090960"/>
            <a:ext cx="2143080" cy="254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7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836640"/>
            <a:ext cx="24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41640" y="577800"/>
            <a:ext cx="512928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32360" y="260280"/>
            <a:ext cx="28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В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60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06358E-006 L -0.18004 0.13503 E">
                                      <p:cBhvr>
                                        <p:cTn id="23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600"/>
                            </p:stCondLst>
                            <p:childTnLst>
                              <p:par>
                                <p:cTn id="235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8004 0.13503 L 0.00121 -0.00138 E">
                                      <p:cBhvr>
                                        <p:cTn id="2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6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191360" y="4537080"/>
            <a:ext cx="1749600" cy="136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27280" y="1484280"/>
            <a:ext cx="359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022E-016 L -0.37431 -0.17665 E">
                                      <p:cBhvr>
                                        <p:cTn id="2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path" presetID="49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37431 -0.17665 L -0.00417 0.00162 E">
                                      <p:cBhvr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6b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1557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6237360"/>
            <a:ext cx="820872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5607E-006 L -0.00781 -0.42821 E">
                                      <p:cBhvr>
                                        <p:cTn id="29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81 -0.42821 L -1.11111E-006 0.00162 E">
                                      <p:cBhvr>
                                        <p:cTn id="30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408720" cy="3119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ЕВ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360" y="54450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живут люди на севере, в снежны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00:59Z</dcterms:created>
  <dc:creator>User</dc:creator>
  <dc:description/>
  <dc:language>en-US</dc:language>
  <cp:lastModifiedBy>User</cp:lastModifiedBy>
  <dcterms:modified xsi:type="dcterms:W3CDTF">2006-04-24T18:50:13Z</dcterms:modified>
  <cp:revision>30</cp:revision>
  <dc:subject/>
  <dc:title>ПО  КОНТЕНЕНТАМ</dc:title>
</cp:coreProperties>
</file>