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3EB-4363-48A4-B723-608DABE7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5B0-197F-4872-805C-33F29297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4C7-DFF9-4917-B911-B311EB15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39E-ADF8-418C-8AD6-CFD4EA03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81505-E222-400D-B6B1-56A5428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DA44B-4105-4E8B-AC5A-8BDFC2F3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5C59C-CA84-4131-97BD-F6733882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8F8A3-FCB6-432D-BE4F-B97AB826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56D6-88E2-4B52-ABC5-0EB8A108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7EAA-61FD-45D4-B155-73B314A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4D75-E7AC-42F9-89E6-DA3E236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3D0-249C-4D80-A1BB-9D34E30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752D7-D975-4EC0-BB49-DB2E2F3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9263-8A70-47FA-B819-737A17B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62B9-A0F0-4628-86E8-517B5C7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101F-9F05-46E1-A79F-0DF2C620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B7BCF-F687-4179-8018-00D3F2CA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555-2CF8-4C37-BA91-387496E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57A-6F82-4045-A4CB-21475B2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0B3-8D37-479A-915B-F84788B2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AAA-0D78-465E-B74F-81D9996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38A-24B2-481A-8AD8-9D275AE4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57C-6515-47A7-891D-D3B2C0D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B92-75A6-46C3-B72F-B83D4D21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69A-D1C6-48D2-B23F-A1C810121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83F-95A4-458D-8991-879607850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Юго-Восточный административный окру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сударствен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Школа № 1987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19520" y="1447560"/>
            <a:ext cx="3581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 Р О Е К Т 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666880"/>
            <a:ext cx="4114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5105520"/>
            <a:ext cx="38862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уководитель: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рищенко Н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сполнитель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Ученик 4 «А» класс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Штыркин  В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438280"/>
            <a:ext cx="6705720" cy="1600200"/>
          </a:xfrm>
          <a:custGeom>
            <a:avLst/>
            <a:gdLst>
              <a:gd name="textAreaLeft" fmla="*/ 1676520 w 6705720"/>
              <a:gd name="textAreaRight" fmla="*/ 5029560 w 670572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рские дельф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129800">
            <a:off x="380880" y="4952520"/>
            <a:ext cx="20923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E9342-E89D-4C85-9648-5EA2A492A0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Обыкновенный дельфин, или дельфин-белобоч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BF7-19F8-453A-B17B-E73C951E1E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Ф А Л И Н 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986-9CF0-49BC-8F06-0A0B97B60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нее очень крупный моз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фалины очень дружелюбны, оказывают друг другу помощ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гатый вокальный репертуа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гко переносит неволю, хорошо поддается дрессировке, обучается трюк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2012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 Ф А Л И Н 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124080"/>
            <a:ext cx="5943600" cy="7621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сутки Афалина поедает около 16 кг.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114800"/>
            <a:ext cx="7162920" cy="8380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орость до 40 км/час, выпрыгивает на высоту до 5 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181480"/>
            <a:ext cx="8686800" cy="121932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ят Афалины у поверхности воды обычно ночью, а днем  после кормеж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иодически открывая веки на 1-2 секунды и закрывая их на 15-3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 спящих дельфинов поочередно спит одно полушар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ругое в это время бодр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6A2-BC16-4CFC-BA87-534DD12B4E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тог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так, дельфины – веселые, дружественные по отношению к человеку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умные морские живот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льфины любят классическую музыку, звуки флейты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меют чувство коллектив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роме морских дельфинов, известны пресноводные виды, например, южно-американский   дельфин, живущий в Амазон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этому следующим направлением исследований будут речные дельфи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написания проекта   использовал детские энциклопедии,  Интерн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СПАСИБО ЗА ВНИМАНИ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581280"/>
            <a:ext cx="838188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Существует поверье, что если хоть один раз дотронуться до дельфи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о всю оставшуюся жизнь ты будешь очень счастл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7920"/>
            <a:ext cx="9144000" cy="1295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В древности говорили, что «…среди всех живых существ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созданных до сего времени, нет никого божественнее дельфинов, ведь они в свое врем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были людьми и жили вместе с другими в городах, пока по капризу бога Диониса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не поменяли сушу на море и не приняли образ рыбы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36E-3243-4BF0-AA1E-57207EF3CC1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9520" y="175212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ель  данного проекта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узнать больше о жизни                                         морских дельфинов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этого решены следующи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ификация дельфи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ологические парамет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еда обит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вида дельфина «Афали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1522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Дельфины очищают и сознание, и души людей»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          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CDD-253A-43BC-99BC-28A0BF8144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льфины относятся к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лекопитающим  или позвоночным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се эти признаки указывают на то, что дельфины относятся к млекопитающи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28800"/>
            <a:ext cx="4114800" cy="1600200"/>
          </a:xfrm>
          <a:prstGeom prst="downArrowCallout">
            <a:avLst>
              <a:gd name="adj1" fmla="val 64291"/>
              <a:gd name="adj2" fmla="val 64286"/>
              <a:gd name="adj3" fmla="val 16667"/>
              <a:gd name="adj4" fmla="val 6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положим – это позвоночны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505320"/>
            <a:ext cx="4191120" cy="1523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ышат жаб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 выкармливают потомство мол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1219320"/>
            <a:ext cx="4267440" cy="1600200"/>
          </a:xfrm>
          <a:prstGeom prst="downArrowCallout">
            <a:avLst>
              <a:gd name="adj1" fmla="val 66676"/>
              <a:gd name="adj2" fmla="val 66670"/>
              <a:gd name="adj3" fmla="val 16667"/>
              <a:gd name="adj4" fmla="val 6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пустим – это млекопитающ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124080"/>
            <a:ext cx="4191120" cy="2286000"/>
          </a:xfrm>
          <a:prstGeom prst="downArrowCallout">
            <a:avLst>
              <a:gd name="adj1" fmla="val 45839"/>
              <a:gd name="adj2" fmla="val 45835"/>
              <a:gd name="adj3" fmla="val 16667"/>
              <a:gd name="adj4" fmla="val 6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меют развитый моз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ышат легк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ыкармливают потомство мол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Заботятся о потом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45720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0"/>
            <a:ext cx="1981440" cy="838080"/>
          </a:xfrm>
          <a:prstGeom prst="cloudCallout">
            <a:avLst>
              <a:gd name="adj1" fmla="val -64421"/>
              <a:gd name="adj2" fmla="val 3882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теза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5F2-C8E3-4B54-90F7-225594CCDA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льфины – самые мелкие китообразные, живущие в океане и мо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990720"/>
            <a:ext cx="3429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cbf"/>
              </a:gs>
              <a:gs pos="100000">
                <a:srgbClr val="03d4a8">
                  <a:alpha val="82352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льфины относя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57400"/>
            <a:ext cx="2895480" cy="914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ря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итообраз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057400"/>
            <a:ext cx="2895840" cy="914400"/>
          </a:xfrm>
          <a:custGeom>
            <a:avLst/>
            <a:gdLst>
              <a:gd name="textAreaLeft" fmla="*/ 0 w 2895840"/>
              <a:gd name="textAreaRight" fmla="*/ 2896200 w 2895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отря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убатые ки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057400"/>
            <a:ext cx="2895480" cy="91440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мей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льфин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5562720" cy="19051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def6f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ина до 6 метров, вес до тон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ельфины быстро плавают, развивая скорость до 50 км/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рупные живут до 50, мелкие до 30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572000"/>
            <a:ext cx="5257800" cy="1981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daf5f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ержатся стаями до 1000 гол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итаются рыбой, моллюск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 интеллект и есть особый язы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80D-79BB-4DEF-9A3C-F2DFF81A75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чему дельфины совершают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прыжки над вод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95480" y="20574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можно, это способ передвижения, а может быть они радуются или просто игра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 время прыжков дельфины дышат воздухом, поэтому это способ пере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838160" cy="1695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4800600"/>
            <a:ext cx="8001000" cy="1676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ществует 47 видов морских дельфин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фалина, Белуха, Обыкновенный, Полосатый, Серый, Малазийск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роткоголовый, Шароголовый, Косатка и дру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0"/>
            <a:ext cx="1981080" cy="838080"/>
          </a:xfrm>
          <a:prstGeom prst="cloudCallout">
            <a:avLst>
              <a:gd name="adj1" fmla="val -60578"/>
              <a:gd name="adj2" fmla="val 16912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потеза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17C-C53D-4DD7-A1B1-70A878A5C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53337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ЕЛУ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B2D-097D-45D1-89BB-BE780B1479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ЛОСАТ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612-BEC0-4BB6-B719-712708F2B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9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ОСА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7BD-AE25-42E9-B749-A2C6C2683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ОРОТКОГОЛОВ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C02-3458-49EE-8B19-A890313E4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7:58:31Z</dcterms:created>
  <dc:creator>vv</dc:creator>
  <dc:description/>
  <dc:language>en-US</dc:language>
  <cp:lastModifiedBy>q</cp:lastModifiedBy>
  <dcterms:modified xsi:type="dcterms:W3CDTF">2006-12-07T04:38:12Z</dcterms:modified>
  <cp:revision>268</cp:revision>
  <dc:subject/>
  <dc:title>АКАДЕМИЯ НАРОДНОГО ХОЗЯЙСТВА ПРИ ПРАВИТЕЛЬСТВЕ РФ ВЫСШАЯ ШКОЛА ФИНАНСОВОГО МЕНЕДЖМЕНТА Программа профессиональной переподготовки «ФИНАНСОВЫЙ МЕНЕДЖЕР» (вечернее отделение)  </dc:title>
</cp:coreProperties>
</file>