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44D-CC5F-4FD8-AFC4-B1CA54A0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4F-9216-4EB0-95BD-C4F6ABD5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3F1-F022-468E-9721-1273B3D6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C75-F9A5-4CA4-A93D-93296E3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8BD39-91DD-4576-86DF-8A80608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B3408-FA17-4D0E-86A2-A4A1D63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1382B-033D-4299-BBC8-98F65C28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8FBB-09BE-4746-AD42-92C475D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57C34-676C-42DA-85AD-956AB98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C15C9-E0CB-4384-8647-D21E4A38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0CF63-4397-473D-B1C8-A75D863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1FC-05A4-4119-AD93-BF713598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4C4F-C19B-476B-8D6B-3E75EB3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AFAE6-49FF-41B6-B236-46A6397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AF25-C1E1-4322-8771-A561EAC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EF9B1-B2DB-4D13-8A22-D4E22264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53FB0-0D59-4F89-94A8-337D915D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6AE-D5A5-439A-B976-2607980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471-868B-4906-8209-F231ABA2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0AC-343E-4142-8BF6-9494367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48B-333D-43BE-B204-AE3548F5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33F-55FD-4646-9A7F-064125E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B4E-11D1-4F03-983F-1A62F7F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0AA-3BF7-4217-A5C7-69732253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482-AD22-42F0-8A07-3DA0E3C38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77A-C8EA-4CB7-A163-DB879DE8E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Юго-Восточный административный окру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сударствен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Школа № 1987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1447560"/>
            <a:ext cx="3581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 Р О Е К Т 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666880"/>
            <a:ext cx="4114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5105520"/>
            <a:ext cx="38862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уководитель: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рищенко Н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сполнитель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Ученик 4 «А» класс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тыркин  В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438280"/>
            <a:ext cx="6705720" cy="1600200"/>
          </a:xfrm>
          <a:custGeom>
            <a:avLst/>
            <a:gdLst>
              <a:gd name="textAreaLeft" fmla="*/ 1676520 w 6705720"/>
              <a:gd name="textAreaRight" fmla="*/ 5029560 w 670572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рские дельф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129800">
            <a:off x="380880" y="4952520"/>
            <a:ext cx="20923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07A62-DAF7-4187-953F-D8D43CAF2B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Обыкновенный дельфин, или дельфин-белобоч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C9F-46E0-4616-96A2-D6102C9AD4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Ф А Л И Н 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69D-118D-4B8C-B31A-52CDB2156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нее очень крупный моз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фалины очень дружелюбны, оказывают друг другу помощ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гатый вокальный репертуа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гко переносит неволю, хорошо поддается дрессировке, обучается трюк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2012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 Ф А Л И Н 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124080"/>
            <a:ext cx="5943600" cy="7621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сутки Афалина поедает около 16 кг.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114800"/>
            <a:ext cx="7162920" cy="8380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орость до 40 км/час, выпрыгивает на высоту до 5 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181480"/>
            <a:ext cx="8686800" cy="12193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ят Афалины у поверхности воды обычно ночью, а днем  после кормеж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иодически открывая веки на 1-2 секунды и закрывая их на 15-3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 спящих дельфинов поочередно спит одно полушар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ругое в это время бодр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C6D-5EAF-43E0-98AA-F958D9930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тог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так, дельфины – веселые, дружественные по отношению к человеку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умные морские живот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льфины любят классическую музыку, звуки флейты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меют чувство коллектив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роме морских дельфинов, известны пресноводные виды, например, южно-американский   дельфин, живущий в Амазон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этому следующим направлением исследований будут речные дельфи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написания проекта   использовал детские энциклопедии,  Интерн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АСИБО ЗА ВНИМАНИ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581280"/>
            <a:ext cx="838188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уществует поверье, что если хоть один раз дотронуться до дельфи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о всю оставшуюся жизнь ты будешь очень счастл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7920"/>
            <a:ext cx="9144000" cy="1295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В древности говорили, что «…среди всех живых существ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созданных до сего времени, нет никого божественнее дельфинов, ведь они в свое врем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были людьми и жили вместе с другими в городах, пока по капризу бога Диониса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не поменяли сушу на море и не приняли образ рыбы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E0B-810C-4442-B6B1-3CDF8646B59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9520" y="175212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ль  данного проекта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узнать больше о жизни                                         морских дельфинов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этого решены следующи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ификация дельфи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ологические парамет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а обит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вида дельфина «Афали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1522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Дельфины очищают и сознание, и души людей»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       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FDE-CD1D-4067-B9D7-CBEC4111B5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льфины относятся к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лекопитающим  или позвоночным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се эти признаки указывают на то, что дельфины относятся к млекопитающи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28800"/>
            <a:ext cx="4114800" cy="1600200"/>
          </a:xfrm>
          <a:prstGeom prst="downArrowCallout">
            <a:avLst>
              <a:gd name="adj1" fmla="val 64291"/>
              <a:gd name="adj2" fmla="val 64286"/>
              <a:gd name="adj3" fmla="val 16667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положим – это позвоночны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505320"/>
            <a:ext cx="4191120" cy="1523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ышат жаб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 выкармливают потомство мол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1219320"/>
            <a:ext cx="4267440" cy="1600200"/>
          </a:xfrm>
          <a:prstGeom prst="downArrowCallout">
            <a:avLst>
              <a:gd name="adj1" fmla="val 66676"/>
              <a:gd name="adj2" fmla="val 66670"/>
              <a:gd name="adj3" fmla="val 16667"/>
              <a:gd name="adj4" fmla="val 6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пустим – это млекопитающ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124080"/>
            <a:ext cx="4191120" cy="2286000"/>
          </a:xfrm>
          <a:prstGeom prst="downArrowCallout">
            <a:avLst>
              <a:gd name="adj1" fmla="val 45839"/>
              <a:gd name="adj2" fmla="val 45835"/>
              <a:gd name="adj3" fmla="val 16667"/>
              <a:gd name="adj4" fmla="val 6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меют развитый моз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ышат легк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ыкармливают потомство мол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Заботятся о потом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45720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0"/>
            <a:ext cx="1981440" cy="838080"/>
          </a:xfrm>
          <a:prstGeom prst="cloudCallout">
            <a:avLst>
              <a:gd name="adj1" fmla="val -64421"/>
              <a:gd name="adj2" fmla="val 3882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теза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51D-4D46-4BB5-ACFE-053C1B0207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льфины – самые мелкие китообразные, живущие в океане и мо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990720"/>
            <a:ext cx="3429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3d4a8">
                  <a:alpha val="82352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льфины относ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57400"/>
            <a:ext cx="2895480" cy="914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ря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итообраз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057400"/>
            <a:ext cx="2895840" cy="91440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отря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убатые ки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057400"/>
            <a:ext cx="2895480" cy="914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мей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льфин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5562720" cy="19051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def6f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ина до 6 метров, вес до тон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ельфины быстро плавают, развивая скорость до 50 км/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рупные живут до 50, мелкие до 30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572000"/>
            <a:ext cx="5257800" cy="1981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daf5f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ержатся стаями до 1000 гол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итаются рыбой, моллюск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 интеллект и есть особый язы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85E-068E-45F2-8B33-B7B6E8396B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чему дельфины совершают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прыжки над вод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95480" y="20574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можно, это способ передвижения, а может быть они радуются или просто игра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прыжков дельфины дышат воздухом, поэтому это способ пере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838160" cy="1695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4800600"/>
            <a:ext cx="8001000" cy="1676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ществует 47 видов морских дельфин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фалина, Белуха, Обыкновенный, Полосатый, Серый, Малазийск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откоголовый, Шароголовый, Косатка и дру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0"/>
            <a:ext cx="1981080" cy="838080"/>
          </a:xfrm>
          <a:prstGeom prst="cloudCallout">
            <a:avLst>
              <a:gd name="adj1" fmla="val -60578"/>
              <a:gd name="adj2" fmla="val 16912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теза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DBE-4A1B-49BE-9666-212BCF862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53337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ЕЛУ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F6B-24EA-4240-88DB-2FFA7FBC6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ЛОСАТ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9D2-6D07-4B6A-A693-5F3763868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ОСА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A93-4570-4B46-B435-E72A77B45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ОРОТКОГОЛОВ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4FA-73B6-4FDC-8A9A-E17684945E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7:58:31Z</dcterms:created>
  <dc:creator>vv</dc:creator>
  <dc:description/>
  <dc:language>en-US</dc:language>
  <cp:lastModifiedBy>q</cp:lastModifiedBy>
  <dcterms:modified xsi:type="dcterms:W3CDTF">2006-12-07T04:38:12Z</dcterms:modified>
  <cp:revision>268</cp:revision>
  <dc:subject/>
  <dc:title>АКАДЕМИЯ НАРОДНОГО ХОЗЯЙСТВА ПРИ ПРАВИТЕЛЬСТВЕ РФ ВЫСШАЯ ШКОЛА ФИНАНСОВОГО МЕНЕДЖМЕНТА Программа профессиональной переподготовки «ФИНАНСОВЫЙ МЕНЕДЖЕР» (вечернее отделение)  </dc:title>
</cp:coreProperties>
</file>