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9B64-8D09-4C95-AC81-EBD05B379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A2D5-F5C6-4B45-A41A-CA3EF5E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3792-A442-4A8E-8C9D-B89C6ED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8D42-A2A4-42BA-A351-F25F46818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E052-ACA4-4999-876F-0B2CEF4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5180E-8FCC-47A9-A6A4-53AE32A26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69910-F34C-4AB7-A851-29F6930F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65FF9-F116-48C3-8ED1-C35239C7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D8458-B6D3-42C2-8203-2885A08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F9082-6CB5-4C9E-AA6B-7358F354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2D85-8148-484F-ACAD-B4921F94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67E6-6A00-469A-BF71-83145211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D7546-B896-4E0C-B321-142F71C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62D7-8350-437B-865D-491851DC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C53C-492C-42EA-982F-8829B2F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BF7B7-1C9E-40CB-BA28-78ECF2F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3482-F03C-4D2B-A80F-C916DEB4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71553-6FAC-42CC-8431-6F3C8F4E2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710E-881A-4A93-A852-9A0884F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71D7-F689-419D-A292-0B71AFBF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CCE2-73F4-4D08-9574-5A987244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43A8-6CAC-42D8-B7A1-39ECE283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9993-755F-4131-833C-A6CA353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4019-057F-45F0-B3D2-043C984E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70720" y="5521320"/>
            <a:ext cx="2571840" cy="13366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651640"/>
            <a:ext cx="8561520" cy="120636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5865840"/>
            <a:ext cx="8559720" cy="1003320"/>
          </a:xfrm>
          <a:custGeom>
            <a:avLst/>
            <a:gdLst/>
            <a:ahLst/>
            <a:rect l="l" t="t" r="r" b="b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36120" y="947880"/>
            <a:ext cx="317520" cy="398160"/>
            <a:chOff x="8736120" y="947880"/>
            <a:chExt cx="317520" cy="398160"/>
          </a:xfrm>
        </p:grpSpPr>
        <p:sp>
          <p:nvSpPr>
            <p:cNvPr id="4" name=""/>
            <p:cNvSpPr/>
            <p:nvPr/>
          </p:nvSpPr>
          <p:spPr>
            <a:xfrm>
              <a:off x="8994600" y="960480"/>
              <a:ext cx="59040" cy="1112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36120" y="947880"/>
              <a:ext cx="317520" cy="39816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6000" y="947880"/>
              <a:ext cx="281160" cy="3762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840880" y="1066680"/>
              <a:ext cx="156960" cy="11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43840" y="1117440"/>
              <a:ext cx="44640" cy="15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4320" y="1093680"/>
              <a:ext cx="27000" cy="92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47080" y="990720"/>
              <a:ext cx="41400" cy="777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58160" y="1019160"/>
              <a:ext cx="106560" cy="69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8481960" y="6211800"/>
            <a:ext cx="654120" cy="644760"/>
            <a:chOff x="8481960" y="6211800"/>
            <a:chExt cx="654120" cy="644760"/>
          </a:xfrm>
        </p:grpSpPr>
        <p:sp>
          <p:nvSpPr>
            <p:cNvPr id="13" name=""/>
            <p:cNvSpPr/>
            <p:nvPr/>
          </p:nvSpPr>
          <p:spPr>
            <a:xfrm>
              <a:off x="8481960" y="6211800"/>
              <a:ext cx="654120" cy="64476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0 h 644760"/>
                <a:gd name="textAreaBottom" fmla="*/ 644760 h 64476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51800" y="6302520"/>
              <a:ext cx="584280" cy="55404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23160" y="6686640"/>
              <a:ext cx="412920" cy="10800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29880" y="6764400"/>
              <a:ext cx="42840" cy="92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126360" y="6446880"/>
              <a:ext cx="9720" cy="44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910720" y="6365880"/>
              <a:ext cx="169920" cy="326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1440" y="2873520"/>
            <a:ext cx="446400" cy="788760"/>
            <a:chOff x="1440" y="2873520"/>
            <a:chExt cx="446400" cy="788760"/>
          </a:xfrm>
        </p:grpSpPr>
        <p:sp>
          <p:nvSpPr>
            <p:cNvPr id="20" name=""/>
            <p:cNvSpPr/>
            <p:nvPr/>
          </p:nvSpPr>
          <p:spPr>
            <a:xfrm>
              <a:off x="1440" y="2873520"/>
              <a:ext cx="446400" cy="7887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" y="2927520"/>
              <a:ext cx="405000" cy="6904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3480" y="3138480"/>
              <a:ext cx="250560" cy="2919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320" y="3040200"/>
              <a:ext cx="54000" cy="28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40" y="3368520"/>
              <a:ext cx="22320" cy="25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680" y="3373560"/>
              <a:ext cx="212760" cy="79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400" y="3417840"/>
              <a:ext cx="141120" cy="146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104760" y="-12600"/>
            <a:ext cx="1035000" cy="801720"/>
            <a:chOff x="104760" y="-12600"/>
            <a:chExt cx="1035000" cy="801720"/>
          </a:xfrm>
        </p:grpSpPr>
        <p:sp>
          <p:nvSpPr>
            <p:cNvPr id="28" name=""/>
            <p:cNvSpPr/>
            <p:nvPr/>
          </p:nvSpPr>
          <p:spPr>
            <a:xfrm>
              <a:off x="104760" y="-12600"/>
              <a:ext cx="273240" cy="24120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55600" y="-3240"/>
              <a:ext cx="884160" cy="792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55600" y="-3240"/>
              <a:ext cx="812880" cy="73188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731880"/>
                <a:gd name="textAreaBottom" fmla="*/ 731880 h 73188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65040" y="27000"/>
              <a:ext cx="522360" cy="31428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3560" y="-3240"/>
              <a:ext cx="73080" cy="77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98520" y="-3240"/>
              <a:ext cx="7920" cy="38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6600" y="125280"/>
              <a:ext cx="54000" cy="292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26960" y="155520"/>
              <a:ext cx="144720" cy="4748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0" y="5006880"/>
            <a:ext cx="514440" cy="1146240"/>
            <a:chOff x="0" y="5006880"/>
            <a:chExt cx="514440" cy="1146240"/>
          </a:xfrm>
        </p:grpSpPr>
        <p:sp>
          <p:nvSpPr>
            <p:cNvPr id="37" name=""/>
            <p:cNvSpPr/>
            <p:nvPr/>
          </p:nvSpPr>
          <p:spPr>
            <a:xfrm>
              <a:off x="0" y="5006880"/>
              <a:ext cx="514440" cy="1063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5081760"/>
              <a:ext cx="461880" cy="885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4280" y="5315040"/>
              <a:ext cx="152640" cy="5522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22400" y="5610240"/>
              <a:ext cx="261720" cy="1872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2440" y="5865840"/>
              <a:ext cx="173160" cy="540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5665680"/>
              <a:ext cx="68400" cy="87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824440"/>
              <a:ext cx="54000" cy="2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0" y="5938920"/>
              <a:ext cx="93960" cy="214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8056440" y="-97920"/>
            <a:ext cx="1059480" cy="1090080"/>
            <a:chOff x="8056440" y="-97920"/>
            <a:chExt cx="1059480" cy="1090080"/>
          </a:xfrm>
        </p:grpSpPr>
        <p:sp>
          <p:nvSpPr>
            <p:cNvPr id="46" name=""/>
            <p:cNvSpPr/>
            <p:nvPr/>
          </p:nvSpPr>
          <p:spPr>
            <a:xfrm rot="19920000">
              <a:off x="8206920" y="31320"/>
              <a:ext cx="758160" cy="831240"/>
            </a:xfrm>
            <a:custGeom>
              <a:avLst/>
              <a:gdLst>
                <a:gd name="textAreaLeft" fmla="*/ 0 w 758160"/>
                <a:gd name="textAreaRight" fmla="*/ 758520 w 758160"/>
                <a:gd name="textAreaTop" fmla="*/ 0 h 831240"/>
                <a:gd name="textAreaBottom" fmla="*/ 831600 h 83124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920000">
              <a:off x="8254800" y="79200"/>
              <a:ext cx="643680" cy="6750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920000">
              <a:off x="8553600" y="257760"/>
              <a:ext cx="105120" cy="467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920000">
              <a:off x="8405280" y="436320"/>
              <a:ext cx="205560" cy="226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920000">
              <a:off x="8556120" y="684000"/>
              <a:ext cx="179640" cy="60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920000">
              <a:off x="8664120" y="399600"/>
              <a:ext cx="251280" cy="1724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920000">
              <a:off x="8742600" y="592200"/>
              <a:ext cx="241920" cy="77040"/>
            </a:xfrm>
            <a:custGeom>
              <a:avLst/>
              <a:gdLst>
                <a:gd name="textAreaLeft" fmla="*/ 0 w 241920"/>
                <a:gd name="textAreaRight" fmla="*/ 241920 w 241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920000">
              <a:off x="8718840" y="741240"/>
              <a:ext cx="122040" cy="158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086320" y="2959200"/>
            <a:ext cx="770040" cy="1137960"/>
            <a:chOff x="8086320" y="2959200"/>
            <a:chExt cx="770040" cy="1137960"/>
          </a:xfrm>
        </p:grpSpPr>
        <p:sp>
          <p:nvSpPr>
            <p:cNvPr id="55" name=""/>
            <p:cNvSpPr/>
            <p:nvPr/>
          </p:nvSpPr>
          <p:spPr>
            <a:xfrm flipH="1">
              <a:off x="8324280" y="3789360"/>
              <a:ext cx="150840" cy="3078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8085960" y="2959200"/>
              <a:ext cx="770040" cy="973080"/>
            </a:xfrm>
            <a:custGeom>
              <a:avLst/>
              <a:gdLst>
                <a:gd name="textAreaLeft" fmla="*/ -360 w 770040"/>
                <a:gd name="textAreaRight" fmla="*/ 770040 w 7700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167680" y="3038400"/>
              <a:ext cx="650880" cy="9018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373240" y="3230640"/>
              <a:ext cx="211320" cy="57312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268480" y="3279600"/>
              <a:ext cx="127080" cy="37476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8204040" y="3635280"/>
              <a:ext cx="162000" cy="1350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8427960" y="3773520"/>
              <a:ext cx="176400" cy="77760"/>
            </a:xfrm>
            <a:custGeom>
              <a:avLst/>
              <a:gdLst>
                <a:gd name="textAreaLeft" fmla="*/ 360 w 176400"/>
                <a:gd name="textAreaRight" fmla="*/ 177120 w 176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447040" y="3597120"/>
              <a:ext cx="300240" cy="147960"/>
            </a:xfrm>
            <a:custGeom>
              <a:avLst/>
              <a:gdLst>
                <a:gd name="textAreaLeft" fmla="*/ 360 w 300240"/>
                <a:gd name="textAreaRight" fmla="*/ 300960 w 30024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6656400" y="6535800"/>
            <a:ext cx="719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1560" y="653580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2"/>
          </p:nvPr>
        </p:nvSpPr>
        <p:spPr>
          <a:xfrm>
            <a:off x="7516800" y="6535800"/>
            <a:ext cx="47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9D3755-3F07-4C18-BDF5-503AD5E8EEB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1080" y="2387520"/>
            <a:ext cx="3854160" cy="2860200"/>
            <a:chOff x="-1080" y="2387520"/>
            <a:chExt cx="3854160" cy="2860200"/>
          </a:xfrm>
        </p:grpSpPr>
        <p:sp>
          <p:nvSpPr>
            <p:cNvPr id="105" name=""/>
            <p:cNvSpPr/>
            <p:nvPr/>
          </p:nvSpPr>
          <p:spPr>
            <a:xfrm rot="240000">
              <a:off x="85320" y="2512440"/>
              <a:ext cx="3681000" cy="2609640"/>
            </a:xfrm>
            <a:custGeom>
              <a:avLst/>
              <a:gdLst/>
              <a:ahLst/>
              <a:rect l="l" t="t" r="r" b="b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40000">
              <a:off x="3413880" y="4802760"/>
              <a:ext cx="87840" cy="63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40000">
              <a:off x="1839960" y="2806560"/>
              <a:ext cx="54360" cy="87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40000">
              <a:off x="1696320" y="2963880"/>
              <a:ext cx="66600" cy="73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40000">
              <a:off x="1789200" y="3126240"/>
              <a:ext cx="69840" cy="82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40000">
              <a:off x="1493640" y="2955240"/>
              <a:ext cx="76320" cy="78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40000">
              <a:off x="1357200" y="2534400"/>
              <a:ext cx="61200" cy="1040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40000">
              <a:off x="2143800" y="3365280"/>
              <a:ext cx="59400" cy="64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40000">
              <a:off x="2193840" y="3258000"/>
              <a:ext cx="69480" cy="79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40000">
              <a:off x="2825280" y="4160160"/>
              <a:ext cx="54360" cy="73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40000">
              <a:off x="2878560" y="4069440"/>
              <a:ext cx="68040" cy="74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40000">
              <a:off x="2421360" y="3597840"/>
              <a:ext cx="48240" cy="72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40000">
              <a:off x="2608920" y="3566880"/>
              <a:ext cx="54720" cy="936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40000">
              <a:off x="2734200" y="3440880"/>
              <a:ext cx="57960" cy="98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40000">
              <a:off x="2919960" y="3835440"/>
              <a:ext cx="68040" cy="80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40000">
              <a:off x="3214800" y="4268160"/>
              <a:ext cx="59400" cy="972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40000">
              <a:off x="3128040" y="4271040"/>
              <a:ext cx="54720" cy="90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40000">
              <a:off x="3480480" y="4448520"/>
              <a:ext cx="49680" cy="748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40000">
              <a:off x="3516840" y="4550040"/>
              <a:ext cx="66240" cy="716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40000">
              <a:off x="2973240" y="4411080"/>
              <a:ext cx="63000" cy="633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40000">
              <a:off x="2167200" y="2916000"/>
              <a:ext cx="58320" cy="66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40000">
              <a:off x="2042280" y="2801520"/>
              <a:ext cx="46080" cy="835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40000">
              <a:off x="220320" y="2748600"/>
              <a:ext cx="77760" cy="90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40000">
              <a:off x="2607480" y="3808440"/>
              <a:ext cx="307440" cy="4374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40000">
              <a:off x="2369520" y="335988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40000">
              <a:off x="3342600" y="4238640"/>
              <a:ext cx="325440" cy="8748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40000">
              <a:off x="1641960" y="2729880"/>
              <a:ext cx="726480" cy="613440"/>
            </a:xfrm>
            <a:custGeom>
              <a:avLst/>
              <a:gdLst>
                <a:gd name="textAreaLeft" fmla="*/ 0 w 726480"/>
                <a:gd name="textAreaRight" fmla="*/ 726840 w 726480"/>
                <a:gd name="textAreaTop" fmla="*/ 0 h 613440"/>
                <a:gd name="textAreaBottom" fmla="*/ 613800 h 61344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40000">
              <a:off x="1738080" y="2987640"/>
              <a:ext cx="410400" cy="27864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40000">
              <a:off x="3089880" y="4416840"/>
              <a:ext cx="415440" cy="32760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27600"/>
                <a:gd name="textAreaBottom" fmla="*/ 327600 h 3276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40000">
              <a:off x="2398320" y="3526200"/>
              <a:ext cx="415800" cy="3247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40000">
              <a:off x="969840" y="2525760"/>
              <a:ext cx="643320" cy="408240"/>
            </a:xfrm>
            <a:custGeom>
              <a:avLst/>
              <a:gdLst>
                <a:gd name="textAreaLeft" fmla="*/ 0 w 643320"/>
                <a:gd name="textAreaRight" fmla="*/ 643680 w 6433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40000">
              <a:off x="1061640" y="2740320"/>
              <a:ext cx="357120" cy="158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40000">
              <a:off x="178560" y="2451240"/>
              <a:ext cx="731520" cy="49752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497520"/>
                <a:gd name="textAreaBottom" fmla="*/ 497520 h 49752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40000">
              <a:off x="383400" y="2719800"/>
              <a:ext cx="403560" cy="20124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00000">
              <a:off x="3008520" y="4180320"/>
              <a:ext cx="415440" cy="3279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-197280" y="56880"/>
            <a:ext cx="856440" cy="822960"/>
            <a:chOff x="-197280" y="56880"/>
            <a:chExt cx="856440" cy="822960"/>
          </a:xfrm>
        </p:grpSpPr>
        <p:sp>
          <p:nvSpPr>
            <p:cNvPr id="141" name=""/>
            <p:cNvSpPr/>
            <p:nvPr/>
          </p:nvSpPr>
          <p:spPr>
            <a:xfrm rot="17760000">
              <a:off x="-64440" y="136080"/>
              <a:ext cx="591480" cy="66456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7760000">
              <a:off x="-36720" y="183960"/>
              <a:ext cx="498960" cy="54000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7760000">
              <a:off x="216000" y="317880"/>
              <a:ext cx="82440" cy="372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7760000">
              <a:off x="163080" y="515520"/>
              <a:ext cx="157680" cy="180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7760000">
              <a:off x="309600" y="660600"/>
              <a:ext cx="138240" cy="4968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7760000">
              <a:off x="236880" y="343800"/>
              <a:ext cx="194040" cy="137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7760000">
              <a:off x="342720" y="473040"/>
              <a:ext cx="186840" cy="612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7760000">
              <a:off x="438480" y="649800"/>
              <a:ext cx="91800" cy="126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63840" y="4664160"/>
            <a:ext cx="6676920" cy="2193840"/>
          </a:xfrm>
          <a:custGeom>
            <a:avLst/>
            <a:gdLst/>
            <a:ahLst/>
            <a:rect l="l" t="t" r="r" b="b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79720" y="-159840"/>
            <a:ext cx="899640" cy="908640"/>
            <a:chOff x="8379720" y="-159840"/>
            <a:chExt cx="899640" cy="908640"/>
          </a:xfrm>
        </p:grpSpPr>
        <p:sp>
          <p:nvSpPr>
            <p:cNvPr id="151" name=""/>
            <p:cNvSpPr/>
            <p:nvPr/>
          </p:nvSpPr>
          <p:spPr>
            <a:xfrm rot="20400000">
              <a:off x="8936280" y="502920"/>
              <a:ext cx="136800" cy="225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400000">
              <a:off x="8480520" y="-61920"/>
              <a:ext cx="698040" cy="7128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400000">
              <a:off x="8525880" y="2520"/>
              <a:ext cx="588600" cy="66348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400000">
              <a:off x="8743680" y="136800"/>
              <a:ext cx="192240" cy="4204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400000">
              <a:off x="8897040" y="129600"/>
              <a:ext cx="113040" cy="272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400000">
              <a:off x="8973720" y="360000"/>
              <a:ext cx="145800" cy="98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400000">
              <a:off x="8799120" y="536040"/>
              <a:ext cx="159120" cy="56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400000">
              <a:off x="8639640" y="437400"/>
              <a:ext cx="270360" cy="107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-17640" y="3006720"/>
            <a:ext cx="9142560" cy="3851280"/>
          </a:xfrm>
          <a:custGeom>
            <a:avLst/>
            <a:gdLst/>
            <a:ahLst/>
            <a:rect l="l" t="t" r="r" b="b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7640" y="3324240"/>
            <a:ext cx="9142560" cy="3382920"/>
          </a:xfrm>
          <a:custGeom>
            <a:avLst/>
            <a:gdLst/>
            <a:ahLst/>
            <a:rect l="l" t="t" r="r" b="b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1440" y="853920"/>
            <a:ext cx="1409400" cy="2340000"/>
            <a:chOff x="-1440" y="853920"/>
            <a:chExt cx="1409400" cy="2340000"/>
          </a:xfrm>
        </p:grpSpPr>
        <p:sp>
          <p:nvSpPr>
            <p:cNvPr id="162" name=""/>
            <p:cNvSpPr/>
            <p:nvPr/>
          </p:nvSpPr>
          <p:spPr>
            <a:xfrm>
              <a:off x="14400" y="2489040"/>
              <a:ext cx="69840" cy="101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80" y="2535120"/>
              <a:ext cx="96840" cy="79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9440" y="2600280"/>
              <a:ext cx="58680" cy="25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2674800"/>
              <a:ext cx="193680" cy="220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3440" y="1920960"/>
              <a:ext cx="74520" cy="22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440" y="1430280"/>
              <a:ext cx="1342800" cy="17128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" y="1552680"/>
              <a:ext cx="468360" cy="172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1440" y="1571760"/>
              <a:ext cx="1376280" cy="162216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0520" y="1004760"/>
              <a:ext cx="47520" cy="61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6520" y="1011240"/>
              <a:ext cx="228600" cy="336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8480" y="1231920"/>
              <a:ext cx="206640" cy="120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520" y="1265400"/>
              <a:ext cx="55440" cy="39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960" y="853920"/>
              <a:ext cx="506520" cy="65268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lnTo>
                    <a:pt x="42" y="582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85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5920" y="2476440"/>
              <a:ext cx="420480" cy="6462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3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480" y="2479680"/>
              <a:ext cx="25560" cy="644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60" y="1928880"/>
              <a:ext cx="298440" cy="3967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880" y="1928880"/>
              <a:ext cx="296640" cy="39672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1440" y="1405080"/>
              <a:ext cx="1371600" cy="534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85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5280" y="3124080"/>
              <a:ext cx="411120" cy="97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285920" y="4545000"/>
            <a:ext cx="1403280" cy="2322360"/>
            <a:chOff x="1285920" y="4545000"/>
            <a:chExt cx="1403280" cy="2322360"/>
          </a:xfrm>
        </p:grpSpPr>
        <p:sp>
          <p:nvSpPr>
            <p:cNvPr id="182" name=""/>
            <p:cNvSpPr/>
            <p:nvPr/>
          </p:nvSpPr>
          <p:spPr>
            <a:xfrm>
              <a:off x="1285920" y="4545000"/>
              <a:ext cx="1403280" cy="183024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2280" y="5302080"/>
              <a:ext cx="838080" cy="1565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565280"/>
                <a:gd name="textAreaBottom" fmla="*/ 1565640 h 156528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4640" y="4737240"/>
              <a:ext cx="885960" cy="38088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57200" y="5072040"/>
              <a:ext cx="452520" cy="1311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66760" y="5052960"/>
              <a:ext cx="582840" cy="132408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76240" y="5011560"/>
            <a:ext cx="1120680" cy="1855800"/>
            <a:chOff x="876240" y="5011560"/>
            <a:chExt cx="1120680" cy="1855800"/>
          </a:xfrm>
        </p:grpSpPr>
        <p:sp>
          <p:nvSpPr>
            <p:cNvPr id="188" name=""/>
            <p:cNvSpPr/>
            <p:nvPr/>
          </p:nvSpPr>
          <p:spPr>
            <a:xfrm>
              <a:off x="1339920" y="6099120"/>
              <a:ext cx="279360" cy="1382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6240" y="5011560"/>
              <a:ext cx="1120680" cy="146232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462320"/>
                <a:gd name="textAreaBottom" fmla="*/ 1462680 h 146232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9240" y="5616720"/>
              <a:ext cx="669960" cy="125064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1250640"/>
                <a:gd name="textAreaBottom" fmla="*/ 1250640 h 12506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8480" y="5165640"/>
              <a:ext cx="703080" cy="3031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303120"/>
                <a:gd name="textAreaBottom" fmla="*/ 303120 h 30312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7600" y="5432400"/>
              <a:ext cx="365040" cy="10476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9080" y="5418000"/>
              <a:ext cx="461880" cy="10558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055880"/>
                <a:gd name="textAreaBottom" fmla="*/ 1056240 h 105588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-15840" y="4349880"/>
            <a:ext cx="1270080" cy="2517480"/>
            <a:chOff x="-15840" y="4349880"/>
            <a:chExt cx="1270080" cy="2517480"/>
          </a:xfrm>
        </p:grpSpPr>
        <p:sp>
          <p:nvSpPr>
            <p:cNvPr id="195" name=""/>
            <p:cNvSpPr/>
            <p:nvPr/>
          </p:nvSpPr>
          <p:spPr>
            <a:xfrm>
              <a:off x="-14400" y="4440240"/>
              <a:ext cx="1208160" cy="1819440"/>
            </a:xfrm>
            <a:custGeom>
              <a:avLst/>
              <a:gdLst/>
              <a:ahLst/>
              <a:rect l="l" t="t" r="r" b="b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" y="5016600"/>
              <a:ext cx="987480" cy="185076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850760"/>
                <a:gd name="textAreaBottom" fmla="*/ 1851120 h 18507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-15840" y="4349880"/>
              <a:ext cx="1046160" cy="44928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6640" y="4722840"/>
              <a:ext cx="687600" cy="156204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82680" y="4572000"/>
            <a:ext cx="1387440" cy="2295360"/>
            <a:chOff x="2182680" y="4572000"/>
            <a:chExt cx="1387440" cy="2295360"/>
          </a:xfrm>
        </p:grpSpPr>
        <p:sp>
          <p:nvSpPr>
            <p:cNvPr id="200" name=""/>
            <p:cNvSpPr/>
            <p:nvPr/>
          </p:nvSpPr>
          <p:spPr>
            <a:xfrm>
              <a:off x="2757600" y="5916600"/>
              <a:ext cx="345960" cy="17136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2680" y="4572000"/>
              <a:ext cx="1387440" cy="180828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808280"/>
                <a:gd name="textAreaBottom" fmla="*/ 1808640 h 18082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82920" y="5319720"/>
              <a:ext cx="831960" cy="154764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19200" y="4762440"/>
              <a:ext cx="874800" cy="3747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3960" y="5092560"/>
              <a:ext cx="450720" cy="129564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35240" y="5075280"/>
              <a:ext cx="571320" cy="13032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303200"/>
                <a:gd name="textAreaBottom" fmla="*/ 1303560 h 130320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247600" y="2817360"/>
            <a:ext cx="999000" cy="1244880"/>
            <a:chOff x="8247600" y="2817360"/>
            <a:chExt cx="999000" cy="1244880"/>
          </a:xfrm>
        </p:grpSpPr>
        <p:sp>
          <p:nvSpPr>
            <p:cNvPr id="207" name=""/>
            <p:cNvSpPr/>
            <p:nvPr/>
          </p:nvSpPr>
          <p:spPr>
            <a:xfrm rot="360000">
              <a:off x="8304120" y="2860200"/>
              <a:ext cx="885600" cy="113112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1131120"/>
                <a:gd name="textAreaBottom" fmla="*/ 1131480 h 1131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360000">
              <a:off x="8386200" y="2929320"/>
              <a:ext cx="748440" cy="91692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16920"/>
                <a:gd name="textAreaBottom" fmla="*/ 917280 h 9169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360000">
              <a:off x="8657640" y="3168360"/>
              <a:ext cx="121680" cy="6379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0000">
              <a:off x="8448120" y="3355200"/>
              <a:ext cx="238320" cy="3081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360000">
              <a:off x="8435160" y="3721320"/>
              <a:ext cx="207720" cy="853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360000">
              <a:off x="8754480" y="3450600"/>
              <a:ext cx="293040" cy="2372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60000">
              <a:off x="8694000" y="3714480"/>
              <a:ext cx="282600" cy="107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360000">
              <a:off x="8497440" y="3837960"/>
              <a:ext cx="140040" cy="2174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32280" y="5351400"/>
            <a:ext cx="261720" cy="223920"/>
          </a:xfrm>
          <a:custGeom>
            <a:avLst/>
            <a:gdLst>
              <a:gd name="textAreaLeft" fmla="*/ 0 w 261720"/>
              <a:gd name="textAreaRight" fmla="*/ 262080 w 2617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20520" y="3533760"/>
            <a:ext cx="9104040" cy="3030480"/>
          </a:xfrm>
          <a:custGeom>
            <a:avLst/>
            <a:gdLst/>
            <a:ahLst/>
            <a:rect l="l" t="t" r="r" b="b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52600" y="2348280"/>
            <a:ext cx="2112480" cy="2158560"/>
            <a:chOff x="552600" y="2348280"/>
            <a:chExt cx="2112480" cy="2158560"/>
          </a:xfrm>
        </p:grpSpPr>
        <p:sp>
          <p:nvSpPr>
            <p:cNvPr id="218" name=""/>
            <p:cNvSpPr/>
            <p:nvPr/>
          </p:nvSpPr>
          <p:spPr>
            <a:xfrm rot="1560000">
              <a:off x="1996200" y="3647160"/>
              <a:ext cx="552600" cy="63360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560000">
              <a:off x="750960" y="2632320"/>
              <a:ext cx="1591200" cy="1274040"/>
            </a:xfrm>
            <a:custGeom>
              <a:avLst/>
              <a:gdLst>
                <a:gd name="textAreaLeft" fmla="*/ 0 w 1591200"/>
                <a:gd name="textAreaRight" fmla="*/ 1591560 w 1591200"/>
                <a:gd name="textAreaTop" fmla="*/ 0 h 1274040"/>
                <a:gd name="textAreaBottom" fmla="*/ 1274400 h 127404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560000">
              <a:off x="2080800" y="3098160"/>
              <a:ext cx="252360" cy="495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560000">
              <a:off x="909360" y="2683080"/>
              <a:ext cx="959400" cy="54900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560000">
              <a:off x="1159920" y="2632680"/>
              <a:ext cx="36720" cy="484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560000">
              <a:off x="1388520" y="2730960"/>
              <a:ext cx="33120" cy="481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560000">
              <a:off x="1593000" y="2815920"/>
              <a:ext cx="36720" cy="48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560000">
              <a:off x="856080" y="3382200"/>
              <a:ext cx="423360" cy="54144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560000">
              <a:off x="1806480" y="3892320"/>
              <a:ext cx="425520" cy="5486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560000">
              <a:off x="881640" y="2994480"/>
              <a:ext cx="220680" cy="33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60000">
              <a:off x="1110600" y="3098160"/>
              <a:ext cx="224640" cy="34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0000">
              <a:off x="1337040" y="3197160"/>
              <a:ext cx="206280" cy="27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0000">
              <a:off x="1535760" y="3292560"/>
              <a:ext cx="232200" cy="367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60000">
              <a:off x="1810080" y="2945880"/>
              <a:ext cx="24120" cy="446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60000">
              <a:off x="1581480" y="2835360"/>
              <a:ext cx="27720" cy="4446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560000">
              <a:off x="1380960" y="2743200"/>
              <a:ext cx="25560" cy="446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60000">
              <a:off x="1148760" y="2639520"/>
              <a:ext cx="25560" cy="444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560000">
              <a:off x="2027880" y="3576960"/>
              <a:ext cx="237240" cy="385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560000">
              <a:off x="736560" y="3258720"/>
              <a:ext cx="1064520" cy="172800"/>
            </a:xfrm>
            <a:custGeom>
              <a:avLst/>
              <a:gdLst>
                <a:gd name="textAreaLeft" fmla="*/ 0 w 1064520"/>
                <a:gd name="textAreaRight" fmla="*/ 1064880 w 1064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560000">
              <a:off x="1880640" y="3810960"/>
              <a:ext cx="683280" cy="10944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560000">
              <a:off x="740160" y="3301200"/>
              <a:ext cx="1049760" cy="82800"/>
            </a:xfrm>
            <a:custGeom>
              <a:avLst/>
              <a:gdLst>
                <a:gd name="textAreaLeft" fmla="*/ 0 w 1049760"/>
                <a:gd name="textAreaRight" fmla="*/ 1050120 w 1049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560000">
              <a:off x="815400" y="2517840"/>
              <a:ext cx="629640" cy="96876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560000">
              <a:off x="1880640" y="3852000"/>
              <a:ext cx="671760" cy="3672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0000">
              <a:off x="1747800" y="2977920"/>
              <a:ext cx="245160" cy="107820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078200"/>
                <a:gd name="textAreaBottom" fmla="*/ 1078560 h 107820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560000">
              <a:off x="2193480" y="3726720"/>
              <a:ext cx="379440" cy="5083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60000">
              <a:off x="2439720" y="3800880"/>
              <a:ext cx="132480" cy="1602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60000">
              <a:off x="1913040" y="4024800"/>
              <a:ext cx="215280" cy="2790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0000">
              <a:off x="957240" y="3518280"/>
              <a:ext cx="214920" cy="2790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875640" y="4138560"/>
            <a:ext cx="2265120" cy="2718000"/>
            <a:chOff x="6875640" y="4138560"/>
            <a:chExt cx="2265120" cy="2718000"/>
          </a:xfrm>
        </p:grpSpPr>
        <p:sp>
          <p:nvSpPr>
            <p:cNvPr id="247" name=""/>
            <p:cNvSpPr/>
            <p:nvPr/>
          </p:nvSpPr>
          <p:spPr>
            <a:xfrm>
              <a:off x="9086760" y="5816520"/>
              <a:ext cx="54000" cy="58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5800" y="4529160"/>
              <a:ext cx="793800" cy="13208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12000" y="4656240"/>
              <a:ext cx="324000" cy="3142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27960" y="4809960"/>
              <a:ext cx="803160" cy="938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6800" y="4878360"/>
              <a:ext cx="246240" cy="78120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56560" y="4960800"/>
              <a:ext cx="98280" cy="660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8640" y="4138560"/>
              <a:ext cx="1118880" cy="186372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70840" y="4465800"/>
              <a:ext cx="1066680" cy="1552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85240" y="4584600"/>
              <a:ext cx="384120" cy="12002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85040" y="4708440"/>
              <a:ext cx="239760" cy="10447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836200" y="4716360"/>
              <a:ext cx="155520" cy="11001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00160"/>
                <a:gd name="textAreaBottom" fmla="*/ 1100160 h 110016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72600" y="4300560"/>
              <a:ext cx="426960" cy="36180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69440" y="4300560"/>
              <a:ext cx="360360" cy="4032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4859280"/>
              <a:ext cx="2260440" cy="199728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3560" y="5383080"/>
              <a:ext cx="2253960" cy="14716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09040" y="4941720"/>
              <a:ext cx="1260360" cy="93528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88320" y="5649840"/>
              <a:ext cx="599760" cy="12049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00960" y="4967280"/>
              <a:ext cx="108000" cy="523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9040" y="5380200"/>
              <a:ext cx="536400" cy="237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72400" y="5921280"/>
              <a:ext cx="306360" cy="9352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1000" y="5896080"/>
              <a:ext cx="381240" cy="9604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44120" y="5978520"/>
              <a:ext cx="293400" cy="8780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8040"/>
                <a:gd name="textAreaBottom" fmla="*/ 878400 h 8780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05960" y="5951520"/>
              <a:ext cx="331560" cy="90504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99360" y="5030640"/>
              <a:ext cx="58680" cy="3970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289000" y="2264400"/>
            <a:ext cx="758880" cy="766080"/>
            <a:chOff x="8289000" y="2264400"/>
            <a:chExt cx="758880" cy="766080"/>
          </a:xfrm>
        </p:grpSpPr>
        <p:sp>
          <p:nvSpPr>
            <p:cNvPr id="272" name=""/>
            <p:cNvSpPr/>
            <p:nvPr/>
          </p:nvSpPr>
          <p:spPr>
            <a:xfrm flipH="1" rot="12840000">
              <a:off x="8851320" y="2345760"/>
              <a:ext cx="103320" cy="17748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77480"/>
                <a:gd name="textAreaBottom" fmla="*/ 177480 h 1774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2840000">
              <a:off x="8399880" y="2366280"/>
              <a:ext cx="536400" cy="562320"/>
            </a:xfrm>
            <a:custGeom>
              <a:avLst/>
              <a:gdLst>
                <a:gd name="textAreaLeft" fmla="*/ 360 w 536400"/>
                <a:gd name="textAreaRight" fmla="*/ 537120 w 5364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12840000">
              <a:off x="8444520" y="2358360"/>
              <a:ext cx="455760" cy="52344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12840000">
              <a:off x="8614800" y="2447640"/>
              <a:ext cx="146160" cy="33048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2840000">
              <a:off x="8714880" y="2575800"/>
              <a:ext cx="84600" cy="21564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2840000">
              <a:off x="8819280" y="2550240"/>
              <a:ext cx="113040" cy="7596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2840000">
              <a:off x="8724600" y="2435760"/>
              <a:ext cx="122040" cy="42480"/>
            </a:xfrm>
            <a:custGeom>
              <a:avLst/>
              <a:gdLst>
                <a:gd name="textAreaLeft" fmla="*/ -360 w 122040"/>
                <a:gd name="textAreaRight" fmla="*/ 122040 w 1220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12840000">
              <a:off x="8576280" y="2461320"/>
              <a:ext cx="207360" cy="83160"/>
            </a:xfrm>
            <a:custGeom>
              <a:avLst/>
              <a:gdLst>
                <a:gd name="textAreaLeft" fmla="*/ 360 w 207360"/>
                <a:gd name="textAreaRight" fmla="*/ 208080 w 2073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483240" y="3889440"/>
            <a:ext cx="158760" cy="1000080"/>
          </a:xfrm>
          <a:custGeom>
            <a:avLst/>
            <a:gdLst>
              <a:gd name="textAreaLeft" fmla="*/ 0 w 158760"/>
              <a:gd name="textAreaRight" fmla="*/ 159120 w 158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84640" y="4191120"/>
            <a:ext cx="405792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572000"/>
            <a:ext cx="856152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299000" y="958680"/>
            <a:ext cx="1049400" cy="4000680"/>
            <a:chOff x="7299000" y="958680"/>
            <a:chExt cx="1049400" cy="4000680"/>
          </a:xfrm>
        </p:grpSpPr>
        <p:sp>
          <p:nvSpPr>
            <p:cNvPr id="322" name=""/>
            <p:cNvSpPr/>
            <p:nvPr/>
          </p:nvSpPr>
          <p:spPr>
            <a:xfrm flipH="1">
              <a:off x="7726320" y="1224000"/>
              <a:ext cx="22320" cy="140004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63040" y="1978200"/>
              <a:ext cx="125280" cy="25704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599240" y="175896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63040" y="2282760"/>
              <a:ext cx="125280" cy="26208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599240" y="206532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599240" y="2411280"/>
              <a:ext cx="123840" cy="2606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763040" y="1633680"/>
              <a:ext cx="125280" cy="2617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599240" y="141768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63040" y="1305000"/>
              <a:ext cx="125280" cy="25884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745400" y="105876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99240" y="108900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24200" y="1219320"/>
              <a:ext cx="14040" cy="108900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1089000"/>
                <a:gd name="textAreaBottom" fmla="*/ 1089360 h 10890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251200" y="1803240"/>
              <a:ext cx="96840" cy="20016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124840" y="1633680"/>
              <a:ext cx="93600" cy="20304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8251200" y="2041560"/>
              <a:ext cx="96840" cy="20160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124840" y="1871640"/>
              <a:ext cx="93600" cy="2001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124840" y="2139840"/>
              <a:ext cx="93600" cy="20340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251200" y="1538280"/>
              <a:ext cx="96840" cy="20160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124840" y="1368360"/>
              <a:ext cx="93600" cy="20340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251200" y="1278000"/>
              <a:ext cx="96840" cy="2030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251200" y="1041480"/>
              <a:ext cx="96840" cy="2030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124840" y="1114560"/>
              <a:ext cx="93600" cy="1983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093880" y="2543040"/>
              <a:ext cx="204840" cy="1289160"/>
            </a:xfrm>
            <a:custGeom>
              <a:avLst/>
              <a:gdLst>
                <a:gd name="textAreaLeft" fmla="*/ -360 w 204840"/>
                <a:gd name="textAreaRight" fmla="*/ 204840 w 20484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99240" y="2147760"/>
              <a:ext cx="292320" cy="1855800"/>
            </a:xfrm>
            <a:custGeom>
              <a:avLst/>
              <a:gdLst>
                <a:gd name="textAreaLeft" fmla="*/ 360 w 292320"/>
                <a:gd name="textAreaRight" fmla="*/ 293040 w 29232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047080" y="3754440"/>
              <a:ext cx="279360" cy="581040"/>
            </a:xfrm>
            <a:custGeom>
              <a:avLst/>
              <a:gdLst>
                <a:gd name="textAreaLeft" fmla="*/ 360 w 279360"/>
                <a:gd name="textAreaRight" fmla="*/ 280080 w 279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030520" y="3825720"/>
              <a:ext cx="236520" cy="5382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864560" y="1103400"/>
              <a:ext cx="179280" cy="460440"/>
            </a:xfrm>
            <a:custGeom>
              <a:avLst/>
              <a:gdLst>
                <a:gd name="textAreaLeft" fmla="*/ 360 w 179280"/>
                <a:gd name="textAreaRight" fmla="*/ 180000 w 179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873920" y="1116000"/>
              <a:ext cx="90720" cy="384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835040" y="2540160"/>
              <a:ext cx="195480" cy="51732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844760" y="2549520"/>
              <a:ext cx="96840" cy="4316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848720" y="3849840"/>
              <a:ext cx="196560" cy="5173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858080" y="3859200"/>
              <a:ext cx="98640" cy="43164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065440" y="2301840"/>
              <a:ext cx="196920" cy="51444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156520" y="2309760"/>
              <a:ext cx="98640" cy="43344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040600" y="3076560"/>
              <a:ext cx="276480" cy="581040"/>
            </a:xfrm>
            <a:custGeom>
              <a:avLst/>
              <a:gdLst>
                <a:gd name="textAreaLeft" fmla="*/ 360 w 276480"/>
                <a:gd name="textAreaRight" fmla="*/ 277200 w 276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7762320" y="2651040"/>
              <a:ext cx="277560" cy="5810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786080" y="3274920"/>
              <a:ext cx="276120" cy="58284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786800" y="3933720"/>
              <a:ext cx="272880" cy="582840"/>
            </a:xfrm>
            <a:custGeom>
              <a:avLst/>
              <a:gdLst>
                <a:gd name="textAreaLeft" fmla="*/ 360 w 272880"/>
                <a:gd name="textAreaRight" fmla="*/ 273600 w 27288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052840" y="2381400"/>
              <a:ext cx="276120" cy="57456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752600" y="1897200"/>
              <a:ext cx="274680" cy="579240"/>
            </a:xfrm>
            <a:custGeom>
              <a:avLst/>
              <a:gdLst>
                <a:gd name="textAreaLeft" fmla="*/ -360 w 274680"/>
                <a:gd name="textAreaRight" fmla="*/ 274680 w 2746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052840" y="1643040"/>
              <a:ext cx="276120" cy="58104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064360" y="958680"/>
              <a:ext cx="277920" cy="582840"/>
            </a:xfrm>
            <a:custGeom>
              <a:avLst/>
              <a:gdLst>
                <a:gd name="textAreaLeft" fmla="*/ 360 w 277920"/>
                <a:gd name="textAreaRight" fmla="*/ 278640 w 27792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802640" y="1220760"/>
              <a:ext cx="249120" cy="51912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791480" y="2651040"/>
              <a:ext cx="233280" cy="5716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778160" y="1916280"/>
              <a:ext cx="231480" cy="57132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827840" y="1228680"/>
              <a:ext cx="208080" cy="51120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8066160" y="996840"/>
              <a:ext cx="247680" cy="54936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8055000" y="1665360"/>
              <a:ext cx="247680" cy="54936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8057520" y="2403360"/>
              <a:ext cx="236520" cy="53676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8052840" y="3081240"/>
              <a:ext cx="239400" cy="536760"/>
            </a:xfrm>
            <a:custGeom>
              <a:avLst/>
              <a:gdLst>
                <a:gd name="textAreaLeft" fmla="*/ -360 w 239400"/>
                <a:gd name="textAreaRight" fmla="*/ 239400 w 239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813080" y="3247920"/>
              <a:ext cx="231480" cy="5716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813080" y="3925800"/>
              <a:ext cx="231480" cy="5716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019360" y="1492200"/>
              <a:ext cx="52200" cy="305424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3054240"/>
                <a:gd name="textAreaBottom" fmla="*/ 3054600 h 305424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541640" y="2044800"/>
              <a:ext cx="150840" cy="3985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608960" y="2057400"/>
              <a:ext cx="77760" cy="32688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7539120" y="3297240"/>
              <a:ext cx="169920" cy="441360"/>
            </a:xfrm>
            <a:custGeom>
              <a:avLst/>
              <a:gdLst>
                <a:gd name="textAreaLeft" fmla="*/ 360 w 169920"/>
                <a:gd name="textAreaRight" fmla="*/ 170640 w 1699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616880" y="3305160"/>
              <a:ext cx="84240" cy="37152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8680" y="4400640"/>
              <a:ext cx="171720" cy="442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606440" y="4413240"/>
              <a:ext cx="81000" cy="366840"/>
            </a:xfrm>
            <a:custGeom>
              <a:avLst/>
              <a:gdLst>
                <a:gd name="textAreaLeft" fmla="*/ -360 w 81000"/>
                <a:gd name="textAreaRight" fmla="*/ 81000 w 810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360560" y="3127320"/>
              <a:ext cx="168120" cy="44784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369200" y="3139920"/>
              <a:ext cx="85680" cy="366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306560" y="3786120"/>
              <a:ext cx="235080" cy="49860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528680" y="3394080"/>
              <a:ext cx="236520" cy="49356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298640" y="4446720"/>
              <a:ext cx="236520" cy="4968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525440" y="3960720"/>
              <a:ext cx="235080" cy="49212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517520" y="4452840"/>
              <a:ext cx="236520" cy="4986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306560" y="3193920"/>
              <a:ext cx="235080" cy="50004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541640" y="2736720"/>
              <a:ext cx="236520" cy="501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306560" y="2530440"/>
              <a:ext cx="235080" cy="49536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308720" y="1971720"/>
              <a:ext cx="238320" cy="49212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535160" y="2149560"/>
              <a:ext cx="212760" cy="444240"/>
            </a:xfrm>
            <a:custGeom>
              <a:avLst/>
              <a:gdLst>
                <a:gd name="textAreaLeft" fmla="*/ -360 w 212760"/>
                <a:gd name="textAreaRight" fmla="*/ 212760 w 212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543800" y="3394080"/>
              <a:ext cx="201600" cy="4906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557480" y="2754360"/>
              <a:ext cx="198360" cy="49536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546320" y="2157480"/>
              <a:ext cx="176040" cy="436320"/>
            </a:xfrm>
            <a:custGeom>
              <a:avLst/>
              <a:gdLst>
                <a:gd name="textAreaLeft" fmla="*/ -360 w 176040"/>
                <a:gd name="textAreaRight" fmla="*/ 176040 w 1760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330320" y="2003400"/>
              <a:ext cx="214200" cy="46368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29600" y="2549520"/>
              <a:ext cx="210960" cy="466560"/>
            </a:xfrm>
            <a:custGeom>
              <a:avLst/>
              <a:gdLst>
                <a:gd name="textAreaLeft" fmla="*/ 360 w 210960"/>
                <a:gd name="textAreaRight" fmla="*/ 211680 w 210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331040" y="3216240"/>
              <a:ext cx="209520" cy="457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455600" y="3467160"/>
              <a:ext cx="360" cy="144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328880" y="3790800"/>
              <a:ext cx="206280" cy="46044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22400" y="4479840"/>
              <a:ext cx="206280" cy="45720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37320" y="3936960"/>
              <a:ext cx="201600" cy="4888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531200" y="4467240"/>
              <a:ext cx="201600" cy="49212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518240" y="2384280"/>
              <a:ext cx="44640" cy="256716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2567160"/>
                <a:gd name="textAreaBottom" fmla="*/ 2567520 h 256716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8170920" y="1249200"/>
            <a:ext cx="939600" cy="3343320"/>
            <a:chOff x="8170920" y="1249200"/>
            <a:chExt cx="939600" cy="3343320"/>
          </a:xfrm>
        </p:grpSpPr>
        <p:sp>
          <p:nvSpPr>
            <p:cNvPr id="406" name=""/>
            <p:cNvSpPr/>
            <p:nvPr/>
          </p:nvSpPr>
          <p:spPr>
            <a:xfrm>
              <a:off x="8650440" y="2610000"/>
              <a:ext cx="17280" cy="11682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68200"/>
                <a:gd name="textAreaBottom" fmla="*/ 1168200 h 116820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32720" y="3262320"/>
              <a:ext cx="103320" cy="2127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69160" y="3079800"/>
              <a:ext cx="105120" cy="2142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32720" y="3516480"/>
              <a:ext cx="103320" cy="2188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56640" y="2174760"/>
              <a:ext cx="103320" cy="21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69160" y="3622680"/>
              <a:ext cx="105120" cy="217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32720" y="2973240"/>
              <a:ext cx="103320" cy="2192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69160" y="2792520"/>
              <a:ext cx="105120" cy="217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2720" y="2698920"/>
              <a:ext cx="103320" cy="2156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32720" y="2441520"/>
              <a:ext cx="103320" cy="217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9160" y="2517840"/>
              <a:ext cx="105120" cy="216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25000" y="1467000"/>
              <a:ext cx="12600" cy="90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32840" y="1955880"/>
              <a:ext cx="81000" cy="1666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42280" y="181296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32840" y="2154240"/>
              <a:ext cx="81000" cy="16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42280" y="2011320"/>
              <a:ext cx="77760" cy="1666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280" y="2236680"/>
              <a:ext cx="77760" cy="168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32840" y="1733400"/>
              <a:ext cx="81000" cy="1684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42280" y="1592280"/>
              <a:ext cx="77760" cy="168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2840" y="1517760"/>
              <a:ext cx="81000" cy="169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32840" y="1317600"/>
              <a:ext cx="81000" cy="1684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42280" y="1379520"/>
              <a:ext cx="77760" cy="165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70920" y="1967040"/>
              <a:ext cx="169920" cy="10778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77840"/>
                <a:gd name="textAreaBottom" fmla="*/ 1078200 h 107784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70880" y="2530440"/>
              <a:ext cx="244440" cy="15508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550880"/>
                <a:gd name="textAreaBottom" fmla="*/ 1551240 h 155088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51920" y="3586320"/>
              <a:ext cx="233280" cy="4842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00880" y="3645000"/>
              <a:ext cx="198720" cy="4507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88440" y="1370160"/>
              <a:ext cx="149040" cy="384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55040" y="1380960"/>
              <a:ext cx="74520" cy="320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0760"/>
                <a:gd name="textAreaBottom" fmla="*/ 320760 h 3207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9600" y="2571840"/>
              <a:ext cx="161640" cy="43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72680" y="2579760"/>
              <a:ext cx="82440" cy="360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86640" y="3665520"/>
              <a:ext cx="165240" cy="4316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59720" y="3673440"/>
              <a:ext cx="82800" cy="360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04120" y="2371680"/>
              <a:ext cx="165240" cy="430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12040" y="2379600"/>
              <a:ext cx="81000" cy="3621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9840" y="3019320"/>
              <a:ext cx="231840" cy="484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91680" y="2664000"/>
              <a:ext cx="230040" cy="485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72600" y="3184560"/>
              <a:ext cx="231840" cy="487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75840" y="3735360"/>
              <a:ext cx="228600" cy="487440"/>
            </a:xfrm>
            <a:custGeom>
              <a:avLst/>
              <a:gdLst>
                <a:gd name="textAreaLeft" fmla="*/ 0 w 228600"/>
                <a:gd name="textAreaRight" fmla="*/ 228600 w 2286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48680" y="2438280"/>
              <a:ext cx="231840" cy="4795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01040" y="2033640"/>
              <a:ext cx="230040" cy="4824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48680" y="1822320"/>
              <a:ext cx="231840" cy="484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38960" y="1249200"/>
              <a:ext cx="231840" cy="487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81960" y="1468440"/>
              <a:ext cx="208080" cy="433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04280" y="2664000"/>
              <a:ext cx="195120" cy="477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5440" y="2049480"/>
              <a:ext cx="195120" cy="4762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1474920"/>
              <a:ext cx="173160" cy="4269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63080" y="1281240"/>
              <a:ext cx="206280" cy="458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72440" y="1839960"/>
              <a:ext cx="206280" cy="458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78920" y="2457360"/>
              <a:ext cx="196920" cy="447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80360" y="3024360"/>
              <a:ext cx="200160" cy="447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6640" y="3162240"/>
              <a:ext cx="193680" cy="477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86640" y="3728880"/>
              <a:ext cx="193680" cy="478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64680" y="1697040"/>
              <a:ext cx="42840" cy="255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2760"/>
                <a:gd name="textAreaBottom" fmla="*/ 2553120 h 255276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82200" y="2157480"/>
              <a:ext cx="125280" cy="3315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86880" y="2166840"/>
              <a:ext cx="65160" cy="274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67800" y="3203640"/>
              <a:ext cx="142920" cy="368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75720" y="3209760"/>
              <a:ext cx="69840" cy="31140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75720" y="4125960"/>
              <a:ext cx="142920" cy="369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85080" y="4135320"/>
              <a:ext cx="68400" cy="306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918640" y="3062160"/>
              <a:ext cx="139680" cy="37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980560" y="3071880"/>
              <a:ext cx="71280" cy="307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907480" y="3613320"/>
              <a:ext cx="196920" cy="4158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18480" y="3284640"/>
              <a:ext cx="198360" cy="4125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13960" y="4165560"/>
              <a:ext cx="196560" cy="414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23160" y="3757680"/>
              <a:ext cx="196920" cy="4111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29640" y="4168800"/>
              <a:ext cx="198360" cy="4176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07480" y="3117960"/>
              <a:ext cx="196920" cy="417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09120" y="2735280"/>
              <a:ext cx="198360" cy="419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07480" y="2562120"/>
              <a:ext cx="196920" cy="414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904240" y="2097000"/>
              <a:ext cx="198360" cy="411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36120" y="2244600"/>
              <a:ext cx="176040" cy="370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37560" y="3284640"/>
              <a:ext cx="168480" cy="4093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28200" y="2749680"/>
              <a:ext cx="166680" cy="414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755200" y="2251080"/>
              <a:ext cx="147600" cy="363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904240" y="2122560"/>
              <a:ext cx="177840" cy="387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907480" y="2579760"/>
              <a:ext cx="177840" cy="388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907480" y="3137040"/>
              <a:ext cx="174600" cy="38088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80560" y="3344760"/>
              <a:ext cx="36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913960" y="3616200"/>
              <a:ext cx="171360" cy="3844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918640" y="4191120"/>
              <a:ext cx="171360" cy="38232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744040" y="3738600"/>
              <a:ext cx="168120" cy="4078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748720" y="4181400"/>
              <a:ext cx="168120" cy="411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889840" y="2440080"/>
              <a:ext cx="38160" cy="214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46320"/>
                <a:gd name="textAreaBottom" fmla="*/ 2146680 h 214632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15160" y="2736720"/>
            <a:ext cx="677880" cy="2414880"/>
            <a:chOff x="6815160" y="2736720"/>
            <a:chExt cx="677880" cy="2414880"/>
          </a:xfrm>
        </p:grpSpPr>
        <p:sp>
          <p:nvSpPr>
            <p:cNvPr id="490" name=""/>
            <p:cNvSpPr/>
            <p:nvPr/>
          </p:nvSpPr>
          <p:spPr>
            <a:xfrm>
              <a:off x="7223040" y="2898720"/>
              <a:ext cx="11160" cy="843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39160" y="3352680"/>
              <a:ext cx="74520" cy="154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4080"/>
                <a:gd name="textAreaBottom" fmla="*/ 154080 h 1540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37440" y="3220920"/>
              <a:ext cx="74520" cy="154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39160" y="353700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7440" y="3405240"/>
              <a:ext cx="74520" cy="155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7440" y="361332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39160" y="314496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37440" y="301320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39160" y="2946240"/>
              <a:ext cx="74520" cy="15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39160" y="2760840"/>
              <a:ext cx="74520" cy="155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37440" y="2814480"/>
              <a:ext cx="74520" cy="15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26400" y="2894040"/>
              <a:ext cx="7920" cy="657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9440" y="3246480"/>
              <a:ext cx="59040" cy="120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39000" y="314496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9440" y="3390840"/>
              <a:ext cx="59040" cy="120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39000" y="328788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9000" y="3449520"/>
              <a:ext cx="55440" cy="122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59440" y="3086280"/>
              <a:ext cx="59040" cy="1220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39000" y="298440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59440" y="2930400"/>
              <a:ext cx="59040" cy="122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9440" y="2787480"/>
              <a:ext cx="59040" cy="120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39000" y="2830680"/>
              <a:ext cx="55440" cy="118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15160" y="3255840"/>
              <a:ext cx="122040" cy="77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3840" y="4424400"/>
              <a:ext cx="168480" cy="350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50640"/>
                <a:gd name="textAreaBottom" fmla="*/ 350640 h 35064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08760" y="4467240"/>
              <a:ext cx="142920" cy="325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43760" y="2824200"/>
              <a:ext cx="108000" cy="277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91280" y="2832120"/>
              <a:ext cx="54000" cy="230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51680" y="3692520"/>
              <a:ext cx="117360" cy="311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05680" y="3697200"/>
              <a:ext cx="58680" cy="2602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43760" y="4483080"/>
              <a:ext cx="117360" cy="311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5960" y="4487760"/>
              <a:ext cx="59040" cy="2602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12000" y="3548160"/>
              <a:ext cx="117360" cy="309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09600"/>
                <a:gd name="textAreaBottom" fmla="*/ 309600 h 3096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16680" y="3554280"/>
              <a:ext cx="58680" cy="260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80320" y="4014720"/>
              <a:ext cx="164880" cy="351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3759120"/>
              <a:ext cx="166680" cy="349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32600" y="4135320"/>
              <a:ext cx="166680" cy="351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1000"/>
                <a:gd name="textAreaBottom" fmla="*/ 351000 h 3510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35840" y="4532400"/>
              <a:ext cx="163440" cy="352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2400" y="3595680"/>
              <a:ext cx="164880" cy="3459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53120" y="3303720"/>
              <a:ext cx="166680" cy="347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2400" y="3151080"/>
              <a:ext cx="164880" cy="349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64480" y="2736720"/>
              <a:ext cx="166680" cy="351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1000"/>
                <a:gd name="textAreaBottom" fmla="*/ 351000 h 3510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39080" y="2895480"/>
              <a:ext cx="150840" cy="312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56360" y="3759120"/>
              <a:ext cx="139680" cy="343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64280" y="3314880"/>
              <a:ext cx="139680" cy="344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4160"/>
                <a:gd name="textAreaBottom" fmla="*/ 344160 h 344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48440" y="2900520"/>
              <a:ext cx="125640" cy="307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81760" y="2760840"/>
              <a:ext cx="147600" cy="330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8240" y="3164040"/>
              <a:ext cx="149040" cy="33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2920" y="3608280"/>
              <a:ext cx="141120" cy="324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94360" y="4017960"/>
              <a:ext cx="142920" cy="324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43760" y="4119480"/>
              <a:ext cx="139680" cy="343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43760" y="4527720"/>
              <a:ext cx="139680" cy="344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4160"/>
                <a:gd name="textAreaBottom" fmla="*/ 344160 h 344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27920" y="3060720"/>
              <a:ext cx="30240" cy="1843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56520" y="3392640"/>
              <a:ext cx="88920" cy="239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59760" y="3400560"/>
              <a:ext cx="46080" cy="196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6800" y="4148280"/>
              <a:ext cx="101880" cy="2664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51840" y="415296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51840" y="4815000"/>
              <a:ext cx="102960" cy="2667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57960" y="4822920"/>
              <a:ext cx="49320" cy="220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54800" y="4046400"/>
              <a:ext cx="100080" cy="270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99440" y="405288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46880" y="4443480"/>
              <a:ext cx="141480" cy="3016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10440" y="4206960"/>
              <a:ext cx="142920" cy="298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51560" y="4843440"/>
              <a:ext cx="141480" cy="298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5120" y="4549680"/>
              <a:ext cx="141480" cy="295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18360" y="4846680"/>
              <a:ext cx="142920" cy="299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346880" y="4086360"/>
              <a:ext cx="141480" cy="301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1320"/>
                <a:gd name="textAreaBottom" fmla="*/ 301320 h 3013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03960" y="3809880"/>
              <a:ext cx="141480" cy="303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46880" y="3686040"/>
              <a:ext cx="141480" cy="298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43640" y="3349800"/>
              <a:ext cx="142920" cy="296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23040" y="3456000"/>
              <a:ext cx="127080" cy="266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24840" y="4206960"/>
              <a:ext cx="120600" cy="2952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18360" y="3821040"/>
              <a:ext cx="119160" cy="2984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36000" y="3460680"/>
              <a:ext cx="106200" cy="2620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3640" y="3367080"/>
              <a:ext cx="128880" cy="2793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46880" y="3697200"/>
              <a:ext cx="127080" cy="281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46880" y="4100400"/>
              <a:ext cx="125640" cy="274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9440" y="4251240"/>
              <a:ext cx="360" cy="3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1560" y="4446720"/>
              <a:ext cx="123840" cy="2775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54800" y="4862520"/>
              <a:ext cx="123840" cy="274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27720" y="4533840"/>
              <a:ext cx="122400" cy="29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0960" y="4854600"/>
              <a:ext cx="122400" cy="29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34280" y="3597120"/>
              <a:ext cx="27000" cy="1549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885080" y="2438280"/>
            <a:ext cx="1112760" cy="2194200"/>
            <a:chOff x="7885080" y="2438280"/>
            <a:chExt cx="1112760" cy="2194200"/>
          </a:xfrm>
        </p:grpSpPr>
        <p:sp>
          <p:nvSpPr>
            <p:cNvPr id="573" name=""/>
            <p:cNvSpPr/>
            <p:nvPr/>
          </p:nvSpPr>
          <p:spPr>
            <a:xfrm>
              <a:off x="8086680" y="2979720"/>
              <a:ext cx="223920" cy="333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63000" y="30099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201160" y="29527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85320" y="2952720"/>
              <a:ext cx="31680" cy="55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705880" y="2994120"/>
              <a:ext cx="223920" cy="330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826480" y="34275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790120" y="296856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4160" y="2963880"/>
              <a:ext cx="27000" cy="55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326700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37640" y="3289320"/>
              <a:ext cx="160200" cy="146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13920" y="3782880"/>
              <a:ext cx="74520" cy="849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53360" y="3741840"/>
              <a:ext cx="358920" cy="2397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89840" y="3243240"/>
              <a:ext cx="920880" cy="5652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80360" y="2857680"/>
              <a:ext cx="353880" cy="479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53360" y="3197160"/>
              <a:ext cx="368280" cy="179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36080" y="3722760"/>
              <a:ext cx="384120" cy="1760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18440" y="2438280"/>
              <a:ext cx="471600" cy="58104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470800" y="3002040"/>
              <a:ext cx="76320" cy="61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72520" y="30020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88280" y="3046320"/>
              <a:ext cx="343080" cy="20340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1120" y="3098880"/>
              <a:ext cx="228600" cy="44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02680" y="3038400"/>
              <a:ext cx="68040" cy="8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9480" y="3065400"/>
              <a:ext cx="59040" cy="795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05920" y="342432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58120" y="2739960"/>
              <a:ext cx="192240" cy="1382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299440" y="3772080"/>
              <a:ext cx="287280" cy="536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437680" y="3311640"/>
              <a:ext cx="14040" cy="446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34400" y="303516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91120" y="2989440"/>
            <a:ext cx="1827360" cy="3071520"/>
            <a:chOff x="5991120" y="2989440"/>
            <a:chExt cx="1827360" cy="3071520"/>
          </a:xfrm>
        </p:grpSpPr>
        <p:sp>
          <p:nvSpPr>
            <p:cNvPr id="602" name=""/>
            <p:cNvSpPr/>
            <p:nvPr/>
          </p:nvSpPr>
          <p:spPr>
            <a:xfrm>
              <a:off x="6070680" y="3478320"/>
              <a:ext cx="544320" cy="90936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62560" y="3613320"/>
              <a:ext cx="47880" cy="6192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69160" y="4929120"/>
              <a:ext cx="88920" cy="11318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31840"/>
                <a:gd name="textAreaBottom" fmla="*/ 1132200 h 11318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42000" y="4964040"/>
              <a:ext cx="581040" cy="3999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56360" y="4157640"/>
              <a:ext cx="1490760" cy="1069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54960" y="4197240"/>
              <a:ext cx="263520" cy="2444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91120" y="4197240"/>
              <a:ext cx="260280" cy="244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03840" y="3533760"/>
              <a:ext cx="574920" cy="78120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27960" y="4087800"/>
              <a:ext cx="595080" cy="29052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13480" y="2989440"/>
              <a:ext cx="795240" cy="82836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46760" y="3773520"/>
              <a:ext cx="117720" cy="856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08760" y="3773520"/>
              <a:ext cx="122400" cy="856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5640" y="3846600"/>
              <a:ext cx="560160" cy="3222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23000" y="3922560"/>
              <a:ext cx="372960" cy="730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32600" y="3836880"/>
              <a:ext cx="108000" cy="131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84840" y="3865680"/>
              <a:ext cx="88920" cy="139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39000" y="4459320"/>
              <a:ext cx="200160" cy="290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34160" y="3308400"/>
              <a:ext cx="316080" cy="2588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96160" y="4270320"/>
              <a:ext cx="28440" cy="722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97800" y="5003640"/>
              <a:ext cx="465120" cy="84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0" y="5181480"/>
            <a:ext cx="837252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892560" y="4800600"/>
            <a:ext cx="2248200" cy="2081160"/>
            <a:chOff x="6892560" y="4800600"/>
            <a:chExt cx="2248200" cy="2081160"/>
          </a:xfrm>
        </p:grpSpPr>
        <p:sp>
          <p:nvSpPr>
            <p:cNvPr id="624" name=""/>
            <p:cNvSpPr/>
            <p:nvPr/>
          </p:nvSpPr>
          <p:spPr>
            <a:xfrm flipH="1">
              <a:off x="7822440" y="5100480"/>
              <a:ext cx="614520" cy="1019160"/>
            </a:xfrm>
            <a:custGeom>
              <a:avLst/>
              <a:gdLst>
                <a:gd name="textAreaLeft" fmla="*/ -360 w 614520"/>
                <a:gd name="textAreaRight" fmla="*/ 614520 w 61452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115480" y="5199120"/>
              <a:ext cx="250560" cy="243000"/>
            </a:xfrm>
            <a:custGeom>
              <a:avLst/>
              <a:gdLst>
                <a:gd name="textAreaLeft" fmla="*/ 360 w 250560"/>
                <a:gd name="textAreaRight" fmla="*/ 251280 w 2505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897680" y="5319720"/>
              <a:ext cx="617760" cy="722160"/>
            </a:xfrm>
            <a:custGeom>
              <a:avLst/>
              <a:gdLst>
                <a:gd name="textAreaLeft" fmla="*/ 360 w 617760"/>
                <a:gd name="textAreaRight" fmla="*/ 618480 w 6177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273880" y="4800600"/>
              <a:ext cx="866880" cy="1438200"/>
            </a:xfrm>
            <a:custGeom>
              <a:avLst/>
              <a:gdLst>
                <a:gd name="textAreaLeft" fmla="*/ 360 w 866880"/>
                <a:gd name="textAreaRight" fmla="*/ 867600 w 86688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314560" y="5054760"/>
              <a:ext cx="825480" cy="1196640"/>
            </a:xfrm>
            <a:custGeom>
              <a:avLst/>
              <a:gdLst>
                <a:gd name="textAreaLeft" fmla="*/ -360 w 825480"/>
                <a:gd name="textAreaRight" fmla="*/ 825480 w 825480"/>
                <a:gd name="textAreaTop" fmla="*/ 0 h 1196640"/>
                <a:gd name="textAreaBottom" fmla="*/ 1197000 h 119664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325720" y="5145120"/>
              <a:ext cx="297000" cy="923760"/>
            </a:xfrm>
            <a:custGeom>
              <a:avLst/>
              <a:gdLst>
                <a:gd name="textAreaLeft" fmla="*/ -360 w 297000"/>
                <a:gd name="textAreaRight" fmla="*/ 297000 w 297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481960" y="5241960"/>
              <a:ext cx="185760" cy="801720"/>
            </a:xfrm>
            <a:custGeom>
              <a:avLst/>
              <a:gdLst>
                <a:gd name="textAreaLeft" fmla="*/ 360 w 185760"/>
                <a:gd name="textAreaRight" fmla="*/ 186480 w 1857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908920" y="5245200"/>
              <a:ext cx="122400" cy="85248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627400" y="4924440"/>
              <a:ext cx="328680" cy="279360"/>
            </a:xfrm>
            <a:custGeom>
              <a:avLst/>
              <a:gdLst>
                <a:gd name="textAreaLeft" fmla="*/ -360 w 328680"/>
                <a:gd name="textAreaRight" fmla="*/ 328680 w 3286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703720" y="4924440"/>
              <a:ext cx="277560" cy="3128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892200" y="5751360"/>
              <a:ext cx="933480" cy="1114560"/>
            </a:xfrm>
            <a:custGeom>
              <a:avLst/>
              <a:gdLst>
                <a:gd name="textAreaLeft" fmla="*/ -360 w 933480"/>
                <a:gd name="textAreaRight" fmla="*/ 933480 w 9334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899400" y="5948280"/>
              <a:ext cx="814320" cy="916200"/>
            </a:xfrm>
            <a:custGeom>
              <a:avLst/>
              <a:gdLst>
                <a:gd name="textAreaLeft" fmla="*/ 360 w 814320"/>
                <a:gd name="textAreaRight" fmla="*/ 815040 w 8143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420680" y="6116760"/>
              <a:ext cx="81000" cy="68256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093080" y="6300720"/>
              <a:ext cx="108000" cy="504720"/>
            </a:xfrm>
            <a:custGeom>
              <a:avLst/>
              <a:gdLst>
                <a:gd name="textAreaLeft" fmla="*/ 360 w 108000"/>
                <a:gd name="textAreaRight" fmla="*/ 108720 w 1080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132680" y="5802480"/>
              <a:ext cx="333360" cy="2984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919200" y="6145200"/>
              <a:ext cx="190440" cy="70812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17520" y="6043680"/>
              <a:ext cx="225720" cy="814320"/>
            </a:xfrm>
            <a:custGeom>
              <a:avLst/>
              <a:gdLst>
                <a:gd name="textAreaLeft" fmla="*/ -360 w 225720"/>
                <a:gd name="textAreaRight" fmla="*/ 225720 w 2257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887600" y="5372280"/>
              <a:ext cx="190440" cy="59976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072280" y="5432400"/>
              <a:ext cx="74880" cy="511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88280" y="5321160"/>
              <a:ext cx="1751040" cy="1544760"/>
            </a:xfrm>
            <a:custGeom>
              <a:avLst/>
              <a:gdLst>
                <a:gd name="textAreaLeft" fmla="*/ 360 w 1751040"/>
                <a:gd name="textAreaRight" fmla="*/ 1751760 w 175104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7400160" y="5730840"/>
              <a:ext cx="1739880" cy="1135080"/>
            </a:xfrm>
            <a:custGeom>
              <a:avLst/>
              <a:gdLst>
                <a:gd name="textAreaLeft" fmla="*/ -360 w 1739880"/>
                <a:gd name="textAreaRight" fmla="*/ 1739880 w 1739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037360" y="5423040"/>
              <a:ext cx="973440" cy="71748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477200" y="5935680"/>
              <a:ext cx="465120" cy="93024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570160" y="5437080"/>
              <a:ext cx="82440" cy="40824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8083440" y="6145200"/>
              <a:ext cx="238320" cy="72072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053560" y="6121440"/>
              <a:ext cx="296640" cy="744480"/>
            </a:xfrm>
            <a:custGeom>
              <a:avLst/>
              <a:gdLst>
                <a:gd name="textAreaLeft" fmla="*/ 0 w 296640"/>
                <a:gd name="textAreaRight" fmla="*/ 296640 w 2966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915400" y="6186600"/>
              <a:ext cx="225360" cy="679320"/>
            </a:xfrm>
            <a:custGeom>
              <a:avLst/>
              <a:gdLst>
                <a:gd name="textAreaLeft" fmla="*/ 360 w 225360"/>
                <a:gd name="textAreaRight" fmla="*/ 226080 w 22536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883720" y="6165720"/>
              <a:ext cx="257040" cy="7002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8416800" y="5489640"/>
              <a:ext cx="44640" cy="30636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222320" y="6251400"/>
              <a:ext cx="779400" cy="614520"/>
            </a:xfrm>
            <a:custGeom>
              <a:avLst/>
              <a:gdLst>
                <a:gd name="textAreaLeft" fmla="*/ -360 w 779400"/>
                <a:gd name="textAreaRight" fmla="*/ 779400 w 7794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412040" y="6391440"/>
              <a:ext cx="380880" cy="12996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229520" y="6380280"/>
              <a:ext cx="728640" cy="501480"/>
            </a:xfrm>
            <a:custGeom>
              <a:avLst/>
              <a:gdLst>
                <a:gd name="textAreaLeft" fmla="*/ 360 w 728640"/>
                <a:gd name="textAreaRight" fmla="*/ 729360 w 7286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256520" y="6413400"/>
              <a:ext cx="712800" cy="463680"/>
            </a:xfrm>
            <a:custGeom>
              <a:avLst/>
              <a:gdLst>
                <a:gd name="textAreaLeft" fmla="*/ 360 w 712800"/>
                <a:gd name="textAreaRight" fmla="*/ 713520 w 7128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516800" y="6310440"/>
              <a:ext cx="177840" cy="236520"/>
            </a:xfrm>
            <a:custGeom>
              <a:avLst/>
              <a:gdLst>
                <a:gd name="textAreaLeft" fmla="*/ 360 w 177840"/>
                <a:gd name="textAreaRight" fmla="*/ 178560 w 1778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00240" y="6323040"/>
              <a:ext cx="190440" cy="23184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043120" y="5769000"/>
              <a:ext cx="414360" cy="182520"/>
            </a:xfrm>
            <a:custGeom>
              <a:avLst/>
              <a:gdLst>
                <a:gd name="textAreaLeft" fmla="*/ -360 w 414360"/>
                <a:gd name="textAreaRight" fmla="*/ 414360 w 414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-1440" y="3798720"/>
            <a:ext cx="3289320" cy="3083040"/>
            <a:chOff x="-1440" y="3798720"/>
            <a:chExt cx="3289320" cy="3083040"/>
          </a:xfrm>
        </p:grpSpPr>
        <p:grpSp>
          <p:nvGrpSpPr>
            <p:cNvPr id="661" name=""/>
            <p:cNvGrpSpPr/>
            <p:nvPr/>
          </p:nvGrpSpPr>
          <p:grpSpPr>
            <a:xfrm>
              <a:off x="0" y="3798720"/>
              <a:ext cx="2652840" cy="3075120"/>
              <a:chOff x="0" y="3798720"/>
              <a:chExt cx="2652840" cy="3075120"/>
            </a:xfrm>
          </p:grpSpPr>
          <p:sp>
            <p:nvSpPr>
              <p:cNvPr id="662" name=""/>
              <p:cNvSpPr/>
              <p:nvPr/>
            </p:nvSpPr>
            <p:spPr>
              <a:xfrm>
                <a:off x="941400" y="3946680"/>
                <a:ext cx="799920" cy="1116000"/>
              </a:xfrm>
              <a:custGeom>
                <a:avLst/>
                <a:gdLst>
                  <a:gd name="textAreaLeft" fmla="*/ 0 w 799920"/>
                  <a:gd name="textAreaRight" fmla="*/ 800280 w 799920"/>
                  <a:gd name="textAreaTop" fmla="*/ 0 h 1116000"/>
                  <a:gd name="textAreaBottom" fmla="*/ 1116360 h 111600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82720" y="4076640"/>
                <a:ext cx="825480" cy="99396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54040" y="4156200"/>
                <a:ext cx="241560" cy="76356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19120" y="4235400"/>
                <a:ext cx="147600" cy="6652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665280"/>
                  <a:gd name="textAreaBottom" fmla="*/ 665640 h 66528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74680" y="3962520"/>
                <a:ext cx="309600" cy="2570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52360" y="3962520"/>
                <a:ext cx="263520" cy="28728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80" y="3924360"/>
                <a:ext cx="1101600" cy="121428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1214280"/>
                  <a:gd name="textAreaBottom" fmla="*/ 1214640 h 121428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40" y="4060800"/>
                <a:ext cx="379440" cy="93816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938160"/>
                  <a:gd name="textAreaBottom" fmla="*/ 938520 h 9381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120" y="4127400"/>
                <a:ext cx="118800" cy="8463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8800" y="3798720"/>
                <a:ext cx="328680" cy="2858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6680" y="3813120"/>
                <a:ext cx="299880" cy="29844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243080" y="4132440"/>
                <a:ext cx="1195200" cy="15620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290600" y="4351320"/>
                <a:ext cx="1193760" cy="1355760"/>
              </a:xfrm>
              <a:custGeom>
                <a:avLst/>
                <a:gdLst>
                  <a:gd name="textAreaLeft" fmla="*/ 0 w 1193760"/>
                  <a:gd name="textAreaRight" fmla="*/ 1194120 w 119376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7640" y="4160880"/>
                <a:ext cx="551160" cy="398520"/>
              </a:xfrm>
              <a:custGeom>
                <a:avLst/>
                <a:gdLst>
                  <a:gd name="textAreaLeft" fmla="*/ 0 w 551160"/>
                  <a:gd name="textAreaRight" fmla="*/ 551520 w 5511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05040" y="4221000"/>
                <a:ext cx="28440" cy="200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547640" y="4349880"/>
                <a:ext cx="192240" cy="81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09880" y="4540320"/>
                <a:ext cx="215640" cy="9637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03400" y="4535640"/>
                <a:ext cx="222120" cy="9111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55800" y="4581360"/>
                <a:ext cx="212760" cy="8305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30520"/>
                  <a:gd name="textAreaBottom" fmla="*/ 830880 h 83052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920960" y="4570560"/>
                <a:ext cx="154080" cy="841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68520" y="4543560"/>
                <a:ext cx="168120" cy="86976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17760" y="4527720"/>
                <a:ext cx="174600" cy="8697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79440" y="4479840"/>
                <a:ext cx="263520" cy="8305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830520"/>
                  <a:gd name="textAreaBottom" fmla="*/ 830880 h 83052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85920" y="4467240"/>
                <a:ext cx="214200" cy="7952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795240"/>
                  <a:gd name="textAreaBottom" fmla="*/ 795600 h 79524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917880"/>
                <a:ext cx="1925640" cy="2386080"/>
              </a:xfrm>
              <a:custGeom>
                <a:avLst/>
                <a:gdLst>
                  <a:gd name="textAreaLeft" fmla="*/ 0 w 1925640"/>
                  <a:gd name="textAreaRight" fmla="*/ 1926000 w 1925640"/>
                  <a:gd name="textAreaTop" fmla="*/ 0 h 2386080"/>
                  <a:gd name="textAreaBottom" fmla="*/ 2386440 h 238608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1680" y="4240080"/>
                <a:ext cx="1949400" cy="186084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860840"/>
                  <a:gd name="textAreaBottom" fmla="*/ 1860840 h 186084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4440" y="3946680"/>
                <a:ext cx="849240" cy="6127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95400" y="3997440"/>
                <a:ext cx="58680" cy="369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4440" y="4232160"/>
                <a:ext cx="363600" cy="1620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95360" y="6162840"/>
                <a:ext cx="19080" cy="14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80960" y="4594320"/>
                <a:ext cx="428760" cy="156672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1566720"/>
                  <a:gd name="textAreaBottom" fmla="*/ 1567080 h 156672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93680" y="4670280"/>
                <a:ext cx="398520" cy="15559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555920"/>
                  <a:gd name="textAreaBottom" fmla="*/ 1556280 h 155592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49240" y="4002120"/>
                <a:ext cx="154080" cy="73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920" y="4494240"/>
                <a:ext cx="1751040" cy="1714320"/>
              </a:xfrm>
              <a:custGeom>
                <a:avLst/>
                <a:gdLst>
                  <a:gd name="textAreaLeft" fmla="*/ 0 w 1751040"/>
                  <a:gd name="textAreaRight" fmla="*/ 1751400 w 1751040"/>
                  <a:gd name="textAreaTop" fmla="*/ 0 h 1714320"/>
                  <a:gd name="textAreaBottom" fmla="*/ 1714680 h 171432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4600" y="4824360"/>
                <a:ext cx="2208240" cy="2049480"/>
              </a:xfrm>
              <a:custGeom>
                <a:avLst/>
                <a:gdLst>
                  <a:gd name="textAreaLeft" fmla="*/ 0 w 2208240"/>
                  <a:gd name="textAreaRight" fmla="*/ 2208600 w 2208240"/>
                  <a:gd name="textAreaTop" fmla="*/ 0 h 2049480"/>
                  <a:gd name="textAreaBottom" fmla="*/ 2049840 h 204948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14440" y="5303880"/>
                <a:ext cx="2022480" cy="1569960"/>
              </a:xfrm>
              <a:custGeom>
                <a:avLst/>
                <a:gdLst>
                  <a:gd name="textAreaLeft" fmla="*/ 0 w 2022480"/>
                  <a:gd name="textAreaRight" fmla="*/ 2022840 w 202248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63800" y="4881600"/>
                <a:ext cx="949320" cy="752400"/>
              </a:xfrm>
              <a:custGeom>
                <a:avLst/>
                <a:gdLst>
                  <a:gd name="textAreaLeft" fmla="*/ 0 w 949320"/>
                  <a:gd name="textAreaRight" fmla="*/ 949680 w 949320"/>
                  <a:gd name="textAreaTop" fmla="*/ 0 h 752400"/>
                  <a:gd name="textAreaBottom" fmla="*/ 752760 h 7524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411200" y="5010120"/>
                <a:ext cx="63720" cy="4143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6680" y="5278320"/>
                <a:ext cx="406440" cy="17460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1640" y="5589720"/>
                <a:ext cx="368280" cy="12841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1284120"/>
                  <a:gd name="textAreaBottom" fmla="*/ 1284480 h 128412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3200" y="5575320"/>
                <a:ext cx="412560" cy="129852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1298520"/>
                  <a:gd name="textAreaBottom" fmla="*/ 1298880 h 129852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0720" y="5597640"/>
                <a:ext cx="203040" cy="1276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276200"/>
                  <a:gd name="textAreaBottom" fmla="*/ 1276560 h 127620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57240" y="5568840"/>
                <a:ext cx="268200" cy="13050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305000"/>
                  <a:gd name="textAreaBottom" fmla="*/ 1305360 h 130500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35200" y="5589720"/>
                <a:ext cx="234720" cy="12841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84120"/>
                  <a:gd name="textAreaBottom" fmla="*/ 1284480 h 128412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08200" y="5546880"/>
                <a:ext cx="312840" cy="132696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68480" y="5594400"/>
                <a:ext cx="474840" cy="12794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025720" y="5527800"/>
                <a:ext cx="450720" cy="134604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1346040"/>
                  <a:gd name="textAreaBottom" fmla="*/ 1346400 h 13460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1929960" y="4917960"/>
              <a:ext cx="1063800" cy="1193760"/>
              <a:chOff x="1929960" y="4917960"/>
              <a:chExt cx="1063800" cy="1193760"/>
            </a:xfrm>
          </p:grpSpPr>
          <p:sp>
            <p:nvSpPr>
              <p:cNvPr id="710" name=""/>
              <p:cNvSpPr/>
              <p:nvPr/>
            </p:nvSpPr>
            <p:spPr>
              <a:xfrm flipH="1">
                <a:off x="1929600" y="4917960"/>
                <a:ext cx="1063800" cy="11937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974960" y="5162400"/>
                <a:ext cx="968400" cy="94932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2219400" y="4935600"/>
                <a:ext cx="466560" cy="38412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390760" y="5002200"/>
                <a:ext cx="30240" cy="21132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2486880" y="5138640"/>
                <a:ext cx="198360" cy="8748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2191680" y="5388120"/>
                <a:ext cx="111240" cy="72360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2181240" y="5375160"/>
                <a:ext cx="117360" cy="73656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549520" y="5346720"/>
                <a:ext cx="114480" cy="76500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2536200" y="5335560"/>
                <a:ext cx="144360" cy="77616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-1440" y="4979880"/>
              <a:ext cx="1427040" cy="1901880"/>
              <a:chOff x="-1440" y="4979880"/>
              <a:chExt cx="1427040" cy="1901880"/>
            </a:xfrm>
          </p:grpSpPr>
          <p:sp>
            <p:nvSpPr>
              <p:cNvPr id="720" name=""/>
              <p:cNvSpPr/>
              <p:nvPr/>
            </p:nvSpPr>
            <p:spPr>
              <a:xfrm>
                <a:off x="-1440" y="4979880"/>
                <a:ext cx="1427040" cy="190188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-1440" y="5361120"/>
                <a:ext cx="1336680" cy="152064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1040" y="5465880"/>
                <a:ext cx="457200" cy="141588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7960" y="5630760"/>
                <a:ext cx="347400" cy="1208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1208160"/>
                  <a:gd name="textAreaBottom" fmla="*/ 1208520 h 120816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9280" y="5630760"/>
                <a:ext cx="157320" cy="115596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155960"/>
                  <a:gd name="textAreaBottom" fmla="*/ 1156320 h 115596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1680" y="5102280"/>
                <a:ext cx="541440" cy="46044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0280" y="5102280"/>
                <a:ext cx="459000" cy="51444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1698480" y="5597640"/>
              <a:ext cx="1589400" cy="1272960"/>
              <a:chOff x="1698480" y="5597640"/>
              <a:chExt cx="1589400" cy="1272960"/>
            </a:xfrm>
          </p:grpSpPr>
          <p:sp>
            <p:nvSpPr>
              <p:cNvPr id="728" name=""/>
              <p:cNvSpPr/>
              <p:nvPr/>
            </p:nvSpPr>
            <p:spPr>
              <a:xfrm>
                <a:off x="1698480" y="5597640"/>
                <a:ext cx="1589400" cy="1272960"/>
              </a:xfrm>
              <a:custGeom>
                <a:avLst/>
                <a:gdLst>
                  <a:gd name="textAreaLeft" fmla="*/ 0 w 1589400"/>
                  <a:gd name="textAreaRight" fmla="*/ 1589760 w 1589400"/>
                  <a:gd name="textAreaTop" fmla="*/ 0 h 1272960"/>
                  <a:gd name="textAreaBottom" fmla="*/ 1273320 h 127296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25800" y="5864400"/>
                <a:ext cx="777600" cy="26172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89200" y="5786280"/>
                <a:ext cx="1487520" cy="1084320"/>
              </a:xfrm>
              <a:custGeom>
                <a:avLst/>
                <a:gdLst>
                  <a:gd name="textAreaLeft" fmla="*/ 0 w 1487520"/>
                  <a:gd name="textAreaRight" fmla="*/ 1487880 w 148752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65440" y="5910120"/>
                <a:ext cx="1455480" cy="96048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960480"/>
                  <a:gd name="textAreaBottom" fmla="*/ 960840 h 96048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27400" y="5700600"/>
                <a:ext cx="363240" cy="47808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332080" y="5727600"/>
                <a:ext cx="388800" cy="4669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-120960" y="237240"/>
            <a:ext cx="1405440" cy="1442160"/>
            <a:chOff x="-120960" y="237240"/>
            <a:chExt cx="1405440" cy="1442160"/>
          </a:xfrm>
        </p:grpSpPr>
        <p:sp>
          <p:nvSpPr>
            <p:cNvPr id="735" name=""/>
            <p:cNvSpPr/>
            <p:nvPr/>
          </p:nvSpPr>
          <p:spPr>
            <a:xfrm rot="19920000">
              <a:off x="77400" y="409680"/>
              <a:ext cx="1008360" cy="109728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97280"/>
                <a:gd name="textAreaBottom" fmla="*/ 1097640 h 1097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9920000">
              <a:off x="140040" y="477720"/>
              <a:ext cx="852480" cy="891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920000">
              <a:off x="535320" y="709200"/>
              <a:ext cx="141120" cy="618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9920000">
              <a:off x="343800" y="945360"/>
              <a:ext cx="272880" cy="2998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9920000">
              <a:off x="542160" y="1272600"/>
              <a:ext cx="236520" cy="82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9920000">
              <a:off x="681480" y="895680"/>
              <a:ext cx="332640" cy="23184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920000">
              <a:off x="789120" y="1147320"/>
              <a:ext cx="318600" cy="1029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9920000">
              <a:off x="758160" y="1344960"/>
              <a:ext cx="159840" cy="2134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8697240" y="386280"/>
            <a:ext cx="405360" cy="484200"/>
            <a:chOff x="8697240" y="386280"/>
            <a:chExt cx="405360" cy="484200"/>
          </a:xfrm>
        </p:grpSpPr>
        <p:sp>
          <p:nvSpPr>
            <p:cNvPr id="744" name=""/>
            <p:cNvSpPr/>
            <p:nvPr/>
          </p:nvSpPr>
          <p:spPr>
            <a:xfrm rot="5820000">
              <a:off x="8677440" y="451440"/>
              <a:ext cx="444240" cy="3538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820000">
              <a:off x="8723160" y="490320"/>
              <a:ext cx="376560" cy="2883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820000">
              <a:off x="8855640" y="522360"/>
              <a:ext cx="60840" cy="1998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820000">
              <a:off x="8823240" y="502920"/>
              <a:ext cx="119880" cy="964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820000">
              <a:off x="8747280" y="542520"/>
              <a:ext cx="105840" cy="241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5820000">
              <a:off x="8770680" y="680760"/>
              <a:ext cx="145440" cy="723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5820000">
              <a:off x="8711280" y="677880"/>
              <a:ext cx="141840" cy="327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820000">
              <a:off x="8701200" y="547920"/>
              <a:ext cx="69120" cy="673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7640" y="3049560"/>
            <a:ext cx="288720" cy="361800"/>
            <a:chOff x="17640" y="3049560"/>
            <a:chExt cx="288720" cy="361800"/>
          </a:xfrm>
        </p:grpSpPr>
        <p:sp>
          <p:nvSpPr>
            <p:cNvPr id="753" name=""/>
            <p:cNvSpPr/>
            <p:nvPr/>
          </p:nvSpPr>
          <p:spPr>
            <a:xfrm>
              <a:off x="252360" y="3060720"/>
              <a:ext cx="54000" cy="100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640" y="3049560"/>
              <a:ext cx="288720" cy="3618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80" y="3049560"/>
              <a:ext cx="253800" cy="3430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680" y="3157560"/>
              <a:ext cx="144360" cy="10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280" y="3203640"/>
              <a:ext cx="39960" cy="139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2080" y="3182760"/>
              <a:ext cx="25200" cy="82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9520" y="3087720"/>
              <a:ext cx="36720" cy="71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8520" y="3114720"/>
              <a:ext cx="96840" cy="61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"/>
          </p:nvPr>
        </p:nvSpPr>
        <p:spPr>
          <a:xfrm>
            <a:off x="6656400" y="6602040"/>
            <a:ext cx="7192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141560" y="6602400"/>
            <a:ext cx="5233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4"/>
          </p:nvPr>
        </p:nvSpPr>
        <p:spPr>
          <a:xfrm>
            <a:off x="7516800" y="6602040"/>
            <a:ext cx="4795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E4B09A-A582-4DC7-BF19-01B5EE8F6100}" type="slidenum">
              <a: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143000" y="14400"/>
            <a:ext cx="6850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ial Black"/>
              </a:rPr>
              <a:t>The World of 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1680" y="1428840"/>
            <a:ext cx="2293920" cy="1550880"/>
            <a:chOff x="571680" y="1428840"/>
            <a:chExt cx="2293920" cy="1550880"/>
          </a:xfrm>
        </p:grpSpPr>
        <p:pic>
          <p:nvPicPr>
            <p:cNvPr id="804" name="" descr=""/>
            <p:cNvPicPr/>
            <p:nvPr/>
          </p:nvPicPr>
          <p:blipFill>
            <a:blip r:embed="rId1"/>
            <a:stretch/>
          </p:blipFill>
          <p:spPr>
            <a:xfrm>
              <a:off x="571680" y="1428840"/>
              <a:ext cx="229392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71680" y="1428840"/>
              <a:ext cx="229392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6215040" y="1643040"/>
            <a:ext cx="2097000" cy="15717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3071880" y="1428840"/>
            <a:ext cx="1326960" cy="20016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571680" y="3143160"/>
            <a:ext cx="2320920" cy="1857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2928960" y="40006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5000760" y="3071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6572160" y="4572000"/>
            <a:ext cx="227484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803240" y="1486080"/>
            <a:ext cx="5535720" cy="4151160"/>
            <a:chOff x="1803240" y="1486080"/>
            <a:chExt cx="5535720" cy="4151160"/>
          </a:xfrm>
        </p:grpSpPr>
        <p:pic>
          <p:nvPicPr>
            <p:cNvPr id="851" name="" descr=""/>
            <p:cNvPicPr/>
            <p:nvPr/>
          </p:nvPicPr>
          <p:blipFill>
            <a:blip r:embed="rId1"/>
            <a:stretch/>
          </p:blipFill>
          <p:spPr>
            <a:xfrm>
              <a:off x="1803240" y="1486080"/>
              <a:ext cx="55357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1803240" y="1486080"/>
              <a:ext cx="553572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095560" y="1695600"/>
            <a:ext cx="4951440" cy="3732120"/>
            <a:chOff x="2095560" y="1695600"/>
            <a:chExt cx="4951440" cy="3732120"/>
          </a:xfrm>
        </p:grpSpPr>
        <p:pic>
          <p:nvPicPr>
            <p:cNvPr id="855" name="" descr=""/>
            <p:cNvPicPr/>
            <p:nvPr/>
          </p:nvPicPr>
          <p:blipFill>
            <a:blip r:embed="rId1"/>
            <a:stretch/>
          </p:blipFill>
          <p:spPr>
            <a:xfrm>
              <a:off x="2095560" y="1695600"/>
              <a:ext cx="4951440" cy="37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2095560" y="1695600"/>
              <a:ext cx="4951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976400" y="1486080"/>
            <a:ext cx="5189400" cy="4151160"/>
            <a:chOff x="1976400" y="1486080"/>
            <a:chExt cx="5189400" cy="4151160"/>
          </a:xfrm>
        </p:grpSpPr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976400" y="1486080"/>
              <a:ext cx="51894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"/>
            <p:cNvSpPr/>
            <p:nvPr/>
          </p:nvSpPr>
          <p:spPr>
            <a:xfrm>
              <a:off x="1976400" y="1486080"/>
              <a:ext cx="518940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0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657440" y="1590840"/>
            <a:ext cx="5827680" cy="3941640"/>
            <a:chOff x="1657440" y="1590840"/>
            <a:chExt cx="5827680" cy="3941640"/>
          </a:xfrm>
        </p:grpSpPr>
        <p:pic>
          <p:nvPicPr>
            <p:cNvPr id="863" name="" descr=""/>
            <p:cNvPicPr/>
            <p:nvPr/>
          </p:nvPicPr>
          <p:blipFill>
            <a:blip r:embed="rId1"/>
            <a:stretch/>
          </p:blipFill>
          <p:spPr>
            <a:xfrm>
              <a:off x="1657440" y="1590840"/>
              <a:ext cx="582768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1657440" y="1590840"/>
              <a:ext cx="5827680" cy="39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0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803240" y="1486080"/>
            <a:ext cx="5535720" cy="4151160"/>
            <a:chOff x="1803240" y="1486080"/>
            <a:chExt cx="5535720" cy="4151160"/>
          </a:xfrm>
        </p:grpSpPr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03240" y="1486080"/>
              <a:ext cx="55357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1803240" y="1486080"/>
              <a:ext cx="553572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 fill="hold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714760" y="762120"/>
            <a:ext cx="3233520" cy="4875120"/>
            <a:chOff x="2714760" y="762120"/>
            <a:chExt cx="3233520" cy="4875120"/>
          </a:xfrm>
        </p:grpSpPr>
        <p:pic>
          <p:nvPicPr>
            <p:cNvPr id="871" name="" descr=""/>
            <p:cNvPicPr/>
            <p:nvPr/>
          </p:nvPicPr>
          <p:blipFill>
            <a:blip r:embed="rId1"/>
            <a:stretch/>
          </p:blipFill>
          <p:spPr>
            <a:xfrm>
              <a:off x="2714760" y="762120"/>
              <a:ext cx="323352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2714760" y="762120"/>
              <a:ext cx="3233520" cy="48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0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 fill="hold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146240" y="2411280"/>
            <a:ext cx="3359160" cy="2271960"/>
            <a:chOff x="1146240" y="2411280"/>
            <a:chExt cx="3359160" cy="2271960"/>
          </a:xfrm>
        </p:grpSpPr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>
              <a:off x="1146240" y="2411280"/>
              <a:ext cx="335916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1146240" y="2411280"/>
              <a:ext cx="335916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4714920" y="1500120"/>
            <a:ext cx="3360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ишка косолапый ходит еле-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ишка, медвежонок по-английски …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bear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146240" y="2287440"/>
            <a:ext cx="3359160" cy="2519640"/>
            <a:chOff x="1146240" y="2287440"/>
            <a:chExt cx="3359160" cy="251964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1146240" y="2287440"/>
              <a:ext cx="33591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1146240" y="2287440"/>
              <a:ext cx="33591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632480" y="1486080"/>
            <a:ext cx="33606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У кого пушистый  хво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У лисички ил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 fill="hold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459080" y="1486080"/>
            <a:ext cx="2733480" cy="4122720"/>
            <a:chOff x="1459080" y="1486080"/>
            <a:chExt cx="2733480" cy="4122720"/>
          </a:xfrm>
        </p:grpSpPr>
        <p:pic>
          <p:nvPicPr>
            <p:cNvPr id="824" name="" descr=""/>
            <p:cNvPicPr/>
            <p:nvPr/>
          </p:nvPicPr>
          <p:blipFill>
            <a:blip r:embed="rId1"/>
            <a:stretch/>
          </p:blipFill>
          <p:spPr>
            <a:xfrm>
              <a:off x="1459080" y="1486080"/>
              <a:ext cx="2733480" cy="41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1459080" y="1486080"/>
              <a:ext cx="2733480" cy="41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632480" y="1486080"/>
            <a:ext cx="336060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omic Sans MS"/>
              </a:rPr>
              <a:t>Мартышку, по-английски </a:t>
            </a:r>
            <a:r>
              <a:rPr b="1" lang="en-US" sz="3300" spc="-1" strike="noStrike">
                <a:solidFill>
                  <a:srgbClr val="ff0000"/>
                </a:solidFill>
                <a:latin typeface="Comic Sans MS"/>
              </a:rPr>
              <a:t>monkey</a:t>
            </a:r>
            <a:r>
              <a:rPr b="1" lang="ru-RU" sz="33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omic Sans MS"/>
              </a:rPr>
              <a:t>Дразнили в зоопарке </a:t>
            </a:r>
            <a:r>
              <a:rPr b="1" lang="ru-RU" sz="3300" spc="-1" strike="noStrike">
                <a:solidFill>
                  <a:srgbClr val="ff0000"/>
                </a:solidFill>
                <a:latin typeface="Comic Sans MS"/>
              </a:rPr>
              <a:t>пан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0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146240" y="2203560"/>
            <a:ext cx="3359160" cy="2687400"/>
            <a:chOff x="1146240" y="2203560"/>
            <a:chExt cx="3359160" cy="2687400"/>
          </a:xfrm>
        </p:grpSpPr>
        <p:pic>
          <p:nvPicPr>
            <p:cNvPr id="829" name="" descr=""/>
            <p:cNvPicPr/>
            <p:nvPr/>
          </p:nvPicPr>
          <p:blipFill>
            <a:blip r:embed="rId1"/>
            <a:stretch/>
          </p:blipFill>
          <p:spPr>
            <a:xfrm>
              <a:off x="1146240" y="2203560"/>
              <a:ext cx="3359160" cy="26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1146240" y="2203560"/>
              <a:ext cx="3359160" cy="26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632480" y="1486080"/>
            <a:ext cx="3360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ем станет в будущем щен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обакой, по-английски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og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146240" y="2287440"/>
            <a:ext cx="3359160" cy="2519640"/>
            <a:chOff x="1146240" y="2287440"/>
            <a:chExt cx="3359160" cy="2519640"/>
          </a:xfrm>
        </p:grpSpPr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1146240" y="2287440"/>
              <a:ext cx="33591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1146240" y="2287440"/>
              <a:ext cx="33591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632480" y="1486080"/>
            <a:ext cx="336060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«я прекрасна, спору нет»-говорила кошка-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146240" y="1486080"/>
            <a:ext cx="33606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268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268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32480" y="1486080"/>
            <a:ext cx="336060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Увидел льва и поднял лай 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Лев по-английски э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28760" y="2286000"/>
            <a:ext cx="4205160" cy="3170160"/>
            <a:chOff x="428760" y="2286000"/>
            <a:chExt cx="4205160" cy="3170160"/>
          </a:xfrm>
        </p:grpSpPr>
        <p:pic>
          <p:nvPicPr>
            <p:cNvPr id="843" name="" descr=""/>
            <p:cNvPicPr/>
            <p:nvPr/>
          </p:nvPicPr>
          <p:blipFill>
            <a:blip r:embed="rId1"/>
            <a:stretch/>
          </p:blipFill>
          <p:spPr>
            <a:xfrm>
              <a:off x="428760" y="2286000"/>
              <a:ext cx="420516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428760" y="2286000"/>
              <a:ext cx="420516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4632480" y="1486080"/>
            <a:ext cx="336060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Чистым был, стал грязным вмиг, поросёнок или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46240" y="1486080"/>
            <a:ext cx="68515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047000" cy="528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0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3T18:27:26Z</dcterms:modified>
  <cp:revision>10</cp:revision>
  <dc:subject/>
  <dc:title>Animals World</dc:title>
</cp:coreProperties>
</file>