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9.gif" ContentType="image/gif"/>
  <Override PartName="/ppt/media/image13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10.wmf" ContentType="image/x-wmf"/>
  <Override PartName="/ppt/media/image19.jpeg" ContentType="image/jpeg"/>
  <Override PartName="/ppt/media/image1.jpeg" ContentType="image/jpeg"/>
  <Override PartName="/ppt/media/image4.wmf" ContentType="image/x-wmf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11.gif" ContentType="image/gif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AD8E-470F-4F74-A289-37ECB33443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74BD-DF6A-4767-8094-55D7B04E25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03AF-FB00-4DDE-8849-FE2871A07D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886E-739E-4AB5-9EB2-1E85B586F2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20F2-E6BA-4DAE-8D50-7A4EE7FC24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2342-F537-4691-90EC-8F3DCE16C8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7076-BC46-426A-BB42-C2D05DB87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CC6A-20B5-434D-86E0-24F58014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76485D-2303-4BED-91A6-2560A6C7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70856E-A1E3-4D7E-B78A-AA2561F4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14B20A-FB43-404E-B64C-8915CBF1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3D9896-D699-4DB6-A2E4-65777FF5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689135-7792-4EF8-B8CD-6CB3B4D5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4049F4-7CE3-469C-88C5-4948A8A9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A33832-7FE8-4B53-A64E-6F63DBA6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638711-7CA2-449A-A5E0-D8C346FD4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F47860-4249-4EDB-8C83-7D7640261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A3A4F0-F087-4A44-9300-72811D798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4BD4-9C66-4B43-AF34-7D2358015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C37900-B313-48CB-91BB-5D3E5D4B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049C42-24D8-45F3-9F46-B3B9BACD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62A251-7E0C-47C9-85D7-C1705235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94B5AF-7A2B-4678-8B53-99796E17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741031-2651-4471-8953-5E8CC360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B6FD10-4F2A-4EA6-9A60-F773F2AF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BDB7AE-E5E3-492C-A178-E140C031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09E4A8-C0A2-4F19-AF73-8CBF3AD6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6D6BAC-8F8F-493D-B4D8-1C42F3C2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226775-E8BE-4E9E-8AE1-65F867105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69D8-BA0D-4B5E-A516-27D113D7E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D7423C-865C-4F9F-B72C-CB8DE7A7A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6DE1EA3-C703-44F1-B970-2686A117B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1EF9B83-92E3-47AD-9D00-70CE7CCE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BE624B7-C968-40BA-B13D-505798F4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E6CCA76-6602-4BB7-85B5-0197945B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195499F-774B-4C29-A5FB-DE880566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660BCAB-7ED6-4FC8-8107-21A2BE4E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273A1D7-E4B8-4671-B7F5-58212AB9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BB9A68D-EBC0-4B33-AD66-B6D824DA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73F3EFF-48B8-47E8-B9E8-82BE16EC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59260-B22B-462C-ADA6-35B9C1ACE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BAB743-733E-44E6-A190-17D8A5A4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C2E0A6A-5FBA-44F3-8D06-E9CA902E2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4AF6BB7-BDA5-4A8E-83CC-58D9D2BBC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1112E4-9E6D-4B6A-B8E9-ECAAD4E0C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9F5446-C0C7-4984-88FA-E810EFB8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A93D79-5F61-4D9B-B321-3BE27C52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56FC41-2FCB-4941-A77C-F2188826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24A0D7-61D4-4673-A4D7-8FD1572B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6897B2-6F67-4D09-907A-15A4F056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533943-705E-41A3-B151-51BB60C5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D495-0B35-4CEA-AB5D-E2CF72F6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921F68-3259-48B0-993B-DE182D53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5A39FE-AC9B-4AF7-BC4A-7FEAE768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C36A89-48C3-4014-88AC-02051367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5BB3D1-C77F-410D-ABA6-B6D7632F0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A7FE73-0BFD-4795-ABD7-E957F7137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A31D2C-12A9-4966-9279-78BDCC0C1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A6618B-2D18-4281-B62B-8FB8C71F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C9B5EA-F817-4C3E-9B50-2107708F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2FEF64-97C6-4037-94AA-DCC0B050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EE27F9-6FE3-4F9F-B7CB-F986BB9F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FB1E-7023-4A92-BFBB-A8FDBF46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3FA9FB-69BE-4941-BEE8-5DB359DF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1ACF65-B05A-4616-875C-581F0835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71275A-BF38-4A54-87D6-E3C963EE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8FA008-45B0-4320-96BF-59B2E6C7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0B5639-6161-4DF0-A836-2CF80145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4DF6F8-48C8-4497-BCFE-16E45CAE6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7588E7-5DF5-4F45-A1DD-CFCBCE45E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17E2A2-FB31-4872-A9D5-BB14A8AD1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44BDE8-1DD7-48A4-9A98-1D82FCA6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3ABB09-0A8A-49C4-87B7-43A67D77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378B-97D5-4621-9E4F-924145BB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48D4B8-F376-4995-965C-583AAE7D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31B700-CE51-4E55-8640-1CF5331F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6E341F-4113-4A96-B82B-1A7F01CE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981C79-DB63-43B2-8E22-337FDDE9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08E152-73C0-491E-A9BB-C2C61EBA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7D3B3F-81B0-4E3E-8E28-5F0F11FA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BE551A-8C0D-44A7-817E-CC37BBDF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926BF4-27BD-400F-B0FA-53C7F0544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010FAB-F40C-4ECC-BD08-365FE15D3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378147-3E78-49D6-8E7E-75339EFC4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A0F6-567A-4767-8AE3-AA31EDD2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E8EF02-DCAD-465E-A92D-95E87973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7A48B3-CED5-4139-A60F-DF210E57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6721FD-61A2-4D4F-861A-37D553ED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514205-9146-4B9E-B91E-01267C7E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CB525E-C51F-4356-9484-CA596CA1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629441-828C-44FB-BF67-541F6E2A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7BED8F-1497-4040-B300-9D8B6B45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57E30E-F4F6-482B-844F-00846FA6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4DDD1B-66F5-47E0-ADCD-1D46524B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DAA7E5-3DAE-4925-B12F-4A1571576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B64E8-A909-4064-8304-2CD847D8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0F2477-6B09-427D-9D0A-29B7C6FB7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789FC-E851-4C4B-BDB0-2F04CE57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02E0-3F84-47A0-A8F2-04CF629A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4F5E-743D-4F21-8209-FF8F7FA5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2DFF-3FF5-459E-99F5-883CF03B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5481F-8BE8-4F25-A136-79BF345C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B308-75C5-401C-AC2E-812EB7559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5672-A699-410E-8E6B-0C0CB6303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64810-3A2E-494B-8D60-93438BD55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2F221-41E5-4134-A43E-1B4A8F26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83F26-9BA2-4447-BCC0-20E03DA7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BAE9A-1D16-4582-900A-FA475C15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DCFA1-F040-47F6-BAC3-58BCFFD1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EAF1-94A3-4690-8281-F3E1E813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AE1C5-561D-4CD6-BA38-A1883961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8BDEB-041E-4A23-A9AC-E29EF539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0B74E-35D7-4CF1-B78F-15DA1587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3E87B-8463-4A48-BD62-B99E36EF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89989-6C65-4B16-BB91-B912944B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D56A8-33C8-4971-986E-4DDD68818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81972-E4A0-4E50-80CA-D35177571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099C4-5CDA-4B1B-B3CB-56350CBCF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40862-6B5E-4AAF-B3A5-A93EC91A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BFD7F-24EE-485F-AA3B-23BFD8CE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B3CF-9033-4BFE-9BC5-3E04FBFB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B7564-6B9E-4549-B4FD-3C7E3BCF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20385-7B6D-42DB-A003-FEE09145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00F83-3639-46EC-B372-EFA7D6B7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6AA82-D446-4405-8205-5CE3DF94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4B1E0-BACA-4DA9-ABC5-EE0266B6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A7614-7CD1-4B1B-A128-8037EFA3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E3663-1A32-470E-9150-2BBF34BD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29A0A-5058-427D-BEA2-05C405BC0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BE8A0-27CB-4793-9E44-33865BBBE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099B1-C7B6-4703-88E9-D3AEE93D9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6B47-667B-4AAF-ADBC-0FA63C9E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9C74C-F51E-4AD7-9238-2081DACA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03518-7540-4312-8E19-A0AFD64F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CEBF4-4772-4528-8EA1-D2B350D7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622ED-31DD-4A64-AF66-6E7409E9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8084B-F47C-4B82-8BD4-2AF74839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4DF07-BEB0-4FBE-83C6-DD61CDBB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6D250-02CF-4090-9737-CB32F38E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DABEB-5224-43B5-B6C9-96FFB4E4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3D8F2-0423-4B3F-817D-0A2AA66F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DA55C-AD4D-4C4A-B6D8-11BDD3578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BE3B-0EA2-4903-BC6B-41D742B6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18160-2688-4960-B9DC-F0C980520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3CC13-5C4A-41CA-B649-31889B820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44B3F-F4BB-46C2-A0D1-ED12F542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7350A-4DC2-4B0C-BE3A-60606026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8488A-24C6-43C6-AE93-DF36001B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5CEEF-E249-4B28-9E9C-D3C07185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D9C06-DC39-4203-B2B9-6D0D4FE4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DCB3C-3395-4451-8617-B628C687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C60B3-F46F-41C5-B14B-89B314D9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7FC7F-2ED0-4F48-99E0-6A8B4EAC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AA79-54A7-4271-8102-163605EA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A3E4A-ED83-4F52-8CF6-A8C6544F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132D2-E4E3-48BF-90AB-5490FE2D0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279FA-11F3-4BC3-9AE7-719CC0C35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EAECD-3C97-4CC0-9B41-A6BB9EA2C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F9CBF-4D6E-4691-9466-5245F470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57ECB-9541-4E86-990C-7A5C95CF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8784C-7B29-48F5-95B7-ADFF365D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F1CAA-06E6-4AC0-BFBA-2211C6F0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6C88D-5CB1-45E1-87C4-670082DA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884BF-F2D6-4610-BA41-967A3CC0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7DC3-BB5D-4721-B863-77B90204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FECA8-E51D-44F7-8AAD-025CC6E0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98FEC-BD4C-4F9E-A289-279D06E1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45E41-DD43-417D-9C94-EA67F179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69FF3-60EB-4AEC-A66E-FA3633287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71AD3-011E-42E4-873B-5C3A499A0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EB283-9404-45C4-83E4-F69E441D5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A710F-CCB9-418C-BC42-B5C9FAB4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12DFC-708C-4C4F-9917-AADAFBE3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27AF4-63D0-4CEB-B975-56B0C757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8A432-5D7C-447C-B523-FDC9B030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B6A9-574A-422A-AC59-0FE570C7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6A11F-37A3-413D-83E2-E0EA4A97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9A077-019B-4274-ABBE-9D247E18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CAB44-7520-417F-8EAD-14C64006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DDA1D-7143-4440-AD0A-3D2393EC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CFA44-34EE-4E00-96A0-44ECEA70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A0240-577C-436A-9DEA-56D3F8879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30A52-44B4-4C90-897A-B20DE8396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5A35EC-AF52-4672-8080-3B5446500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F0D2A2-36F8-480F-ADA4-41D4C9D2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8B7B09-883D-46F9-BDE5-F78186DC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882E-14C6-45EB-9AC8-B9023153B66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09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10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29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41FE-EF4E-41BD-8290-993E0905B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87CF-D6A9-4B4E-8F5A-D0EC02C5F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601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604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dt" idx="3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ftr" idx="3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sldNum" idx="3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1A48-BA50-4363-B1C5-4FBCCF092E7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9E2D-2B9F-4E3C-8B78-86502359F04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690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692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40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4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4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E160-4497-4229-9599-22C4F22533F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6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737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8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739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743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dt" idx="4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ftr" idx="4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sldNum" idx="4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80C3-F292-463F-915B-93BB4F38A4C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2811-847E-4BA7-8E44-F287C6ABE7D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94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62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AFCF-55D4-4632-8F3A-CA35672934A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09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10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13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A4F1-AA40-44A5-91DB-4F0632B975E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258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B5D2-B58A-4EFC-981D-797E4EC6DD4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2F93-4472-411B-82B0-3778EE6D3E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374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1697-5DE0-4E7D-BC50-9B8F0D42F31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22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1C9E-DE03-42BE-A616-F62522C5DC8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2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7436-CB21-4C3B-BCF4-9D3561338A2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5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gif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Что мы едим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следовательская работ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линкиной Леры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ниц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-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класса БОУ города Омска «Гимназия № 62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ководитель: учитель физической культуры Шевченко Е.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 txBox="1"/>
          <p:nvPr/>
        </p:nvSpPr>
        <p:spPr>
          <a:xfrm>
            <a:off x="1643040" y="571320"/>
            <a:ext cx="704376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равильное питание создаёт большой дефицит микроэлементов и витаминов в организме ребёнка, снижает функциональные резервы организм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ствует высокому эмоциональному напряжению, несформированности коммуникативных качеств (отсюда раздражительность, агрессия или, наоборот, обидчивость, плаксивость), распространённости появления вредных привыч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6443640" y="0"/>
            <a:ext cx="244008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 txBox="1"/>
          <p:nvPr/>
        </p:nvSpPr>
        <p:spPr>
          <a:xfrm>
            <a:off x="1142640" y="142920"/>
            <a:ext cx="50007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сбалансированное питание служит одной из причин развития у детей и подростков хронических заболевани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дущие места занимают болезни костно-мышечной системы, глаз, органов пищеварения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 мере взросления детей распространённость гастритов возрастае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19 раз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аболеваний щитовидной железы - в 6 раз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ее 50% нашей гимназии не знают, что такое канцерогены и как они влияют на растущий организм подрост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Рисунок 3" descr=""/>
          <p:cNvPicPr/>
          <p:nvPr/>
        </p:nvPicPr>
        <p:blipFill>
          <a:blip r:embed="rId1"/>
          <a:stretch/>
        </p:blipFill>
        <p:spPr>
          <a:xfrm>
            <a:off x="6072120" y="500040"/>
            <a:ext cx="30718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Здоровое питание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5000760" y="1285920"/>
            <a:ext cx="40003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187280" y="2060640"/>
            <a:ext cx="721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питание, сбалансированное по соотношению углеводы – белки – жиры, содержащее достаточно витаминов и минера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временная модель рационального питания имеет вид пирамиды: продукты в ней располагаются от основания к вершине по мере убывания их полезности. Ориентируясь на нее, Вы сможете составлять сбалансированный рацион на каждый день</a:t>
            </a:r>
            <a:r>
              <a:rPr b="0" lang="ru-RU" sz="2400" spc="-1" strike="noStrike">
                <a:solidFill>
                  <a:srgbClr val="ffffe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1214280" y="1428480"/>
            <a:ext cx="780120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6" name="Рисунок 3" descr=""/>
          <p:cNvPicPr/>
          <p:nvPr/>
        </p:nvPicPr>
        <p:blipFill>
          <a:blip r:embed="rId1"/>
          <a:stretch/>
        </p:blipFill>
        <p:spPr>
          <a:xfrm>
            <a:off x="1214280" y="549360"/>
            <a:ext cx="60217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 txBox="1"/>
          <p:nvPr/>
        </p:nvSpPr>
        <p:spPr>
          <a:xfrm>
            <a:off x="1071720" y="428400"/>
            <a:ext cx="76435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ctr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вод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льнику необходим 4-5-разовый приём пищи в течение суток, при этом интервал между приёмами не должен превышать 3,5-4 часа. В течение учебного дня школьнику нужно получить до 55-60% суточной калорийности рациона. Поэтому ребёнку в школе необходимо полноценное горячее пит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мена горячей пищи буфетной продукцией ведёт к резкому снижению поступления в организм важных питательных вещест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Рисунок 3" descr=""/>
          <p:cNvPicPr/>
          <p:nvPr/>
        </p:nvPicPr>
        <p:blipFill>
          <a:blip r:embed="rId1"/>
          <a:stretch/>
        </p:blipFill>
        <p:spPr>
          <a:xfrm>
            <a:off x="3071880" y="3860640"/>
            <a:ext cx="4092480" cy="26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330033"/>
                </a:solidFill>
                <a:latin typeface="Arial"/>
              </a:rPr>
              <a:t>Спасибо за внимание</a:t>
            </a:r>
            <a:endParaRPr b="0" lang="en-US" sz="63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62472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Актуальность те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водя социологический опрос  на  предмет  употребления  фаст  фуда, чипсов, кока –колы, сухариков  мы  убедились  в  том  что  наши  гимназисты  не  знают  о  пищевых  добавках и  об их  вреде. И  поэтому  мы  решили  работать  над  этой  темо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68706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Цели: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казать детям вредные свойств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аст фуда, кока -колы, чипсов и  сухарик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ссказать о полезных продуктах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оспитывать желание к здоровому образу жизн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Задачи исследовательской работ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явить какое количество учеников гимназии № 62 употребляют продукты фаст фуд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то они знают о вреде этих продуктах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 часто они их кушают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ирамида правильного питания и из каких продуктов она состои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ши « шаги» по решению задач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работка анкеты и анкетирование школьников 5- 8 клас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кета включала в себя вопросы, связанные с режимом употребления продуктов фаст фуда: чипсов, кока-колы, сухариков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результатам опроса выяснилось, что многие учащиеся не до конца осведомлены какой вред причиняет употребление данных продуктов и довольно часто включают их в свой рацион 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ультаты анкетирования приведены на слайдах презент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воей научной работе мы познакомим учащихся с новыми для них понятиями, приведем факты и научим правильному пит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По результатам опроса учащихся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Как часто вы едите чипсы?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04" name="Object 7"/>
          <p:cNvGraphicFramePr/>
          <p:nvPr/>
        </p:nvGraphicFramePr>
        <p:xfrm>
          <a:off x="4500720" y="1211400"/>
          <a:ext cx="4176720" cy="277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1211400"/>
                    <a:ext cx="4176720" cy="27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6" name="Picture 8" descr="d9e9da895455"/>
          <p:cNvPicPr/>
          <p:nvPr/>
        </p:nvPicPr>
        <p:blipFill>
          <a:blip r:embed="rId3"/>
          <a:stretch/>
        </p:blipFill>
        <p:spPr>
          <a:xfrm>
            <a:off x="3708360" y="3789360"/>
            <a:ext cx="4681440" cy="2646360"/>
          </a:xfrm>
          <a:prstGeom prst="rect">
            <a:avLst/>
          </a:prstGeom>
          <a:ln w="0">
            <a:noFill/>
          </a:ln>
        </p:spPr>
      </p:pic>
      <p:sp>
        <p:nvSpPr>
          <p:cNvPr id="807" name="WordArt 10"/>
          <p:cNvSpPr txBox="1"/>
          <p:nvPr/>
        </p:nvSpPr>
        <p:spPr>
          <a:xfrm>
            <a:off x="3059280" y="333360"/>
            <a:ext cx="28796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про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08" name="Picture 12" descr="MM900236466[1]"/>
          <p:cNvPicPr/>
          <p:nvPr/>
        </p:nvPicPr>
        <p:blipFill>
          <a:blip r:embed="rId4"/>
          <a:stretch/>
        </p:blipFill>
        <p:spPr>
          <a:xfrm>
            <a:off x="2041560" y="5083200"/>
            <a:ext cx="121932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9" name="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прос учащихся: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812" name="Object 6"/>
          <p:cNvGraphicFramePr/>
          <p:nvPr/>
        </p:nvGraphicFramePr>
        <p:xfrm>
          <a:off x="3492360" y="1800360"/>
          <a:ext cx="5327640" cy="35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800360"/>
                    <a:ext cx="5327640" cy="35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4" name=""/>
          <p:cNvSpPr txBox="1"/>
          <p:nvPr/>
        </p:nvSpPr>
        <p:spPr>
          <a:xfrm>
            <a:off x="838080" y="2385720"/>
            <a:ext cx="26352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ак часто вы употребляете газированные напитки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15" name="Picture 9" descr="MM900284116[1]"/>
          <p:cNvPicPr/>
          <p:nvPr/>
        </p:nvPicPr>
        <p:blipFill>
          <a:blip r:embed="rId3"/>
          <a:stretch/>
        </p:blipFill>
        <p:spPr>
          <a:xfrm>
            <a:off x="1403280" y="5229360"/>
            <a:ext cx="1224000" cy="101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Опрос учащихся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817" name="Object 4"/>
          <p:cNvGraphicFramePr/>
          <p:nvPr/>
        </p:nvGraphicFramePr>
        <p:xfrm>
          <a:off x="5364000" y="2708280"/>
          <a:ext cx="3456000" cy="39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0" y="2708280"/>
                    <a:ext cx="345600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9" name="Text Box 6"/>
          <p:cNvSpPr/>
          <p:nvPr/>
        </p:nvSpPr>
        <p:spPr>
          <a:xfrm>
            <a:off x="684360" y="1989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 часто вы едите сухари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Picture 7" descr="MM900336916[1]"/>
          <p:cNvPicPr/>
          <p:nvPr/>
        </p:nvPicPr>
        <p:blipFill>
          <a:blip r:embed="rId3"/>
          <a:stretch/>
        </p:blipFill>
        <p:spPr>
          <a:xfrm>
            <a:off x="4284720" y="1700280"/>
            <a:ext cx="558720" cy="71892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9" descr="0_186e1_1aff132_XL"/>
          <p:cNvPicPr/>
          <p:nvPr/>
        </p:nvPicPr>
        <p:blipFill>
          <a:blip r:embed="rId4"/>
          <a:stretch/>
        </p:blipFill>
        <p:spPr>
          <a:xfrm>
            <a:off x="179280" y="2781360"/>
            <a:ext cx="475164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250" autoRev="1" fill="hold"/>
                                        <p:tgtEl>
                                          <p:spTgt spid="8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ред канцерогенов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По результатам опроса учащихся нашей гимназии - 56%- ничего не знают о канцерогенах. 42%- лишь догадываются.2%-знакомы с этим понятием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Канцероген - вещество или физический агент (излучение), способные вызвать развитие злокачественных новообразований или способствующий их возникновению. Большинство канцерогенов имеют антропогенное происхождение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824" name="Object 8"/>
          <p:cNvGraphicFramePr/>
          <p:nvPr/>
        </p:nvGraphicFramePr>
        <p:xfrm>
          <a:off x="5305320" y="2362320"/>
          <a:ext cx="2681280" cy="17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05320" y="2362320"/>
                    <a:ext cx="268128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6" name="Picture 4" descr="57634883"/>
          <p:cNvPicPr/>
          <p:nvPr/>
        </p:nvPicPr>
        <p:blipFill>
          <a:blip r:embed="rId3"/>
          <a:stretch/>
        </p:blipFill>
        <p:spPr>
          <a:xfrm>
            <a:off x="4716360" y="3645000"/>
            <a:ext cx="4176720" cy="2879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7:14:35Z</dcterms:created>
  <dc:creator>CityNov</dc:creator>
  <dc:description/>
  <dc:language>en-US</dc:language>
  <cp:lastModifiedBy>Admin</cp:lastModifiedBy>
  <dcterms:modified xsi:type="dcterms:W3CDTF">2013-01-17T11:33:02Z</dcterms:modified>
  <cp:revision>19</cp:revision>
  <dc:subject/>
  <dc:title>Слайд 1</dc:title>
</cp:coreProperties>
</file>