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gif" ContentType="image/gi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19.jpeg" ContentType="image/jpeg"/>
  <Override PartName="/ppt/media/image1.jpeg" ContentType="image/jpeg"/>
  <Override PartName="/ppt/media/image4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1.gif" ContentType="image/gi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3E21-E79F-4629-B4C7-A179C0B57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39E0-7612-4AED-9099-45D5BA18E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54CA-15F6-4E58-BA22-E27A9F5DD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89B7-F217-4E7B-972A-3AF0CA1BD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4EF2-0A06-4618-9293-8B33604ED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A54D-0A9F-4803-9819-44D4DCC83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F1F-9623-4A42-B7B0-01DDCB9F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173-CA91-44FE-9CB8-F5B3FCBE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BA4DD-2538-430B-A596-459D5C86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00572-8AAC-41FB-A18E-5241E659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52607-9ABB-4780-9DB6-76BEC050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3E721-7F31-495B-9B88-D4160E5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770A9-E5D0-4B99-9C46-05B2A947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5D55D-62A3-49FD-8051-6A3674EA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56E7E-D872-4718-8D21-7513B776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ABBF2-1A51-49F2-88EF-60EB88FB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8945B-235E-4BD6-8F14-4A11C7B8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193EA-4986-489A-9FB8-4C63ADB3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41C-0482-4BC4-A03C-8288E6AB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D7164-D8FD-4795-A202-870E79B2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69063-E02B-4394-94F1-C8B41781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6BF6F-C678-4AA6-84AB-A8FDB962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7FE43-2644-4440-81A8-72DEFCC9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AA38A-29D6-401B-A589-5E12A8D4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3440B-7861-48B1-96CC-707D25F2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791A4-708C-4501-B57C-0FDEF895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9F7D0-5277-4532-BE98-C6289573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EECF1-C83C-4BC2-BBE6-F691659B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E5047-4AA5-4BB1-9A28-CB7FA675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C7F-A6A4-4E3E-9369-A557F913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84E83-D1EC-4925-8313-025B2F69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7A307E-7AAD-4936-97DC-768C9613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93E90B-8060-40F0-A302-27E2DD08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710F58-348C-4C81-AC73-0EC63122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F6F328-9935-4396-86C8-989ED792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147E68-9ED5-47D6-B787-BD226AB2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8B52AF-5173-4F6B-84C7-A87A1CC0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2B20E9-BEA3-4528-933C-83A16E1A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1D7F40-EC5D-48EA-928C-E685353F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88F447-E29F-407D-A239-B15A04ED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A873-D28E-456B-9D9E-DDFAE531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07420F-19E0-45C3-A715-4B76B9E2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CE8738-B2FA-44B7-9320-E1D5EE6C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C7CF2B-D2E2-4983-B39F-23C2C303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0F550-C1A9-48B4-9464-320EDE69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EAA96-4382-465B-B5D6-916A3D75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5CEFE-895D-4D7E-BEE4-7BDB1B3D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D4ABD-B9B7-441C-8B80-9AC7DB2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293A0-B406-407A-8CCA-515A7690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F67FD-1D4F-4CC7-A042-541738F1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BA5A5-BCB8-4650-8B00-B8DC9B60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A795-5D79-4B86-B014-6063964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A809F-5634-4A06-84FB-61CB9BBD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4DEE7-0075-4DE6-BBE1-51DED0C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F3251-D9AD-4CCA-BCF0-F2944F77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5DDBC-5EFB-43BD-8332-710F79CE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CC40A-12C8-47AD-B4FE-13DCD5C0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35A49-6334-4F54-AC0B-238E5474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0B317-F116-4A9E-B82D-A5CACEDA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126AA-DC3E-460B-BED5-7046648A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A8576-D54E-49C7-BA58-729353CD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EB5C5-3AB1-4D78-92FA-011AD2E2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B64C-BBC7-4534-AA0F-DBE3ED82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CAFA5-C020-422A-8791-0DE0959C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CACDD-3F4B-461C-87DE-FDB840FD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4D8FB-8B9F-43D7-870D-C68A8F3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6527F-58B2-4F34-85DB-16664F45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5F516-4F88-434B-A162-7163DAF4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E1348-C712-46E8-98D0-03DD470E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8739C-D49A-4D79-8892-43E071F0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2ABCF-FDFC-484E-AEEC-22A7B93E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D17D3-7539-4D34-8EDF-49F3A9B0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9986D-52E6-44E3-A8F0-4B220F2C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356E-ABF0-418C-B871-4F83A6FF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3ABA1-9405-43F1-BEEC-BC6A46CE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B719F-7FE5-4D5D-BB6D-DB3373B2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CEEDE-B179-4BB0-BD40-A5AA8D80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CAE99-7A00-485B-BBEC-053D5F6F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BCE1D-3169-4D2D-B453-97CF52E0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533B6-3A8A-47A3-BE9A-82DA5AAA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8EA54-BA60-429F-86B1-C02C35D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53043-26C8-43B0-9D52-D5423C97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E3CC9-0446-44E9-91E3-8B116E01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7E803-047B-472D-A5C2-F918AC60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79E0-A028-49BF-8105-EA98E2DB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0EE15-995F-497B-9AAF-C63A6EB6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A546A-A2B3-428A-8018-1C6DD28E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EFEEB-0EAC-4C86-BBDF-11595D0F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C8050-C27D-4F2D-8363-D9886178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676BF-AA36-49FF-871C-58000132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EA781-BC12-4342-B50B-CFC42034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5CDA5-E678-458A-BF0F-57850483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C6F61-0767-49BC-B013-82B05F00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84A1E-E98C-4AD7-9F3C-2D2C4C9B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A2357-61B0-49A0-852E-8A17722B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4C72-B388-4DEA-B2E6-838DAA17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11125-4383-4D2D-93E3-AEC366A8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33BA-B0D3-4C5E-87FE-A905CCCD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5A8-E2CF-4B2E-A1E0-9E23FEBF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D382-2183-4978-814C-399A9CA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D811-0C52-4C76-95FE-2B4DBA43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C424-6FBF-43A5-88B0-E1B4DD31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9944-5B25-465E-BDE5-5822F9A7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BDD5-5215-4B76-AD62-89A18E0C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C0B3-6C2D-41BE-B296-224EA098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B159-41F3-40B6-BA67-B3DC376C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A968D-D03E-469F-A187-45FFC1F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6DEA-7BD6-403E-A6AB-D7F58219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72AF-95C6-4986-8DB1-4DDF02BC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0FB-69C8-4C4C-A045-8C4A9FEB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6FA4-C71D-4DC8-B005-C5D38E9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2E2C9-7457-4F5A-8D9C-7EC267BB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4B657-A378-44FB-9138-35381C2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121F-732C-4FC3-B321-03EADE86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8326-1E44-438B-83DC-B9F3EFA9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25A3-1509-4C96-8F81-3910481E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98A8-F0E6-46D1-BBBC-68C9F454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8D9D-89FE-4AD8-95EE-3B265242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6C2F-AEFF-464A-8A0C-0814A67A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96EC-D124-4E03-AB04-52835201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D24-8DF4-4B8B-B911-BB574CE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11516-770D-4122-9161-3CF3BC8D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412C9-EF8C-405D-9FDB-EBC4C7EB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EB2BF-5825-4692-BB9F-D6DC610D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661F-FFB2-4D0B-8EB7-571127E4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81C6-706B-41F6-B1A7-76D91215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CEC6F-2840-44FD-A67D-E7505BC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B5BB-19A8-4FE1-BFFC-BFA9F26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6238D-7F17-4B37-8BC9-4F07D2DD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FD4D-B5E3-455A-9970-C743694C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5E5C1-66EA-4242-AB92-3E5E580A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978-0191-4B35-AF44-E9980329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C0AB0-C622-49FA-9F5B-ABC52C30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B9999-3E65-4B5C-AF50-93218369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4859-F9D0-48D0-A038-05012D1A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5D3A3-3655-45A6-99A0-785DCA0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83BA7-CD51-448E-8243-E109A58D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0B919-D602-4C6C-8161-EF6D9B4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EF653-18BB-4542-8FCE-AA7199D0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7A908-18F8-462B-8D5E-C9B8F18C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49B64-6F55-4D4F-A86E-5A6E8E79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A59EC-99B5-40B4-97BB-77EDCEA3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616-4FBD-4146-8C2C-AB6FF8D2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26AA-0099-4F8F-AF61-B548EFE0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53AEF-0141-4968-9715-6F0CA121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0935F-186F-462E-9053-BA3B654E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E9D5-7AE4-4641-8FAA-C687B566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E56F2-8903-42B7-9372-F96500C5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21293-964F-4040-A0F2-DB0F7D97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B5692-4FBB-427C-90F5-FF92678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837FB-7F8D-4789-B502-38D613AF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DCF1-7A6C-4F01-9484-2855E5ED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48E46-CEB2-4338-B53F-C0C5DBF1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125-9893-489F-B900-A71320F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7755-8194-48BA-B1C3-D4722B82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1CE8F-E2D7-4912-8094-65BD409D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DB55-EDE0-499A-83D0-2FA74D2F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80C36-4BA2-42D6-89C9-01293C83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C75D-E505-4E74-B333-5205F321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B82BC-87D6-4998-84C9-638514A4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7CC1A-7485-4EC4-A249-E02BD013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91428-6710-4E5C-8F40-C3D76354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E542F-6D53-42CF-9F9E-BA20AB3C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8B625-3C94-49CF-BB62-BDE472AA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8E1-61AC-4D1C-AC75-F718576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91446-3CAE-4A0B-A87B-8E3DA5A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66102-21D9-4680-98BF-72CBD1A8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2C3B6-02FC-441F-91AD-4D162AE6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A8B8D-2914-4002-82A5-C469A716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1A066-57FD-486C-BEE1-321052BB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8A077-F9B6-418E-BC53-88AF63B9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D8C4A-D74D-4F06-90E2-9A6E7C12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08532-1087-44C0-B2F3-30CEBDBD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84E31-47F0-42E6-B319-FABB043E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5463B-F90C-4EA2-8A43-E2C8767D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51C-C423-497C-88CF-698B25E6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CF5C1-4F45-40C4-BBB7-C2C1F91C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1E5B2-78F6-4B89-90E6-F2CD9135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39E42-2669-40DE-8144-EA22D65F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74340-479F-4FC2-8762-B21EC3C7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E383D-B301-465B-9A20-91389DAE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32583-3154-4C59-A629-2237AF6A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D6586-EE8C-4C94-9C27-8E59C6B6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CC757-95E8-4E4E-AC01-48784B9F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53B0F-006B-4181-94E9-95BC58C9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6F34A-9F23-49F6-A479-F54CCEC9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8782-E0FE-4353-84E4-CC12192D84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02C5-1498-4C16-ACD4-06B1ACABF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9352-1F95-4590-B74D-6069F1FFC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6F3F-D2C5-4A54-8596-5AE1F8ABAFF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207B-04A6-4E57-8A79-A717BFEE095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9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9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DA9D-1265-4BD7-BE5B-867C529BF3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3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3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4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dt" idx="4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ftr" idx="4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9861-4D7D-477C-B33F-FCD3AFF84B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67F2-7A0C-4435-A9EE-C6EF3F9A00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DC58-4A88-4F3A-9469-D7E93A4A66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1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A32B-55C4-45D6-9D92-627897A5DF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018B-C45C-4E52-88D2-0CF02FAB13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B7D5-2061-4ED3-8CBA-CB638D5A70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7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A7DC-3ECE-4DC5-963D-7A5A5C830B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E2B4-7424-40CB-B884-D740A776F0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2B87-BE4D-4846-AD62-31295EB2A18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Что мы едим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тельская работ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линкиной Леры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класса БОУ города Омска «Гимназия № 62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оводитель: учитель физической культуры Шевченко Е.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1643040" y="571320"/>
            <a:ext cx="7043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питание создаёт большой дефицит микроэлементов и витаминов в организме ребёнка, снижает функциональные резервы организ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высокому эмоциональному напряжению, несформированности коммуникативных качеств (отсюда раздражительность, агрессия или, наоборот, обидчивость, плаксивость), распространённости появления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4400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1142640" y="142920"/>
            <a:ext cx="50007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сбалансированное питание служит одной из причин развития у детей и подростков хронических заболеван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дущие места занимают болезни костно-мышечной системы, глаз, органов пищеварения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мере взросления детей распространённость гастритов возраст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19 раз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болеваний щитовидной железы - в 6 раз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% нашей гимназии не знают, что такое канцерогены и как они влияют на растущий организм подро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Рисунок 3" descr=""/>
          <p:cNvPicPr/>
          <p:nvPr/>
        </p:nvPicPr>
        <p:blipFill>
          <a:blip r:embed="rId1"/>
          <a:stretch/>
        </p:blipFill>
        <p:spPr>
          <a:xfrm>
            <a:off x="6072120" y="500040"/>
            <a:ext cx="3071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доровое питание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5000760" y="1285920"/>
            <a:ext cx="4000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187280" y="2060640"/>
            <a:ext cx="721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итание, сбалансированное по соотношению углеводы – белки – жиры, содержащее достаточно витаминов и минер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ременная модель рационального питания имеет вид пирамиды: продукты в ней располагаются от основания к вершине по мере убывания их полезности. Ориентируясь на нее, Вы сможете составлять сбалансированный рацион на каждый день</a:t>
            </a: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214280" y="1428480"/>
            <a:ext cx="78012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Рисунок 3" descr=""/>
          <p:cNvPicPr/>
          <p:nvPr/>
        </p:nvPicPr>
        <p:blipFill>
          <a:blip r:embed="rId1"/>
          <a:stretch/>
        </p:blipFill>
        <p:spPr>
          <a:xfrm>
            <a:off x="1214280" y="549360"/>
            <a:ext cx="6021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1071720" y="428400"/>
            <a:ext cx="7643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ьнику необходим 4-5-разовый приём пищи в течение суток, при этом интервал между приёмами не должен превышать 3,5-4 часа. В течение учебного дня школьнику нужно получить до 55-60% суточной калорийности рациона. Поэтому ребёнку в школе необходимо полноценное горячее пит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мена горячей пищи буфетной продукцией ведёт к резкому снижению поступления в организм важных питательных веще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Рисунок 3" descr=""/>
          <p:cNvPicPr/>
          <p:nvPr/>
        </p:nvPicPr>
        <p:blipFill>
          <a:blip r:embed="rId1"/>
          <a:stretch/>
        </p:blipFill>
        <p:spPr>
          <a:xfrm>
            <a:off x="3071880" y="3860640"/>
            <a:ext cx="409248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330033"/>
                </a:solidFill>
                <a:latin typeface="Arial"/>
              </a:rPr>
              <a:t>Спасибо за внимание</a:t>
            </a:r>
            <a:endParaRPr b="0" lang="en-US" sz="6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2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туальность т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одя социологический опрос  на  предмет  употребления  фаст  фуда, чипсов, кока –колы, сухариков  мы  убедились  в  том  что  наши  гимназисты  не  знают  о  пищевых  добавках и  об их  вреде. И  поэтому  мы  решили  работать  над  этой  тем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Цели: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казать детям вредные свойств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аст фуда, кока -колы, чипсов и  сухари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казать о полезных продукт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ывать желание к здоровому образу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 исследовательской раб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явить какое количество учеников гимназии № 62 употребляют продукты фаст фу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ни знают о вреде этих продукта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часто они их кушаю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рамида правильного питания и из каких продуктов она состои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и « шаги» по решению задач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анкеты и анкетирование школьников 5- 8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а включала в себя вопросы, связанные с режимом употребления продуктов фаст фуда: чипсов, кока-колы, сухариков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опроса выяснилось, что многие учащиеся не до конца осведомлены какой вред причиняет употребление данных продуктов и довольно часто включают их в свой рацион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анкетирования приведены на слайдах през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оей научной работе мы познакомим учащихся с новыми для них понятиями, приведем факты и научим правильному пит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о результатам опроса учащих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Как часто вы едите чипсы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4" name="Object 7"/>
          <p:cNvGraphicFramePr/>
          <p:nvPr/>
        </p:nvGraphicFramePr>
        <p:xfrm>
          <a:off x="4500720" y="1211400"/>
          <a:ext cx="4176720" cy="27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211400"/>
                    <a:ext cx="417672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6" name="Picture 8" descr="d9e9da895455"/>
          <p:cNvPicPr/>
          <p:nvPr/>
        </p:nvPicPr>
        <p:blipFill>
          <a:blip r:embed="rId3"/>
          <a:stretch/>
        </p:blipFill>
        <p:spPr>
          <a:xfrm>
            <a:off x="3708360" y="3789360"/>
            <a:ext cx="4681440" cy="2646360"/>
          </a:xfrm>
          <a:prstGeom prst="rect">
            <a:avLst/>
          </a:prstGeom>
          <a:ln w="0">
            <a:noFill/>
          </a:ln>
        </p:spPr>
      </p:pic>
      <p:sp>
        <p:nvSpPr>
          <p:cNvPr id="807" name="WordArt 10"/>
          <p:cNvSpPr txBox="1"/>
          <p:nvPr/>
        </p:nvSpPr>
        <p:spPr>
          <a:xfrm>
            <a:off x="3059280" y="333360"/>
            <a:ext cx="2879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8" name="Picture 12" descr="MM900236466[1]"/>
          <p:cNvPicPr/>
          <p:nvPr/>
        </p:nvPicPr>
        <p:blipFill>
          <a:blip r:embed="rId4"/>
          <a:stretch/>
        </p:blipFill>
        <p:spPr>
          <a:xfrm>
            <a:off x="2041560" y="5083200"/>
            <a:ext cx="12193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9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рос учащихся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812" name="Object 6"/>
          <p:cNvGraphicFramePr/>
          <p:nvPr/>
        </p:nvGraphicFramePr>
        <p:xfrm>
          <a:off x="3492360" y="1800360"/>
          <a:ext cx="532764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00360"/>
                    <a:ext cx="532764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4" name=""/>
          <p:cNvSpPr txBox="1"/>
          <p:nvPr/>
        </p:nvSpPr>
        <p:spPr>
          <a:xfrm>
            <a:off x="838080" y="2385720"/>
            <a:ext cx="26352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часто вы употребляете газированные напитк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15" name="Picture 9" descr="MM900284116[1]"/>
          <p:cNvPicPr/>
          <p:nvPr/>
        </p:nvPicPr>
        <p:blipFill>
          <a:blip r:embed="rId3"/>
          <a:stretch/>
        </p:blipFill>
        <p:spPr>
          <a:xfrm>
            <a:off x="1403280" y="5229360"/>
            <a:ext cx="122400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прос учащихся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17" name="Object 4"/>
          <p:cNvGraphicFramePr/>
          <p:nvPr/>
        </p:nvGraphicFramePr>
        <p:xfrm>
          <a:off x="5364000" y="2708280"/>
          <a:ext cx="3456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708280"/>
                    <a:ext cx="3456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Text Box 6"/>
          <p:cNvSpPr/>
          <p:nvPr/>
        </p:nvSpPr>
        <p:spPr>
          <a:xfrm>
            <a:off x="684360" y="1989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часто вы едите сухар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7" descr="MM900336916[1]"/>
          <p:cNvPicPr/>
          <p:nvPr/>
        </p:nvPicPr>
        <p:blipFill>
          <a:blip r:embed="rId3"/>
          <a:stretch/>
        </p:blipFill>
        <p:spPr>
          <a:xfrm>
            <a:off x="4284720" y="1700280"/>
            <a:ext cx="558720" cy="7189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9" descr="0_186e1_1aff132_XL"/>
          <p:cNvPicPr/>
          <p:nvPr/>
        </p:nvPicPr>
        <p:blipFill>
          <a:blip r:embed="rId4"/>
          <a:stretch/>
        </p:blipFill>
        <p:spPr>
          <a:xfrm>
            <a:off x="179280" y="2781360"/>
            <a:ext cx="4751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ред канцерогенов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 результатам опроса учащихся нашей гимназии - 56%- ничего не знают о канцерогенах. 42%- лишь догадываются.2%-знакомы с этим понятием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Канцероген - вещество или физический агент (излучение), способные вызвать развитие злокачественных новообразований или способствующий их возникновению. Большинство канцерогенов имеют антропогенное происхождени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24" name="Object 8"/>
          <p:cNvGraphicFramePr/>
          <p:nvPr/>
        </p:nvGraphicFramePr>
        <p:xfrm>
          <a:off x="5305320" y="2362320"/>
          <a:ext cx="26812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5320" y="2362320"/>
                    <a:ext cx="26812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6" name="Picture 4" descr="57634883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87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7:14:35Z</dcterms:created>
  <dc:creator>CityNov</dc:creator>
  <dc:description/>
  <dc:language>en-US</dc:language>
  <cp:lastModifiedBy>Admin</cp:lastModifiedBy>
  <dcterms:modified xsi:type="dcterms:W3CDTF">2013-01-17T11:33:02Z</dcterms:modified>
  <cp:revision>19</cp:revision>
  <dc:subject/>
  <dc:title>Слайд 1</dc:title>
</cp:coreProperties>
</file>