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B2B-9750-4EA8-B0B8-78D15DE4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BA0-6889-4F5B-93CF-B4A72E92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71E-2C4F-4676-8AF4-BFF59EA5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7CA-0077-4554-A4E7-F9F392A2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86D-CFD5-411B-B782-A589CD7E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90D-B27D-4646-A486-AFE08880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6F6-19C6-480B-AA16-887EB653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DB8-FBF1-43A7-89DF-1914AFC7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BA2-8AEE-430F-9250-F249D238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563-8481-4818-9683-37CE81C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E8B-430C-4074-9046-1378E8E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F68-63CB-4E49-AFE8-58D2A5F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469C-F64E-4BB4-873A-7FD3DD90D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214200"/>
            <a:ext cx="485784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огие учащиеся 7 классов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буют себя в роли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дизайнера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 них это не плохо получае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5" descr="P1000606.JPG"/>
          <p:cNvPicPr/>
          <p:nvPr/>
        </p:nvPicPr>
        <p:blipFill>
          <a:blip r:embed="rId2"/>
          <a:stretch/>
        </p:blipFill>
        <p:spPr>
          <a:xfrm>
            <a:off x="6523200" y="146160"/>
            <a:ext cx="2468520" cy="31147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9" descr="DSC03507.JPG"/>
          <p:cNvPicPr/>
          <p:nvPr/>
        </p:nvPicPr>
        <p:blipFill>
          <a:blip r:embed="rId3"/>
          <a:stretch/>
        </p:blipFill>
        <p:spPr>
          <a:xfrm>
            <a:off x="5237280" y="2004840"/>
            <a:ext cx="2181240" cy="275616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5" descr="P1000617.JPG"/>
          <p:cNvPicPr/>
          <p:nvPr/>
        </p:nvPicPr>
        <p:blipFill>
          <a:blip r:embed="rId4"/>
          <a:stretch/>
        </p:blipFill>
        <p:spPr>
          <a:xfrm>
            <a:off x="92160" y="219240"/>
            <a:ext cx="2114640" cy="296856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P1000613.JPG"/>
          <p:cNvPicPr/>
          <p:nvPr/>
        </p:nvPicPr>
        <p:blipFill>
          <a:blip r:embed="rId5"/>
          <a:stretch/>
        </p:blipFill>
        <p:spPr>
          <a:xfrm>
            <a:off x="165240" y="4218120"/>
            <a:ext cx="2340000" cy="252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мамино\разное фото\фото из кабинета-2\P1000610.JPG"/>
          <p:cNvPicPr/>
          <p:nvPr/>
        </p:nvPicPr>
        <p:blipFill>
          <a:blip r:embed="rId6"/>
          <a:stretch/>
        </p:blipFill>
        <p:spPr>
          <a:xfrm>
            <a:off x="6877080" y="4432320"/>
            <a:ext cx="2017800" cy="22543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IMG_0404.jpg"/>
          <p:cNvPicPr/>
          <p:nvPr/>
        </p:nvPicPr>
        <p:blipFill>
          <a:blip r:embed="rId7"/>
          <a:stretch/>
        </p:blipFill>
        <p:spPr>
          <a:xfrm>
            <a:off x="2090880" y="2292480"/>
            <a:ext cx="2182680" cy="275580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13" descr="IMG_0249.jpg"/>
          <p:cNvPicPr/>
          <p:nvPr/>
        </p:nvPicPr>
        <p:blipFill>
          <a:blip r:embed="rId8"/>
          <a:stretch/>
        </p:blipFill>
        <p:spPr>
          <a:xfrm>
            <a:off x="3949560" y="4218120"/>
            <a:ext cx="1828800" cy="2554200"/>
          </a:xfrm>
          <a:prstGeom prst="rect">
            <a:avLst/>
          </a:prstGeom>
          <a:ln w="0">
            <a:noFill/>
          </a:ln>
        </p:spPr>
      </p:pic>
    </p:spTree>
  </p:cSld>
  <p:transition spd="med" advTm="29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3:35Z</dcterms:modified>
  <cp:revision>235</cp:revision>
  <dc:subject/>
  <dc:title>Слайд 1</dc:title>
</cp:coreProperties>
</file>