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0C7-DA06-4740-830D-DC8B8B2E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139-E149-4A9E-98A6-DC99710F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0C3-BDAB-417F-B966-21A8C8E1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929-4924-4AE7-9235-9C7D39FD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1D0-94D1-4283-A022-94F1602C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63F-2431-45E9-8DF7-4F54235E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11B-ADDA-49A5-9A36-9F674DEA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67C-A1A3-41E5-A57E-462A9B16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3E8-98BF-4491-862E-913D6F1A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21A-ADFB-4C15-8E3A-05320094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8B7-8B3F-4DCE-AD40-E079DF72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763-CD60-453C-9BF0-6E2F7F0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2564-46E6-4200-9606-736FA6501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8880" y="214200"/>
            <a:ext cx="485784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ногие учащиеся 7 классов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буют себя в роли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изайнера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у них это не плохо получае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5" descr="P1000606.JPG"/>
          <p:cNvPicPr/>
          <p:nvPr/>
        </p:nvPicPr>
        <p:blipFill>
          <a:blip r:embed="rId2"/>
          <a:stretch/>
        </p:blipFill>
        <p:spPr>
          <a:xfrm>
            <a:off x="6523200" y="146160"/>
            <a:ext cx="2468520" cy="311472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9" descr="DSC03507.JPG"/>
          <p:cNvPicPr/>
          <p:nvPr/>
        </p:nvPicPr>
        <p:blipFill>
          <a:blip r:embed="rId3"/>
          <a:stretch/>
        </p:blipFill>
        <p:spPr>
          <a:xfrm>
            <a:off x="5237280" y="2004840"/>
            <a:ext cx="2181240" cy="275616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5" descr="P1000617.JPG"/>
          <p:cNvPicPr/>
          <p:nvPr/>
        </p:nvPicPr>
        <p:blipFill>
          <a:blip r:embed="rId4"/>
          <a:stretch/>
        </p:blipFill>
        <p:spPr>
          <a:xfrm>
            <a:off x="92160" y="219240"/>
            <a:ext cx="2114640" cy="296856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P1000613.JPG"/>
          <p:cNvPicPr/>
          <p:nvPr/>
        </p:nvPicPr>
        <p:blipFill>
          <a:blip r:embed="rId5"/>
          <a:stretch/>
        </p:blipFill>
        <p:spPr>
          <a:xfrm>
            <a:off x="165240" y="4218120"/>
            <a:ext cx="2340000" cy="252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мамино\разное фото\фото из кабинета-2\P1000610.JPG"/>
          <p:cNvPicPr/>
          <p:nvPr/>
        </p:nvPicPr>
        <p:blipFill>
          <a:blip r:embed="rId6"/>
          <a:stretch/>
        </p:blipFill>
        <p:spPr>
          <a:xfrm>
            <a:off x="6877080" y="4432320"/>
            <a:ext cx="2017800" cy="225432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6" descr="IMG_0404.jpg"/>
          <p:cNvPicPr/>
          <p:nvPr/>
        </p:nvPicPr>
        <p:blipFill>
          <a:blip r:embed="rId7"/>
          <a:stretch/>
        </p:blipFill>
        <p:spPr>
          <a:xfrm>
            <a:off x="2090880" y="2292480"/>
            <a:ext cx="2182680" cy="275580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13" descr="IMG_0249.jpg"/>
          <p:cNvPicPr/>
          <p:nvPr/>
        </p:nvPicPr>
        <p:blipFill>
          <a:blip r:embed="rId8"/>
          <a:stretch/>
        </p:blipFill>
        <p:spPr>
          <a:xfrm>
            <a:off x="3949560" y="4218120"/>
            <a:ext cx="1828800" cy="2554200"/>
          </a:xfrm>
          <a:prstGeom prst="rect">
            <a:avLst/>
          </a:prstGeom>
          <a:ln w="0">
            <a:noFill/>
          </a:ln>
        </p:spPr>
      </p:pic>
    </p:spTree>
  </p:cSld>
  <p:transition spd="med" advTm="29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0:34:19Z</dcterms:created>
  <dc:creator>User</dc:creator>
  <dc:description/>
  <dc:language>en-US</dc:language>
  <cp:lastModifiedBy>Пользователь</cp:lastModifiedBy>
  <dcterms:modified xsi:type="dcterms:W3CDTF">2013-01-14T08:43:35Z</dcterms:modified>
  <cp:revision>235</cp:revision>
  <dc:subject/>
  <dc:title>Слайд 1</dc:title>
</cp:coreProperties>
</file>