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8.gif" ContentType="image/gif"/>
  <Override PartName="/ppt/media/image9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C89-BD28-4AD3-9FE9-FA784DF3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4B8-FA3D-441A-BFC8-9E3DFC0A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2CE8-2F2F-4B84-BE23-42E59365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9D45-3095-4158-8DA1-13176B51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65FD-2973-46C4-B505-9384B999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8565-EFE1-469B-8C6B-5B038C03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30C7-6EAB-4895-9230-91BCA4FE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8A5C-7789-485A-922D-80D73C41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B925-5838-41D5-88BF-953F47CA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3048-A35A-430C-9FC0-5A6B7E46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C3B4-A45F-40CF-AD81-437CC279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2D5-7C60-4B8C-A2DF-AFF3A8A3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34FC-EC83-4700-814F-CB216560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66B8-1192-4FA5-9F97-7C9FF1F1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8283-8575-4D93-A53E-B62B69E3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5B7F-EB6C-4C8E-A141-7FDACEC6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0BC1-C7B4-400F-81FB-49CD70E2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9D52-BAC3-4DF2-B991-AB84868F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84EB-0978-4929-9326-AA0DBBBE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B5CF-681F-4F4E-B107-F1104D91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C2CC-7380-452F-922D-8E85A0EC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744-B14C-4117-ACC3-6B00CBF7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73B-952F-4CC2-94DB-A0EFDD82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B4D0-4940-4213-85AF-7E86E235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D57C-AF45-4C34-A9A0-60930ADF13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3534-FB97-432A-8CB5-0503A4E3BA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" descr="56018660_777073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68580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Семейство кошач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Jaguar_tier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33399"/>
                </a:solidFill>
                <a:uFillTx/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кошки входят в семейство кошачьих, млекопитающих отряда хищных. Наиболее специализированные из хищников, приспособлены к добыванию животной пищи путём подкрадывания, подкарауливания, реже пре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еры широко варьируют: от 34 см и массы 1  кг до 3,8 м и более 300 к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 жизни преимущественно сумеречный и ночной. Живут в одиночку или семьями; львы образуют прай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кие кошки распространены на всех материках и крупных островах, кроме Австралии, Антарктики, островов Новой Гвинеи, Сулавеси, Гренландии и Мадагаска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ашние кошки менее агрессивны, хотя  и проявляют черты хищ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емейство кошачь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1" descr="DSC02001"/>
          <p:cNvPicPr/>
          <p:nvPr/>
        </p:nvPicPr>
        <p:blipFill>
          <a:blip r:embed="rId1"/>
          <a:stretch/>
        </p:blipFill>
        <p:spPr>
          <a:xfrm>
            <a:off x="1243080" y="1774800"/>
            <a:ext cx="6657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333cc"/>
                </a:solidFill>
                <a:uFillTx/>
                <a:latin typeface="Arial"/>
              </a:rPr>
              <a:t>Тиг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-152280" y="1600200"/>
            <a:ext cx="9144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на тигров- Юго-Восточная Азия, от туда они расселились к сев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икой природе оранжевая с черными полосами окраска способствует хорошей маскиров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гры очень любят пла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цион тигра весьма разнообразен, от диких быков до древесной коры. Удар тигриной лапы страшен и смертоносен. Одним ударом он убивает лоша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Panthera_tigris_sumatran_subspec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цы весят обычно от 150 до 225кг. Длина тела самца без хвоста — в среднем 260 – 35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ьвы обитают в степях и саваннах, охотятся на животных среднего и крупного размера, в первую очередь, на копытных. Добывать крупных животных им помогает коллективный образ жиз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ьвы являются хищными млекопитающими и живут в семейных группах, так называемых прайдах. Прайд состоит из одного - трех самцов, нескольких самок и львят. Самки занимаются охотой для прайда, а самцы — охраной территор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33399"/>
                </a:solidFill>
                <a:uFillTx/>
                <a:latin typeface="Arial"/>
              </a:rPr>
              <a:t>Л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African_Lion_Panthera_leo_Male_Pittsburgh_2800px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33399"/>
                </a:solidFill>
                <a:uFillTx/>
                <a:latin typeface="Arial"/>
              </a:rPr>
              <a:t>Ба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рбис, или снежный барс — млекопитающее из семейства кошачьих, обитающее в горных массивах Центральной Аз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рбис является хищником, живущим и охотящимся в одиночку. Больше всего он активен ночью, обходя высокогорные плато в поиске добыч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нежный барс является национальным символом республик Северная Осетия и Южная Осетия. Также изображение барса использовано в гербе города Алмат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Lightmatter_snowleop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33399"/>
                </a:solidFill>
                <a:uFillTx/>
                <a:latin typeface="Arial"/>
              </a:rPr>
              <a:t>Ягу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гуаров можно встретить в Центрально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мерике, он занесен в Красную кни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нна тела до 2 м, а хвоста до 75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гуар способен издавать оглушительный рык, он охотиться практически на любую дичь начиная от мышей заканчивая кайманами- южно- американскими крокоди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гуар великолепно лазает по деревьям, благодаря своим могучим лап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XTreme</cp:lastModifiedBy>
  <dcterms:modified xsi:type="dcterms:W3CDTF">2013-02-07T18:48:01Z</dcterms:modified>
  <cp:revision>8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