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C5E6-CF5C-4D86-BE61-9E0AB396B5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EB63-A521-4B5F-80E5-033B2BAF9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A80-56CA-4157-9EBA-D7B0BDFE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8E1-3C1A-4ECE-A8DA-34937BFB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F87-90E5-442E-A1BE-C921298C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7F4-0CBC-428E-91F4-4596B6AD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FF3-120C-41F8-AD80-2BD6CAD4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B2E-2168-41A3-B320-F69C4325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7D3-8309-441E-A0C6-FB2D9977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B6C-F689-4191-B66B-BA32BB70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8FF-B154-4528-873C-8E2BA3FF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C71-4F34-4B82-9AC2-F65A9C49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AB0-E0DC-40DE-987A-2E97D3E6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8F8-FEE1-46C8-B4FE-BA3BD524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B5E9-F9D2-454C-9E5A-EE5724F52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4" descr=""/>
          <p:cNvPicPr/>
          <p:nvPr/>
        </p:nvPicPr>
        <p:blipFill>
          <a:blip r:embed="rId1"/>
          <a:stretch/>
        </p:blipFill>
        <p:spPr>
          <a:xfrm>
            <a:off x="219240" y="208080"/>
            <a:ext cx="8607240" cy="2638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2289240" y="2154240"/>
            <a:ext cx="48736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кон зародышевого сх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533376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XIX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ке выдающийся натуралист К.Бэр сформулировал этот закон: чем более ранние стадии индивидуального развития исследуются, тем больше сходства обнаруживается между различными организм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Портрет Карла Максимовича Бэра"/>
          <p:cNvPicPr/>
          <p:nvPr/>
        </p:nvPicPr>
        <p:blipFill>
          <a:blip r:embed="rId1"/>
          <a:stretch/>
        </p:blipFill>
        <p:spPr>
          <a:xfrm>
            <a:off x="48769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он зародышевого сх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Эмбриологические доказательства эволюции"/>
          <p:cNvPicPr/>
          <p:nvPr/>
        </p:nvPicPr>
        <p:blipFill>
          <a:blip r:embed="rId1"/>
          <a:stretch/>
        </p:blipFill>
        <p:spPr>
          <a:xfrm>
            <a:off x="1447920" y="1198440"/>
            <a:ext cx="6095880" cy="5292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28600" y="1392120"/>
            <a:ext cx="4191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особенностей эмбрионального развития представителей различных групп позвоночных показало, что все зародыши на ранних стадиях развития очень сходны между собой. Дальнейшее развитие приводит к исчезновению черт сходства между зародыш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Изображение 006"/>
          <p:cNvPicPr/>
          <p:nvPr/>
        </p:nvPicPr>
        <p:blipFill>
          <a:blip r:embed="rId1"/>
          <a:stretch/>
        </p:blipFill>
        <p:spPr>
          <a:xfrm>
            <a:off x="4495680" y="476280"/>
            <a:ext cx="4440240" cy="622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Rectangle 2"/>
          <p:cNvSpPr/>
          <p:nvPr/>
        </p:nvSpPr>
        <p:spPr>
          <a:xfrm>
            <a:off x="152280" y="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он зародышевого сх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1143000"/>
            <a:ext cx="4038480" cy="5334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114800" y="0"/>
            <a:ext cx="50292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многоклеточные организмы проходят в своем развитии одноклеточную стадию, что предполагает происхождение многоклеточных от одноклеточных. Далее следует стадия однослойного "шара" - ей соответствует строение некоторых современных колониальных простейших. Это - прямой намек на возможный механизм появления многоклеточности - делящиеся клетки не расходились, а оставались рядом; вероятно в дальнейшем эти клетки начали выполнять различные функции. Следующая стадия, которую проходят все животные - это двухслойный "мешок". Этой стадии соответствует строение современных кишечнополостных (например, гид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2895480" cy="266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0" y="4344840"/>
            <a:ext cx="25099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4572000" y="38088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инки - ранние стадии развития некоторых животных. И иногда, только интересуясь строением личинок, возможно правильно установить родственные связи между организмами. Так, асцидий - морских мягкотелых животных-фильтраторов, ведущих прикреплённый образ жизни, при первом рассмотрении никак нельзя назвать хордовыми животными. Их и считали долгое время беспозвоночными. Считали, пока не проследили развитие животного от свободно плавающей личинки до взрослого организма. Тут-то и оказалось, что личинка обладает ясно выраженной хордой, полой нервной трубкой со спинной стороны тела и двусторонней симметрией. И, стало быть, животное это принадлежит к типу хорд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038480" cy="3632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4039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0" y="502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ая эмбриологию, можно  общий вывод. В процессе индивидуального развития (онтогенеза) эмбрионы как бы последовательно повторяют черты строения предковых форм (т.е. онтогенез есть краткое повторение филогене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4343400" y="304920"/>
            <a:ext cx="45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очнением принципа зародышевого сходства в конце прошлого века мы обязаны Эрнсту Геккел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. Геккель. 190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цессе зародышевого развития повторяются многие чер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ения предковых форм - на ранних стадиях повторяются признаки более отдалённых предков, а на поздних стадиях - близких предков (более родственных современных фор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1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" descr=""/>
          <p:cNvPicPr/>
          <p:nvPr/>
        </p:nvPicPr>
        <p:blipFill>
          <a:blip r:embed="rId1"/>
          <a:stretch/>
        </p:blipFill>
        <p:spPr>
          <a:xfrm>
            <a:off x="1298520" y="2882880"/>
            <a:ext cx="6534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Федоровна</cp:lastModifiedBy>
  <dcterms:modified xsi:type="dcterms:W3CDTF">2013-02-06T10:15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