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14F6-0FCE-43BF-82F9-E7395F7F0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6B67-6C7B-4CCD-A8D4-7459813D7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FF5-73F9-4F13-B11B-A1CB563C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5AD-6F3E-470D-8457-021C8F3F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6AC-F56C-4433-B95D-61082990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320-86B0-4A9F-89A9-28B43431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99F-B62A-4588-876B-6821A6FC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D0A-D8B7-425D-98CC-10E38008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DB3-24D7-494A-9A45-DC8B02A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F01-2E96-4778-90F8-16645B24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A07-F788-4E5D-8BBB-D160B316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949-485A-419C-B45F-2493CA9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7D7-B5CC-407C-83F7-45B2706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FE5-D02B-44D7-9A11-4582A96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6DD-04CF-45AC-8AB4-82AE93C35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08080"/>
            <a:ext cx="8607240" cy="26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289240" y="2154240"/>
            <a:ext cx="48736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он зародышевого сх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3337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IX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ке выдающийся натуралист К.Бэр сформулировал этот закон: чем более ранние стадии индивидуального развития исследуются, тем больше сходства обнаруживается между различными организм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Портрет Карла Максимовича Бэра"/>
          <p:cNvPicPr/>
          <p:nvPr/>
        </p:nvPicPr>
        <p:blipFill>
          <a:blip r:embed="rId1"/>
          <a:stretch/>
        </p:blipFill>
        <p:spPr>
          <a:xfrm>
            <a:off x="48769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 зародышевого сх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Эмбриологические доказательства эволюции"/>
          <p:cNvPicPr/>
          <p:nvPr/>
        </p:nvPicPr>
        <p:blipFill>
          <a:blip r:embed="rId1"/>
          <a:stretch/>
        </p:blipFill>
        <p:spPr>
          <a:xfrm>
            <a:off x="1447920" y="1198440"/>
            <a:ext cx="6095880" cy="5292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28600" y="139212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особенностей эмбрионального развития представителей различных групп позвоночных показало, что все зародыши на ранних стадиях развития очень сходны между собой. Дальнейшее развитие приводит к исчезновению черт сходства между зародыш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Изображение 006"/>
          <p:cNvPicPr/>
          <p:nvPr/>
        </p:nvPicPr>
        <p:blipFill>
          <a:blip r:embed="rId1"/>
          <a:stretch/>
        </p:blipFill>
        <p:spPr>
          <a:xfrm>
            <a:off x="4495680" y="476280"/>
            <a:ext cx="4440240" cy="62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Rectangle 2"/>
          <p:cNvSpPr/>
          <p:nvPr/>
        </p:nvSpPr>
        <p:spPr>
          <a:xfrm>
            <a:off x="152280" y="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 зародышевого сх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1143000"/>
            <a:ext cx="4038480" cy="53341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114800" y="0"/>
            <a:ext cx="50292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многоклеточные организмы проходят в своем развитии одноклеточную стадию, что предполагает происхождение многоклеточных от одноклеточных. Далее следует стадия однослойного "шара" - ей соответствует строение некоторых современных колониальных простейших. Это - прямой намек на возможный механизм появления многоклеточности - делящиеся клетки не расходились, а оставались рядом; вероятно в дальнейшем эти клетки начали выполнять различные функции. Следующая стадия, которую проходят все животные - это двухслойный "мешок". Этой стадии соответствует строение современных кишечнополостных (например, гид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2895480" cy="26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0" y="4344840"/>
            <a:ext cx="25099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572000" y="38088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инки - ранние стадии развития некоторых животных. И иногда, только интересуясь строением личинок, возможно правильно установить родственные связи между организмами. Так, асцидий - морских мягкотелых животных-фильтраторов, ведущих прикреплённый образ жизни, при первом рассмотрении никак нельзя назвать хордовыми животными. Их и считали долгое время беспозвоночными. Считали, пока не проследили развитие животного от свободно плавающей личинки до взрослого организма. Тут-то и оказалось, что личинка обладает ясно выраженной хордой, полой нервной трубкой со спинной стороны тела и двусторонней симметрией. И, стало быть, животное это принадлежит к типу хорд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63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4039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502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ая эмбриологию, можно  общий вывод. В процессе индивидуального развития (онтогенеза) эмбрионы как бы последовательно повторяют черты строения предковых форм (т.е. онтогенез есть краткое повторение филоген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4343400" y="30492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очнением принципа зародышевого сходства в конце прошлого века мы обязаны Эрнсту Гекк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. Геккель. 19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зародышевого развития повторяются многие чер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я предковых форм - на ранних стадиях повторяются признаки более отдалённых предков, а на поздних стадиях - близких предков (более родственных современных фо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1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298520" y="2882880"/>
            <a:ext cx="6534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Федоровна</cp:lastModifiedBy>
  <dcterms:modified xsi:type="dcterms:W3CDTF">2013-02-06T10:15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