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E47-81F8-4ED1-B481-82293F80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9C2-486F-478C-8A46-4F691CD0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C853-8742-4948-9B51-5FF8DB2F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1AC-25F3-4371-ACED-241E97AE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CD4-511F-4680-AAE2-63A925F4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0FB-EE1D-4D35-B883-C05E57EF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447-CC86-45DE-ADE5-80848FAE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4F9-E363-4CCE-AAB6-70FCF40A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D257-350F-4F89-8180-5C50B8C9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42D-9EFE-4120-9425-7BE9A8CD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C263-A576-4E39-A0CC-1C39DE34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6BC-C6C4-4288-BA4A-540BAC9E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4EEF-4764-4F05-8ED4-408BB3C26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626000" cy="489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360" y="2924280"/>
            <a:ext cx="432000" cy="358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00" y="3716280"/>
            <a:ext cx="432000" cy="3589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88000" y="1773360"/>
            <a:ext cx="431640" cy="358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4437000"/>
            <a:ext cx="431640" cy="3589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11640" y="3141720"/>
            <a:ext cx="431640" cy="358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4724280"/>
            <a:ext cx="432000" cy="3589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24360" y="1773360"/>
            <a:ext cx="431640" cy="3585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3860640"/>
            <a:ext cx="431640" cy="35892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421000"/>
            <a:ext cx="431640" cy="35856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4653000"/>
            <a:ext cx="431640" cy="35856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4581360"/>
            <a:ext cx="431640" cy="35892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0360" y="4221000"/>
            <a:ext cx="432000" cy="35892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4292640"/>
            <a:ext cx="431640" cy="35856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3716280"/>
            <a:ext cx="432000" cy="35892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2997360"/>
            <a:ext cx="431640" cy="35856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2276640"/>
            <a:ext cx="432000" cy="35856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1341360"/>
            <a:ext cx="431640" cy="35892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6000" y="2421000"/>
            <a:ext cx="432000" cy="3585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3573360"/>
            <a:ext cx="432000" cy="3589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3500280"/>
            <a:ext cx="431640" cy="3589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626000" cy="489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92360" y="2924280"/>
            <a:ext cx="432000" cy="358560"/>
          </a:xfrm>
          <a:prstGeom prst="ellipse">
            <a:avLst/>
          </a:prstGeom>
          <a:solidFill>
            <a:srgbClr val="0a7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3716280"/>
            <a:ext cx="432000" cy="358920"/>
          </a:xfrm>
          <a:prstGeom prst="ellipse">
            <a:avLst/>
          </a:prstGeom>
          <a:solidFill>
            <a:srgbClr val="0a7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1773360"/>
            <a:ext cx="431640" cy="358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4437000"/>
            <a:ext cx="431640" cy="358920"/>
          </a:xfrm>
          <a:prstGeom prst="ellipse">
            <a:avLst/>
          </a:prstGeom>
          <a:solidFill>
            <a:srgbClr val="0a7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11640" y="3141720"/>
            <a:ext cx="431640" cy="358560"/>
          </a:xfrm>
          <a:prstGeom prst="ellipse">
            <a:avLst/>
          </a:prstGeom>
          <a:solidFill>
            <a:srgbClr val="0a7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724280"/>
            <a:ext cx="432000" cy="358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1773360"/>
            <a:ext cx="431640" cy="3585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3860640"/>
            <a:ext cx="431640" cy="35892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2421000"/>
            <a:ext cx="431640" cy="35856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4653000"/>
            <a:ext cx="431640" cy="35856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43280" y="4581360"/>
            <a:ext cx="431640" cy="35892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4221000"/>
            <a:ext cx="432000" cy="35892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88000" y="4292640"/>
            <a:ext cx="431640" cy="35856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87640" y="3716280"/>
            <a:ext cx="432000" cy="35892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2997360"/>
            <a:ext cx="431640" cy="35856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03640" y="2276640"/>
            <a:ext cx="432000" cy="35856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720" y="1341360"/>
            <a:ext cx="431640" cy="35892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2421000"/>
            <a:ext cx="432000" cy="3585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573360"/>
            <a:ext cx="432000" cy="358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3500280"/>
            <a:ext cx="431640" cy="358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626000" cy="489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92360" y="2924280"/>
            <a:ext cx="432000" cy="358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432000" cy="3589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88000" y="1773360"/>
            <a:ext cx="431640" cy="358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4437000"/>
            <a:ext cx="431640" cy="3589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3141720"/>
            <a:ext cx="431640" cy="358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4724280"/>
            <a:ext cx="432000" cy="3589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1773360"/>
            <a:ext cx="431640" cy="3585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11640" y="3860640"/>
            <a:ext cx="431640" cy="35892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1280" y="2421000"/>
            <a:ext cx="431640" cy="35856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4653000"/>
            <a:ext cx="431640" cy="35856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4581360"/>
            <a:ext cx="431640" cy="35892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4221000"/>
            <a:ext cx="432000" cy="35892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4292640"/>
            <a:ext cx="431640" cy="35856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3716280"/>
            <a:ext cx="432000" cy="35892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2997360"/>
            <a:ext cx="431640" cy="35856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3640" y="2276640"/>
            <a:ext cx="432000" cy="35856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1341360"/>
            <a:ext cx="431640" cy="35892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2421000"/>
            <a:ext cx="432000" cy="3585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3573360"/>
            <a:ext cx="432000" cy="3589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3500280"/>
            <a:ext cx="431640" cy="3589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626000" cy="489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492360" y="2924280"/>
            <a:ext cx="432000" cy="358560"/>
          </a:xfrm>
          <a:prstGeom prst="ellipse">
            <a:avLst/>
          </a:prstGeom>
          <a:solidFill>
            <a:srgbClr val="0a7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3716280"/>
            <a:ext cx="432000" cy="358920"/>
          </a:xfrm>
          <a:prstGeom prst="ellipse">
            <a:avLst/>
          </a:prstGeom>
          <a:solidFill>
            <a:srgbClr val="0a7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1773360"/>
            <a:ext cx="431640" cy="358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4000" y="4437000"/>
            <a:ext cx="431640" cy="358920"/>
          </a:xfrm>
          <a:prstGeom prst="ellipse">
            <a:avLst/>
          </a:prstGeom>
          <a:solidFill>
            <a:srgbClr val="0a7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11640" y="3141720"/>
            <a:ext cx="431640" cy="358560"/>
          </a:xfrm>
          <a:prstGeom prst="ellipse">
            <a:avLst/>
          </a:prstGeom>
          <a:solidFill>
            <a:srgbClr val="0a7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4724280"/>
            <a:ext cx="432000" cy="358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1773360"/>
            <a:ext cx="431640" cy="3585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3860640"/>
            <a:ext cx="431640" cy="35892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2421000"/>
            <a:ext cx="431640" cy="35856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4653000"/>
            <a:ext cx="431640" cy="35856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581360"/>
            <a:ext cx="431640" cy="35892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4221000"/>
            <a:ext cx="432000" cy="35892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4292640"/>
            <a:ext cx="431640" cy="35856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3716280"/>
            <a:ext cx="432000" cy="35892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2997360"/>
            <a:ext cx="431640" cy="35856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2276640"/>
            <a:ext cx="432000" cy="35856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341360"/>
            <a:ext cx="431640" cy="35892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2421000"/>
            <a:ext cx="432000" cy="3585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3573360"/>
            <a:ext cx="432000" cy="358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3500280"/>
            <a:ext cx="431640" cy="358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07:06:00Z</dcterms:created>
  <dc:creator>user</dc:creator>
  <dc:description/>
  <dc:language>en-US</dc:language>
  <cp:lastModifiedBy> </cp:lastModifiedBy>
  <dcterms:modified xsi:type="dcterms:W3CDTF">2009-03-14T00:41:32Z</dcterms:modified>
  <cp:revision>3</cp:revision>
  <dc:subject/>
  <dc:title>Слайд 1</dc:title>
</cp:coreProperties>
</file>