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A2A-F403-44F6-8B4A-3EAC7DB5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EFB-D399-420B-89DF-86F0F54D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664-63E2-406D-BF87-122DFBD2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CC5-B69C-44BF-88FC-62268A7D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E7D-7401-45B0-A069-5414C2F4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A74-8346-41CB-97E2-1D66D30F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C25-D2BD-4BC2-A176-F23C1F2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9CE-9D06-4FC2-AA4E-95F73178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5CA-EB3D-4558-89A9-C2EB099B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5A7-5689-446A-B8FD-E7917D8D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F0F-AAF8-49E5-9E83-C93356E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61F-1496-45C8-BDDC-17A5BA5C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1344-FDA5-434F-99D8-3B6DCC980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gradFill rotWithShape="0">
            <a:gsLst>
              <a:gs pos="0">
                <a:srgbClr val="fcf224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gradFill rotWithShape="0">
            <a:gsLst>
              <a:gs pos="0">
                <a:srgbClr val="e23e9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626000" cy="489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92360" y="2924280"/>
            <a:ext cx="43200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3716280"/>
            <a:ext cx="43200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773360"/>
            <a:ext cx="431640" cy="358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4437000"/>
            <a:ext cx="431640" cy="35892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3141720"/>
            <a:ext cx="431640" cy="358560"/>
          </a:xfrm>
          <a:prstGeom prst="ellipse">
            <a:avLst/>
          </a:prstGeom>
          <a:solidFill>
            <a:srgbClr val="0a7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72428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1773360"/>
            <a:ext cx="43164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386064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421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653000"/>
            <a:ext cx="431640" cy="35856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43164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4221000"/>
            <a:ext cx="432000" cy="358920"/>
          </a:xfrm>
          <a:prstGeom prst="ellipse">
            <a:avLst/>
          </a:prstGeom>
          <a:solidFill>
            <a:srgbClr val="fcf2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29264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3716280"/>
            <a:ext cx="43200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2997360"/>
            <a:ext cx="43164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2276640"/>
            <a:ext cx="432000" cy="35856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31640" cy="358920"/>
          </a:xfrm>
          <a:prstGeom prst="ellipse">
            <a:avLst/>
          </a:prstGeom>
          <a:solidFill>
            <a:srgbClr val="e23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421000"/>
            <a:ext cx="432000" cy="3585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573360"/>
            <a:ext cx="43200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500280"/>
            <a:ext cx="431640" cy="358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7:06:00Z</dcterms:created>
  <dc:creator>user</dc:creator>
  <dc:description/>
  <dc:language>en-US</dc:language>
  <cp:lastModifiedBy> </cp:lastModifiedBy>
  <dcterms:modified xsi:type="dcterms:W3CDTF">2009-03-14T00:41:32Z</dcterms:modified>
  <cp:revision>3</cp:revision>
  <dc:subject/>
  <dc:title>Слайд 1</dc:title>
</cp:coreProperties>
</file>