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37B8-37B1-4BA7-8CB1-38CA7AA3DB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63D1-1CFD-4A3B-89AF-101D336342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AB25-5D07-4F23-A65D-C4D4EA76F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8BA-F7C4-4449-AAC1-BC627EF7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566-6771-48AC-A4B3-3B5CAA68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585C9-96A6-4382-AFAA-C8113DFF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054D5-35BB-445D-B644-5AF0AA8B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B7479-49D2-4945-B82D-97B3A9AC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58A00-E5A2-4198-A0BC-25B745CC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0DD97-37E1-4C22-947C-D3871E7C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6DA0F-A51F-4F30-87C3-CD3847B6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BA9CA-209E-40AC-BC45-361CF3C1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1F07D-AF1B-49C2-960C-FBC354D6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2914D-435C-4B60-AD37-3FE6EFB9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DA5-5214-48ED-975C-01FA446C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5E6-2ED1-4D55-ADD0-6C486704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4234-DA88-424C-9FD6-964BBBBE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A70E-8C7F-4018-89FF-28544CFA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E871-CF0F-4962-8F3A-17402076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0816-3A8C-4E22-BF88-3C64E1AB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D77F-08E9-4857-B65A-087F9D6F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7F7D-B3AC-44B9-8EFF-48BC30C3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A86D-3685-4A66-8E4C-061B69FA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2A6-EC76-4050-8FA0-E996BFBA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2A77-3C0E-4AD4-B50E-9EDB5057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531A-BF18-467D-91CF-945396C4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85C4-258A-4B03-B02D-52BF3F4E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F323-8995-4784-A4F1-06682695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AEA4-9612-43B1-BF2A-DE9C12CC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9EE8E-B618-4B5D-BA19-9B93BCA4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5D87-0ABA-4A3C-9F02-EBA96E3D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B0604-3A9A-4C17-B42C-EB54FABF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8239-07B8-48B1-811B-7B74FE5E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0207E-6DA7-4762-957A-15C0E98C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BF1-5D72-48E7-80B9-8F06B331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A9F2A-AE33-42CB-9911-DF51B019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58A8F-8499-4F2F-A623-40501D98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30EA-6A37-4EBF-BD77-E3C82F75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34291-78DA-460D-8994-5E4272BC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AAB5-9638-4C24-B870-D80A9C32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ED10-6BC7-4960-9858-DCC39448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16446-2C83-48ED-B0AB-CC26C36A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24D7F-052F-49D1-AFB0-96056FA1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1AEFD-5C99-4926-A9DB-82DFF4D2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27449-3500-41CC-8F27-52590BD4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C909-84F8-4889-AD84-3EA9AAAB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1D00B-9B33-4497-AC63-1959DFE2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B1FDB-2293-4AB5-9881-E7B4126E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8E96A-749E-49EA-9514-612F2CA7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6D664-3AE4-4D29-87CA-C2225DE5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D444E-C582-4928-AF79-1A11614B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F2220-46E0-480F-A75A-235D9ABA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CCC6-AED2-48D6-9D9E-133F3101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C355D-57FB-40A0-9EE9-30963FE1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C2D3B-6FFE-493E-A6F9-9F185D66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519C2-47E8-4D1B-B2A5-0706ED57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FF8-8FFB-4E0B-A782-F872C4AC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21139-32A8-4B5E-A1E4-036ECF75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66566-827B-4284-9BF2-41DF7442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A464E-7F00-495F-A2E5-8E30D051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71EDF-9FE2-4550-85D0-38821582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1BC2B-9D1B-4BA9-B1F6-37FE0087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4CCB0-D346-4EE4-91CC-B27955E0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C4C78-0776-41E1-823F-4816A450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F3E83-FC6F-4338-B594-89241B7A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3218F-786A-491B-A0A7-10CD194A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F3AF6-88BD-481C-A12A-C9C59D56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D844-DFFF-46AE-B956-B2AA9240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7B8A3-3F0B-49A8-91EB-56120BEF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1C098-A1CF-4C23-AFDC-9610547C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A477E-AAB2-4DCA-9E5F-4270981A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F5862-898E-4396-B2B5-B8C920B6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6F9C1-490F-484D-9DE0-802CD1AC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33C72-4D3B-4959-93CD-E501D268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ED831-8351-4569-A337-BC0D37EE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743E5-FE94-4E74-9A02-3ED43518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2F0B-54D0-441D-8202-68DF264F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3A9CA-FF58-4C0F-BB1D-6EAAD0BA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3FA-AAD1-457B-81F2-F505E773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0500A-7F1C-41EB-A3A5-9EFFDF63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B7C6B-A7F5-4400-A992-7BC5417A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9A247-B72E-4D96-986A-0736C7C3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D9045-7B08-42E4-B844-79962563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070BF-1830-48FD-9CC5-41C85F25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9B7DF-C79F-4A8D-B1AE-F69F41CD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B8B30-5BE6-4E29-8ED2-C0D20702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A5D0F-13B1-4ED8-9B52-CED64B4D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BAC15-93D4-422C-889E-EFBC022D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FDA74-4F9C-4DE4-8B7A-0D73F202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BEA-47CF-4D5C-BE7C-1EE6388A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A0F93-078D-4D8A-9A1C-B2969BF3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99011-DAB9-4BCD-AEAF-D96EE0AE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37966-57AB-45D2-ABE3-06128410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55F4E-763F-4A55-9679-493987E1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DF2CD-6794-4EFE-AA7D-4B335D66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3308A-129A-44D7-8EB5-ECB4A13F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06A52-37E7-4BF7-B630-51D0A9A7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62D57-6D1A-4A38-AB45-E27F6790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FA571-1735-4904-9C0A-7F6A4681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82283-8F61-460E-99FB-A095047B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979-A018-43CE-A845-D0BF9A37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393C2-B5FC-47CC-BCDD-1E527521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D3939-F702-4523-8D59-C10E0B22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9A60E-E420-4D0A-8931-53B04511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1B244-8111-4B64-B906-117FF1F2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7C634-BE3D-4FB5-98A1-5F3B1AEC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23341-079F-4E45-A42C-9062F316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ABC5B-7EA4-4B82-AA2F-81F188BF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532AD-DC1E-4677-8A1C-548DBF62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EF646-3DEE-4712-8E82-D991D14C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C3158-9DC8-469D-B8A3-FF83ECC3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5FCB-6110-4F30-8BB0-BBA48C29D32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B179-3168-462A-A4AE-816D3DF2DE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F876-0197-4097-B16D-32EA2EB137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7EB9-25D6-454D-8B75-9FFBF0AC25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168A-03DB-44A1-9E15-F2DCB74DFA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C238-91BE-4039-ABE5-5862FD9381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4410-8B0F-4319-A5B6-B0DDFD37299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D368-6887-40E1-84C3-43F6B064B4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2957-657B-43D3-803B-5F1B38EDFD6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4" descr="сосн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1"/>
          <p:cNvSpPr/>
          <p:nvPr/>
        </p:nvSpPr>
        <p:spPr>
          <a:xfrm>
            <a:off x="0" y="0"/>
            <a:ext cx="9144000" cy="3934440"/>
          </a:xfrm>
          <a:prstGeom prst="rect">
            <a:avLst/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Урок развития устной речи на основе изучения предметов и явлений окружающей действи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4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ема. Ель, сосна –хвойные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Рисунок 4" descr="елочки.jpg"/>
          <p:cNvPicPr/>
          <p:nvPr/>
        </p:nvPicPr>
        <p:blipFill>
          <a:blip r:embed="rId1"/>
          <a:stretch/>
        </p:blipFill>
        <p:spPr>
          <a:xfrm>
            <a:off x="4267080" y="1214280"/>
            <a:ext cx="4876920" cy="48578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рассада ел.jpg"/>
          <p:cNvPicPr/>
          <p:nvPr/>
        </p:nvPicPr>
        <p:blipFill>
          <a:blip r:embed="rId2"/>
          <a:stretch/>
        </p:blipFill>
        <p:spPr>
          <a:xfrm>
            <a:off x="214200" y="642960"/>
            <a:ext cx="396252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1"/>
          <p:cNvSpPr/>
          <p:nvPr/>
        </p:nvSpPr>
        <p:spPr>
          <a:xfrm>
            <a:off x="1643040" y="6429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Послов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3"/>
          <p:cNvSpPr/>
          <p:nvPr/>
        </p:nvSpPr>
        <p:spPr>
          <a:xfrm>
            <a:off x="285840" y="1357200"/>
            <a:ext cx="82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мить дерево – секун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а вырастить –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357120" y="2786040"/>
            <a:ext cx="73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Много леса – не губ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мало леса – берег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нет леса – посад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Рисунок 4" descr="посади лес.jpg"/>
          <p:cNvPicPr/>
          <p:nvPr/>
        </p:nvPicPr>
        <p:blipFill>
          <a:blip r:embed="rId1"/>
          <a:stretch/>
        </p:blipFill>
        <p:spPr>
          <a:xfrm>
            <a:off x="5715000" y="4035600"/>
            <a:ext cx="34290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714240" y="8571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Игра «Четвёртый лишни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285840" y="20718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Дуб,  берёза,  клё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3"/>
          <p:cNvSpPr/>
          <p:nvPr/>
        </p:nvSpPr>
        <p:spPr>
          <a:xfrm>
            <a:off x="5072040" y="207180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смород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357120" y="314316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ва ,  оси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5"/>
          <p:cNvSpPr/>
          <p:nvPr/>
        </p:nvSpPr>
        <p:spPr>
          <a:xfrm>
            <a:off x="3714840" y="31431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ель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6"/>
          <p:cNvSpPr/>
          <p:nvPr/>
        </p:nvSpPr>
        <p:spPr>
          <a:xfrm>
            <a:off x="4714920" y="31431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липа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7"/>
          <p:cNvSpPr/>
          <p:nvPr/>
        </p:nvSpPr>
        <p:spPr>
          <a:xfrm>
            <a:off x="428760" y="442908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Ель, сос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8"/>
          <p:cNvSpPr/>
          <p:nvPr/>
        </p:nvSpPr>
        <p:spPr>
          <a:xfrm>
            <a:off x="3143160" y="4429080"/>
            <a:ext cx="18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берёза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9"/>
          <p:cNvSpPr/>
          <p:nvPr/>
        </p:nvSpPr>
        <p:spPr>
          <a:xfrm>
            <a:off x="4786200" y="442908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едр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"/>
          <p:cNvSpPr/>
          <p:nvPr/>
        </p:nvSpPr>
        <p:spPr>
          <a:xfrm>
            <a:off x="0" y="153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ороткие иголки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Тонкий ствол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Молодое дерево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4286160" y="285840"/>
            <a:ext cx="4000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7000"/>
                </a:solidFill>
                <a:latin typeface="Constantia"/>
              </a:rPr>
              <a:t>длинные иго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57760" y="1285920"/>
            <a:ext cx="3929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7000"/>
                </a:solidFill>
                <a:latin typeface="Constantia"/>
              </a:rPr>
              <a:t>толстый ств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3930480" y="2411280"/>
            <a:ext cx="3786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7000"/>
                </a:solidFill>
                <a:latin typeface="Constantia"/>
              </a:rPr>
              <a:t>старое дере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6" descr="ствол.jpg"/>
          <p:cNvPicPr/>
          <p:nvPr/>
        </p:nvPicPr>
        <p:blipFill>
          <a:blip r:embed="rId1"/>
          <a:srcRect l="0" t="34377" r="0" b="0"/>
          <a:stretch/>
        </p:blipFill>
        <p:spPr>
          <a:xfrm>
            <a:off x="2571840" y="3174840"/>
            <a:ext cx="44085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"/>
          <p:cNvSpPr/>
          <p:nvPr/>
        </p:nvSpPr>
        <p:spPr>
          <a:xfrm>
            <a:off x="285840" y="1071720"/>
            <a:ext cx="84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Ель, сосна – хвойные дерев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4" descr="елка.jpg"/>
          <p:cNvPicPr/>
          <p:nvPr/>
        </p:nvPicPr>
        <p:blipFill>
          <a:blip r:embed="rId1"/>
          <a:stretch/>
        </p:blipFill>
        <p:spPr>
          <a:xfrm>
            <a:off x="857160" y="23572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5" descr="сосна.jpg"/>
          <p:cNvPicPr/>
          <p:nvPr/>
        </p:nvPicPr>
        <p:blipFill>
          <a:blip r:embed="rId2"/>
          <a:srcRect l="25966" t="9206" r="29036" b="17183"/>
          <a:stretch/>
        </p:blipFill>
        <p:spPr>
          <a:xfrm>
            <a:off x="4929120" y="2357280"/>
            <a:ext cx="3133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C:\Users\Светлана и Степан\Downloads\ель5.jpg"/>
          <p:cNvPicPr/>
          <p:nvPr/>
        </p:nvPicPr>
        <p:blipFill>
          <a:blip r:embed="rId1"/>
          <a:stretch/>
        </p:blipFill>
        <p:spPr>
          <a:xfrm>
            <a:off x="5143680" y="1285920"/>
            <a:ext cx="2428560" cy="20718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C:\Users\Светлана и Степан\Downloads\сосна7.jpg"/>
          <p:cNvPicPr/>
          <p:nvPr/>
        </p:nvPicPr>
        <p:blipFill>
          <a:blip r:embed="rId2"/>
          <a:stretch/>
        </p:blipFill>
        <p:spPr>
          <a:xfrm>
            <a:off x="1143000" y="4357800"/>
            <a:ext cx="2143080" cy="1928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Users\Светлана и Степан\Downloads\сосна4.jpg"/>
          <p:cNvPicPr/>
          <p:nvPr/>
        </p:nvPicPr>
        <p:blipFill>
          <a:blip r:embed="rId3"/>
          <a:stretch/>
        </p:blipFill>
        <p:spPr>
          <a:xfrm>
            <a:off x="5143680" y="421488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Users\Светлана и Степан\Downloads\ель 36.jpg"/>
          <p:cNvPicPr/>
          <p:nvPr/>
        </p:nvPicPr>
        <p:blipFill>
          <a:blip r:embed="rId4"/>
          <a:stretch/>
        </p:blipFill>
        <p:spPr>
          <a:xfrm>
            <a:off x="1144440" y="1362240"/>
            <a:ext cx="24987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1"/>
          <p:cNvSpPr/>
          <p:nvPr/>
        </p:nvSpPr>
        <p:spPr>
          <a:xfrm>
            <a:off x="714240" y="785880"/>
            <a:ext cx="67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Сосна растёт в бор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"/>
          <p:cNvSpPr/>
          <p:nvPr/>
        </p:nvSpPr>
        <p:spPr>
          <a:xfrm>
            <a:off x="428760" y="2000160"/>
            <a:ext cx="700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В густом ельнике медвед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устроил берлог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Рисунок 4" descr="ельник.jpg"/>
          <p:cNvPicPr/>
          <p:nvPr/>
        </p:nvPicPr>
        <p:blipFill>
          <a:blip r:embed="rId1"/>
          <a:stretch/>
        </p:blipFill>
        <p:spPr>
          <a:xfrm>
            <a:off x="4452840" y="3286080"/>
            <a:ext cx="43340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1"/>
          <p:cNvSpPr/>
          <p:nvPr/>
        </p:nvSpPr>
        <p:spPr>
          <a:xfrm>
            <a:off x="142920" y="92880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дремлет зелёный бо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"/>
          <p:cNvSpPr/>
          <p:nvPr/>
        </p:nvSpPr>
        <p:spPr>
          <a:xfrm>
            <a:off x="142920" y="15717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т прямоствольные со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"/>
          <p:cNvSpPr/>
          <p:nvPr/>
        </p:nvSpPr>
        <p:spPr>
          <a:xfrm>
            <a:off x="142920" y="228600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сные ветви устремились в неб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4"/>
          <p:cNvSpPr/>
          <p:nvPr/>
        </p:nvSpPr>
        <p:spPr>
          <a:xfrm>
            <a:off x="142920" y="292896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новом бору светло и сух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142920" y="3571920"/>
            <a:ext cx="871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но дышать смолистым аромат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Рисунок 9" descr="сосновыйбор.jpg"/>
          <p:cNvPicPr/>
          <p:nvPr/>
        </p:nvPicPr>
        <p:blipFill>
          <a:blip r:embed="rId1"/>
          <a:stretch/>
        </p:blipFill>
        <p:spPr>
          <a:xfrm>
            <a:off x="2571840" y="4210200"/>
            <a:ext cx="38415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1"/>
          <p:cNvSpPr/>
          <p:nvPr/>
        </p:nvSpPr>
        <p:spPr>
          <a:xfrm>
            <a:off x="428760" y="100008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ле стоит душистая ёл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"/>
          <p:cNvSpPr/>
          <p:nvPr/>
        </p:nvSpPr>
        <p:spPr>
          <a:xfrm>
            <a:off x="428760" y="178596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тках красивые игруш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500040" y="25718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акушке надета звез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500040" y="328608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одят хороводы вокруг ё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7" descr="C:\Documents and Settings\Наталья\Рабочий стол\новый год\IMG_9396.JPG"/>
          <p:cNvPicPr/>
          <p:nvPr/>
        </p:nvPicPr>
        <p:blipFill>
          <a:blip r:embed="rId1"/>
          <a:srcRect l="0" t="19978" r="0" b="11005"/>
          <a:stretch/>
        </p:blipFill>
        <p:spPr>
          <a:xfrm>
            <a:off x="1928880" y="3857760"/>
            <a:ext cx="52452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"/>
          <p:cNvSpPr/>
          <p:nvPr/>
        </p:nvSpPr>
        <p:spPr>
          <a:xfrm>
            <a:off x="214200" y="185724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Шапкой Саша шишку сши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2"/>
          <p:cNvSpPr/>
          <p:nvPr/>
        </p:nvSpPr>
        <p:spPr>
          <a:xfrm>
            <a:off x="1785960" y="57168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Скороговор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4" descr="шишки.jpg"/>
          <p:cNvPicPr/>
          <p:nvPr/>
        </p:nvPicPr>
        <p:blipFill>
          <a:blip r:embed="rId1"/>
          <a:stretch/>
        </p:blipFill>
        <p:spPr>
          <a:xfrm>
            <a:off x="2143080" y="285768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8:27:01Z</dcterms:created>
  <dc:creator>Светлана и Степан</dc:creator>
  <dc:description/>
  <dc:language>en-US</dc:language>
  <cp:lastModifiedBy>Ольга</cp:lastModifiedBy>
  <dcterms:modified xsi:type="dcterms:W3CDTF">2013-02-07T14:39:50Z</dcterms:modified>
  <cp:revision>38</cp:revision>
  <dc:subject/>
  <dc:title>Ель, сосна – хвойные деревья.</dc:title>
</cp:coreProperties>
</file>