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D67F-E300-43CD-B24A-4A712C741A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6E8A-4108-4E0C-B2F3-6A1FFD4180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E099-004F-4D28-96FA-34E56261DF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F02-3264-4F02-B3E7-F73F7E26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7E6-2062-4802-AA1C-4A0FCC3E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59D59-C9D3-4531-B704-61C48D39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89CB3-3BB1-4E9E-91D6-B0C6D759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2E4D3-ECDD-495D-93F9-30C1984C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E714B-4E94-4C05-99F6-E556E72A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2FCE2-2D4C-4303-AE38-0B3A8A76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0B7DC-F0E4-426A-892A-11EDDD91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CE411-6EE9-4F2C-927E-2462EDB9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EE37C-92BF-4B0D-8696-62EA7676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C35E3-5484-4DD0-A708-D8F06048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7756-CEFC-42DE-8AC3-C91D7CFB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ED7-CD85-4DD3-B691-2977C94F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49AF-F19B-4BE5-B8E2-98402426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FEFB-651A-4B17-9E37-82DF9F87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0C80-6FD3-482C-823A-516169EB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0DAA-3794-4951-9984-7451F97C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6862-CD25-4EF8-987C-841493B0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9E40-8E01-4625-871F-A191798A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D4C1-F923-4D49-BB7D-75B963BA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598-3B5A-4CAA-966E-C5D6EA7F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DCAC-E9E7-4F8D-A166-C9D6B70B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89AC-60BE-4D58-A193-1FA9BC76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194E-A6E9-4AD6-B194-269B13B4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8407-85E1-4F6A-B509-6A3D2ECA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2F0F-63B3-456F-A2D2-66F42F9F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42B54-548F-4EC2-BACA-AB2CF160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F120D-DE4D-40ED-A417-46710849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129B4-8644-4761-830D-B5BE54C3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19AB9-A26D-42EB-ADC7-C5491368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13A4-B31D-4ED7-B22B-3DA7E22B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98B-A212-4142-B479-A2854DAF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773C0-146B-4A22-B1CC-140AAA9E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CAEE1-A6CC-4E38-A3F5-E20FCCC5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E47E-77EB-4350-A716-6C936381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44D7F-772F-4742-BF7D-46763508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181F4-0333-425D-8BB2-FE0255DE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7412E-0851-4FE2-874A-12572520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D7DBD-C8CD-496C-9836-B2328B75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E9BCA-55B6-4A6C-9816-894AE325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488B1-AE21-461E-8E63-4E11AF19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22BC3-6CC0-4937-83D8-21360128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355-76A5-4145-A02A-6328C98E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33DF9-9DE8-462B-A524-4F965BCB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9DA62-37F4-474E-9FE0-20910763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8A339-2FD6-4AE0-A44C-08419E40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D40FD-78D9-4B4A-A81B-707710B7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0B2DC-79B7-4C7B-8C4D-09F7BA28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BDF1F-8BE8-499C-9DB5-94B32208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589B5-464E-4F76-A93E-59DF7FB6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03DD7-82DD-4A37-8190-FA97A652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4DDC9-4DED-4C66-BF58-1D120070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DE614-A22A-4D77-BC71-20285B01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697-230E-44BA-A053-25444894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CE0D3-90E8-4A31-9D1C-7E6BF254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9CC30-C2FE-466B-B836-46A55F79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DCA49-BDFC-4D8F-9D9C-25B3C819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5B1B1-9852-4820-BC45-E6F0B0B9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19666-9112-46CD-9914-3423944C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A6B05-AAB6-405A-B0B2-E57D6C00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97150-3986-4587-A3EE-7B2EEB41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6ADD8-3066-4A0D-9D5E-B505BA23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5FD4C-DB96-4FF1-9641-010690AA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03CC0-0747-4C10-A9A2-6A3807C7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FA66-2869-4ACF-AC88-EA8EF4C9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140C8-CFBD-431E-8B2C-D21B763D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1674B-3B4D-41AC-B241-13B5378C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46E3C-BEFF-4516-8DE5-A524CCA5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0768F-5603-4DE1-911C-D7C4E140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EB4C8-CE40-47B5-991B-0466E692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A22E9-936B-44AB-A928-9276EB4D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30F2E-B23B-4A90-B082-E4D0CE8C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4800C-ACF7-4D51-B52E-3AFC6F70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07E04-CB9F-4A4F-BD8C-F3F0C9EB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826F6-0778-4351-BE35-674620AF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A9F1-90D6-4A62-8430-ED0CE278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44165-A510-401C-A0FC-039191A6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789A5-E043-41F2-B0BD-259335D4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F7E82-1C32-437A-99DE-80A00638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15F7A-99DE-4F2E-877E-D7CF4438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6108A-F31E-43E9-8E1B-4CF5E169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30773-CF08-42E2-844B-FF8F4821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ACA6A-CB25-471B-9EF8-6D189EFB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763F1-04B9-43A1-8DC5-5FC34606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48394-1845-4B35-A26D-89B4FA09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CDAFC-3426-4F57-8646-4DF1A982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1FB-9A82-4C8C-BAE4-D5490705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EC23C-F0B2-4DF3-8F1C-8E727C7C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5971C-EDFC-45EA-A2B6-C5F5DF8A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66FD2-7BBF-490F-9B89-DC7C8421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4020F-7A3A-4AFF-9DCF-4F84C5C9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03C17-049F-4D9B-96F1-6FB90322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E7EC2-88F7-4192-A4E3-9530D55B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08B41-01A6-4402-8194-C7BAB6BD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62A2B-D947-484A-8013-F443A005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EAD87-9DCE-4E66-AF70-89E5CD90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6D034-58E5-4039-A1AA-7A115167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EC8-3EDE-4B68-8C8F-2ACE9A73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D426F-2849-40E6-8969-BCA5DB03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280E6-2385-4CC8-B1E2-DC8884AB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44C05-64DE-411C-9ACF-E75D6B1B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3AAB9-DAB4-4A76-9D68-15EC9BCE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D03EF-7FBD-472F-9176-C39C84E7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D7C46-275B-4FC9-AC68-24620140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EB5FA-7D92-4704-9A83-9800F994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FEBB8-B161-490F-B69B-A861C573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4F263-B16D-4083-B033-CA668BEA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4AD25-B25F-435C-B590-14721752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3F80-913A-490B-A5C0-881B66ECF85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EB30-445D-4EDE-BC00-FC2F439B8A6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223A-15D4-4E52-A6DF-02E126745E4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64D9-AF44-48BF-918B-FE0A1A4D8A5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3988-EF63-4285-908E-D60DAECA515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F55B-FF18-4841-AA19-33DCC8F6145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F7DD-961E-4767-9EB1-DD7C4672EDE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E8B0-BD54-4A5E-95EE-3BA5F95BE4A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7BEB-5039-4B41-B343-018948B71D3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4" descr="сосн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1"/>
          <p:cNvSpPr/>
          <p:nvPr/>
        </p:nvSpPr>
        <p:spPr>
          <a:xfrm>
            <a:off x="0" y="0"/>
            <a:ext cx="9144000" cy="3934440"/>
          </a:xfrm>
          <a:prstGeom prst="rect">
            <a:avLst/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Урок развития устной речи на основе изучения предметов и явлений окружающей действи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4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ема. Ель, сосна –хвойные 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Рисунок 4" descr="елочки.jpg"/>
          <p:cNvPicPr/>
          <p:nvPr/>
        </p:nvPicPr>
        <p:blipFill>
          <a:blip r:embed="rId1"/>
          <a:stretch/>
        </p:blipFill>
        <p:spPr>
          <a:xfrm>
            <a:off x="4267080" y="1214280"/>
            <a:ext cx="4876920" cy="485784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5" descr="рассада ел.jpg"/>
          <p:cNvPicPr/>
          <p:nvPr/>
        </p:nvPicPr>
        <p:blipFill>
          <a:blip r:embed="rId2"/>
          <a:stretch/>
        </p:blipFill>
        <p:spPr>
          <a:xfrm>
            <a:off x="214200" y="642960"/>
            <a:ext cx="396252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Box 1"/>
          <p:cNvSpPr/>
          <p:nvPr/>
        </p:nvSpPr>
        <p:spPr>
          <a:xfrm>
            <a:off x="1643040" y="64296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Послов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3"/>
          <p:cNvSpPr/>
          <p:nvPr/>
        </p:nvSpPr>
        <p:spPr>
          <a:xfrm>
            <a:off x="285840" y="1357200"/>
            <a:ext cx="82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Сломить дерево – секунд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а вырастить – 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357120" y="2786040"/>
            <a:ext cx="735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Много леса – не губ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мало леса – берег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нет леса – посад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Рисунок 4" descr="посади лес.jpg"/>
          <p:cNvPicPr/>
          <p:nvPr/>
        </p:nvPicPr>
        <p:blipFill>
          <a:blip r:embed="rId1"/>
          <a:stretch/>
        </p:blipFill>
        <p:spPr>
          <a:xfrm>
            <a:off x="5715000" y="4035600"/>
            <a:ext cx="34290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714240" y="8571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Игра «Четвёртый лишни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285840" y="20718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Дуб,  берёза,  клё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3"/>
          <p:cNvSpPr/>
          <p:nvPr/>
        </p:nvSpPr>
        <p:spPr>
          <a:xfrm>
            <a:off x="5072040" y="207180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смород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357120" y="314316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Ива ,  оси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5"/>
          <p:cNvSpPr/>
          <p:nvPr/>
        </p:nvSpPr>
        <p:spPr>
          <a:xfrm>
            <a:off x="3714840" y="31431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ель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6"/>
          <p:cNvSpPr/>
          <p:nvPr/>
        </p:nvSpPr>
        <p:spPr>
          <a:xfrm>
            <a:off x="4714920" y="314316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липа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7"/>
          <p:cNvSpPr/>
          <p:nvPr/>
        </p:nvSpPr>
        <p:spPr>
          <a:xfrm>
            <a:off x="428760" y="4429080"/>
            <a:ext cx="30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Ель, сос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8"/>
          <p:cNvSpPr/>
          <p:nvPr/>
        </p:nvSpPr>
        <p:spPr>
          <a:xfrm>
            <a:off x="3143160" y="4429080"/>
            <a:ext cx="18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берёза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9"/>
          <p:cNvSpPr/>
          <p:nvPr/>
        </p:nvSpPr>
        <p:spPr>
          <a:xfrm>
            <a:off x="4786200" y="442908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едр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"/>
          <p:cNvSpPr/>
          <p:nvPr/>
        </p:nvSpPr>
        <p:spPr>
          <a:xfrm>
            <a:off x="0" y="153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ороткие иголки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Тонкий ствол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Молодое дерево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4286160" y="285840"/>
            <a:ext cx="4000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7000"/>
                </a:solidFill>
                <a:latin typeface="Constantia"/>
              </a:rPr>
              <a:t>длинные иго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857760" y="1285920"/>
            <a:ext cx="3929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7000"/>
                </a:solidFill>
                <a:latin typeface="Constantia"/>
              </a:rPr>
              <a:t>толстый ств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3930480" y="2411280"/>
            <a:ext cx="3786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7000"/>
                </a:solidFill>
                <a:latin typeface="Constantia"/>
              </a:rPr>
              <a:t>старое дере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6" descr="ствол.jpg"/>
          <p:cNvPicPr/>
          <p:nvPr/>
        </p:nvPicPr>
        <p:blipFill>
          <a:blip r:embed="rId1"/>
          <a:srcRect l="0" t="34377" r="0" b="0"/>
          <a:stretch/>
        </p:blipFill>
        <p:spPr>
          <a:xfrm>
            <a:off x="2571840" y="3174840"/>
            <a:ext cx="44085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3"/>
          <p:cNvSpPr/>
          <p:nvPr/>
        </p:nvSpPr>
        <p:spPr>
          <a:xfrm>
            <a:off x="285840" y="1071720"/>
            <a:ext cx="84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Ель, сосна – хвойные деревь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4" descr="елка.jpg"/>
          <p:cNvPicPr/>
          <p:nvPr/>
        </p:nvPicPr>
        <p:blipFill>
          <a:blip r:embed="rId1"/>
          <a:stretch/>
        </p:blipFill>
        <p:spPr>
          <a:xfrm>
            <a:off x="857160" y="235728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5" descr="сосна.jpg"/>
          <p:cNvPicPr/>
          <p:nvPr/>
        </p:nvPicPr>
        <p:blipFill>
          <a:blip r:embed="rId2"/>
          <a:srcRect l="25966" t="9206" r="29036" b="17183"/>
          <a:stretch/>
        </p:blipFill>
        <p:spPr>
          <a:xfrm>
            <a:off x="4929120" y="2357280"/>
            <a:ext cx="3133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" descr="C:\Users\Светлана и Степан\Downloads\ель5.jpg"/>
          <p:cNvPicPr/>
          <p:nvPr/>
        </p:nvPicPr>
        <p:blipFill>
          <a:blip r:embed="rId1"/>
          <a:stretch/>
        </p:blipFill>
        <p:spPr>
          <a:xfrm>
            <a:off x="5143680" y="1285920"/>
            <a:ext cx="2428560" cy="20718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C:\Users\Светлана и Степан\Downloads\сосна7.jpg"/>
          <p:cNvPicPr/>
          <p:nvPr/>
        </p:nvPicPr>
        <p:blipFill>
          <a:blip r:embed="rId2"/>
          <a:stretch/>
        </p:blipFill>
        <p:spPr>
          <a:xfrm>
            <a:off x="1143000" y="4357800"/>
            <a:ext cx="2143080" cy="1928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Users\Светлана и Степан\Downloads\сосна4.jpg"/>
          <p:cNvPicPr/>
          <p:nvPr/>
        </p:nvPicPr>
        <p:blipFill>
          <a:blip r:embed="rId3"/>
          <a:stretch/>
        </p:blipFill>
        <p:spPr>
          <a:xfrm>
            <a:off x="5143680" y="421488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C:\Users\Светлана и Степан\Downloads\ель 36.jpg"/>
          <p:cNvPicPr/>
          <p:nvPr/>
        </p:nvPicPr>
        <p:blipFill>
          <a:blip r:embed="rId4"/>
          <a:stretch/>
        </p:blipFill>
        <p:spPr>
          <a:xfrm>
            <a:off x="1144440" y="1362240"/>
            <a:ext cx="24987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1"/>
          <p:cNvSpPr/>
          <p:nvPr/>
        </p:nvSpPr>
        <p:spPr>
          <a:xfrm>
            <a:off x="714240" y="785880"/>
            <a:ext cx="67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Сосна растёт в бор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2"/>
          <p:cNvSpPr/>
          <p:nvPr/>
        </p:nvSpPr>
        <p:spPr>
          <a:xfrm>
            <a:off x="428760" y="2000160"/>
            <a:ext cx="700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В густом ельнике медвед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устроил берлог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Рисунок 4" descr="ельник.jpg"/>
          <p:cNvPicPr/>
          <p:nvPr/>
        </p:nvPicPr>
        <p:blipFill>
          <a:blip r:embed="rId1"/>
          <a:stretch/>
        </p:blipFill>
        <p:spPr>
          <a:xfrm>
            <a:off x="4452840" y="3286080"/>
            <a:ext cx="43340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1"/>
          <p:cNvSpPr/>
          <p:nvPr/>
        </p:nvSpPr>
        <p:spPr>
          <a:xfrm>
            <a:off x="142920" y="928800"/>
            <a:ext cx="87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 дремлет зелёный бо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"/>
          <p:cNvSpPr/>
          <p:nvPr/>
        </p:nvSpPr>
        <p:spPr>
          <a:xfrm>
            <a:off x="142920" y="157176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т прямоствольные сос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3"/>
          <p:cNvSpPr/>
          <p:nvPr/>
        </p:nvSpPr>
        <p:spPr>
          <a:xfrm>
            <a:off x="142920" y="2286000"/>
            <a:ext cx="90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расные ветви устремились в неб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4"/>
          <p:cNvSpPr/>
          <p:nvPr/>
        </p:nvSpPr>
        <p:spPr>
          <a:xfrm>
            <a:off x="142920" y="292896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новом бору светло и сух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142920" y="3571920"/>
            <a:ext cx="871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ятно дышать смолистым аромат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Рисунок 9" descr="сосновыйбор.jpg"/>
          <p:cNvPicPr/>
          <p:nvPr/>
        </p:nvPicPr>
        <p:blipFill>
          <a:blip r:embed="rId1"/>
          <a:stretch/>
        </p:blipFill>
        <p:spPr>
          <a:xfrm>
            <a:off x="2571840" y="4210200"/>
            <a:ext cx="38415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1"/>
          <p:cNvSpPr/>
          <p:nvPr/>
        </p:nvSpPr>
        <p:spPr>
          <a:xfrm>
            <a:off x="428760" y="100008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ле стоит душистая ёл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2"/>
          <p:cNvSpPr/>
          <p:nvPr/>
        </p:nvSpPr>
        <p:spPr>
          <a:xfrm>
            <a:off x="428760" y="178596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етках красивые игруш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500040" y="25718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акушке надета звез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4"/>
          <p:cNvSpPr/>
          <p:nvPr/>
        </p:nvSpPr>
        <p:spPr>
          <a:xfrm>
            <a:off x="500040" y="328608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одят хороводы вокруг ё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7" descr="C:\Documents and Settings\Наталья\Рабочий стол\новый год\IMG_9396.JPG"/>
          <p:cNvPicPr/>
          <p:nvPr/>
        </p:nvPicPr>
        <p:blipFill>
          <a:blip r:embed="rId1"/>
          <a:srcRect l="0" t="19978" r="0" b="11005"/>
          <a:stretch/>
        </p:blipFill>
        <p:spPr>
          <a:xfrm>
            <a:off x="1928880" y="3857760"/>
            <a:ext cx="52452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"/>
          <p:cNvSpPr/>
          <p:nvPr/>
        </p:nvSpPr>
        <p:spPr>
          <a:xfrm>
            <a:off x="214200" y="1857240"/>
            <a:ext cx="857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Шапкой Саша шишку сши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2"/>
          <p:cNvSpPr/>
          <p:nvPr/>
        </p:nvSpPr>
        <p:spPr>
          <a:xfrm>
            <a:off x="1785960" y="57168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Скороговор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4" descr="шишки.jpg"/>
          <p:cNvPicPr/>
          <p:nvPr/>
        </p:nvPicPr>
        <p:blipFill>
          <a:blip r:embed="rId1"/>
          <a:stretch/>
        </p:blipFill>
        <p:spPr>
          <a:xfrm>
            <a:off x="2143080" y="2857680"/>
            <a:ext cx="5048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8:27:01Z</dcterms:created>
  <dc:creator>Светлана и Степан</dc:creator>
  <dc:description/>
  <dc:language>en-US</dc:language>
  <cp:lastModifiedBy>Ольга</cp:lastModifiedBy>
  <dcterms:modified xsi:type="dcterms:W3CDTF">2013-02-07T14:39:50Z</dcterms:modified>
  <cp:revision>38</cp:revision>
  <dc:subject/>
  <dc:title>Ель, сосна – хвойные деревья.</dc:title>
</cp:coreProperties>
</file>