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8CF4-C241-4876-9580-1E243D030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D0E7-FC24-418F-9F80-FA5BD54AE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C14B-CF92-44F2-91C8-8C40DC5B1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F57D-2FEE-49A1-8753-1612A870B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C9969-55BB-4AD6-A877-53B68B9D4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4E395-2E2B-48C6-9C1C-354C60DFD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69F3B-F4DB-4DE9-9425-58E3BFFA3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A4BF8-F2EE-416B-AB4F-F950F14F5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6EDE9-C59B-4B5B-A1C4-FAD0C0EBE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22F0E-3648-403C-8A2A-C0F8CFCDF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49C37-8F7E-473E-85C0-06FE0D776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D0CB-E370-4CC0-8E10-0D32C2406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93998-5520-49E2-A692-D21796C8B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27E56-FA1A-4D43-9570-F8E9A882D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2DC8E-F820-426E-9F9B-AF84E1BF1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2D04E-28A9-41C4-A90A-9DADFAD38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CDBED-1DDB-48FF-A17C-C93E32AD8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FAFB-9DE9-40B7-B9D4-50A5C1283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D9CF-3922-4E68-9509-4141AC527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65F1-5640-4A9C-8CF8-5C7C67AF0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6FC5-B290-47AC-AE17-B1E9E733B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7380-9EA6-4F27-B36B-0AF9497BC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3216-B50B-437E-8A5F-CCF69E4F2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CA17-6891-48BF-9D9C-3B41E9110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E21E3-7007-4724-94FB-7AC0A5CEA6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33EEB-ED6C-4757-A07E-5178E7AAB3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anada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26920" y="333360"/>
            <a:ext cx="778680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fffff"/>
                </a:solidFill>
                <a:latin typeface="Arial"/>
              </a:rPr>
              <a:t>Sport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takes</a:t>
            </a:r>
            <a:r>
              <a:rPr b="0" lang="en" sz="2800" spc="-1" strike="noStrike">
                <a:solidFill>
                  <a:srgbClr val="ffffff"/>
                </a:solidFill>
                <a:latin typeface="Arial"/>
              </a:rPr>
              <a:t> an important place in the lives of the Canadians. The official winter sport of Canada is hockey. Curling and Canadian football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 a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lso popula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 the count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" descr="https://encrypted-tbn2.gstatic.com/images?q=tbn:ANd9GcSZg2Og4jcBcO824ipvO1dBDqKjcBPG-GX6kCPi28qr_gMCRzlF"/>
          <p:cNvPicPr/>
          <p:nvPr/>
        </p:nvPicPr>
        <p:blipFill>
          <a:blip r:embed="rId1"/>
          <a:stretch/>
        </p:blipFill>
        <p:spPr>
          <a:xfrm>
            <a:off x="1403280" y="2708280"/>
            <a:ext cx="6481800" cy="36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971640" y="3499920"/>
            <a:ext cx="7354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fffff"/>
                </a:solidFill>
                <a:latin typeface="Arial"/>
              </a:rPr>
              <a:t>The Canadian symbols are the maple leaf and maple syru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fffff"/>
                </a:solidFill>
                <a:latin typeface="Arial"/>
              </a:rPr>
              <a:t>The maple leaf is used as a Canadian national symbol since the 18th century and is depicted on the flag of Canada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6192720" cy="35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fffff"/>
                </a:solidFill>
                <a:latin typeface="Times New Roman"/>
              </a:rPr>
              <a:t>Thank you for your attention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All the materials are taken from Wikipedia, the free online encyclopedia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345600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ada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is situated on the North American continent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is the seco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argest country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in the world after Russia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Canada is washed by three oceans: the Atlantic, the Pacific and the Arcti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nes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" descr="File:Canada (orthographic projection).svg"/>
          <p:cNvPicPr/>
          <p:nvPr/>
        </p:nvPicPr>
        <p:blipFill>
          <a:blip r:embed="rId1"/>
          <a:stretch/>
        </p:blipFill>
        <p:spPr>
          <a:xfrm>
            <a:off x="3708360" y="836640"/>
            <a:ext cx="515304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250560" y="333360"/>
            <a:ext cx="8713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The capital of Canada is Ottawa with a population of more than 300 thousand peop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ada is a multicultural country. There are the European, Arabian, Asian and African diaspor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900000" y="2781360"/>
            <a:ext cx="734544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876720" y="1125000"/>
            <a:ext cx="2087640" cy="29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ffic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ngua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Cana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 Englis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French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" descr="&amp;Kcy;&amp;acy;&amp;ncy;&amp;acy;&amp;dcy;&amp;tscy;&amp;ycy;. &amp;ZHcy;&amp;icy;&amp;tcy;&amp;iecy;&amp;lcy;&amp;icy; &amp;Tcy;&amp;ocy;&amp;rcy;&amp;ocy;&amp;ncy;&amp;tcy;&amp;ocy;."/>
          <p:cNvPicPr/>
          <p:nvPr/>
        </p:nvPicPr>
        <p:blipFill>
          <a:blip r:embed="rId1"/>
          <a:stretch/>
        </p:blipFill>
        <p:spPr>
          <a:xfrm>
            <a:off x="250920" y="333360"/>
            <a:ext cx="6553080" cy="43149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78920" y="5084280"/>
            <a:ext cx="8496360" cy="16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anadians profess a lot of religions. 77 % of the Canadian people consider themselves as Christians, most of them are Catholic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250560" y="5229360"/>
            <a:ext cx="850716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Canada is a federal state. The official head of state is the Quee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of the United Kingdom, represented in Canada by the Governor-General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http://upload.wikimedia.org/wikipedia/commons/c/cc/Canada_senate_chairs.jpg?uselang=ru"/>
          <p:cNvPicPr/>
          <p:nvPr/>
        </p:nvPicPr>
        <p:blipFill>
          <a:blip r:embed="rId1"/>
          <a:stretch/>
        </p:blipFill>
        <p:spPr>
          <a:xfrm>
            <a:off x="395280" y="189000"/>
            <a:ext cx="833580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611280" y="4653000"/>
            <a:ext cx="8146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The interior of the country is a plain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Canada shares four of the five Great Lakes — Superior, Huron, Erie and Ontari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with the US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042920" y="189000"/>
            <a:ext cx="698508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24000" y="4868640"/>
            <a:ext cx="864072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int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in Canada last from 4 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5 months with heavy snowfalls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mmer temperatures can reach from 35°c till 40°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560" y="692280"/>
            <a:ext cx="288108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limate of Canada is characterized by cold winters and mild summers with long day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059280" y="189000"/>
            <a:ext cx="5941800" cy="44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419640" y="333360"/>
            <a:ext cx="52560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Canada is a great industrial country and manufacturing is </a:t>
            </a:r>
            <a:r>
              <a:rPr b="0" lang="en" sz="3200" spc="-1" strike="noStrike">
                <a:solidFill>
                  <a:srgbClr val="ffffff"/>
                </a:solidFill>
                <a:latin typeface="Arial"/>
              </a:rPr>
              <a:t>the leading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sector of its econom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Canada is an important producer of oil, gas, paper and electricity from hydroelectric st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so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Canada traditionally exports wheat, oats, sugar beet, soy-beans, tobacc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potatoes.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http://upload.wikimedia.org/wikipedia/ru/7/76/Canadian_bills2.jpg"/>
          <p:cNvPicPr/>
          <p:nvPr/>
        </p:nvPicPr>
        <p:blipFill>
          <a:blip r:embed="rId1"/>
          <a:stretch/>
        </p:blipFill>
        <p:spPr>
          <a:xfrm>
            <a:off x="0" y="0"/>
            <a:ext cx="313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40384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fffff"/>
                </a:solidFill>
                <a:latin typeface="Arial"/>
              </a:rPr>
              <a:t>Canada has produced many world-famous pop, folk and jazz musicians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y well-known </a:t>
            </a:r>
            <a:r>
              <a:rPr b="0" lang="en" sz="2800" spc="-1" strike="noStrike">
                <a:solidFill>
                  <a:srgbClr val="ffffff"/>
                </a:solidFill>
                <a:latin typeface="Arial"/>
              </a:rPr>
              <a:t>filmmakers and actors were born and lived in Canada for a long tim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10920" y="5660640"/>
            <a:ext cx="411156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im Carrey – a Canadian-American comedian, actor, </a:t>
            </a:r>
            <a:r>
              <a:rPr b="0" lang="en" sz="2000" spc="-1" strike="noStrike">
                <a:solidFill>
                  <a:srgbClr val="ffffff"/>
                </a:solidFill>
                <a:latin typeface="Arial"/>
              </a:rPr>
              <a:t>screenwrit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produce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003640" y="692280"/>
            <a:ext cx="37339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0T21:09:42Z</dcterms:created>
  <dc:creator>Марина</dc:creator>
  <dc:description/>
  <dc:language>en-US</dc:language>
  <cp:lastModifiedBy>Son</cp:lastModifiedBy>
  <dcterms:modified xsi:type="dcterms:W3CDTF">2013-02-06T21:26:44Z</dcterms:modified>
  <cp:revision>4</cp:revision>
  <dc:subject/>
  <dc:title>Слайд 1</dc:title>
</cp:coreProperties>
</file>