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B9D-DD59-4A35-A927-0F0CA9AF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C85-49E6-4B81-AEEB-81A8D612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C97-B30B-4F98-A10D-6089C39B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96F-8533-4D92-B0E3-A1CAB3CD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B19A-D651-458E-B2F2-F2C43554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CBBB-359C-42CB-ADE0-5EF5719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5048-FE15-443C-8FAB-70E09D67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94DD-22FD-4BEC-B334-8A3B0C7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60BA-D37D-4E0E-BCA0-6086FC3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2811-47D7-40FF-8D56-600B9F6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380F-9402-41E6-964C-B9A319D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9DF-0224-4842-839D-CDFEBD52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4EB7-55C9-4BFD-BC1A-45E09D8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0250-311B-4979-A97C-0105550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B88F-8126-4367-92C7-9D12C7D5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8A43-0AC6-4162-909A-69AA95DA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24EE-9CF6-497F-8D59-B3D02B63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F11-87E8-408C-9AA6-94093B5E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E2B-044E-4FA9-AB2C-8B454DC4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6C5-391C-4E5A-9A45-70B693A2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F55-BBF0-4330-9D38-20D4C58F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FD0-89CB-4781-BC52-AB4EC302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D07-E16A-4D33-8FA9-E4828998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F42-DAD6-42AB-A5CA-AD34F4C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CFC-50DC-4FDB-8B7E-68C7698D9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9DF8-C3C4-4AE6-9BAC-5EDA70365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anad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Sport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akes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 an important place in the lives of the Canadians. The official winter sport of Canada is hockey. Curling and Canadian footbal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lso pop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https://encrypted-tbn2.gstatic.com/images?q=tbn:ANd9GcSZg2Og4jcBcO824ipvO1dBDqKjcBPG-GX6kCPi28qr_gMCRzlF"/>
          <p:cNvPicPr/>
          <p:nvPr/>
        </p:nvPicPr>
        <p:blipFill>
          <a:blip r:embed="rId1"/>
          <a:stretch/>
        </p:blipFill>
        <p:spPr>
          <a:xfrm>
            <a:off x="1403280" y="2708280"/>
            <a:ext cx="64818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640" y="3499920"/>
            <a:ext cx="7354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e Canadian symbols are the maple leaf and maple syr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The maple leaf is used as a Canadian national symbol since the 18th century and is depicted on the flag of Canada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192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imes New Roman"/>
              </a:rPr>
              <a:t>Thank you for your attentio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All the materials are taken from Wikipedia, the free online encyclopedia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456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a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is situated on the North American continent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is the sec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rgest countr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in the world after Russ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anada is washed by three oceans: the Atlantic, the Pacific and the Arc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File:Canada (orthographic projection).svg"/>
          <p:cNvPicPr/>
          <p:nvPr/>
        </p:nvPicPr>
        <p:blipFill>
          <a:blip r:embed="rId1"/>
          <a:stretch/>
        </p:blipFill>
        <p:spPr>
          <a:xfrm>
            <a:off x="3708360" y="836640"/>
            <a:ext cx="5153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e capital of Canada is Ottawa with a population of more than 300 thousand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a is a multicultural country. There are the European, Arabian, Asian and African diasp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73454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76720" y="1125000"/>
            <a:ext cx="208764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f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Eng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ren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&amp;Kcy;&amp;acy;&amp;ncy;&amp;acy;&amp;dcy;&amp;tscy;&amp;ycy;. &amp;ZHcy;&amp;icy;&amp;tcy;&amp;iecy;&amp;lcy;&amp;icy; &amp;Tcy;&amp;ocy;&amp;rcy;&amp;ocy;&amp;ncy;&amp;tcy;&amp;ocy;."/>
          <p:cNvPicPr/>
          <p:nvPr/>
        </p:nvPicPr>
        <p:blipFill>
          <a:blip r:embed="rId1"/>
          <a:stretch/>
        </p:blipFill>
        <p:spPr>
          <a:xfrm>
            <a:off x="250920" y="333360"/>
            <a:ext cx="6553080" cy="4314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5084280"/>
            <a:ext cx="849636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nadians profess a lot of religions. 77 % of the Canadian people consider themselves as Christians, most of them are Cathol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5229360"/>
            <a:ext cx="85071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anada is a federal state. The official head of state is the Que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f the United Kingdom, represented in Canada by the Governor-Gener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http://upload.wikimedia.org/wikipedia/commons/c/cc/Canada_senate_chairs.jpg?uselang=ru"/>
          <p:cNvPicPr/>
          <p:nvPr/>
        </p:nvPicPr>
        <p:blipFill>
          <a:blip r:embed="rId1"/>
          <a:stretch/>
        </p:blipFill>
        <p:spPr>
          <a:xfrm>
            <a:off x="395280" y="189000"/>
            <a:ext cx="833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4653000"/>
            <a:ext cx="814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The interior of the country is a plai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anada shares four of the five Great Lakes — Superior, Huron, Erie and Ontar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with the U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9850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486864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i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in Canada last from 4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5 months with heavy snowfalls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temperatures can reach from 35°c till 40°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28810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imate of Canada is characterized by cold winters and mild summers with long d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59418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419640" y="333360"/>
            <a:ext cx="52560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anada is a great industrial country and manufacturing is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the leadin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sector of its econo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anada is an important producer of oil, gas, paper and electricity from hydroelectric s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anada traditionally exports wheat, oats, sugar beet, soy-beans, tobac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potatoes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http://upload.wikimedia.org/wikipedia/ru/7/76/Canadian_bills2.jpg"/>
          <p:cNvPicPr/>
          <p:nvPr/>
        </p:nvPicPr>
        <p:blipFill>
          <a:blip r:embed="rId1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Canada has produced many world-famous pop, folk and jazz musicians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ell-known </a:t>
            </a:r>
            <a:r>
              <a:rPr b="0" lang="en" sz="2800" spc="-1" strike="noStrike">
                <a:solidFill>
                  <a:srgbClr val="ffffff"/>
                </a:solidFill>
                <a:latin typeface="Arial"/>
              </a:rPr>
              <a:t>filmmakers and actors were born and lived in Canada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5660640"/>
            <a:ext cx="41115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im Carrey – a Canadian-American comedian, actor, </a:t>
            </a: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screenwri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produc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73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21:09:42Z</dcterms:created>
  <dc:creator>Марина</dc:creator>
  <dc:description/>
  <dc:language>en-US</dc:language>
  <cp:lastModifiedBy>Son</cp:lastModifiedBy>
  <dcterms:modified xsi:type="dcterms:W3CDTF">2013-02-06T21:26:44Z</dcterms:modified>
  <cp:revision>4</cp:revision>
  <dc:subject/>
  <dc:title>Слайд 1</dc:title>
</cp:coreProperties>
</file>