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3A7-F4CC-489F-BFF1-2A615232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94B-C207-40DC-95E8-107FABAA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037-8A20-4A88-BDED-922E43A7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D29-E51D-4A8A-B940-E42B7CE8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541-911C-470B-A28C-A335A967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BC2-527E-40E5-B08F-42F0C890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ADD-272D-40B2-9030-50C617E6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0A0-F649-46F5-A799-6501E49D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EE8-5A97-4DAC-8FAA-84282A62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1A9-6BCA-4D7B-863E-204586C9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261-C155-4666-BED5-BB3600AE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9FF-7C24-4A95-9A8D-A6F16537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423C-774F-4910-BA72-1D91F1006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ски из «папье-маш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Содержимое 7" descr="DSC03460.JPG"/>
          <p:cNvPicPr/>
          <p:nvPr/>
        </p:nvPicPr>
        <p:blipFill>
          <a:blip r:embed="rId1"/>
          <a:stretch/>
        </p:blipFill>
        <p:spPr>
          <a:xfrm>
            <a:off x="1725480" y="2577960"/>
            <a:ext cx="2279880" cy="285300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8" descr="DSC03481.JPG"/>
          <p:cNvPicPr/>
          <p:nvPr/>
        </p:nvPicPr>
        <p:blipFill>
          <a:blip r:embed="rId2"/>
          <a:stretch/>
        </p:blipFill>
        <p:spPr>
          <a:xfrm>
            <a:off x="3224160" y="4084560"/>
            <a:ext cx="2408400" cy="277344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6" descr="P1000997.JPG"/>
          <p:cNvPicPr/>
          <p:nvPr/>
        </p:nvPicPr>
        <p:blipFill>
          <a:blip r:embed="rId3"/>
          <a:stretch/>
        </p:blipFill>
        <p:spPr>
          <a:xfrm>
            <a:off x="225360" y="1152360"/>
            <a:ext cx="2359080" cy="2706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7" descr="P1010004.JPG"/>
          <p:cNvPicPr/>
          <p:nvPr/>
        </p:nvPicPr>
        <p:blipFill>
          <a:blip r:embed="rId4"/>
          <a:stretch/>
        </p:blipFill>
        <p:spPr>
          <a:xfrm>
            <a:off x="6437160" y="3865680"/>
            <a:ext cx="2425680" cy="292572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P1010005.JPG"/>
          <p:cNvPicPr/>
          <p:nvPr/>
        </p:nvPicPr>
        <p:blipFill>
          <a:blip r:embed="rId5"/>
          <a:stretch/>
        </p:blipFill>
        <p:spPr>
          <a:xfrm>
            <a:off x="438120" y="4151160"/>
            <a:ext cx="2281320" cy="270684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7" descr="P1010070.JPG"/>
          <p:cNvPicPr/>
          <p:nvPr/>
        </p:nvPicPr>
        <p:blipFill>
          <a:blip r:embed="rId6"/>
          <a:stretch/>
        </p:blipFill>
        <p:spPr>
          <a:xfrm>
            <a:off x="6370560" y="1152360"/>
            <a:ext cx="2492280" cy="277992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DSC03476.JPG"/>
          <p:cNvPicPr/>
          <p:nvPr/>
        </p:nvPicPr>
        <p:blipFill>
          <a:blip r:embed="rId7"/>
          <a:stretch/>
        </p:blipFill>
        <p:spPr>
          <a:xfrm>
            <a:off x="3078000" y="1152360"/>
            <a:ext cx="2352960" cy="291960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11" descr="DSC03468.JPG"/>
          <p:cNvPicPr/>
          <p:nvPr/>
        </p:nvPicPr>
        <p:blipFill>
          <a:blip r:embed="rId8"/>
          <a:stretch/>
        </p:blipFill>
        <p:spPr>
          <a:xfrm>
            <a:off x="4724280" y="2511360"/>
            <a:ext cx="2419560" cy="291960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0:34:19Z</dcterms:created>
  <dc:creator>User</dc:creator>
  <dc:description/>
  <dc:language>en-US</dc:language>
  <cp:lastModifiedBy>Пользователь</cp:lastModifiedBy>
  <dcterms:modified xsi:type="dcterms:W3CDTF">2013-01-14T08:41:27Z</dcterms:modified>
  <cp:revision>234</cp:revision>
  <dc:subject/>
  <dc:title>Слайд 1</dc:title>
</cp:coreProperties>
</file>