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FF81-6013-4C95-91D0-FE58826C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D97-B782-445E-A770-EF9A4DEB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A03-8093-4C90-8844-9C847FC6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5DA2-4F20-4C73-97C1-4490AA7B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D972-97D1-4345-8B96-EA91426C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2E2C-118F-41DB-97CD-19340C90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FE27-ED4A-441C-A7EE-564B1223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636D-49FE-4221-9941-6A7848D7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1EAC-38A0-4915-9C63-DEE09520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EA88-B468-4222-9970-7377AFC6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6FC1-9DEE-4D4B-8EA7-AD34D68F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EED-BDF0-4B82-90F6-18257A3C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A20B-C20C-4225-8433-E2AF7CE9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1C10-F391-4A1F-9D35-FF80877A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9882-8DCF-4FEF-AFDB-6B8605CC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B5A5-A930-4CDA-9DAF-EB8E97AF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1E54-DCC8-4205-BB91-15172AFD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62D0A-41B1-4AC7-A724-2701A052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79A86-2CA7-4FC3-8C69-27BDA067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0D0B9-E818-47F6-A748-7E382B5A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D8B37-BD04-4674-BF85-D0A42C37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0BD25-112F-4E1C-B2D3-F7BC4835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849-995C-4649-ABC1-97738EA2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DADC2-AC1F-46C9-BF74-C0CF8235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A71E9-359A-4423-A2D2-9FDDAAC4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933B5-340A-4EC4-B7F7-18B0AF9C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CA7CF-6530-48D5-A0D7-CDE6DAB9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62280-A943-4C71-8909-3801B6CF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18954-AA62-476D-97F5-F61E60C8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D6224-B83E-49BE-BFD4-E280AF31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275C2-6AB7-4C07-B02C-A0E4E102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E0EB9-56EF-4834-8F1C-18FA998E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4C0AB-4FD1-44C6-A9D7-A9A04783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EDB-907E-4960-BA6F-4D14AC68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84B0F-7746-49F4-822A-4139C1AC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AE5DB-F075-4C29-9939-DA5EB570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58159-C0B4-42FE-A44C-77B6E7C9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26B81-7621-4FFE-9317-8A9A1591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B94A7-A8A9-4BE4-AABF-E1BF7E1B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73565-7F15-499E-ABE8-00E1266D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3D9AF-BA00-4D5E-B7C9-87C07D25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0A5A7-3B72-4A8F-A4BC-F2699B50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CF596-20DB-4C99-A4FA-7B893FBE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D849-7F98-4533-9316-0859181B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800-CAB6-4E29-8507-AA453332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AEF-31AF-42EA-BA97-5211E7F8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76E-2120-4309-AD68-8E8EDF33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6CE-C9D6-4773-A43C-4D3B2CB5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3EA2-F3B4-4E76-82AB-51801D633D1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3903-337F-4105-8223-6D06CEE17A7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6DDD-BE1D-41FA-8F0C-4589BFAA58F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EDE1-9749-4F27-BBD6-FC839F0B0B2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e-kurim.ru/news/segodnja_-_mezhdunarodnyjj_den_otkaza_ot_kurenija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e-kurim.ru/articles/stat/strashnaja_statistika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e-kurim.ru/articles/stat/k_2030g_ot_kurenija_ezhegodno_budet_umirat_10_mln_chelovek/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-kurim.ru/articles/stat/zhenskoe-kurenie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845820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Каждый третий четверг ноября, вот уже 30 лет, отмечается </a:t>
            </a:r>
            <a:r>
              <a:rPr b="0" lang="ru-RU" sz="4400" spc="-1" strike="noStrike" u="sng">
                <a:solidFill>
                  <a:srgbClr val="67afbd"/>
                </a:solidFill>
                <a:uFillTx/>
                <a:latin typeface="Trebuchet MS"/>
                <a:hlinkClick r:id="rId1"/>
              </a:rPr>
              <a:t>Международный день отказа от курения</a:t>
            </a: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.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818676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Его цель — способствовать снижению распространения табачной зависимости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286240" y="1000080"/>
            <a:ext cx="3392640" cy="47196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каждые 9 секунд умирает человек, из-за болезней, вызванных табакокурением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% российских мужчин, а это около 44 млн. человек, и 9,7% женщин — около 8 млн. — курильщики.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Рисунок 32" descr="В России каждые 9 секунд умирает человек из-за болезней, вызванных&#13;&#10; табакокурением"/>
          <p:cNvPicPr/>
          <p:nvPr/>
        </p:nvPicPr>
        <p:blipFill>
          <a:blip r:embed="rId1"/>
          <a:stretch/>
        </p:blipFill>
        <p:spPr>
          <a:xfrm>
            <a:off x="1646280" y="241452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500800" y="928440"/>
            <a:ext cx="31780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 легких - масштабы катастроф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 легкого, которым ежегодно заболевает около 1 млн. человек, одна из причин смерти онкологических больных в большинстве стран мир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Рисунок 30" descr="Рак легких - масштабы катастрофы"/>
          <p:cNvPicPr/>
          <p:nvPr/>
        </p:nvPicPr>
        <p:blipFill>
          <a:blip r:embed="rId1"/>
          <a:stretch/>
        </p:blipFill>
        <p:spPr>
          <a:xfrm>
            <a:off x="1792440" y="2554200"/>
            <a:ext cx="16398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428800" y="1214280"/>
            <a:ext cx="3249720" cy="457704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табакокурения в мире ежегодно умирает около шести миллионов человек. Распространение табакокурения в России - самое высокое в мире. Ежегодно в России от причин, связанных с курением, преждевременно умирает более 340 тысяч человек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Рисунок 4" descr=""/>
          <p:cNvPicPr/>
          <p:nvPr/>
        </p:nvPicPr>
        <p:blipFill>
          <a:blip r:embed="rId1"/>
          <a:stretch/>
        </p:blipFill>
        <p:spPr>
          <a:xfrm>
            <a:off x="1932120" y="2693880"/>
            <a:ext cx="17128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286240" y="928440"/>
            <a:ext cx="2928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Сердц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-сужает кровеносные сосуды, делая работу сердца по перекачиванию крови более трудно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1"/>
          <a:stretch/>
        </p:blipFill>
        <p:spPr>
          <a:xfrm>
            <a:off x="1407960" y="2152800"/>
            <a:ext cx="174960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214600" y="1356840"/>
            <a:ext cx="3071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Лёгк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-затрудняет нормальное дыхание, что снижает твои спортивные результат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167" descr=""/>
          <p:cNvPicPr/>
          <p:nvPr/>
        </p:nvPicPr>
        <p:blipFill>
          <a:blip r:embed="rId1"/>
          <a:stretch/>
        </p:blipFill>
        <p:spPr>
          <a:xfrm>
            <a:off x="1571760" y="2535120"/>
            <a:ext cx="12859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000400" y="1356840"/>
            <a:ext cx="3214440" cy="44341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Уши       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-поражает нервы и сосуды уха, что может привести к снижению слух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Picture 69" descr=""/>
          <p:cNvPicPr/>
          <p:nvPr/>
        </p:nvPicPr>
        <p:blipFill>
          <a:blip r:embed="rId1"/>
          <a:srcRect l="12466" t="5550" r="9976" b="2604"/>
          <a:stretch/>
        </p:blipFill>
        <p:spPr>
          <a:xfrm>
            <a:off x="2071800" y="2894040"/>
            <a:ext cx="11430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000760" y="1643040"/>
            <a:ext cx="3071520" cy="35719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Глаз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Делает глаза красны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-и может служить причиной снижения зр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2000160" y="2637000"/>
            <a:ext cx="1285920" cy="14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000680" y="1143000"/>
            <a:ext cx="4071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               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Ро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-Повреждает слизистые оболочки губ, языка, носоглодк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-Изменяет вкусовую чувствительнос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-Приводит к кашлю и неприятному запаху при дыхан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29827" t="3758" r="0" b="11114"/>
          <a:stretch/>
        </p:blipFill>
        <p:spPr>
          <a:xfrm>
            <a:off x="1571760" y="2754360"/>
            <a:ext cx="121428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000400" y="1428840"/>
            <a:ext cx="3143160" cy="43624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Кож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-температура кожи падает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-раньше появляются морщин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857240" y="2367000"/>
            <a:ext cx="1214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285880" y="1214280"/>
            <a:ext cx="3071880" cy="457704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Лёгк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некурящего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3" descr="nonsmokerslung"/>
          <p:cNvPicPr/>
          <p:nvPr/>
        </p:nvPicPr>
        <p:blipFill>
          <a:blip r:embed="rId1"/>
          <a:stretch/>
        </p:blipFill>
        <p:spPr>
          <a:xfrm>
            <a:off x="1785960" y="2468520"/>
            <a:ext cx="18572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713880"/>
            <a:ext cx="8458200" cy="31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7afbd"/>
                </a:solidFill>
                <a:uFillTx/>
                <a:latin typeface="Times New Roman"/>
                <a:ea typeface="Times New Roman"/>
                <a:hlinkClick r:id="rId1"/>
              </a:rPr>
              <a:t>Страшная статистик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рное, не все знают: по данным статистики, каждый день 700 россиян умирают от болезней, вызванных курением, причем больше половины курильщиков умирают в трудоспособном возрасте. 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6840" y="4357800"/>
            <a:ext cx="818676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думайтесь в эту цифру: каждый день 700 человек — наших соотечественников, ваших близких, умирают из-за курения! И живут курящие в среднем на 10-12 лет меньше своих сверстников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357520" y="1571400"/>
            <a:ext cx="3071880" cy="42195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Лёгк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курящего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Сравни и сделай вывод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3" name="Picture 2" descr="smokerslung"/>
          <p:cNvPicPr/>
          <p:nvPr/>
        </p:nvPicPr>
        <p:blipFill>
          <a:blip r:embed="rId1"/>
          <a:stretch/>
        </p:blipFill>
        <p:spPr>
          <a:xfrm>
            <a:off x="1714680" y="2575080"/>
            <a:ext cx="15001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286240" y="1356840"/>
            <a:ext cx="3392640" cy="44341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Это должен знать каждый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А это уже рак лёгки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2" descr="А это уже рак легких!"/>
          <p:cNvPicPr/>
          <p:nvPr/>
        </p:nvPicPr>
        <p:blipFill>
          <a:blip r:embed="rId1"/>
          <a:stretch/>
        </p:blipFill>
        <p:spPr>
          <a:xfrm>
            <a:off x="1928880" y="2468520"/>
            <a:ext cx="14288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86160" y="1500120"/>
            <a:ext cx="4143600" cy="42912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Аргументы против кур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Курение разрушает организ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Курение приводит к неизлечимым болезня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Курение снижает физическую активность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Курение портит цвет кож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Никотин забирает свободу, человек становится его рабо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7" name="Picture 2" descr="1759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00160" y="3044880"/>
            <a:ext cx="10000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58200" cy="33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 </a:t>
            </a:r>
            <a:br>
              <a:rPr sz="4900"/>
            </a:br>
            <a:r>
              <a:rPr b="0" lang="ru-RU" sz="4900" spc="-1" strike="noStrike" u="sng">
                <a:solidFill>
                  <a:srgbClr val="67afbd"/>
                </a:solidFill>
                <a:uFillTx/>
                <a:latin typeface="Times New Roman"/>
                <a:ea typeface="Times New Roman"/>
                <a:hlinkClick r:id="rId1"/>
              </a:rPr>
              <a:t>К 2030г. от курения ежегодно будет умирать 10 млн человек</a:t>
            </a:r>
            <a:r>
              <a:rPr b="1" lang="ru-RU" sz="4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4900"/>
            </a:br>
            <a:endParaRPr b="0" lang="en-US" sz="4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8400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едставители Всемирной ассоциации легочных заболеваний считают, что к 2030г. количество смертей вследствие курения увеличится до 10 млн человек в год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286240" y="857160"/>
            <a:ext cx="3392640" cy="49341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afbd"/>
                </a:solidFill>
                <a:uFillTx/>
                <a:latin typeface="Times New Roman"/>
                <a:ea typeface="Times New Roman"/>
                <a:hlinkClick r:id="rId1"/>
              </a:rPr>
              <a:t>Статистика женского курения в Росс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ачный дым – вероломный враг человечества – начинает атаку на самое дорогое и беззащитное: женщин и детей. По последним данным Всемирной организации здравоохранения, на нашей планете курят 12% женщин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Рисунок 9" descr=""/>
          <p:cNvPicPr/>
          <p:nvPr/>
        </p:nvPicPr>
        <p:blipFill>
          <a:blip r:embed="rId2"/>
          <a:stretch/>
        </p:blipFill>
        <p:spPr>
          <a:xfrm>
            <a:off x="1579680" y="2133720"/>
            <a:ext cx="2138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428800" y="928440"/>
            <a:ext cx="3249720" cy="48625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ка курения в мир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Всемирной Организации Здравоохранения (ВОЗ) на сегодняшний день 1,3 миллиарда населения нашей планеты находится в зависимости от табак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Рисунок 12" descr="Статистика курения в мире"/>
          <p:cNvPicPr/>
          <p:nvPr/>
        </p:nvPicPr>
        <p:blipFill>
          <a:blip r:embed="rId1"/>
          <a:stretch/>
        </p:blipFill>
        <p:spPr>
          <a:xfrm>
            <a:off x="1646280" y="2414520"/>
            <a:ext cx="19256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286240" y="1143000"/>
            <a:ext cx="33926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ка курения в России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ый момент Россия занимает первое место по потреблению табака в мире, а также первое место по подростковому курению. Согласно последним данным Всемирной Организации Здравоохранения, курение в России ежегодно убивает 332.000 человек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Рисунок 14" descr="Статистика курения в России"/>
          <p:cNvPicPr/>
          <p:nvPr/>
        </p:nvPicPr>
        <p:blipFill>
          <a:blip r:embed="rId1"/>
          <a:stretch/>
        </p:blipFill>
        <p:spPr>
          <a:xfrm>
            <a:off x="1792440" y="2554200"/>
            <a:ext cx="17064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428800" y="1143000"/>
            <a:ext cx="32497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ение сигарет ежегодно убивает 6 млн. челове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Мировая Война унесла жизни более 50 млн. человек. Курение сигарет ежегодно убивает 6 млн. человек, и становится причиной 30% смертей от раковых заболеваний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7" name="Рисунок 16" descr="Курение сигарет ежегодно убивает 6 млн. человек"/>
          <p:cNvPicPr/>
          <p:nvPr/>
        </p:nvPicPr>
        <p:blipFill>
          <a:blip r:embed="rId1"/>
          <a:stretch/>
        </p:blipFill>
        <p:spPr>
          <a:xfrm>
            <a:off x="1792440" y="2554200"/>
            <a:ext cx="161604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286240" y="1143000"/>
            <a:ext cx="3321360" cy="47196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це-президент общероссийской общественной организации „Лига здоровья нации“ Николай Кононов сообщил, что в России 17% всех преждевременных смертей связаны с курени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Рисунок 18" descr="Смертность от курения в России высока"/>
          <p:cNvPicPr/>
          <p:nvPr/>
        </p:nvPicPr>
        <p:blipFill>
          <a:blip r:embed="rId1"/>
          <a:stretch/>
        </p:blipFill>
        <p:spPr>
          <a:xfrm>
            <a:off x="1792440" y="2554200"/>
            <a:ext cx="211428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500800" y="1000080"/>
            <a:ext cx="3178080" cy="47196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третья россиянка кури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од число курящих женщин в России увеличивается на 1,5%.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3 году в нашей стране курили только около 5 процентов женщин, сегодня же их число возросло до 27% , «среди женщин, вовлеченных в никотиновый плен около 40 процентов курящих школьниц-старшеклассниц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Рисунок 24" descr="Каждая третья россиянка курит"/>
          <p:cNvPicPr/>
          <p:nvPr/>
        </p:nvPicPr>
        <p:blipFill>
          <a:blip r:embed="rId1"/>
          <a:stretch/>
        </p:blipFill>
        <p:spPr>
          <a:xfrm>
            <a:off x="1504800" y="2266920"/>
            <a:ext cx="185436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3:44:56Z</dcterms:created>
  <dc:creator>User</dc:creator>
  <dc:description/>
  <dc:language>en-US</dc:language>
  <cp:lastModifiedBy>Лида</cp:lastModifiedBy>
  <dcterms:modified xsi:type="dcterms:W3CDTF">2013-02-07T15:45:20Z</dcterms:modified>
  <cp:revision>13</cp:revision>
  <dc:subject/>
  <dc:title>Каждый третий четверг ноября, вот уже 30 лет, отмечается Международный день отказа от курения. </dc:title>
</cp:coreProperties>
</file>