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5E4-EB18-4E44-A993-8C3BA6D7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BBC-9AEE-4FB6-9494-C445E7F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CFE-5820-4494-9257-24652AD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B74-DD61-4D86-94E9-992CCFD9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3C5-B607-463E-8238-C68235DD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9280-5855-4E7B-9984-5ECD0A35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359D-2AFA-4B21-81A1-BB1C0877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AC5-C315-4B69-B5F0-B1FF6FA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547D-E83D-4800-987F-CC38576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DCD-071A-4A4E-B2EE-8EB31B0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0D57-EBA8-4305-A92E-E109EC7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6ED-AD2A-420B-9F2D-42C9DA4D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9583-752A-4E89-9565-0219542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5307-A8CF-46F6-9E7B-2F821ED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C93-050C-4076-8B1B-DE2EDDB4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556-BD27-45C1-80D6-BA2ABA0D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5BBB-E205-4DF7-A084-56A2D3B2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943FE-45C4-4BC5-8FEF-C99A12B7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8559-C3F9-47D8-98F4-56F2FA4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3C2EB-2BDE-4BCF-A6EC-9B734B2D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37E96-9FB6-4856-97F6-301D13A3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E46FD-E440-4FE7-B178-313640D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8C9-7388-46F1-9FC6-51689CD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75E9A-29BC-4816-AE2A-AC890FC0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C7BE9-D02F-40CE-B90A-18C1AA1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30BB0-9818-4251-AAC1-40F76EA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5B081-5D41-46B3-BC27-08E2A77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6BD61-D59E-4831-8633-6F36BA0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0D2E1-2085-45E1-AFC0-450869DE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1891C-A67F-41B8-B1C5-6EFF11E4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8536-CB2D-4283-B9DD-50BEA1D0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A2B4-0FBC-45B9-BC66-AF03C108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A028-BD6F-45B2-9C6E-06A0855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DA1-855D-43B5-9297-F6D2951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8A5B-B41C-493A-8938-DFA9774B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ED76-4425-4CBC-AE8C-4EB518F1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8123-CA37-4124-86EA-FDA7C29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79FE-4376-438D-AD54-80FD219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E40E-6DAD-4751-B358-BB675AC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DD5D-91FB-4B8D-B61F-CD59AD0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15F7-9B48-4F70-A899-45D81422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FB5B-128B-4848-9B0A-7266E416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2C97-D3AF-40BF-BF2D-8F499B7C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853-B6B5-4F25-B2D3-7FED32A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078-2DFA-4B4D-8AA1-496BE4AC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F73-E8E0-4A05-9398-77E2524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458-8167-406D-AAD7-8708AE0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3AF-B22D-467D-B2E9-20761F5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F46-5231-4600-BF3F-563806A40A7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A24-155A-4D9D-AEA2-33DF8F8CB89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7D20-0EA2-4145-9D89-43346D80ED3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B5D-7ECC-49C7-81DA-3E6F5977246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-kurim.ru/news/segodnja_-_mezhdunarodnyjj_den_otkaza_ot_kurenija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strashnaja_statistika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k_2030g_ot_kurenija_ezhegodno_budet_umirat_10_mln_chelovek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zhenskoe-kurenie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84582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аждый третий четверг ноября, вот уже 30 лет, отмечается </a:t>
            </a:r>
            <a:r>
              <a:rPr b="0" lang="ru-RU" sz="44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Международный день отказа от курения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18676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Его цель — способствовать снижению распространения табачной зависимости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86240" y="1000080"/>
            <a:ext cx="3392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каждые 9 секунд умирает человек, из-за болезней, вызванных табакокурение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% российских мужчин, а это около 44 млн. человек, и 9,7% женщин — около 8 млн. — курильщики.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Рисунок 32" descr="В России каждые 9 секунд умирает человек из-за болезней, вызванных&#13;&#10; табакокурением"/>
          <p:cNvPicPr/>
          <p:nvPr/>
        </p:nvPicPr>
        <p:blipFill>
          <a:blip r:embed="rId1"/>
          <a:stretch/>
        </p:blipFill>
        <p:spPr>
          <a:xfrm>
            <a:off x="1646280" y="24145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500800" y="928440"/>
            <a:ext cx="31780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легких - масштабы катастроф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 легкого, которым ежегодно заболевает около 1 млн. человек, одна из причин смерти онкологических больных в большинстве стран мир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Рисунок 30" descr="Рак легких - масштабы катастрофы"/>
          <p:cNvPicPr/>
          <p:nvPr/>
        </p:nvPicPr>
        <p:blipFill>
          <a:blip r:embed="rId1"/>
          <a:stretch/>
        </p:blipFill>
        <p:spPr>
          <a:xfrm>
            <a:off x="1792440" y="2554200"/>
            <a:ext cx="16398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28800" y="1214280"/>
            <a:ext cx="3249720" cy="45770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абакокурения в мире ежегодно умирает около шести миллионов человек. Распространение табакокурения в России - самое высокое в мире. Ежегодно в России от причин, связанных с курением, преждевременно умирает более 340 тысяч человек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1"/>
          <a:stretch/>
        </p:blipFill>
        <p:spPr>
          <a:xfrm>
            <a:off x="1932120" y="2693880"/>
            <a:ext cx="1712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286240" y="928440"/>
            <a:ext cx="2928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-сужает кровеносные сосуды, делая работу сердца по перекачиванию крови более труд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1407960" y="2152800"/>
            <a:ext cx="17496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14600" y="1356840"/>
            <a:ext cx="3071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затрудняет нормальное дыхание, что снижает твои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167" descr=""/>
          <p:cNvPicPr/>
          <p:nvPr/>
        </p:nvPicPr>
        <p:blipFill>
          <a:blip r:embed="rId1"/>
          <a:stretch/>
        </p:blipFill>
        <p:spPr>
          <a:xfrm>
            <a:off x="1571760" y="2535120"/>
            <a:ext cx="1285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000400" y="1356840"/>
            <a:ext cx="3214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ши       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оражает нервы и сосуды уха, что может привести к снижению слух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69" descr=""/>
          <p:cNvPicPr/>
          <p:nvPr/>
        </p:nvPicPr>
        <p:blipFill>
          <a:blip r:embed="rId1"/>
          <a:srcRect l="12466" t="5550" r="9976" b="2604"/>
          <a:stretch/>
        </p:blipFill>
        <p:spPr>
          <a:xfrm>
            <a:off x="2071800" y="2894040"/>
            <a:ext cx="1143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000760" y="1643040"/>
            <a:ext cx="30715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Делает глаза крас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и может служить причиной снижения зр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000160" y="2637000"/>
            <a:ext cx="1285920" cy="14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000680" y="1143000"/>
            <a:ext cx="4071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             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овреждает слизистые оболочки губ, языка, носоглод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Изменяет вкусовую чувствитель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риводит к кашлю и неприятному запаху при дыха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29827" t="3758" r="0" b="11114"/>
          <a:stretch/>
        </p:blipFill>
        <p:spPr>
          <a:xfrm>
            <a:off x="1571760" y="2754360"/>
            <a:ext cx="12142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000400" y="1428840"/>
            <a:ext cx="31431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о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температура кожи падает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раньше появляются морщ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57240" y="2367000"/>
            <a:ext cx="1214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285880" y="1214280"/>
            <a:ext cx="3071880" cy="45770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екурящег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nonsmokerslung"/>
          <p:cNvPicPr/>
          <p:nvPr/>
        </p:nvPicPr>
        <p:blipFill>
          <a:blip r:embed="rId1"/>
          <a:stretch/>
        </p:blipFill>
        <p:spPr>
          <a:xfrm>
            <a:off x="1785960" y="2468520"/>
            <a:ext cx="1857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13880"/>
            <a:ext cx="8458200" cy="31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Страшная статисти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рное, не все знают: по данным статистики, каждый день 700 россиян умирают от болезней, вызванных курением, причем больше половины курильщиков умирают в трудоспособном возрасте.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4357800"/>
            <a:ext cx="81867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думайтесь в эту цифру: каждый день 700 человек — наших соотечественников, ваших близких, умирают из-за курения! И живут курящие в среднем на 10-12 лет меньше своих сверстник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57520" y="1571400"/>
            <a:ext cx="3071880" cy="4219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урящег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Сравни и сделай вы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2" descr="smokerslung"/>
          <p:cNvPicPr/>
          <p:nvPr/>
        </p:nvPicPr>
        <p:blipFill>
          <a:blip r:embed="rId1"/>
          <a:stretch/>
        </p:blipFill>
        <p:spPr>
          <a:xfrm>
            <a:off x="1714680" y="2575080"/>
            <a:ext cx="1500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286240" y="1356840"/>
            <a:ext cx="33926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Это должен знать каждый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это уже рак лёгк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А это уже рак легких!"/>
          <p:cNvPicPr/>
          <p:nvPr/>
        </p:nvPicPr>
        <p:blipFill>
          <a:blip r:embed="rId1"/>
          <a:stretch/>
        </p:blipFill>
        <p:spPr>
          <a:xfrm>
            <a:off x="1928880" y="2468520"/>
            <a:ext cx="1428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1436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Аргументы против ку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разрушает организ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приводит к неизлечимым болезн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снижает физическую активно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портит цвет кож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икотин забирает свободу, человек становится его раб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1759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0160" y="3044880"/>
            <a:ext cx="10000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58200" cy="33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 </a:t>
            </a:r>
            <a:br>
              <a:rPr sz="4900"/>
            </a:br>
            <a:r>
              <a:rPr b="0" lang="ru-RU" sz="49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К 2030г. от курения ежегодно будет умирать 10 млн человек</a:t>
            </a:r>
            <a:r>
              <a:rPr b="1" lang="ru-RU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4900"/>
            </a:b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84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едставители Всемирной ассоциации легочных заболеваний считают, что к 2030г. количество смертей вследствие курения увеличится до 10 млн человек в год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286240" y="857160"/>
            <a:ext cx="33926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Статистика женского курения в Росс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чный дым – вероломный враг человечества – начинает атаку на самое дорогое и беззащитное: женщин и детей. По последним данным Всемирной организации здравоохранения, на нашей планете курят 12% женщин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9" descr=""/>
          <p:cNvPicPr/>
          <p:nvPr/>
        </p:nvPicPr>
        <p:blipFill>
          <a:blip r:embed="rId2"/>
          <a:stretch/>
        </p:blipFill>
        <p:spPr>
          <a:xfrm>
            <a:off x="1579680" y="2133720"/>
            <a:ext cx="2138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428800" y="928440"/>
            <a:ext cx="3249720" cy="48625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курения в мир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семирной Организации Здравоохранения (ВОЗ) на сегодняшний день 1,3 миллиарда населения нашей планеты находится в зависимости от таба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12" descr="Статистика курения в мире"/>
          <p:cNvPicPr/>
          <p:nvPr/>
        </p:nvPicPr>
        <p:blipFill>
          <a:blip r:embed="rId1"/>
          <a:stretch/>
        </p:blipFill>
        <p:spPr>
          <a:xfrm>
            <a:off x="1646280" y="2414520"/>
            <a:ext cx="1925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6240" y="1143000"/>
            <a:ext cx="33926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курения в Ро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й момент Россия занимает первое место по потреблению табака в мире, а также первое место по подростковому курению. Согласно последним данным Всемирной Организации Здравоохранения, курение в России ежегодно убивает 332.000 человек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Рисунок 14" descr="Статистика курения в России"/>
          <p:cNvPicPr/>
          <p:nvPr/>
        </p:nvPicPr>
        <p:blipFill>
          <a:blip r:embed="rId1"/>
          <a:stretch/>
        </p:blipFill>
        <p:spPr>
          <a:xfrm>
            <a:off x="1792440" y="2554200"/>
            <a:ext cx="1706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28800" y="1143000"/>
            <a:ext cx="3249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сигарет ежегодно убивает 6 млн. челове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Мировая Война унесла жизни более 50 млн. человек. Курение сигарет ежегодно убивает 6 млн. человек, и становится причиной 30% смертей от раковых заболеван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Рисунок 16" descr="Курение сигарет ежегодно убивает 6 млн. человек"/>
          <p:cNvPicPr/>
          <p:nvPr/>
        </p:nvPicPr>
        <p:blipFill>
          <a:blip r:embed="rId1"/>
          <a:stretch/>
        </p:blipFill>
        <p:spPr>
          <a:xfrm>
            <a:off x="1792440" y="2554200"/>
            <a:ext cx="16160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286240" y="1143000"/>
            <a:ext cx="332136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е-президент общероссийской общественной организации „Лига здоровья нации“ Николай Кононов сообщил, что в России 17% всех преждевременных смертей связаны с кур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18" descr="Смертность от курения в России высока"/>
          <p:cNvPicPr/>
          <p:nvPr/>
        </p:nvPicPr>
        <p:blipFill>
          <a:blip r:embed="rId1"/>
          <a:stretch/>
        </p:blipFill>
        <p:spPr>
          <a:xfrm>
            <a:off x="1792440" y="2554200"/>
            <a:ext cx="21142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500800" y="1000080"/>
            <a:ext cx="317808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третья россиянка кур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 число курящих женщин в России увеличивается на 1,5%.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 году в нашей стране курили только около 5 процентов женщин, сегодня же их число возросло до 27% , «среди женщин, вовлеченных в никотиновый плен около 40 процентов курящих школьниц-старшеклассниц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24" descr="Каждая третья россиянка курит"/>
          <p:cNvPicPr/>
          <p:nvPr/>
        </p:nvPicPr>
        <p:blipFill>
          <a:blip r:embed="rId1"/>
          <a:stretch/>
        </p:blipFill>
        <p:spPr>
          <a:xfrm>
            <a:off x="1504800" y="2266920"/>
            <a:ext cx="1854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44:56Z</dcterms:created>
  <dc:creator>User</dc:creator>
  <dc:description/>
  <dc:language>en-US</dc:language>
  <cp:lastModifiedBy>Лида</cp:lastModifiedBy>
  <dcterms:modified xsi:type="dcterms:W3CDTF">2013-02-07T15:45:20Z</dcterms:modified>
  <cp:revision>13</cp:revision>
  <dc:subject/>
  <dc:title>Каждый третий четверг ноября, вот уже 30 лет, отмечается Международный день отказа от курения. </dc:title>
</cp:coreProperties>
</file>