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1.jpeg" ContentType="image/jpeg"/>
  <Override PartName="/ppt/media/image29.wmf" ContentType="image/x-wmf"/>
  <Override PartName="/ppt/media/image27.jpeg" ContentType="image/jpeg"/>
  <Override PartName="/ppt/media/image6.jpeg" ContentType="image/jpeg"/>
  <Override PartName="/ppt/media/image30.wmf" ContentType="image/x-wmf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2.gif" ContentType="image/gif"/>
  <Override PartName="/ppt/media/image15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7C9-CA5C-447E-B532-42B9C05D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D56-A1BD-452E-8556-08395A6B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D73-757A-424D-8A66-3A8993B9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77B-DF5A-4331-90F1-3A542E6E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438D-7D02-4D47-9217-C2FBE190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C6F9-2D53-410E-8B95-2904ECF9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6B5E-9597-4780-A8B3-CD40F34A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1594-6AB7-401E-9A5E-CB9C1B32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E935-A683-41DA-BB18-555EC777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6C52-56B3-4C71-BB2A-CE5183A6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7799-81A0-4819-9D48-4B3C2A51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C43-A7FF-4636-A2B9-26B6AB11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1193-2312-4BF8-82C4-C088CBF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21EC-6114-4FB8-A015-0B78826F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4F57-EA06-45BA-89B9-3D559E57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5C20-024A-4F2B-83F2-62363E8B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C89A-A7BF-451B-9326-E7617BAE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5E4-AF3A-4AEB-8A63-19DAB1A9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9C1-D59A-4746-AE79-44A35AC8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84B-45DC-49FA-9268-F05E151E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22D-A357-4B69-BEDF-BDB3A14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14F-BC28-469C-9ACF-58F304C8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CDA-53B6-422A-A8C9-1FB0F887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0E8-5517-4929-9B45-A4E2799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5D7B-53DE-4D7D-AE35-250EDC60E5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8DD4-CAB2-4D9C-8853-088F500E2C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8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2.gif"/><Relationship Id="rId4" Type="http://schemas.openxmlformats.org/officeDocument/2006/relationships/image" Target="../media/image24.wm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2.gi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23.xml"/><Relationship Id="rId7" Type="http://schemas.openxmlformats.org/officeDocument/2006/relationships/image" Target="../media/image10.jpeg"/><Relationship Id="rId8" Type="http://schemas.openxmlformats.org/officeDocument/2006/relationships/slide" Target="slide5.xml"/><Relationship Id="rId9" Type="http://schemas.openxmlformats.org/officeDocument/2006/relationships/slide" Target="slide22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248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a8472"/>
                </a:solidFill>
                <a:latin typeface="Comic Sans MS"/>
              </a:rPr>
              <a:t>ОБЛАКА</a:t>
            </a:r>
            <a:br>
              <a:rPr sz="6000"/>
            </a:br>
            <a:endParaRPr b="0" lang="en-US" sz="6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4032360" cy="489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3672000" cy="3878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56000" y="537372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553248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8472"/>
                </a:solidFill>
                <a:latin typeface="Arial"/>
              </a:rPr>
              <a:t>Панфилова Оксана</a:t>
            </a:r>
            <a:br>
              <a:rPr sz="1800"/>
            </a:br>
            <a:r>
              <a:rPr b="0" lang="en-US" sz="1800" spc="-1" strike="noStrike">
                <a:solidFill>
                  <a:srgbClr val="8a8472"/>
                </a:solidFill>
                <a:latin typeface="Arial"/>
              </a:rPr>
              <a:t>6 класс</a:t>
            </a:r>
            <a:br>
              <a:rPr sz="1800"/>
            </a:br>
            <a:r>
              <a:rPr b="0" lang="en-US" sz="1800" spc="-1" strike="noStrike">
                <a:solidFill>
                  <a:srgbClr val="8a8472"/>
                </a:solidFill>
                <a:latin typeface="Arial"/>
              </a:rPr>
              <a:t>МОУ Шуньг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5493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Похожи на белые волокна или пер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335772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176920"/>
            <a:ext cx="741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стые облака (Cirrus) встречаются на выс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6 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км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еговые облака. Они предвещают из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годы .Состоят из кристалликов ль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6971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556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Слоистые облака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3961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ка - веселые картин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ят рожицы и машут с высо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пают на голову дождин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 в ответ им улыбнулся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249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692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та образования слоистых облаков не  более 2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970680" cy="3549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8360" y="5661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оист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это облака серого цвета слоем или наслоениями. Занимают обширные районы, часто блокируя солнечный све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72320" cy="6429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4360" y="5493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ee2"/>
                </a:solidFill>
                <a:latin typeface="Arial"/>
              </a:rPr>
              <a:t>Слоисто-дождевые обл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340000" y="2276640"/>
            <a:ext cx="34560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208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учевые облака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38386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мурится на небе ту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ёзы капают из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гадайте, что за шту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облако у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025880" cy="43196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7812000" y="6237360"/>
            <a:ext cx="792360" cy="216000"/>
          </a:xfrm>
          <a:custGeom>
            <a:avLst/>
            <a:gdLst>
              <a:gd name="textAreaLeft" fmla="*/ 13680 w 792360"/>
              <a:gd name="textAreaRight" fmla="*/ 778680 w 79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9140" h="21600">
                <a:moveTo>
                  <a:pt x="0" y="0"/>
                </a:moveTo>
                <a:lnTo>
                  <a:pt x="79140" y="0"/>
                </a:lnTo>
                <a:lnTo>
                  <a:pt x="79140" y="21600"/>
                </a:lnTo>
                <a:lnTo>
                  <a:pt x="0" y="21600"/>
                </a:lnTo>
                <a:close/>
              </a:path>
              <a:path fill="lightenLess" w="79140" h="21600">
                <a:moveTo>
                  <a:pt x="0" y="0"/>
                </a:moveTo>
                <a:lnTo>
                  <a:pt x="79140" y="0"/>
                </a:lnTo>
                <a:lnTo>
                  <a:pt x="77740" y="1400"/>
                </a:lnTo>
                <a:lnTo>
                  <a:pt x="1400" y="1400"/>
                </a:lnTo>
                <a:close/>
              </a:path>
              <a:path fill="darken" w="79140" h="21600">
                <a:moveTo>
                  <a:pt x="79140" y="0"/>
                </a:moveTo>
                <a:lnTo>
                  <a:pt x="79140" y="21600"/>
                </a:lnTo>
                <a:lnTo>
                  <a:pt x="77740" y="20200"/>
                </a:lnTo>
                <a:lnTo>
                  <a:pt x="77740" y="1400"/>
                </a:lnTo>
                <a:close/>
              </a:path>
              <a:path fill="darkenLess" w="79140" h="21600">
                <a:moveTo>
                  <a:pt x="79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0" y="20200"/>
                </a:lnTo>
                <a:close/>
              </a:path>
              <a:path fill="lighten" w="79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40" h="21600">
                <a:moveTo>
                  <a:pt x="32564" y="10800"/>
                </a:moveTo>
                <a:lnTo>
                  <a:pt x="46577" y="3794"/>
                </a:lnTo>
                <a:lnTo>
                  <a:pt x="46577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7636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чев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отдельные облака с вершинами на разных уровнях. Они могут быть маленькими или огромными, если развиваются в грозов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2698560" cy="3598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3456000" cy="3287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340000" y="4221000"/>
            <a:ext cx="2195640" cy="219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1764000" cy="1678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7596360" y="1413000"/>
            <a:ext cx="17636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26920" y="1317600"/>
            <a:ext cx="7561440" cy="5218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18900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ва-направо показано схематическое изображение процесса образования кучевого облака. Красные стрелки - процесс образования «кучи» над плоским основанием обла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905440" cy="6527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659640" y="549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Кучево- дождевые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2492280"/>
            <a:ext cx="20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Основание темное, кажется, что оно готово брызнуть дож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24480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48258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Облака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67200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2198880" cy="2565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4000" y="1197000"/>
            <a:ext cx="3456000" cy="2630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067280" y="3789360"/>
            <a:ext cx="45720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24364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6357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Предсказание погоды по облакам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250920" y="630864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10800"/>
                </a:moveTo>
                <a:lnTo>
                  <a:pt x="50135" y="3794"/>
                </a:lnTo>
                <a:lnTo>
                  <a:pt x="50135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638000"/>
            <a:ext cx="67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Утром облака в виде гор - к вечеру жди дожд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Красные облака до восхода солнца - к ветру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Туча до восхода солнца - к дождю. 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Низко и быстро идущие облака - к затяжному дождю.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Облако стоит высоко - к хорошей погоде.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еером перистые облака на западе - к ненастью.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Оказывается, если дождевая туча шумит, будет град или сильный дождь.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588000" y="-243000"/>
            <a:ext cx="2800440" cy="2664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877080" y="1197000"/>
            <a:ext cx="1971720" cy="151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732720" y="2781360"/>
            <a:ext cx="2158920" cy="1555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093080" y="4951440"/>
            <a:ext cx="19080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341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216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ь какие это обл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960720" cy="273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3672000" cy="367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500720" y="3429000"/>
            <a:ext cx="3671640" cy="2736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26360" y="4529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чевые обл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25800" y="234936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стые обл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01640" y="546588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истые обл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8028000" y="6453360"/>
            <a:ext cx="720720" cy="21564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72108" h="21600">
                <a:moveTo>
                  <a:pt x="0" y="0"/>
                </a:moveTo>
                <a:lnTo>
                  <a:pt x="72108" y="0"/>
                </a:lnTo>
                <a:lnTo>
                  <a:pt x="72108" y="21600"/>
                </a:lnTo>
                <a:lnTo>
                  <a:pt x="0" y="21600"/>
                </a:lnTo>
                <a:close/>
              </a:path>
              <a:path fill="lightenLess" w="72108" h="21600">
                <a:moveTo>
                  <a:pt x="0" y="0"/>
                </a:moveTo>
                <a:lnTo>
                  <a:pt x="72108" y="0"/>
                </a:lnTo>
                <a:lnTo>
                  <a:pt x="70708" y="1400"/>
                </a:lnTo>
                <a:lnTo>
                  <a:pt x="1400" y="1400"/>
                </a:lnTo>
                <a:close/>
              </a:path>
              <a:path fill="darken" w="72108" h="21600">
                <a:moveTo>
                  <a:pt x="72108" y="0"/>
                </a:moveTo>
                <a:lnTo>
                  <a:pt x="72108" y="21600"/>
                </a:lnTo>
                <a:lnTo>
                  <a:pt x="70708" y="20200"/>
                </a:lnTo>
                <a:lnTo>
                  <a:pt x="70708" y="1400"/>
                </a:lnTo>
                <a:close/>
              </a:path>
              <a:path fill="darkenLess" w="72108" h="21600">
                <a:moveTo>
                  <a:pt x="72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708" y="20200"/>
                </a:lnTo>
                <a:close/>
              </a:path>
              <a:path fill="lighten" w="72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108" h="21600">
                <a:moveTo>
                  <a:pt x="29048" y="10800"/>
                </a:moveTo>
                <a:lnTo>
                  <a:pt x="43060" y="3794"/>
                </a:lnTo>
                <a:lnTo>
                  <a:pt x="43060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640" y="17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86720" y="42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2636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52070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338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разование обл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ипы обл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меты по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43640" y="2852640"/>
            <a:ext cx="2449440" cy="1432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51640" y="260280"/>
            <a:ext cx="2808000" cy="240660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4284720" y="1844640"/>
            <a:ext cx="1079280" cy="289080"/>
          </a:xfrm>
          <a:custGeom>
            <a:avLst/>
            <a:gdLst>
              <a:gd name="textAreaLeft" fmla="*/ 18720 w 1079280"/>
              <a:gd name="textAreaRight" fmla="*/ 1060560 w 107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0570" h="21600">
                <a:moveTo>
                  <a:pt x="0" y="0"/>
                </a:moveTo>
                <a:lnTo>
                  <a:pt x="80570" y="0"/>
                </a:lnTo>
                <a:lnTo>
                  <a:pt x="80570" y="21600"/>
                </a:lnTo>
                <a:lnTo>
                  <a:pt x="0" y="21600"/>
                </a:lnTo>
                <a:close/>
              </a:path>
              <a:path fill="lightenLess" w="80570" h="21600">
                <a:moveTo>
                  <a:pt x="0" y="0"/>
                </a:moveTo>
                <a:lnTo>
                  <a:pt x="80570" y="0"/>
                </a:lnTo>
                <a:lnTo>
                  <a:pt x="79170" y="1400"/>
                </a:lnTo>
                <a:lnTo>
                  <a:pt x="1400" y="1400"/>
                </a:lnTo>
                <a:close/>
              </a:path>
              <a:path fill="darken" w="80570" h="21600">
                <a:moveTo>
                  <a:pt x="80570" y="0"/>
                </a:moveTo>
                <a:lnTo>
                  <a:pt x="80570" y="21600"/>
                </a:lnTo>
                <a:lnTo>
                  <a:pt x="79170" y="20200"/>
                </a:lnTo>
                <a:lnTo>
                  <a:pt x="79170" y="1400"/>
                </a:lnTo>
                <a:close/>
              </a:path>
              <a:path fill="darkenLess" w="80570" h="21600">
                <a:moveTo>
                  <a:pt x="80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70" y="20200"/>
                </a:lnTo>
                <a:close/>
              </a:path>
              <a:path fill="lighten" w="80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4140360" y="3429000"/>
            <a:ext cx="1150920" cy="287280"/>
          </a:xfrm>
          <a:custGeom>
            <a:avLst/>
            <a:gdLst>
              <a:gd name="textAreaLeft" fmla="*/ 18360 w 1150920"/>
              <a:gd name="textAreaRight" fmla="*/ 1132560 w 1150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454" h="21600">
                <a:moveTo>
                  <a:pt x="0" y="0"/>
                </a:moveTo>
                <a:lnTo>
                  <a:pt x="86454" y="0"/>
                </a:lnTo>
                <a:lnTo>
                  <a:pt x="86454" y="21600"/>
                </a:lnTo>
                <a:lnTo>
                  <a:pt x="0" y="21600"/>
                </a:lnTo>
                <a:close/>
              </a:path>
              <a:path fill="lightenLess" w="86454" h="21600">
                <a:moveTo>
                  <a:pt x="0" y="0"/>
                </a:moveTo>
                <a:lnTo>
                  <a:pt x="86454" y="0"/>
                </a:lnTo>
                <a:lnTo>
                  <a:pt x="85054" y="1400"/>
                </a:lnTo>
                <a:lnTo>
                  <a:pt x="1400" y="1400"/>
                </a:lnTo>
                <a:close/>
              </a:path>
              <a:path fill="darken" w="86454" h="21600">
                <a:moveTo>
                  <a:pt x="86454" y="0"/>
                </a:moveTo>
                <a:lnTo>
                  <a:pt x="86454" y="21600"/>
                </a:lnTo>
                <a:lnTo>
                  <a:pt x="85054" y="20200"/>
                </a:lnTo>
                <a:lnTo>
                  <a:pt x="85054" y="1400"/>
                </a:lnTo>
                <a:close/>
              </a:path>
              <a:path fill="darkenLess" w="86454" h="21600">
                <a:moveTo>
                  <a:pt x="86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54" y="20200"/>
                </a:lnTo>
                <a:close/>
              </a:path>
              <a:path fill="lighten" w="86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2700360" y="5229360"/>
            <a:ext cx="1150920" cy="287280"/>
          </a:xfrm>
          <a:custGeom>
            <a:avLst/>
            <a:gdLst>
              <a:gd name="textAreaLeft" fmla="*/ 18360 w 1150920"/>
              <a:gd name="textAreaRight" fmla="*/ 1132560 w 1150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454" h="21600">
                <a:moveTo>
                  <a:pt x="0" y="0"/>
                </a:moveTo>
                <a:lnTo>
                  <a:pt x="86454" y="0"/>
                </a:lnTo>
                <a:lnTo>
                  <a:pt x="86454" y="21600"/>
                </a:lnTo>
                <a:lnTo>
                  <a:pt x="0" y="21600"/>
                </a:lnTo>
                <a:close/>
              </a:path>
              <a:path fill="lightenLess" w="86454" h="21600">
                <a:moveTo>
                  <a:pt x="0" y="0"/>
                </a:moveTo>
                <a:lnTo>
                  <a:pt x="86454" y="0"/>
                </a:lnTo>
                <a:lnTo>
                  <a:pt x="85054" y="1400"/>
                </a:lnTo>
                <a:lnTo>
                  <a:pt x="1400" y="1400"/>
                </a:lnTo>
                <a:close/>
              </a:path>
              <a:path fill="darken" w="86454" h="21600">
                <a:moveTo>
                  <a:pt x="86454" y="0"/>
                </a:moveTo>
                <a:lnTo>
                  <a:pt x="86454" y="21600"/>
                </a:lnTo>
                <a:lnTo>
                  <a:pt x="85054" y="20200"/>
                </a:lnTo>
                <a:lnTo>
                  <a:pt x="85054" y="1400"/>
                </a:lnTo>
                <a:close/>
              </a:path>
              <a:path fill="darkenLess" w="86454" h="21600">
                <a:moveTo>
                  <a:pt x="86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54" y="20200"/>
                </a:lnTo>
                <a:close/>
              </a:path>
              <a:path fill="lighten" w="86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572000" y="4437000"/>
            <a:ext cx="4176720" cy="227484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8" action="ppaction://hlinksldjump"/>
          </p:cNvPr>
          <p:cNvSpPr/>
          <p:nvPr/>
        </p:nvSpPr>
        <p:spPr>
          <a:xfrm>
            <a:off x="4284720" y="2565360"/>
            <a:ext cx="1079280" cy="287280"/>
          </a:xfrm>
          <a:custGeom>
            <a:avLst/>
            <a:gdLst>
              <a:gd name="textAreaLeft" fmla="*/ 18360 w 1079280"/>
              <a:gd name="textAreaRight" fmla="*/ 1060920 w 107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1074" h="21600">
                <a:moveTo>
                  <a:pt x="0" y="0"/>
                </a:moveTo>
                <a:lnTo>
                  <a:pt x="81074" y="0"/>
                </a:lnTo>
                <a:lnTo>
                  <a:pt x="81074" y="21600"/>
                </a:lnTo>
                <a:lnTo>
                  <a:pt x="0" y="21600"/>
                </a:lnTo>
                <a:close/>
              </a:path>
              <a:path fill="lightenLess" w="81074" h="21600">
                <a:moveTo>
                  <a:pt x="0" y="0"/>
                </a:moveTo>
                <a:lnTo>
                  <a:pt x="81074" y="0"/>
                </a:lnTo>
                <a:lnTo>
                  <a:pt x="79674" y="1400"/>
                </a:lnTo>
                <a:lnTo>
                  <a:pt x="1400" y="1400"/>
                </a:lnTo>
                <a:close/>
              </a:path>
              <a:path fill="darken" w="81074" h="21600">
                <a:moveTo>
                  <a:pt x="81074" y="0"/>
                </a:moveTo>
                <a:lnTo>
                  <a:pt x="81074" y="21600"/>
                </a:lnTo>
                <a:lnTo>
                  <a:pt x="79674" y="20200"/>
                </a:lnTo>
                <a:lnTo>
                  <a:pt x="79674" y="1400"/>
                </a:lnTo>
                <a:close/>
              </a:path>
              <a:path fill="darkenLess" w="81074" h="21600">
                <a:moveTo>
                  <a:pt x="81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674" y="20200"/>
                </a:lnTo>
                <a:close/>
              </a:path>
              <a:path fill="lighten" w="81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9" action="ppaction://hlinksldjump"/>
          </p:cNvPr>
          <p:cNvSpPr/>
          <p:nvPr/>
        </p:nvSpPr>
        <p:spPr>
          <a:xfrm>
            <a:off x="3132000" y="4221000"/>
            <a:ext cx="1224000" cy="287640"/>
          </a:xfrm>
          <a:custGeom>
            <a:avLst/>
            <a:gdLst>
              <a:gd name="textAreaLeft" fmla="*/ 18360 w 1224000"/>
              <a:gd name="textAreaRight" fmla="*/ 1205640 w 1224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91827" h="21600">
                <a:moveTo>
                  <a:pt x="0" y="0"/>
                </a:moveTo>
                <a:lnTo>
                  <a:pt x="91827" y="0"/>
                </a:lnTo>
                <a:lnTo>
                  <a:pt x="91827" y="21600"/>
                </a:lnTo>
                <a:lnTo>
                  <a:pt x="0" y="21600"/>
                </a:lnTo>
                <a:close/>
              </a:path>
              <a:path fill="lightenLess" w="91827" h="21600">
                <a:moveTo>
                  <a:pt x="0" y="0"/>
                </a:moveTo>
                <a:lnTo>
                  <a:pt x="91827" y="0"/>
                </a:lnTo>
                <a:lnTo>
                  <a:pt x="90427" y="1400"/>
                </a:lnTo>
                <a:lnTo>
                  <a:pt x="1400" y="1400"/>
                </a:lnTo>
                <a:close/>
              </a:path>
              <a:path fill="darken" w="91827" h="21600">
                <a:moveTo>
                  <a:pt x="91827" y="0"/>
                </a:moveTo>
                <a:lnTo>
                  <a:pt x="91827" y="21600"/>
                </a:lnTo>
                <a:lnTo>
                  <a:pt x="90427" y="20200"/>
                </a:lnTo>
                <a:lnTo>
                  <a:pt x="90427" y="1400"/>
                </a:lnTo>
                <a:close/>
              </a:path>
              <a:path fill="darkenLess" w="91827" h="21600">
                <a:moveTo>
                  <a:pt x="91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427" y="20200"/>
                </a:lnTo>
                <a:close/>
              </a:path>
              <a:path fill="lighten" w="91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48466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Comic Sans MS"/>
              </a:rPr>
              <a:t>Словарь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2781000"/>
            <a:ext cx="7799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л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копление взвешенных в атмосфере капелек воды и кристаллов льда, появляющихся в результате поднимающихся с земли паров воды и конденсирующихся при охлаждении вверх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311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5638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Образование облаков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3909960" cy="40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вышине облака велич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роздя океаны неб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лнце в ярких кудряшках игр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лед верхушками машет им л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 плывите за дальние д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мотреть, как Земля хорош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рассвет и закаты си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блестит ранним утром 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38098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0264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7870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Типы облаков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3262320" cy="40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стые 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истые 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чевые 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816360" cy="48243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2916360" y="1916280"/>
            <a:ext cx="792000" cy="28872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05" h="21600">
                <a:moveTo>
                  <a:pt x="0" y="0"/>
                </a:moveTo>
                <a:lnTo>
                  <a:pt x="59205" y="0"/>
                </a:lnTo>
                <a:lnTo>
                  <a:pt x="59205" y="21600"/>
                </a:lnTo>
                <a:lnTo>
                  <a:pt x="0" y="21600"/>
                </a:lnTo>
                <a:close/>
              </a:path>
              <a:path fill="lightenLess" w="59205" h="21600">
                <a:moveTo>
                  <a:pt x="0" y="0"/>
                </a:moveTo>
                <a:lnTo>
                  <a:pt x="59205" y="0"/>
                </a:lnTo>
                <a:lnTo>
                  <a:pt x="57805" y="1400"/>
                </a:lnTo>
                <a:lnTo>
                  <a:pt x="1400" y="1400"/>
                </a:lnTo>
                <a:close/>
              </a:path>
              <a:path fill="darken" w="59205" h="21600">
                <a:moveTo>
                  <a:pt x="59205" y="0"/>
                </a:moveTo>
                <a:lnTo>
                  <a:pt x="59205" y="21600"/>
                </a:lnTo>
                <a:lnTo>
                  <a:pt x="57805" y="20200"/>
                </a:lnTo>
                <a:lnTo>
                  <a:pt x="57805" y="1400"/>
                </a:lnTo>
                <a:close/>
              </a:path>
              <a:path fill="darkenLess" w="59205" h="21600">
                <a:moveTo>
                  <a:pt x="5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05" y="20200"/>
                </a:lnTo>
                <a:close/>
              </a:path>
              <a:path fill="lighten" w="5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205" h="21600">
                <a:moveTo>
                  <a:pt x="22596" y="3794"/>
                </a:moveTo>
                <a:lnTo>
                  <a:pt x="36609" y="10800"/>
                </a:lnTo>
                <a:lnTo>
                  <a:pt x="22596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2843280" y="306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2843280" y="429264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3" h="21600">
                <a:moveTo>
                  <a:pt x="18905" y="3794"/>
                </a:moveTo>
                <a:lnTo>
                  <a:pt x="32918" y="10800"/>
                </a:lnTo>
                <a:lnTo>
                  <a:pt x="18905" y="17806"/>
                </a:lnTo>
                <a:close/>
              </a:path>
            </a:pathLst>
          </a:cu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49179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еристые облака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681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жаркий день на небе ч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еряли перья 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, а может и не 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же это, объяс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3527280" cy="403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65611" t="64350" r="9683" b="10677"/>
          <a:stretch/>
        </p:blipFill>
        <p:spPr>
          <a:xfrm rot="16735200">
            <a:off x="7028280" y="324360"/>
            <a:ext cx="755640" cy="772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65611" t="64350" r="9683" b="10677"/>
          <a:stretch/>
        </p:blipFill>
        <p:spPr>
          <a:xfrm rot="16735200">
            <a:off x="1843560" y="5507640"/>
            <a:ext cx="75564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4:56:24Z</dcterms:created>
  <dc:creator>117-9</dc:creator>
  <dc:description/>
  <dc:language>en-US</dc:language>
  <cp:lastModifiedBy>Елена Федоровна</cp:lastModifiedBy>
  <dcterms:modified xsi:type="dcterms:W3CDTF">2009-04-28T08:27:55Z</dcterms:modified>
  <cp:revision>21</cp:revision>
  <dc:subject/>
  <dc:title>Облака</dc:title>
</cp:coreProperties>
</file>