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1.jpeg" ContentType="image/jpeg"/>
  <Override PartName="/ppt/media/image29.wmf" ContentType="image/x-wmf"/>
  <Override PartName="/ppt/media/image27.jpeg" ContentType="image/jpeg"/>
  <Override PartName="/ppt/media/image6.jpeg" ContentType="image/jpeg"/>
  <Override PartName="/ppt/media/image30.wmf" ContentType="image/x-wmf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2.gif" ContentType="image/gif"/>
  <Override PartName="/ppt/media/image15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342-72FD-48A9-832F-63FF5208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D54-4152-4CF1-8991-6727B58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D5C-727E-4B32-83AD-C76DC915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24E-2742-4F1D-B7CB-9120481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D4DD-7C6C-4898-AAF5-9D71AA15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E444-BA27-4568-8820-F2B6E17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4E2-7F7E-4964-80AB-64B41C0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860-DD73-41F2-9AF5-935938D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1D51-99AC-43FD-8B08-2D5BF5A3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514C-3364-4A20-A87A-67C498F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F9F6-BC73-41FA-87D7-A8191D7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A5B-7A0E-46C2-9560-DC75BF2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9FF-D6C2-4109-903D-0C43E795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18D-058E-467D-A30F-0AAB280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51D0-EDB6-4623-8D9F-7688E45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DD8-3F2F-4135-93B9-5E0824AA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80BB-314E-40E7-A985-911E7AB2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DB0-BB88-42AC-811D-7AFA964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BE9-5F56-4217-942C-6DAA782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2ED-BBF5-41C9-A3BA-5F0F72A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319-39D6-4C12-9F64-4ABE6BC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BAE-0B90-4DB9-8647-E922238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767-D324-4123-A570-2AE214E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B0C-221D-42EC-A081-3D7469B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C70-D8CE-4C25-B660-961B8EB6A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18F8-F527-4553-8512-CC26458D1A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2.gif"/><Relationship Id="rId4" Type="http://schemas.openxmlformats.org/officeDocument/2006/relationships/image" Target="../media/image24.wm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2.gi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23.xml"/><Relationship Id="rId7" Type="http://schemas.openxmlformats.org/officeDocument/2006/relationships/image" Target="../media/image10.jpeg"/><Relationship Id="rId8" Type="http://schemas.openxmlformats.org/officeDocument/2006/relationships/slide" Target="slide5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248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472"/>
                </a:solidFill>
                <a:latin typeface="Comic Sans MS"/>
              </a:rPr>
              <a:t>ОБЛАКА</a:t>
            </a:r>
            <a:br>
              <a:rPr sz="6000"/>
            </a:br>
            <a:endParaRPr b="0" lang="en-US" sz="6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4032360" cy="489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3672000" cy="387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53737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5324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Панфилова Оксана</a:t>
            </a:r>
            <a:br>
              <a:rPr sz="1800"/>
            </a:b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6 класс</a:t>
            </a:r>
            <a:br>
              <a:rPr sz="1800"/>
            </a:b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МОУ Шуньг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49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Похожи на белые волокна или пе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335772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17692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стые облака (Cirrus) встречаются на выс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6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км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еговые облака. Они предвещают из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ы .Состоят из кристалликов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69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5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Слоист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396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ка - веселые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ят рожицы и машут с выс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ают на голову дождин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в ответ им улыбнулся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49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а образования слоистых облаков не  более 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970680" cy="3549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5661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ист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 облака серого цвета слоем или наслоениями. Занимают обширные районы, часто блокируя солнечный св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72320" cy="6429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549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ee2"/>
                </a:solidFill>
                <a:latin typeface="Arial"/>
              </a:rPr>
              <a:t>Слоисто-дождев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3456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208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учев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8386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мурится на небе т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ёзы капают из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гадайте, что за шт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блако 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25880" cy="43196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7812000" y="6237360"/>
            <a:ext cx="792360" cy="21600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40" h="21600">
                <a:moveTo>
                  <a:pt x="0" y="0"/>
                </a:moveTo>
                <a:lnTo>
                  <a:pt x="79140" y="0"/>
                </a:lnTo>
                <a:lnTo>
                  <a:pt x="79140" y="21600"/>
                </a:lnTo>
                <a:lnTo>
                  <a:pt x="0" y="21600"/>
                </a:lnTo>
                <a:close/>
              </a:path>
              <a:path fill="lightenLess" w="79140" h="21600">
                <a:moveTo>
                  <a:pt x="0" y="0"/>
                </a:moveTo>
                <a:lnTo>
                  <a:pt x="79140" y="0"/>
                </a:lnTo>
                <a:lnTo>
                  <a:pt x="77740" y="1400"/>
                </a:lnTo>
                <a:lnTo>
                  <a:pt x="1400" y="1400"/>
                </a:lnTo>
                <a:close/>
              </a:path>
              <a:path fill="darken" w="79140" h="21600">
                <a:moveTo>
                  <a:pt x="79140" y="0"/>
                </a:moveTo>
                <a:lnTo>
                  <a:pt x="79140" y="21600"/>
                </a:lnTo>
                <a:lnTo>
                  <a:pt x="77740" y="20200"/>
                </a:lnTo>
                <a:lnTo>
                  <a:pt x="77740" y="1400"/>
                </a:lnTo>
                <a:close/>
              </a:path>
              <a:path fill="darkenLess" w="79140" h="21600">
                <a:moveTo>
                  <a:pt x="7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0" y="20200"/>
                </a:lnTo>
                <a:close/>
              </a:path>
              <a:path fill="lighten" w="7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40" h="21600">
                <a:moveTo>
                  <a:pt x="32564" y="10800"/>
                </a:moveTo>
                <a:lnTo>
                  <a:pt x="46577" y="3794"/>
                </a:lnTo>
                <a:lnTo>
                  <a:pt x="46577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763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чев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отдельные облака с вершинами на разных уровнях. Они могут быть маленькими или огромными, если развиваются в грозов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2698560" cy="359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3456000" cy="328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2195640" cy="219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1764000" cy="167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596360" y="1413000"/>
            <a:ext cx="1763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1317600"/>
            <a:ext cx="7561440" cy="521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189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-направо показано схематическое изображение процесса образования кучевого облака. Красные стрелки - процесс образования «кучи» над плоским основанием обл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905440" cy="6527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659640" y="549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Кучево- дождевые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492280"/>
            <a:ext cx="20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Основание темное, кажется, что оно готово брызнуть дож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448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48258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198880" cy="2565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3456000" cy="2630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4572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24364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6357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Предсказание погоды по облакам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50920" y="630864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63800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Утром облака в виде гор - к вечеру жди дожд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Красные облака до восхода солнца - к ветр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уча до восхода солнца - к дождю. 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Низко и быстро идущие облака - к затяжному дождю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Облако стоит высоко - к хорошей погоде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еером перистые облака на западе - к ненастью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Оказывается, если дождевая туча шумит, будет град или сильный дождь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88000" y="-243000"/>
            <a:ext cx="280044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1971720" cy="15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732720" y="2781360"/>
            <a:ext cx="2158920" cy="1555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093080" y="4951440"/>
            <a:ext cx="1908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1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216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 какие это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3671640" cy="273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26360" y="4529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чев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800" y="2349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ст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01640" y="546588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ист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028000" y="6453360"/>
            <a:ext cx="720720" cy="21564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2108" h="21600">
                <a:moveTo>
                  <a:pt x="0" y="0"/>
                </a:moveTo>
                <a:lnTo>
                  <a:pt x="72108" y="0"/>
                </a:lnTo>
                <a:lnTo>
                  <a:pt x="72108" y="21600"/>
                </a:lnTo>
                <a:lnTo>
                  <a:pt x="0" y="21600"/>
                </a:lnTo>
                <a:close/>
              </a:path>
              <a:path fill="lightenLess" w="72108" h="21600">
                <a:moveTo>
                  <a:pt x="0" y="0"/>
                </a:moveTo>
                <a:lnTo>
                  <a:pt x="72108" y="0"/>
                </a:lnTo>
                <a:lnTo>
                  <a:pt x="70708" y="1400"/>
                </a:lnTo>
                <a:lnTo>
                  <a:pt x="1400" y="1400"/>
                </a:lnTo>
                <a:close/>
              </a:path>
              <a:path fill="darken" w="72108" h="21600">
                <a:moveTo>
                  <a:pt x="72108" y="0"/>
                </a:moveTo>
                <a:lnTo>
                  <a:pt x="72108" y="21600"/>
                </a:lnTo>
                <a:lnTo>
                  <a:pt x="70708" y="20200"/>
                </a:lnTo>
                <a:lnTo>
                  <a:pt x="70708" y="1400"/>
                </a:lnTo>
                <a:close/>
              </a:path>
              <a:path fill="darkenLess" w="72108" h="21600">
                <a:moveTo>
                  <a:pt x="72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708" y="20200"/>
                </a:lnTo>
                <a:close/>
              </a:path>
              <a:path fill="lighten" w="72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108" h="21600">
                <a:moveTo>
                  <a:pt x="29048" y="10800"/>
                </a:moveTo>
                <a:lnTo>
                  <a:pt x="43060" y="3794"/>
                </a:lnTo>
                <a:lnTo>
                  <a:pt x="43060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86720" y="42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263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207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38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разование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ипы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меты по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2449440" cy="143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280800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4284720" y="1844640"/>
            <a:ext cx="1079280" cy="289080"/>
          </a:xfrm>
          <a:custGeom>
            <a:avLst/>
            <a:gdLst>
              <a:gd name="textAreaLeft" fmla="*/ 18720 w 1079280"/>
              <a:gd name="textAreaRight" fmla="*/ 1060560 w 107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0570" h="21600">
                <a:moveTo>
                  <a:pt x="0" y="0"/>
                </a:moveTo>
                <a:lnTo>
                  <a:pt x="80570" y="0"/>
                </a:lnTo>
                <a:lnTo>
                  <a:pt x="80570" y="21600"/>
                </a:lnTo>
                <a:lnTo>
                  <a:pt x="0" y="21600"/>
                </a:lnTo>
                <a:close/>
              </a:path>
              <a:path fill="lightenLess" w="80570" h="21600">
                <a:moveTo>
                  <a:pt x="0" y="0"/>
                </a:moveTo>
                <a:lnTo>
                  <a:pt x="80570" y="0"/>
                </a:lnTo>
                <a:lnTo>
                  <a:pt x="79170" y="1400"/>
                </a:lnTo>
                <a:lnTo>
                  <a:pt x="1400" y="1400"/>
                </a:lnTo>
                <a:close/>
              </a:path>
              <a:path fill="darken" w="80570" h="21600">
                <a:moveTo>
                  <a:pt x="80570" y="0"/>
                </a:moveTo>
                <a:lnTo>
                  <a:pt x="80570" y="21600"/>
                </a:lnTo>
                <a:lnTo>
                  <a:pt x="79170" y="20200"/>
                </a:lnTo>
                <a:lnTo>
                  <a:pt x="79170" y="1400"/>
                </a:lnTo>
                <a:close/>
              </a:path>
              <a:path fill="darkenLess" w="80570" h="21600">
                <a:moveTo>
                  <a:pt x="80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70" y="20200"/>
                </a:lnTo>
                <a:close/>
              </a:path>
              <a:path fill="lighten" w="80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140360" y="342900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2700360" y="522936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572000" y="4437000"/>
            <a:ext cx="4176720" cy="22748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4284720" y="2565360"/>
            <a:ext cx="1079280" cy="287280"/>
          </a:xfrm>
          <a:custGeom>
            <a:avLst/>
            <a:gdLst>
              <a:gd name="textAreaLeft" fmla="*/ 18360 w 1079280"/>
              <a:gd name="textAreaRight" fmla="*/ 1060920 w 107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1074" h="21600">
                <a:moveTo>
                  <a:pt x="0" y="0"/>
                </a:moveTo>
                <a:lnTo>
                  <a:pt x="81074" y="0"/>
                </a:lnTo>
                <a:lnTo>
                  <a:pt x="81074" y="21600"/>
                </a:lnTo>
                <a:lnTo>
                  <a:pt x="0" y="21600"/>
                </a:lnTo>
                <a:close/>
              </a:path>
              <a:path fill="lightenLess" w="81074" h="21600">
                <a:moveTo>
                  <a:pt x="0" y="0"/>
                </a:moveTo>
                <a:lnTo>
                  <a:pt x="81074" y="0"/>
                </a:lnTo>
                <a:lnTo>
                  <a:pt x="79674" y="1400"/>
                </a:lnTo>
                <a:lnTo>
                  <a:pt x="1400" y="1400"/>
                </a:lnTo>
                <a:close/>
              </a:path>
              <a:path fill="darken" w="81074" h="21600">
                <a:moveTo>
                  <a:pt x="81074" y="0"/>
                </a:moveTo>
                <a:lnTo>
                  <a:pt x="81074" y="21600"/>
                </a:lnTo>
                <a:lnTo>
                  <a:pt x="79674" y="20200"/>
                </a:lnTo>
                <a:lnTo>
                  <a:pt x="79674" y="1400"/>
                </a:lnTo>
                <a:close/>
              </a:path>
              <a:path fill="darkenLess" w="81074" h="21600">
                <a:moveTo>
                  <a:pt x="81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674" y="20200"/>
                </a:lnTo>
                <a:close/>
              </a:path>
              <a:path fill="lighten" w="81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9" action="ppaction://hlinksldjump"/>
          </p:cNvPr>
          <p:cNvSpPr/>
          <p:nvPr/>
        </p:nvSpPr>
        <p:spPr>
          <a:xfrm>
            <a:off x="3132000" y="4221000"/>
            <a:ext cx="1224000" cy="287640"/>
          </a:xfrm>
          <a:custGeom>
            <a:avLst/>
            <a:gdLst>
              <a:gd name="textAreaLeft" fmla="*/ 18360 w 1224000"/>
              <a:gd name="textAreaRight" fmla="*/ 1205640 w 1224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91827" h="21600">
                <a:moveTo>
                  <a:pt x="0" y="0"/>
                </a:moveTo>
                <a:lnTo>
                  <a:pt x="91827" y="0"/>
                </a:lnTo>
                <a:lnTo>
                  <a:pt x="91827" y="21600"/>
                </a:lnTo>
                <a:lnTo>
                  <a:pt x="0" y="21600"/>
                </a:lnTo>
                <a:close/>
              </a:path>
              <a:path fill="lightenLess" w="91827" h="21600">
                <a:moveTo>
                  <a:pt x="0" y="0"/>
                </a:moveTo>
                <a:lnTo>
                  <a:pt x="91827" y="0"/>
                </a:lnTo>
                <a:lnTo>
                  <a:pt x="90427" y="1400"/>
                </a:lnTo>
                <a:lnTo>
                  <a:pt x="1400" y="1400"/>
                </a:lnTo>
                <a:close/>
              </a:path>
              <a:path fill="darken" w="91827" h="21600">
                <a:moveTo>
                  <a:pt x="91827" y="0"/>
                </a:moveTo>
                <a:lnTo>
                  <a:pt x="91827" y="21600"/>
                </a:lnTo>
                <a:lnTo>
                  <a:pt x="90427" y="20200"/>
                </a:lnTo>
                <a:lnTo>
                  <a:pt x="90427" y="1400"/>
                </a:lnTo>
                <a:close/>
              </a:path>
              <a:path fill="darkenLess" w="91827" h="21600">
                <a:moveTo>
                  <a:pt x="9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27" y="20200"/>
                </a:lnTo>
                <a:close/>
              </a:path>
              <a:path fill="lighten" w="9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48466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2781000"/>
            <a:ext cx="7799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копление взвешенных в атмосфере капелек воды и кристаллов льда, появляющихся в результате поднимающихся с земли паров воды и конденсирующихся при охлаждении ввер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311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5638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Образование облаков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390996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ышине облака велич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роздя океаны неб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лнце в ярких кудряшках игр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лед верхушками машет им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 плывите за дальние д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мотреть, как Земля хорош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рассвет и закаты си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лестит ранним утром 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809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026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870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Типы облаков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326232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ст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ист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чев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916360" y="191628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36609" y="10800"/>
                </a:lnTo>
                <a:lnTo>
                  <a:pt x="22596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2843280" y="306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2843280" y="4292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3794"/>
                </a:moveTo>
                <a:lnTo>
                  <a:pt x="32918" y="10800"/>
                </a:lnTo>
                <a:lnTo>
                  <a:pt x="18905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49179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аркий день на небе ч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яли перья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, а может и не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же это, объяс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527280" cy="403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5611" t="64350" r="9683" b="10677"/>
          <a:stretch/>
        </p:blipFill>
        <p:spPr>
          <a:xfrm rot="16735200">
            <a:off x="7028280" y="324360"/>
            <a:ext cx="755640" cy="772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65611" t="64350" r="9683" b="10677"/>
          <a:stretch/>
        </p:blipFill>
        <p:spPr>
          <a:xfrm rot="16735200">
            <a:off x="1843560" y="5507640"/>
            <a:ext cx="75564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4:56:24Z</dcterms:created>
  <dc:creator>117-9</dc:creator>
  <dc:description/>
  <dc:language>en-US</dc:language>
  <cp:lastModifiedBy>Елена Федоровна</cp:lastModifiedBy>
  <dcterms:modified xsi:type="dcterms:W3CDTF">2009-04-28T08:27:55Z</dcterms:modified>
  <cp:revision>21</cp:revision>
  <dc:subject/>
  <dc:title>Облака</dc:title>
</cp:coreProperties>
</file>