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D1A-3273-4B2C-85FD-79564019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55B-E2AD-434E-9E38-2DCF157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B9B-1C7A-4C70-870E-9B7DDC9A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CFA-26AD-4E32-8AFD-F461D0FE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8EE-58A6-42E4-B738-355CF2AE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138-CB2F-4836-AF24-AEED23A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231-CB27-4297-8172-7109A0E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200-F738-4E58-8875-C3FD266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324-55EB-4FD3-BF48-5890C373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79D-E433-4EE7-807D-3D957C0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3AC-D242-4AFF-8652-0188A9FF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A0F-91BA-4A03-8F72-BBF9340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53C-9816-46C7-8446-771A16592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omantic-online.com/uploads/users_images/1/580/4a644bdde9e0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6626"/>
                </a:solidFill>
                <a:latin typeface="Calibri"/>
              </a:rPr>
              <a:t>Оформление готовых блюд</a:t>
            </a:r>
            <a:br>
              <a:rPr sz="4400"/>
            </a:br>
            <a:r>
              <a:rPr b="1" lang="ru-RU" sz="4400" spc="-1" strike="noStrike">
                <a:solidFill>
                  <a:srgbClr val="066626"/>
                </a:solidFill>
                <a:latin typeface="Calibri"/>
              </a:rPr>
              <a:t>(КАРВИНГ</a:t>
            </a:r>
            <a:r>
              <a:rPr b="0" lang="ru-RU" sz="4400" spc="-1" strike="noStrike">
                <a:solidFill>
                  <a:srgbClr val="066626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7152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оставила учитель С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школы- интерната №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. о. Тольят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.В.Иванов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F8nONMaAyss[1].jpg"/>
          <p:cNvPicPr/>
          <p:nvPr/>
        </p:nvPicPr>
        <p:blipFill>
          <a:blip r:embed="rId1"/>
          <a:stretch/>
        </p:blipFill>
        <p:spPr>
          <a:xfrm>
            <a:off x="1071720" y="357120"/>
            <a:ext cx="7143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63850782_rozaprimer00[1].jpg"/>
          <p:cNvPicPr/>
          <p:nvPr/>
        </p:nvPicPr>
        <p:blipFill>
          <a:blip r:embed="rId1"/>
          <a:stretch/>
        </p:blipFill>
        <p:spPr>
          <a:xfrm>
            <a:off x="857160" y="357120"/>
            <a:ext cx="7500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75461039_3_644x461_servirovka-stola-i-oformlenie-blyud-prochie-uslugi[1].jpg"/>
          <p:cNvPicPr/>
          <p:nvPr/>
        </p:nvPicPr>
        <p:blipFill>
          <a:blip r:embed="rId1"/>
          <a:stretch/>
        </p:blipFill>
        <p:spPr>
          <a:xfrm>
            <a:off x="857160" y="285840"/>
            <a:ext cx="7500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go4.imgsmail.ru/imgpreview?key=http%3A//supercook.ru/food-art/images-food-art/fa-046.jpg&amp;mb=imgdb_preview_80"/>
          <p:cNvPicPr/>
          <p:nvPr/>
        </p:nvPicPr>
        <p:blipFill>
          <a:blip r:embed="rId1"/>
          <a:stretch/>
        </p:blipFill>
        <p:spPr>
          <a:xfrm>
            <a:off x="1071720" y="428760"/>
            <a:ext cx="71434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go3.imgsmail.ru/imgpreview?key=http%3A//supercook.ru/images-curving/ogurec-bantik-00-a.jpg&amp;mb=imgdb_preview_80"/>
          <p:cNvPicPr/>
          <p:nvPr/>
        </p:nvPicPr>
        <p:blipFill>
          <a:blip r:embed="rId1"/>
          <a:stretch/>
        </p:blipFill>
        <p:spPr>
          <a:xfrm>
            <a:off x="928800" y="428760"/>
            <a:ext cx="7286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go3.imgsmail.ru/imgpreview?key=http%3A//supercook.ru/food-art/images-food-art/fa-047.jpg&amp;mb=imgdb_preview_80"/>
          <p:cNvPicPr/>
          <p:nvPr/>
        </p:nvPicPr>
        <p:blipFill>
          <a:blip r:embed="rId1"/>
          <a:stretch/>
        </p:blipFill>
        <p:spPr>
          <a:xfrm>
            <a:off x="1071720" y="642960"/>
            <a:ext cx="6929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supercook.ru/decoration/images-decoration/palitra-kul-01.jpg"/>
          <p:cNvPicPr/>
          <p:nvPr/>
        </p:nvPicPr>
        <p:blipFill>
          <a:blip r:embed="rId1"/>
          <a:stretch/>
        </p:blipFill>
        <p:spPr>
          <a:xfrm>
            <a:off x="1214280" y="642960"/>
            <a:ext cx="71438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upercook.ru/images-curving/carv-flowers-13-b.jpg"/>
          <p:cNvPicPr/>
          <p:nvPr/>
        </p:nvPicPr>
        <p:blipFill>
          <a:blip r:embed="rId1"/>
          <a:stretch/>
        </p:blipFill>
        <p:spPr>
          <a:xfrm>
            <a:off x="1643040" y="214200"/>
            <a:ext cx="5715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go2.imgsmail.ru/imgpreview?key=http%3A//supercook.ru/images-curving/carv-flowers-03-b.jpg&amp;mb=imgdb_preview_80"/>
          <p:cNvPicPr/>
          <p:nvPr/>
        </p:nvPicPr>
        <p:blipFill>
          <a:blip r:embed="rId1"/>
          <a:stretch/>
        </p:blipFill>
        <p:spPr>
          <a:xfrm>
            <a:off x="2071800" y="5000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Практическая рабо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 u="sng">
                <a:solidFill>
                  <a:srgbClr val="92d050"/>
                </a:solidFill>
                <a:uFillTx/>
                <a:latin typeface="Calibri"/>
              </a:rPr>
              <a:t>Карвинг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</a:t>
            </a:r>
            <a:r>
              <a:rPr b="0" lang="ru-RU" sz="6000" spc="-1" strike="noStrike">
                <a:solidFill>
                  <a:srgbClr val="558ed5"/>
                </a:solidFill>
                <a:latin typeface="Calibri"/>
              </a:rPr>
              <a:t>фигурная резка по      овощам и фрукта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Листочек из огурца (карвинг): украшение стол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7143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2428920"/>
            <a:ext cx="7143840" cy="2857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изготовления такого фигурного листочка кроме огурца можно использовать еще и цуккини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3214800"/>
            <a:ext cx="678636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ы наш листочек был красивой формы, отрезаем от огурца  удлиненный нетолстый ломт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2071800" y="2428920"/>
            <a:ext cx="6000480" cy="2928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 отрезанного ломтика огурца с другой сторо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000080" y="1928880"/>
            <a:ext cx="7643880" cy="3714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лее делаем два продольных неглубоких выр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643040" y="2428920"/>
            <a:ext cx="6643800" cy="3143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тем делаем поперечные вырезы, начиная от вырезов продольных, поочередно с обеих сторо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листочек из огурца (карвинг)"/>
          <p:cNvPicPr/>
          <p:nvPr/>
        </p:nvPicPr>
        <p:blipFill>
          <a:blip r:embed="rId1"/>
          <a:stretch/>
        </p:blipFill>
        <p:spPr>
          <a:xfrm>
            <a:off x="1285920" y="2500200"/>
            <a:ext cx="6858000" cy="3071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перь делаем по краю листочка из огурца декоративные выре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Листочек из огурца (карвинг): украшение стола"/>
          <p:cNvPicPr/>
          <p:nvPr/>
        </p:nvPicPr>
        <p:blipFill>
          <a:blip r:embed="rId1"/>
          <a:stretch/>
        </p:blipFill>
        <p:spPr>
          <a:xfrm>
            <a:off x="1071720" y="2500200"/>
            <a:ext cx="6929280" cy="2714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т и все!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сточек из огур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гот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42960" y="571680"/>
            <a:ext cx="7358040" cy="61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558ed5"/>
                </a:solidFill>
                <a:latin typeface="Arial"/>
              </a:rPr>
              <a:t>Практические сов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ковь должна быть одно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ередина не должна быть переспелой и отслаивающейся), размер от среднего до большого. Резать ее легче подвядшей, но свежесть ее легко восстанавливается в ледяной воде. Если есть возможность – купите ее за 3-4 дня до работы и храните в теплом месте. В некоторых случаях нужна мягкая морковь. Для этого замочите ее на 1,5 – 2 часа в 40% раствор с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400 грамм соли на литр воды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3373560" y="44892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ОК ИЗ МОРК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_2914" descr="http://saechka.ru/upload/iblock/555/003a.jpg"/>
          <p:cNvPicPr/>
          <p:nvPr/>
        </p:nvPicPr>
        <p:blipFill>
          <a:blip r:embed="rId1"/>
          <a:stretch/>
        </p:blipFill>
        <p:spPr>
          <a:xfrm>
            <a:off x="1187280" y="907920"/>
            <a:ext cx="360072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Карвинг Цветок из моркови"/>
          <p:cNvPicPr/>
          <p:nvPr/>
        </p:nvPicPr>
        <p:blipFill>
          <a:blip r:embed="rId2"/>
          <a:stretch/>
        </p:blipFill>
        <p:spPr>
          <a:xfrm>
            <a:off x="1187280" y="3789360"/>
            <a:ext cx="3635640" cy="2714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5292720" y="4437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им морков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УКРАШЕНИЕ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ПЕРВЫХ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БЛЮ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Цветок из моркови"/>
          <p:cNvPicPr/>
          <p:nvPr/>
        </p:nvPicPr>
        <p:blipFill>
          <a:blip r:embed="rId1"/>
          <a:stretch/>
        </p:blipFill>
        <p:spPr>
          <a:xfrm>
            <a:off x="1116000" y="387360"/>
            <a:ext cx="3878280" cy="290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580000" y="620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м заготовку с равномерными борозд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Цветок из моркови"/>
          <p:cNvPicPr/>
          <p:nvPr/>
        </p:nvPicPr>
        <p:blipFill>
          <a:blip r:embed="rId2"/>
          <a:stretch/>
        </p:blipFill>
        <p:spPr>
          <a:xfrm>
            <a:off x="1116000" y="3529080"/>
            <a:ext cx="3887640" cy="2900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5364000" y="422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заготовку на кружочки - лепест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Цветок из моркови"/>
          <p:cNvPicPr/>
          <p:nvPr/>
        </p:nvPicPr>
        <p:blipFill>
          <a:blip r:embed="rId3"/>
          <a:stretch/>
        </p:blipFill>
        <p:spPr>
          <a:xfrm>
            <a:off x="1000080" y="357120"/>
            <a:ext cx="3878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5" descr="Цветок из моркови, карвинг"/>
          <p:cNvPicPr/>
          <p:nvPr/>
        </p:nvPicPr>
        <p:blipFill>
          <a:blip r:embed="rId1"/>
          <a:stretch/>
        </p:blipFill>
        <p:spPr>
          <a:xfrm>
            <a:off x="1258920" y="549360"/>
            <a:ext cx="3564000" cy="2658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940360" y="692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ть заготовку округлой формы для основы цвет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Цветок из моркови, karving"/>
          <p:cNvPicPr/>
          <p:nvPr/>
        </p:nvPicPr>
        <p:blipFill>
          <a:blip r:embed="rId2"/>
          <a:stretch/>
        </p:blipFill>
        <p:spPr>
          <a:xfrm>
            <a:off x="1258920" y="3500280"/>
            <a:ext cx="3529080" cy="2635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796000" y="39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у на основе цветка наносим узор мелкой клет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7" descr="karving"/>
          <p:cNvPicPr/>
          <p:nvPr/>
        </p:nvPicPr>
        <p:blipFill>
          <a:blip r:embed="rId1"/>
          <a:stretch/>
        </p:blipFill>
        <p:spPr>
          <a:xfrm>
            <a:off x="1116000" y="549360"/>
            <a:ext cx="3816360" cy="2846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64000" y="54936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бокам основы делаем в шахматном порядке толстые и глубокие прорези для крепления в них лепестк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Морковный цветок, karving"/>
          <p:cNvPicPr/>
          <p:nvPr/>
        </p:nvPicPr>
        <p:blipFill>
          <a:blip r:embed="rId2"/>
          <a:stretch/>
        </p:blipFill>
        <p:spPr>
          <a:xfrm>
            <a:off x="1187280" y="3573360"/>
            <a:ext cx="3780000" cy="2822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508720" y="400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им лепестки и украшаем цен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go.mail.ru/imgpreview?key=http%3A//allthatfood.ru/images/su/sup-iz-seldereya003.jpg&amp;mb=imgdb_preview_77&amp;q=90&amp;w=134"/>
          <p:cNvPicPr/>
          <p:nvPr/>
        </p:nvPicPr>
        <p:blipFill>
          <a:blip r:embed="rId1"/>
          <a:stretch/>
        </p:blipFill>
        <p:spPr>
          <a:xfrm>
            <a:off x="1071720" y="100008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o.mail.ru/imgpreview?key=http%3A//vkusnoe.info/uploads/posts/2011-02/1298638952%5F228.jpg&amp;mb=imgdb_preview_45&amp;q=90&amp;w=134"/>
          <p:cNvPicPr/>
          <p:nvPr/>
        </p:nvPicPr>
        <p:blipFill>
          <a:blip r:embed="rId1"/>
          <a:stretch/>
        </p:blipFill>
        <p:spPr>
          <a:xfrm>
            <a:off x="1357200" y="1000080"/>
            <a:ext cx="6643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ОФОРМЛЕНИЕ </a:t>
            </a:r>
            <a:br>
              <a:rPr sz="7200"/>
            </a:b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ВТОРЫХ БЛЮД </a:t>
            </a:r>
            <a:br>
              <a:rPr sz="7200"/>
            </a:br>
            <a:r>
              <a:rPr b="1" lang="ru-RU" sz="7200" spc="-1" strike="noStrike">
                <a:solidFill>
                  <a:srgbClr val="00b0f0"/>
                </a:solidFill>
                <a:latin typeface="Calibri"/>
              </a:rPr>
              <a:t>И САЛАТ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timthumb[1]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rozy_iz_ovoschej[1].jpg"/>
          <p:cNvPicPr/>
          <p:nvPr/>
        </p:nvPicPr>
        <p:blipFill>
          <a:blip r:embed="rId1"/>
          <a:stretch/>
        </p:blipFill>
        <p:spPr>
          <a:xfrm>
            <a:off x="500040" y="50004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1vfJQcFSEBQ[1].jpg"/>
          <p:cNvPicPr/>
          <p:nvPr/>
        </p:nvPicPr>
        <p:blipFill>
          <a:blip r:embed="rId1"/>
          <a:stretch/>
        </p:blipFill>
        <p:spPr>
          <a:xfrm>
            <a:off x="2286000" y="214200"/>
            <a:ext cx="4626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07:17Z</dcterms:created>
  <dc:creator>User</dc:creator>
  <dc:description/>
  <dc:language>en-US</dc:language>
  <cp:lastModifiedBy>User</cp:lastModifiedBy>
  <dcterms:modified xsi:type="dcterms:W3CDTF">2013-01-27T08:58:59Z</dcterms:modified>
  <cp:revision>17</cp:revision>
  <dc:subject/>
  <dc:title>Оформление готовых блюд</dc:title>
</cp:coreProperties>
</file>