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6B8-82F2-408E-BF73-04983214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729-2402-44B6-977F-E09EECEA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A94-9B42-4CBC-BAB8-3E5F339B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539-CD3A-4843-9648-134F0C29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A434-D070-4024-8D79-FDB15712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1780-55CD-46D9-A88E-80A14DE6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C097-8DF0-4736-BA3D-C7E5A0A5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8760-E99E-417C-823C-C9BF7C04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58FB-B398-450D-85D0-89D5C23D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8710-4AEF-4E89-B1C0-7F8BCFBC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3A59-ACF7-4323-8797-FD439FCA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ADD-BBC4-4226-BEF9-3B8812CA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0AF3-6AC0-44C4-BFA0-AE8F3A8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625E-053E-4F64-9C04-76CE2251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E6EC-9260-4207-AC8D-87D12B93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C3C9-5E25-430E-A385-ED11D9A2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F2ED-7A2D-487D-B485-B24EE8D8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79B6-8E5D-4DD4-8D41-57230337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0EDD-EA7E-4F69-811E-DA14E2FC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F8D1B-5893-4E73-9AF8-E7558CAC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DBC93-1E2A-4F5C-A6F4-FA287956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9F59-C697-4308-8C30-4724D0EE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E41-CBD7-4429-B5B5-538389B1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60D8-FF4A-488B-B7A5-0F5939FD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FBAA-A701-41F0-915E-1A637DBF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7ED2-9D67-4F01-A818-D907555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14DD-432D-42AD-BCA7-CDB8BEFC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23E4-D2C7-4432-BBA4-0A87A723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EA53-D1B3-4A15-B51B-533BB215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C32F4-62A6-4450-9C51-C9E23E83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B0B7-E0EB-4E76-B608-586A6D11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A5B5-31DD-467E-B62A-18D45EFE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1FAB9-0488-4B8C-8960-2C2BD4F3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AE5-EF9C-4B2C-8778-03FCAE2C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15DAC-8BC6-4139-B2D2-F8030FBE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D09D9-61E7-4A8E-8AB7-4AD4C1A2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3942-35A8-45BA-9D2F-A41DD127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8F9A6-BF31-4A49-976A-7BAB335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05AA4-A591-42E5-A51A-D8770C07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4F28-EEAC-4654-9FFE-FDCA477B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23F70-D4F4-462A-BCE5-8E39C530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918A-2A4E-4295-AD45-40F402CF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8726-DA3F-4A0D-9CB9-6321CF8D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71728-D562-4597-A7DC-579FF1DA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18A-BBA7-4B55-856A-6B95AE14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F5890-20DB-49F5-9495-91337999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6528-2D6A-4244-88B1-760325ED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D15CA-1B99-418C-ADA8-C393E70C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0B464-1A1A-4564-84CD-7820F259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3784A-61C3-44CE-AEBC-79A9C634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0AF4-CB72-429F-B388-A80A91F4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05E21-D45D-4075-A8C5-56EE1D47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EEF6A-52B8-4DE1-89C7-5A568339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8FF40-B6F7-4280-A29E-CD2B9FB0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E1D73-4AFD-4873-8C8D-5B91401E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6C1-B9D9-4F3F-922F-D68D56C4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50714-5BF6-460D-8D66-AA21EBEB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60D-25A8-4747-A533-BD595C62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9A4-D2F9-4947-8883-E1A14F18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54E7-A13C-4496-99C8-79D6881F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0167-F00E-4475-9E90-1E194740E7F6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D6C1-C387-4053-AD91-BFFFE4329728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FC15-FFB4-4442-8E15-D162DEDD9BFA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3917-F68A-4347-9BEA-BB870CD07965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91B6-7E26-43B1-8670-EAED014C367D}" type="slidenum">
              <a:rPr b="0" lang="ru-RU" sz="1000" spc="-1" strike="noStrike">
                <a:solidFill>
                  <a:srgbClr val="938e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6429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Verdana"/>
              </a:rPr>
              <a:t>Основные методы селекции растений и животных</a:t>
            </a:r>
            <a:endParaRPr b="1" lang="en-US" sz="54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85880" y="4071960"/>
            <a:ext cx="7772400" cy="455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11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Учител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.Б. Лоб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214280" y="78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1143000" y="642960"/>
            <a:ext cx="67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857160" y="64296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1"/>
          <p:cNvSpPr/>
          <p:nvPr/>
        </p:nvSpPr>
        <p:spPr>
          <a:xfrm>
            <a:off x="1714680" y="785880"/>
            <a:ext cx="67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1"/>
          <p:cNvSpPr/>
          <p:nvPr/>
        </p:nvSpPr>
        <p:spPr>
          <a:xfrm>
            <a:off x="1143000" y="928800"/>
            <a:ext cx="657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43466"/>
                </a:solidFill>
                <a:uFillTx/>
                <a:latin typeface="Verdana"/>
              </a:rPr>
              <a:t>Цель урока</a:t>
            </a:r>
            <a:r>
              <a:rPr b="1" i="1" lang="ru-RU" sz="3200" spc="-1" strike="noStrike">
                <a:solidFill>
                  <a:srgbClr val="543466"/>
                </a:solidFill>
                <a:latin typeface="Verdana"/>
              </a:rPr>
              <a:t>: познакомиться с особенностями селекции животных и растений, методами, применяемыми в их се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"/>
          <p:cNvSpPr/>
          <p:nvPr/>
        </p:nvSpPr>
        <p:spPr>
          <a:xfrm>
            <a:off x="785880" y="1228320"/>
            <a:ext cx="714384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43466"/>
                </a:solidFill>
                <a:latin typeface="Times New Roman"/>
                <a:ea typeface="Calibri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43466"/>
                </a:solidFill>
                <a:uFillTx/>
                <a:latin typeface="Times New Roman"/>
                <a:ea typeface="Calibri"/>
              </a:rPr>
              <a:t> </a:t>
            </a:r>
            <a:r>
              <a:rPr b="1" lang="ru-RU" sz="6000" spc="-1" strike="noStrike" u="sng">
                <a:solidFill>
                  <a:srgbClr val="543466"/>
                </a:solidFill>
                <a:uFillTx/>
                <a:latin typeface="Times New Roman"/>
                <a:ea typeface="Calibri"/>
              </a:rPr>
              <a:t>«Основные методы селекции растений и животных</a:t>
            </a:r>
            <a:r>
              <a:rPr b="1" lang="ru-RU" sz="6000" spc="-1" strike="noStrike" u="sng">
                <a:solidFill>
                  <a:srgbClr val="543466"/>
                </a:solidFill>
                <a:uFillTx/>
                <a:latin typeface="Calibri"/>
                <a:ea typeface="Calibri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Organization Chart 3" descr=""/>
          <p:cNvPicPr/>
          <p:nvPr/>
        </p:nvPicPr>
        <p:blipFill>
          <a:blip r:embed="rId1"/>
          <a:stretch/>
        </p:blipFill>
        <p:spPr>
          <a:xfrm>
            <a:off x="768240" y="1474920"/>
            <a:ext cx="7869240" cy="4529160"/>
          </a:xfrm>
          <a:prstGeom prst="rect">
            <a:avLst/>
          </a:prstGeom>
          <a:ln w="0">
            <a:noFill/>
          </a:ln>
        </p:spPr>
      </p:pic>
      <p:sp>
        <p:nvSpPr>
          <p:cNvPr id="521" name="TextBox 2"/>
          <p:cNvSpPr/>
          <p:nvPr/>
        </p:nvSpPr>
        <p:spPr>
          <a:xfrm>
            <a:off x="1731240" y="714240"/>
            <a:ext cx="54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3466"/>
                </a:solidFill>
                <a:latin typeface="Verdana"/>
              </a:rPr>
              <a:t>Методы селекции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1086480" y="5929200"/>
            <a:ext cx="72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да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Запишите пропущенные методы селекции и привед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имеры растений на каждый метод,используя текст параграфа 65 стр.246-25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Organization Chart 3" descr=""/>
          <p:cNvPicPr/>
          <p:nvPr/>
        </p:nvPicPr>
        <p:blipFill>
          <a:blip r:embed="rId1"/>
          <a:stretch/>
        </p:blipFill>
        <p:spPr>
          <a:xfrm>
            <a:off x="549360" y="1566720"/>
            <a:ext cx="8051760" cy="4658040"/>
          </a:xfrm>
          <a:prstGeom prst="rect">
            <a:avLst/>
          </a:prstGeom>
          <a:ln w="0">
            <a:noFill/>
          </a:ln>
        </p:spPr>
      </p:pic>
      <p:sp>
        <p:nvSpPr>
          <p:cNvPr id="524" name="Прямоугольник 4"/>
          <p:cNvSpPr/>
          <p:nvPr/>
        </p:nvSpPr>
        <p:spPr>
          <a:xfrm>
            <a:off x="1639080" y="785880"/>
            <a:ext cx="54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3466"/>
                </a:solidFill>
                <a:latin typeface="Verdana"/>
              </a:rPr>
              <a:t>Методы селекции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4500720" y="1630080"/>
            <a:ext cx="4090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543466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  <a:ea typeface="Calibri"/>
              </a:rPr>
              <a:t>Сельскохозяйственные животные размножаются только половым пу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543466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43466"/>
                </a:solidFill>
                <a:latin typeface="Times New Roman"/>
                <a:ea typeface="Calibri"/>
              </a:rPr>
              <a:t>Потомство, полученное от одной пары производителей, невели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543466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  <a:ea typeface="Calibri"/>
              </a:rPr>
              <a:t>Высока селекционная ценность каждой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1849320" y="857160"/>
            <a:ext cx="56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Verdana"/>
              </a:rPr>
              <a:t>Особенности селекци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j0149627"/>
          <p:cNvPicPr/>
          <p:nvPr/>
        </p:nvPicPr>
        <p:blipFill>
          <a:blip r:embed="rId1"/>
          <a:stretch/>
        </p:blipFill>
        <p:spPr>
          <a:xfrm>
            <a:off x="500040" y="2071800"/>
            <a:ext cx="39481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142920" y="1936800"/>
            <a:ext cx="8354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34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3466"/>
                </a:solidFill>
                <a:latin typeface="Times New Roman"/>
                <a:ea typeface="Calibri"/>
              </a:rPr>
              <a:t>Одомашн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34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3466"/>
                </a:solidFill>
                <a:latin typeface="Times New Roman"/>
                <a:ea typeface="Calibri"/>
              </a:rPr>
              <a:t>От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434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3466"/>
                </a:solidFill>
                <a:latin typeface="Times New Roman"/>
                <a:ea typeface="Calibri"/>
              </a:rPr>
              <a:t>Гибрид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0" descr="big"/>
          <p:cNvPicPr/>
          <p:nvPr/>
        </p:nvPicPr>
        <p:blipFill>
          <a:blip r:embed="rId1"/>
          <a:stretch/>
        </p:blipFill>
        <p:spPr>
          <a:xfrm>
            <a:off x="6215040" y="1714680"/>
            <a:ext cx="2500200" cy="2639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1" descr="owcy"/>
          <p:cNvPicPr/>
          <p:nvPr/>
        </p:nvPicPr>
        <p:blipFill>
          <a:blip r:embed="rId2"/>
          <a:stretch/>
        </p:blipFill>
        <p:spPr>
          <a:xfrm>
            <a:off x="428760" y="4000680"/>
            <a:ext cx="3143160" cy="2500200"/>
          </a:xfrm>
          <a:prstGeom prst="rect">
            <a:avLst/>
          </a:prstGeom>
          <a:ln w="0">
            <a:noFill/>
          </a:ln>
        </p:spPr>
      </p:pic>
      <p:sp>
        <p:nvSpPr>
          <p:cNvPr id="531" name="Прямоугольник 4"/>
          <p:cNvSpPr/>
          <p:nvPr/>
        </p:nvSpPr>
        <p:spPr>
          <a:xfrm>
            <a:off x="939600" y="121428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43466"/>
                </a:solidFill>
                <a:latin typeface="Times New Roman"/>
                <a:ea typeface="Calibri"/>
              </a:rPr>
              <a:t>Основные методы селекции живот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0" descr="kozlik"/>
          <p:cNvPicPr/>
          <p:nvPr/>
        </p:nvPicPr>
        <p:blipFill>
          <a:blip r:embed="rId3"/>
          <a:stretch/>
        </p:blipFill>
        <p:spPr>
          <a:xfrm>
            <a:off x="5500800" y="4071960"/>
            <a:ext cx="2214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D:\НАТАША\Институт\Диплом\фотографии\диплом\100_003.jpg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Скругленный прямоугольник 1"/>
          <p:cNvSpPr/>
          <p:nvPr/>
        </p:nvSpPr>
        <p:spPr>
          <a:xfrm>
            <a:off x="3071880" y="1428840"/>
            <a:ext cx="2571840" cy="1214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брид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Скругленный прямоугольник 2"/>
          <p:cNvSpPr/>
          <p:nvPr/>
        </p:nvSpPr>
        <p:spPr>
          <a:xfrm>
            <a:off x="5072040" y="3786120"/>
            <a:ext cx="250020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утбридин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Скругленный прямоугольник 3"/>
          <p:cNvSpPr/>
          <p:nvPr/>
        </p:nvSpPr>
        <p:spPr>
          <a:xfrm>
            <a:off x="1214280" y="3786120"/>
            <a:ext cx="2428920" cy="1071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бридин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ая соединительная линия 12"/>
          <p:cNvSpPr/>
          <p:nvPr/>
        </p:nvSpPr>
        <p:spPr>
          <a:xfrm>
            <a:off x="5500080" y="2643120"/>
            <a:ext cx="857160" cy="107172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13"/>
          <p:cNvSpPr/>
          <p:nvPr/>
        </p:nvSpPr>
        <p:spPr>
          <a:xfrm flipH="1">
            <a:off x="2428560" y="2714760"/>
            <a:ext cx="785880" cy="107136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7"/>
          <p:cNvSpPr/>
          <p:nvPr/>
        </p:nvSpPr>
        <p:spPr>
          <a:xfrm>
            <a:off x="1071720" y="500076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3466"/>
                </a:solidFill>
                <a:latin typeface="Arial Black"/>
              </a:rPr>
              <a:t>родственная гибрид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8"/>
          <p:cNvSpPr/>
          <p:nvPr/>
        </p:nvSpPr>
        <p:spPr>
          <a:xfrm>
            <a:off x="5214960" y="50007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3466"/>
                </a:solidFill>
                <a:latin typeface="Arial Black"/>
                <a:ea typeface="Calibri"/>
              </a:rPr>
              <a:t>неродственная гибрид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D:\НАТАША\Институт\Диплом\фотографии\диплом\100_003.jpg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1285920" y="3714840"/>
          <a:ext cx="6715080" cy="1714320"/>
        </p:xfrm>
        <a:graphic>
          <a:graphicData uri="http://schemas.openxmlformats.org/drawingml/2006/table">
            <a:tbl>
              <a:tblPr/>
              <a:tblGrid>
                <a:gridCol w="2238480"/>
                <a:gridCol w="2238120"/>
                <a:gridCol w="2238480"/>
              </a:tblGrid>
              <a:tr h="130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Ученые -селекционеры и их дост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тоды, используемые при получении необходимых призна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орта или породы, полученные ученым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Rectangle 1"/>
          <p:cNvSpPr/>
          <p:nvPr/>
        </p:nvSpPr>
        <p:spPr>
          <a:xfrm>
            <a:off x="1285920" y="637560"/>
            <a:ext cx="67150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3466"/>
                </a:solidFill>
                <a:latin typeface="Times New Roman"/>
                <a:ea typeface="Calibri"/>
              </a:rPr>
              <a:t>Домашнее зада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графы 65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ить таблицу, используя текст параграфа 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286000" y="357120"/>
            <a:ext cx="4619520" cy="5715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2350800" y="6143760"/>
            <a:ext cx="46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3466"/>
                </a:solidFill>
                <a:latin typeface="Verdana"/>
              </a:rPr>
              <a:t>Николай Иванович Вавилов (1887-194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4"/>
          <p:cNvSpPr/>
          <p:nvPr/>
        </p:nvSpPr>
        <p:spPr>
          <a:xfrm>
            <a:off x="357120" y="7142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Verdana"/>
              </a:rPr>
              <a:t>Центры происхождения культурных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0" y="1857240"/>
            <a:ext cx="85726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ис, сахарный тростник, цитрусовые, баклажаны и др. (50% культурных растений).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оя, просо, гречиха, плодовые и овощные культуры – слива, вишня и др. (20% культурных растений).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шеница, рожь, бобовые культуры, лен, конопля, репа, чеснок, виноград и др. (14% культурных растений).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Капуста, сахарная свекла, маслины, клевер (11% культурных растений).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вердая пшеница, ячмень, кофейное дерево, бананы, сорго. 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Кукуруза, какао, тыква, табак, хлопчатник.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just">
              <a:lnSpc>
                <a:spcPct val="8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Картофель, ананас, хинное дерево. 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572920" y="578628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Задание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впишите названия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357120" y="1500120"/>
            <a:ext cx="8358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, сахарный тростник, цитрусовые, баклажаны и др. (50% культурных растений).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ЮЖНОАЗИАТСКИЙ ТРОП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я, просо, гречиха, плодовые и овощные культуры – слива, вишня и др. (20% культурных растений)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СТОЧНОАЗИА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шеница, рожь, бобовые культуры, лен, конопля, репа, чеснок, виноград и др. (14% культурных растений)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ЮГО-ЗАПАДНОАЗИА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пуста, сахарная свекла, маслины, клевер (11% культурных растений)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СРЕДНЕЗЕМНОМ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вердая пшеница, ячмень, кофейное дерево, бананы, сорго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АБЕСС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куруза, какао, тыква, табак, хлопчатник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ЦЕНТРАЛЬНОАМЕРИК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6bb1c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ртофель, ананас, хинное дерево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ЮЖНОАМЕРИК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642960" y="57168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Verdana"/>
              </a:rPr>
              <a:t>Центры происхождения культурных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7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8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9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0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1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2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3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4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5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6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7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8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9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0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1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2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3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4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5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6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7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8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9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31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2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33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4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5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6"/>
          <p:cNvSpPr/>
          <p:nvPr/>
        </p:nvSpPr>
        <p:spPr>
          <a:xfrm>
            <a:off x="1643400" y="714240"/>
            <a:ext cx="58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6"/>
          <p:cNvSpPr/>
          <p:nvPr/>
        </p:nvSpPr>
        <p:spPr>
          <a:xfrm>
            <a:off x="714240" y="78588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7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7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7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7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7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7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8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8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8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8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8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8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9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9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9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9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9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9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9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9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9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0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0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0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0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0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0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0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1071720" y="714240"/>
            <a:ext cx="69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1"/>
          <p:cNvSpPr/>
          <p:nvPr/>
        </p:nvSpPr>
        <p:spPr>
          <a:xfrm>
            <a:off x="1000080" y="8571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Verdana"/>
              </a:rPr>
              <a:t>Кроссворд «Основные понятия селе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2"/>
          <p:cNvSpPr/>
          <p:nvPr/>
        </p:nvSpPr>
        <p:spPr>
          <a:xfrm>
            <a:off x="257184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3"/>
          <p:cNvSpPr/>
          <p:nvPr/>
        </p:nvSpPr>
        <p:spPr>
          <a:xfrm>
            <a:off x="2571840" y="207180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2571840" y="242892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2571840" y="278604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6"/>
          <p:cNvSpPr/>
          <p:nvPr/>
        </p:nvSpPr>
        <p:spPr>
          <a:xfrm>
            <a:off x="2571840" y="31431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7"/>
          <p:cNvSpPr/>
          <p:nvPr/>
        </p:nvSpPr>
        <p:spPr>
          <a:xfrm>
            <a:off x="2571840" y="3500280"/>
            <a:ext cx="42840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8"/>
          <p:cNvSpPr/>
          <p:nvPr/>
        </p:nvSpPr>
        <p:spPr>
          <a:xfrm>
            <a:off x="2571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9"/>
          <p:cNvSpPr/>
          <p:nvPr/>
        </p:nvSpPr>
        <p:spPr>
          <a:xfrm>
            <a:off x="2571840" y="42148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0"/>
          <p:cNvSpPr/>
          <p:nvPr/>
        </p:nvSpPr>
        <p:spPr>
          <a:xfrm>
            <a:off x="300024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1"/>
          <p:cNvSpPr/>
          <p:nvPr/>
        </p:nvSpPr>
        <p:spPr>
          <a:xfrm>
            <a:off x="3429000" y="17146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2"/>
          <p:cNvSpPr/>
          <p:nvPr/>
        </p:nvSpPr>
        <p:spPr>
          <a:xfrm>
            <a:off x="3857760" y="171468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3"/>
          <p:cNvSpPr/>
          <p:nvPr/>
        </p:nvSpPr>
        <p:spPr>
          <a:xfrm>
            <a:off x="3429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4"/>
          <p:cNvSpPr/>
          <p:nvPr/>
        </p:nvSpPr>
        <p:spPr>
          <a:xfrm>
            <a:off x="685800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5"/>
          <p:cNvSpPr/>
          <p:nvPr/>
        </p:nvSpPr>
        <p:spPr>
          <a:xfrm>
            <a:off x="6429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6"/>
          <p:cNvSpPr/>
          <p:nvPr/>
        </p:nvSpPr>
        <p:spPr>
          <a:xfrm>
            <a:off x="600084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17"/>
          <p:cNvSpPr/>
          <p:nvPr/>
        </p:nvSpPr>
        <p:spPr>
          <a:xfrm>
            <a:off x="5572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18"/>
          <p:cNvSpPr/>
          <p:nvPr/>
        </p:nvSpPr>
        <p:spPr>
          <a:xfrm>
            <a:off x="514368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9"/>
          <p:cNvSpPr/>
          <p:nvPr/>
        </p:nvSpPr>
        <p:spPr>
          <a:xfrm>
            <a:off x="471492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0"/>
          <p:cNvSpPr/>
          <p:nvPr/>
        </p:nvSpPr>
        <p:spPr>
          <a:xfrm>
            <a:off x="428616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300024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2"/>
          <p:cNvSpPr/>
          <p:nvPr/>
        </p:nvSpPr>
        <p:spPr>
          <a:xfrm>
            <a:off x="3857760" y="3857760"/>
            <a:ext cx="42840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3"/>
          <p:cNvSpPr/>
          <p:nvPr/>
        </p:nvSpPr>
        <p:spPr>
          <a:xfrm>
            <a:off x="2143080" y="38577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4"/>
          <p:cNvSpPr/>
          <p:nvPr/>
        </p:nvSpPr>
        <p:spPr>
          <a:xfrm>
            <a:off x="428616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25"/>
          <p:cNvSpPr/>
          <p:nvPr/>
        </p:nvSpPr>
        <p:spPr>
          <a:xfrm>
            <a:off x="428616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26"/>
          <p:cNvSpPr/>
          <p:nvPr/>
        </p:nvSpPr>
        <p:spPr>
          <a:xfrm>
            <a:off x="428616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27"/>
          <p:cNvSpPr/>
          <p:nvPr/>
        </p:nvSpPr>
        <p:spPr>
          <a:xfrm>
            <a:off x="428616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28"/>
          <p:cNvSpPr/>
          <p:nvPr/>
        </p:nvSpPr>
        <p:spPr>
          <a:xfrm>
            <a:off x="428616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9"/>
          <p:cNvSpPr/>
          <p:nvPr/>
        </p:nvSpPr>
        <p:spPr>
          <a:xfrm>
            <a:off x="342900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30"/>
          <p:cNvSpPr/>
          <p:nvPr/>
        </p:nvSpPr>
        <p:spPr>
          <a:xfrm>
            <a:off x="342900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31"/>
          <p:cNvSpPr/>
          <p:nvPr/>
        </p:nvSpPr>
        <p:spPr>
          <a:xfrm>
            <a:off x="3429000" y="278604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32"/>
          <p:cNvSpPr/>
          <p:nvPr/>
        </p:nvSpPr>
        <p:spPr>
          <a:xfrm>
            <a:off x="3429000" y="242892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33"/>
          <p:cNvSpPr/>
          <p:nvPr/>
        </p:nvSpPr>
        <p:spPr>
          <a:xfrm>
            <a:off x="5572080" y="3500280"/>
            <a:ext cx="428760" cy="35748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34"/>
          <p:cNvSpPr/>
          <p:nvPr/>
        </p:nvSpPr>
        <p:spPr>
          <a:xfrm>
            <a:off x="5572080" y="314316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35"/>
          <p:cNvSpPr/>
          <p:nvPr/>
        </p:nvSpPr>
        <p:spPr>
          <a:xfrm>
            <a:off x="5572080" y="421488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36"/>
          <p:cNvSpPr/>
          <p:nvPr/>
        </p:nvSpPr>
        <p:spPr>
          <a:xfrm>
            <a:off x="5572080" y="4572000"/>
            <a:ext cx="428760" cy="357120"/>
          </a:xfrm>
          <a:prstGeom prst="rect">
            <a:avLst/>
          </a:prstGeom>
          <a:solidFill>
            <a:srgbClr val="375bb0"/>
          </a:solidFill>
          <a:ln w="424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1:27:03Z</dcterms:created>
  <dc:creator>smetkins</dc:creator>
  <dc:description/>
  <dc:language>en-US</dc:language>
  <cp:lastModifiedBy>DNA7 X86</cp:lastModifiedBy>
  <dcterms:modified xsi:type="dcterms:W3CDTF">2013-02-07T19:59:36Z</dcterms:modified>
  <cp:revision>34</cp:revision>
  <dc:subject/>
  <dc:title>Слайд 1</dc:title>
</cp:coreProperties>
</file>