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114-7035-41F6-88B5-5EC069E6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1CD-AC83-45CD-8369-A362956A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D97-B27E-41D0-929E-896F46C9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459-D62C-4A28-9C1B-51068C24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2D2C-8BD3-4104-B4AF-A73DC2CC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6A90-D36B-4CFD-B70A-A828D98F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426-3DFF-472A-B1B5-59F4FFD7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CB7-CF89-4815-A405-3DB43CE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E08-C206-4CE1-8605-6300BEA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ACE-3653-4C88-9660-2C95475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523A-851E-498A-9C8A-69F63BC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9EA-90C5-4CB1-8F1D-70DB8E8D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CDAC-D335-4C95-88AB-C63DC3E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B1EE-7059-40F7-AE7E-F0432BC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F680-2AAC-4658-9349-CE3995D1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E729-5D0D-4E89-83F7-168AF9BA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0D14-52EA-460A-A053-4C08B1F1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2BF2-F3CA-43D7-8341-ADE2F0A8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AF52-E47D-4153-B861-612A7D2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6781-417E-46FF-AD80-77296DEC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2B51-6382-4D7A-A787-72008E8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786F-DD77-4664-9AA0-C027A41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934-54A2-464F-8951-60479999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A1DF-E680-4D38-A6F3-4B270AD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56C0-9332-4380-BF3C-0974FE8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16E0-2AEE-4208-BF78-8C6E4D7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B4A2-2186-4B57-AC73-433E40E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0515-77B0-4A1C-B69D-D98A0B8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1167-BC26-4B92-B70B-24C8AEC7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2A75-B0AE-48CE-8A3D-B0C55EC1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FFC4-DCE1-43B1-839E-440C90E0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A1DA-DF24-4D99-8994-C651545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F229-D3AC-4377-958F-8100CE9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E28-317E-45F2-B306-59B7925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81A3-9C3A-42B7-A962-0A4AED59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6AC5-7731-43A9-9BDD-AF8C6B4B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B062-FF1D-4B0A-A905-8FF4B5A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28B1-A464-44C8-BD32-4E21993B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44C4-ABD8-442F-8F62-7265ED0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0CE1-C1F5-4426-80D0-383092FB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4E8F-910B-4715-B06F-AAA8E88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15C4-6B34-4657-8D1F-55AE4857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CE93-D295-480F-BAEC-5DA24497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1B25-A9A2-4450-883D-C1F1B42D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FA7-DB8A-4583-9CE3-55B1189F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85EC-FBD7-4D4D-AC92-32D375D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38E3-5AA5-47F3-8991-1E73483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7453-0370-411E-B2F5-9E97D959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9B6E-2F23-4038-86D0-F8F13061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0A4F-2A91-4371-96E0-C9D9AF48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D090-F5E8-4B31-807B-481EA2B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98AE-681E-43B0-9109-8FA7536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B2D5-955D-4331-AAC4-1D3DDB0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0709-D943-414A-A3F3-6B68C45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A9BD-4FC3-46D4-8BAD-0256551B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F99-57F8-4D19-BD89-4A27B143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477F-96DF-4F51-96CD-7B268E2F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430-4313-4783-B848-2E7667B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DF3-FC39-4209-BA35-CEB9F56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E2E-196F-4049-BF23-DFC7F39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A6E-7FF1-448B-887E-DB72ABDC1BA5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A74-890C-44C0-AD3C-D2F2E7C664AC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0C29-D4C5-48D7-8430-35226DDF5619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E61-7CD0-4153-994C-114B6699FC6A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249-3041-4915-BE16-C6D5345E6886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Verdana"/>
              </a:rPr>
              <a:t>Основные методы селекции растений и животных</a:t>
            </a:r>
            <a:endParaRPr b="1" lang="en-US" sz="54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85880" y="407196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Учител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.Б. Лоб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214280" y="78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1143000" y="64296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857160" y="6429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1"/>
          <p:cNvSpPr/>
          <p:nvPr/>
        </p:nvSpPr>
        <p:spPr>
          <a:xfrm>
            <a:off x="1714680" y="78588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43000" y="92880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43466"/>
                </a:solidFill>
                <a:uFillTx/>
                <a:latin typeface="Verdana"/>
              </a:rPr>
              <a:t>Цель урока</a:t>
            </a:r>
            <a:r>
              <a:rPr b="1" i="1" lang="ru-RU" sz="3200" spc="-1" strike="noStrike">
                <a:solidFill>
                  <a:srgbClr val="543466"/>
                </a:solidFill>
                <a:latin typeface="Verdana"/>
              </a:rPr>
              <a:t>: познакомиться с особенностями селекции животных и растений, методами, применяемыми в их се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"/>
          <p:cNvSpPr/>
          <p:nvPr/>
        </p:nvSpPr>
        <p:spPr>
          <a:xfrm>
            <a:off x="785880" y="1228320"/>
            <a:ext cx="71438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43466"/>
                </a:solidFill>
                <a:latin typeface="Times New Roman"/>
                <a:ea typeface="Calibri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43466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6000" spc="-1" strike="noStrike" u="sng">
                <a:solidFill>
                  <a:srgbClr val="543466"/>
                </a:solidFill>
                <a:uFillTx/>
                <a:latin typeface="Times New Roman"/>
                <a:ea typeface="Calibri"/>
              </a:rPr>
              <a:t>«Основные методы селекции растений и животных</a:t>
            </a:r>
            <a:r>
              <a:rPr b="1" lang="ru-RU" sz="6000" spc="-1" strike="noStrike" u="sng">
                <a:solidFill>
                  <a:srgbClr val="543466"/>
                </a:solidFill>
                <a:uFillTx/>
                <a:latin typeface="Calibri"/>
                <a:ea typeface="Calibri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Organization Chart 3" descr=""/>
          <p:cNvPicPr/>
          <p:nvPr/>
        </p:nvPicPr>
        <p:blipFill>
          <a:blip r:embed="rId1"/>
          <a:stretch/>
        </p:blipFill>
        <p:spPr>
          <a:xfrm>
            <a:off x="768240" y="1474920"/>
            <a:ext cx="7869240" cy="45291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1731240" y="714240"/>
            <a:ext cx="54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3466"/>
                </a:solidFill>
                <a:latin typeface="Verdana"/>
              </a:rPr>
              <a:t>Методы селекци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1086480" y="5929200"/>
            <a:ext cx="72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Запишите пропущенные методы селекции и привед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ры растений на каждый метод,используя текст параграфа 65 стр.246-2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Organization Chart 3" descr=""/>
          <p:cNvPicPr/>
          <p:nvPr/>
        </p:nvPicPr>
        <p:blipFill>
          <a:blip r:embed="rId1"/>
          <a:stretch/>
        </p:blipFill>
        <p:spPr>
          <a:xfrm>
            <a:off x="549360" y="1566720"/>
            <a:ext cx="8051760" cy="465804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4"/>
          <p:cNvSpPr/>
          <p:nvPr/>
        </p:nvSpPr>
        <p:spPr>
          <a:xfrm>
            <a:off x="1639080" y="785880"/>
            <a:ext cx="54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3466"/>
                </a:solidFill>
                <a:latin typeface="Verdana"/>
              </a:rPr>
              <a:t>Методы селекци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4500720" y="1630080"/>
            <a:ext cx="409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Сельскохозяйственные животные размножаются только половы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Потомство, полученное от одной пары производителей, невели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Высока селекционная ценность каждой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849320" y="857160"/>
            <a:ext cx="56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Особенности селекци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j0149627"/>
          <p:cNvPicPr/>
          <p:nvPr/>
        </p:nvPicPr>
        <p:blipFill>
          <a:blip r:embed="rId1"/>
          <a:stretch/>
        </p:blipFill>
        <p:spPr>
          <a:xfrm>
            <a:off x="500040" y="2071800"/>
            <a:ext cx="3948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142920" y="1936800"/>
            <a:ext cx="8354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домаш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т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Гибрид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0" descr="big"/>
          <p:cNvPicPr/>
          <p:nvPr/>
        </p:nvPicPr>
        <p:blipFill>
          <a:blip r:embed="rId1"/>
          <a:stretch/>
        </p:blipFill>
        <p:spPr>
          <a:xfrm>
            <a:off x="6215040" y="1714680"/>
            <a:ext cx="2500200" cy="2639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1" descr="owcy"/>
          <p:cNvPicPr/>
          <p:nvPr/>
        </p:nvPicPr>
        <p:blipFill>
          <a:blip r:embed="rId2"/>
          <a:stretch/>
        </p:blipFill>
        <p:spPr>
          <a:xfrm>
            <a:off x="428760" y="4000680"/>
            <a:ext cx="3143160" cy="250020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4"/>
          <p:cNvSpPr/>
          <p:nvPr/>
        </p:nvSpPr>
        <p:spPr>
          <a:xfrm>
            <a:off x="939600" y="1214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сновные методы селекции живот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0" descr="kozlik"/>
          <p:cNvPicPr/>
          <p:nvPr/>
        </p:nvPicPr>
        <p:blipFill>
          <a:blip r:embed="rId3"/>
          <a:stretch/>
        </p:blipFill>
        <p:spPr>
          <a:xfrm>
            <a:off x="5500800" y="4071960"/>
            <a:ext cx="221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:\НАТАША\Институт\Диплом\фотографии\диплом\100_003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Скругленный прямоугольник 1"/>
          <p:cNvSpPr/>
          <p:nvPr/>
        </p:nvSpPr>
        <p:spPr>
          <a:xfrm>
            <a:off x="3071880" y="1428840"/>
            <a:ext cx="2571840" cy="1214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брид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кругленный прямоугольник 2"/>
          <p:cNvSpPr/>
          <p:nvPr/>
        </p:nvSpPr>
        <p:spPr>
          <a:xfrm>
            <a:off x="5072040" y="3786120"/>
            <a:ext cx="250020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тбри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Скругленный прямоугольник 3"/>
          <p:cNvSpPr/>
          <p:nvPr/>
        </p:nvSpPr>
        <p:spPr>
          <a:xfrm>
            <a:off x="1214280" y="3786120"/>
            <a:ext cx="242892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бри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12"/>
          <p:cNvSpPr/>
          <p:nvPr/>
        </p:nvSpPr>
        <p:spPr>
          <a:xfrm>
            <a:off x="5500080" y="2643120"/>
            <a:ext cx="857160" cy="107172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13"/>
          <p:cNvSpPr/>
          <p:nvPr/>
        </p:nvSpPr>
        <p:spPr>
          <a:xfrm flipH="1">
            <a:off x="2428560" y="2714760"/>
            <a:ext cx="785880" cy="107136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7"/>
          <p:cNvSpPr/>
          <p:nvPr/>
        </p:nvSpPr>
        <p:spPr>
          <a:xfrm>
            <a:off x="1071720" y="50007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Arial Black"/>
              </a:rPr>
              <a:t>родственная гибри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8"/>
          <p:cNvSpPr/>
          <p:nvPr/>
        </p:nvSpPr>
        <p:spPr>
          <a:xfrm>
            <a:off x="5214960" y="50007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Arial Black"/>
                <a:ea typeface="Calibri"/>
              </a:rPr>
              <a:t>неродственная гибри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D:\НАТАША\Институт\Диплом\фотографии\диплом\100_003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285920" y="3714840"/>
          <a:ext cx="6715080" cy="1714320"/>
        </p:xfrm>
        <a:graphic>
          <a:graphicData uri="http://schemas.openxmlformats.org/drawingml/2006/table">
            <a:tbl>
              <a:tblPr/>
              <a:tblGrid>
                <a:gridCol w="2238480"/>
                <a:gridCol w="2238120"/>
                <a:gridCol w="2238480"/>
              </a:tblGrid>
              <a:tr h="13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Ученые -селекционеры и их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тоды, используемые при получении необходимых призна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орта или породы, полученные учены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Rectangle 1"/>
          <p:cNvSpPr/>
          <p:nvPr/>
        </p:nvSpPr>
        <p:spPr>
          <a:xfrm>
            <a:off x="1285920" y="637560"/>
            <a:ext cx="6715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Домашнее зад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графы 6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ь таблицу, используя текст параграфа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61952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2350800" y="6143760"/>
            <a:ext cx="46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Verdana"/>
              </a:rPr>
              <a:t>Николай Иванович Вавилов (1887-194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>
            <a:off x="357120" y="7142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Центры происхождения культур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0" y="1857240"/>
            <a:ext cx="85726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ис, сахарный тростник, цитрусовые, баклажаны и др. (50% культурных растений).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я, просо, гречиха, плодовые и овощные культуры – слива, вишня и др. (20% культурных растений).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шеница, рожь, бобовые культуры, лен, конопля, репа, чеснок, виноград и др. (14% культурных растений).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апуста, сахарная свекла, маслины, клевер (11% культурных растений).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вердая пшеница, ячмень, кофейное дерево, бананы, сорго.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укуруза, какао, тыква, табак, хлопчатник.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артофель, ананас, хинное дерево.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572920" y="5786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дание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впишите названия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57120" y="150012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, сахарный тростник, цитрусовые, баклажаны и др. (50% культурных растений).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ЖНОАЗИАТСКИЙ ТРОП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я, просо, гречиха, плодовые и овощные культуры – слива, вишня и др. (20% культурных растений)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СТОЧНОАЗИА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шеница, рожь, бобовые культуры, лен, конопля, репа, чеснок, виноград и др. (14% культурных растений)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ГО-ЗАПАДНОАЗИА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уста, сахарная свекла, маслины, клевер (11% культурных растений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РЕДНЕЗЕМНОМ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ердая пшеница, ячмень, кофейное дерево, бананы, сорго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АБЕСС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куруза, какао, тыква, табак, хлопчатник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ЦЕНТРАЛЬНО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офель, ананас, хинное дерев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ЖНО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642960" y="57168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Центры происхождения культур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8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9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0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1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2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3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6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7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9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0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3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6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7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2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3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4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5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6"/>
          <p:cNvSpPr/>
          <p:nvPr/>
        </p:nvSpPr>
        <p:spPr>
          <a:xfrm>
            <a:off x="1643400" y="714240"/>
            <a:ext cx="58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6"/>
          <p:cNvSpPr/>
          <p:nvPr/>
        </p:nvSpPr>
        <p:spPr>
          <a:xfrm>
            <a:off x="714240" y="78588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7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7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8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9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9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9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9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9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9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9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0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0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0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0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0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0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1071720" y="71424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1000080" y="8571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1:27:03Z</dcterms:created>
  <dc:creator>smetkins</dc:creator>
  <dc:description/>
  <dc:language>en-US</dc:language>
  <cp:lastModifiedBy>DNA7 X86</cp:lastModifiedBy>
  <dcterms:modified xsi:type="dcterms:W3CDTF">2013-02-07T19:59:36Z</dcterms:modified>
  <cp:revision>34</cp:revision>
  <dc:subject/>
  <dc:title>Слайд 1</dc:title>
</cp:coreProperties>
</file>