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5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7.png" ContentType="image/png"/>
  <Override PartName="/ppt/media/image22.jpeg" ContentType="image/jpeg"/>
  <Override PartName="/ppt/media/image5.gif" ContentType="image/gif"/>
  <Override PartName="/ppt/media/image8.png" ContentType="image/png"/>
  <Override PartName="/ppt/media/image34.png" ContentType="image/png"/>
  <Override PartName="/ppt/media/image6.gif" ContentType="image/gif"/>
  <Override PartName="/ppt/media/image36.gif" ContentType="image/gif"/>
  <Override PartName="/ppt/media/image1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2.gif" ContentType="image/gif"/>
  <Override PartName="/ppt/media/image31.png" ContentType="image/png"/>
  <Override PartName="/ppt/media/image33.gif" ContentType="image/gif"/>
  <Override PartName="/ppt/media/image3.gif" ContentType="image/gif"/>
  <Override PartName="/ppt/media/image29.jpeg" ContentType="image/jpeg"/>
  <Override PartName="/ppt/media/image37.gif" ContentType="image/gif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B3E-EBFA-44D3-B2EE-7D6D34AE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B40-8135-4518-944D-B31C4E0C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F1C-B47D-4721-819C-BCD618E9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EA6-6D71-4B5F-B9A3-53398DB0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FC67-5505-4441-A07E-F3712678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6DAC-FADE-46C0-A87E-73A02F94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41A6-2805-42BC-89E3-034E133F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588-118B-4310-874D-E2CE235E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F8D2-9421-4F33-A3B4-ADBDD6E7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8108-4FEE-4864-B776-A8ABABAA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C994-5078-430B-AAD8-0176CAD5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0C0-FF74-41F6-B0A6-91E8642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D2CA-158D-447D-8517-8358E02F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F538-379F-4EF0-9B31-5F04E2E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62AD-0806-4F45-B7B2-6233EE36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C2A5-F8A9-4526-88F9-873479FC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E3E0-4D8E-41D6-9A7E-3655D297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9C9-15EE-4EB6-9573-586381D6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044-BC38-4CC0-A3EF-0E139429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57F-6CEE-4426-A3A3-FD32FF59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E6D-CA6E-4BB0-A38A-B4D2016A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B66-3946-4472-AFB1-9A26C858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65A-0AA7-4F66-A855-65047AE3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23C-AF5E-427E-9480-B89E4DC5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B48B-B9F7-4DCF-8D28-BDB9B2D4194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105F-42BF-4BC7-B52A-DA7829267C9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56880" y="714240"/>
            <a:ext cx="56437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РАВИЛА     ДВИЖЕНИЯ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    БЕЗ    ИСКЛЮЧЕНИЯ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ТЬ    ДОЛЖНЫ    ЗВЕРЮШКИ: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АРСУКИ  И   ХРЮШК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АЙЦЫ    И    ТИГРЯТА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НИ   И   КОТЯ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АМ,   РЕБЯТА,   Т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ИХ  НЕ  ЗНАТЬ    НЕГ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1" descr="E:\данные\Картинки\анимация\животные\28m1.gif"/>
          <p:cNvPicPr/>
          <p:nvPr/>
        </p:nvPicPr>
        <p:blipFill>
          <a:blip r:embed="rId2"/>
          <a:stretch/>
        </p:blipFill>
        <p:spPr>
          <a:xfrm>
            <a:off x="7643880" y="857160"/>
            <a:ext cx="639720" cy="57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E:\данные\Картинки\анимация\животные\05600000.gif"/>
          <p:cNvPicPr/>
          <p:nvPr/>
        </p:nvPicPr>
        <p:blipFill>
          <a:blip r:embed="rId3"/>
          <a:stretch/>
        </p:blipFill>
        <p:spPr>
          <a:xfrm>
            <a:off x="642960" y="428760"/>
            <a:ext cx="1143000" cy="1587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E:\данные\Картинки\анимация\животные\ь7.gif"/>
          <p:cNvPicPr/>
          <p:nvPr/>
        </p:nvPicPr>
        <p:blipFill>
          <a:blip r:embed="rId4"/>
          <a:stretch/>
        </p:blipFill>
        <p:spPr>
          <a:xfrm>
            <a:off x="7429680" y="428616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E:\данные\Картинки\анимация\мультяшки\dis12900.gif"/>
          <p:cNvPicPr/>
          <p:nvPr/>
        </p:nvPicPr>
        <p:blipFill>
          <a:blip r:embed="rId5"/>
          <a:stretch/>
        </p:blipFill>
        <p:spPr>
          <a:xfrm>
            <a:off x="7358040" y="2000160"/>
            <a:ext cx="1436760" cy="1724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E:\данные\Картинки\анимация\мультяшки\disney9qz9.gif"/>
          <p:cNvPicPr/>
          <p:nvPr/>
        </p:nvPicPr>
        <p:blipFill>
          <a:blip r:embed="rId6"/>
          <a:stretch/>
        </p:blipFill>
        <p:spPr>
          <a:xfrm>
            <a:off x="285840" y="3071880"/>
            <a:ext cx="1595520" cy="191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E:\данные\Картинки\дети\reading1.gif"/>
          <p:cNvPicPr/>
          <p:nvPr/>
        </p:nvPicPr>
        <p:blipFill>
          <a:blip r:embed="rId7"/>
          <a:stretch/>
        </p:blipFill>
        <p:spPr>
          <a:xfrm>
            <a:off x="4071960" y="5357880"/>
            <a:ext cx="142884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ОЛЖЕН         ПОМНИТЬ      ПЕШЕХО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ЕРЕКРЁСТОК-ПЕРЕХ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ЕСТЬ    СИГНАЛЫ     СВЕТОФ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ДЧИНЯЙСЯ    ИМ    БЕЗ    СП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" descr="E:\данные\Картинки\пдд\Рисунок17.jpg"/>
          <p:cNvPicPr/>
          <p:nvPr/>
        </p:nvPicPr>
        <p:blipFill>
          <a:blip r:embed="rId3"/>
          <a:stretch/>
        </p:blipFill>
        <p:spPr>
          <a:xfrm>
            <a:off x="2714760" y="4000680"/>
            <a:ext cx="3981240" cy="2012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E:\данные\Картинки\пдд\Рисунок6.png"/>
          <p:cNvPicPr/>
          <p:nvPr/>
        </p:nvPicPr>
        <p:blipFill>
          <a:blip r:embed="rId4"/>
          <a:stretch/>
        </p:blipFill>
        <p:spPr>
          <a:xfrm>
            <a:off x="7643880" y="357120"/>
            <a:ext cx="110808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357120" y="428760"/>
            <a:ext cx="5500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ЫЙ    СВЕТ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М       ГОВОРИ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ТОЙ! ОПАСНО! ПУТЬ    ЗАКРЫ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ЖЁЛТЫЙ    СВЕТ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-   ПРЕДУПРЕЖДЕНЬ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ЖДИ     СИГНАЛА   ДЛЯ   ДВИЖЕН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ЗЕЛЁНЫЙ   СВЕТ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ОТКРЫЛ ДОРОГ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ЕРЕХОДИТЬ       РЕБЯТА        МОГ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ИДИ   ВПЕРЁ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ОРЯДОК      ЗНАЕШЬ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    МОСТООВОЙ    НЕ    ПОСТРАДАЕ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7072200" y="714240"/>
            <a:ext cx="1357560" cy="471492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5"/>
          <p:cNvSpPr/>
          <p:nvPr/>
        </p:nvSpPr>
        <p:spPr>
          <a:xfrm>
            <a:off x="7286760" y="928800"/>
            <a:ext cx="1000080" cy="10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6"/>
          <p:cNvSpPr/>
          <p:nvPr/>
        </p:nvSpPr>
        <p:spPr>
          <a:xfrm>
            <a:off x="7286760" y="2428920"/>
            <a:ext cx="1000080" cy="1071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7286760" y="3929040"/>
            <a:ext cx="1000080" cy="1071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214520" y="928800"/>
            <a:ext cx="47862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ки важные, дорожные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мпас взрослых и ребя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е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удьте осторожн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йт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Что нельзя, Что мож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ыполняйте непремен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, что знаки говорят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1"/>
          <p:cNvGrpSpPr/>
          <p:nvPr/>
        </p:nvGrpSpPr>
        <p:grpSpPr>
          <a:xfrm>
            <a:off x="642960" y="1428840"/>
            <a:ext cx="2859120" cy="3314520"/>
            <a:chOff x="642960" y="1428840"/>
            <a:chExt cx="2859120" cy="3314520"/>
          </a:xfrm>
        </p:grpSpPr>
        <p:grpSp>
          <p:nvGrpSpPr>
            <p:cNvPr id="100" name="Group 2"/>
            <p:cNvGrpSpPr/>
            <p:nvPr/>
          </p:nvGrpSpPr>
          <p:grpSpPr>
            <a:xfrm>
              <a:off x="642960" y="1428840"/>
              <a:ext cx="2859120" cy="3314520"/>
              <a:chOff x="642960" y="1428840"/>
              <a:chExt cx="2859120" cy="3314520"/>
            </a:xfrm>
          </p:grpSpPr>
          <p:sp>
            <p:nvSpPr>
              <p:cNvPr id="101" name="Oval 3"/>
              <p:cNvSpPr/>
              <p:nvPr/>
            </p:nvSpPr>
            <p:spPr>
              <a:xfrm>
                <a:off x="2004480" y="1569600"/>
                <a:ext cx="204120" cy="186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4"/>
              <p:cNvSpPr/>
              <p:nvPr/>
            </p:nvSpPr>
            <p:spPr>
              <a:xfrm rot="16200000">
                <a:off x="1612800" y="1616400"/>
                <a:ext cx="987120" cy="612000"/>
              </a:xfrm>
              <a:prstGeom prst="flowChartTerminator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5"/>
              <p:cNvSpPr/>
              <p:nvPr/>
            </p:nvSpPr>
            <p:spPr>
              <a:xfrm>
                <a:off x="642960" y="1922760"/>
                <a:ext cx="2859120" cy="2820600"/>
              </a:xfrm>
              <a:prstGeom prst="ellipse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WordArt 6"/>
              <p:cNvSpPr txBox="1"/>
              <p:nvPr/>
            </p:nvSpPr>
            <p:spPr>
              <a:xfrm>
                <a:off x="913680" y="2133720"/>
                <a:ext cx="2314440" cy="2327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99"/>
                    </a:solidFill>
                    <a:latin typeface="Arial"/>
                  </a:rPr>
                  <a:t>*  *</a:t>
                </a:r>
                <a:endParaRPr b="0" i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05" name="Picture 7" descr="Копия Untitled-6"/>
              <p:cNvPicPr/>
              <p:nvPr/>
            </p:nvPicPr>
            <p:blipFill>
              <a:blip r:embed="rId2"/>
              <a:stretch/>
            </p:blipFill>
            <p:spPr>
              <a:xfrm>
                <a:off x="1425960" y="2823480"/>
                <a:ext cx="1270080" cy="158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WordArt 8"/>
              <p:cNvSpPr txBox="1"/>
              <p:nvPr/>
            </p:nvSpPr>
            <p:spPr>
              <a:xfrm rot="21058200">
                <a:off x="913320" y="2204280"/>
                <a:ext cx="2314440" cy="2326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Дорожные   знаки   </a:t>
                </a:r>
                <a:endParaRPr b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07" name="Picture 9" descr="1"/>
              <p:cNvPicPr/>
              <p:nvPr/>
            </p:nvPicPr>
            <p:blipFill>
              <a:blip r:embed="rId3"/>
              <a:stretch/>
            </p:blipFill>
            <p:spPr>
              <a:xfrm rot="306000">
                <a:off x="2648520" y="2931120"/>
                <a:ext cx="516600" cy="46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0" descr="1"/>
              <p:cNvPicPr/>
              <p:nvPr/>
            </p:nvPicPr>
            <p:blipFill>
              <a:blip r:embed="rId4"/>
              <a:stretch/>
            </p:blipFill>
            <p:spPr>
              <a:xfrm rot="20570400">
                <a:off x="1732320" y="2295000"/>
                <a:ext cx="510120" cy="4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Picture 11" descr="4"/>
              <p:cNvPicPr/>
              <p:nvPr/>
            </p:nvPicPr>
            <p:blipFill>
              <a:blip r:embed="rId5"/>
              <a:stretch/>
            </p:blipFill>
            <p:spPr>
              <a:xfrm rot="1800600">
                <a:off x="2344320" y="2506320"/>
                <a:ext cx="4089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Picture 12" descr="6"/>
              <p:cNvPicPr/>
              <p:nvPr/>
            </p:nvPicPr>
            <p:blipFill>
              <a:blip r:embed="rId6"/>
              <a:stretch/>
            </p:blipFill>
            <p:spPr>
              <a:xfrm rot="20464800">
                <a:off x="1324080" y="2506320"/>
                <a:ext cx="378360" cy="48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3" descr="5"/>
              <p:cNvPicPr/>
              <p:nvPr/>
            </p:nvPicPr>
            <p:blipFill>
              <a:blip r:embed="rId7"/>
              <a:stretch/>
            </p:blipFill>
            <p:spPr>
              <a:xfrm rot="1959000">
                <a:off x="1287360" y="3689280"/>
                <a:ext cx="4053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4" descr="3"/>
              <p:cNvPicPr/>
              <p:nvPr/>
            </p:nvPicPr>
            <p:blipFill>
              <a:blip r:embed="rId8"/>
              <a:stretch/>
            </p:blipFill>
            <p:spPr>
              <a:xfrm>
                <a:off x="1119240" y="3035520"/>
                <a:ext cx="50760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Oval 15"/>
            <p:cNvSpPr/>
            <p:nvPr/>
          </p:nvSpPr>
          <p:spPr>
            <a:xfrm>
              <a:off x="2013480" y="1542240"/>
              <a:ext cx="228240" cy="2282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E:\данные\Картинки\пдд\Движение пешеходов запрещено.gif"/>
          <p:cNvPicPr/>
          <p:nvPr/>
        </p:nvPicPr>
        <p:blipFill>
          <a:blip r:embed="rId3"/>
          <a:stretch/>
        </p:blipFill>
        <p:spPr>
          <a:xfrm>
            <a:off x="4214880" y="3929040"/>
            <a:ext cx="711000" cy="711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E:\данные\Картинки\пдд\Дети.gif"/>
          <p:cNvPicPr/>
          <p:nvPr/>
        </p:nvPicPr>
        <p:blipFill>
          <a:blip r:embed="rId4"/>
          <a:stretch/>
        </p:blipFill>
        <p:spPr>
          <a:xfrm>
            <a:off x="1571760" y="3857760"/>
            <a:ext cx="795240" cy="691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E:\данные\Картинки\пдд\Дорожные работы.gif"/>
          <p:cNvPicPr/>
          <p:nvPr/>
        </p:nvPicPr>
        <p:blipFill>
          <a:blip r:embed="rId5"/>
          <a:stretch/>
        </p:blipFill>
        <p:spPr>
          <a:xfrm>
            <a:off x="6643800" y="3929040"/>
            <a:ext cx="838080" cy="72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E:\данные\Картинки\пдд\Blue bicycle sign.jpg"/>
          <p:cNvPicPr/>
          <p:nvPr/>
        </p:nvPicPr>
        <p:blipFill>
          <a:blip r:embed="rId6"/>
          <a:stretch/>
        </p:blipFill>
        <p:spPr>
          <a:xfrm>
            <a:off x="6643800" y="1643040"/>
            <a:ext cx="1057320" cy="102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E:\данные\Картинки\пдд\Car passing sign.jpg"/>
          <p:cNvPicPr/>
          <p:nvPr/>
        </p:nvPicPr>
        <p:blipFill>
          <a:blip r:embed="rId7"/>
          <a:stretch/>
        </p:blipFill>
        <p:spPr>
          <a:xfrm>
            <a:off x="3835440" y="1571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E:\данные\Картинки\пдд\Рисунок10.jpg"/>
          <p:cNvPicPr/>
          <p:nvPr/>
        </p:nvPicPr>
        <p:blipFill>
          <a:blip r:embed="rId8"/>
          <a:srcRect l="0" t="0" r="1023" b="0"/>
          <a:stretch/>
        </p:blipFill>
        <p:spPr>
          <a:xfrm>
            <a:off x="1500120" y="1643040"/>
            <a:ext cx="1028880" cy="1039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3"/>
          <p:cNvSpPr/>
          <p:nvPr/>
        </p:nvSpPr>
        <p:spPr>
          <a:xfrm>
            <a:off x="428760" y="2928960"/>
            <a:ext cx="27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ПЕШЕХОДНЫЙ ПЕРЕХ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3357720" y="292896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ОБГОН ЗАПРЕЩ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6000840" y="292896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ВЕЛОСИПЕДНАЯ ДОРОЖ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571680" y="492912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Е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3214800" y="500076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ВИЖЕНИЕ ПЕШЕХОД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ЗАПРЕЩЕ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6143760" y="50007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ОРОЖНЫЕ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28760" y="356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Движением полон город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Бегут машины в ряд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Цветные светофо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день и ночь горя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" descr="E:\данные\Картинки\пдд\Рисунок14.jpg"/>
          <p:cNvPicPr/>
          <p:nvPr/>
        </p:nvPicPr>
        <p:blipFill>
          <a:blip r:embed="rId2"/>
          <a:stretch/>
        </p:blipFill>
        <p:spPr>
          <a:xfrm>
            <a:off x="1714680" y="3286080"/>
            <a:ext cx="5572080" cy="2651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4714920" y="428760"/>
            <a:ext cx="3684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ам, где днём трамва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Спешат со всех сторон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ходить, зевая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считать ворон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E:\данные\Картинки\анимация\транспорт\a2e308d6873de3476e535e50353e0380.gif"/>
          <p:cNvPicPr/>
          <p:nvPr/>
        </p:nvPicPr>
        <p:blipFill>
          <a:blip r:embed="rId3"/>
          <a:stretch/>
        </p:blipFill>
        <p:spPr>
          <a:xfrm>
            <a:off x="6786720" y="1143000"/>
            <a:ext cx="213984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2"/>
          <a:stretch/>
        </p:blipFill>
        <p:spPr>
          <a:xfrm>
            <a:off x="-109440" y="268200"/>
            <a:ext cx="913752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071720" y="1499760"/>
            <a:ext cx="36432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проспекты, и бульвары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юду улицы шум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по тротуар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олько с правой стороны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ут шалить, мешать народ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Быть примерным пешеход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ты гуляешь просто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ё равно вперёд гляд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Через шумный перекрёс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Осторожно проход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ереход при красном све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и зелёном даже дет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2" descr="E:\данные\Картинки\пдд\Рисунок15.jpg"/>
          <p:cNvPicPr/>
          <p:nvPr/>
        </p:nvPicPr>
        <p:blipFill>
          <a:blip r:embed="rId3"/>
          <a:stretch/>
        </p:blipFill>
        <p:spPr>
          <a:xfrm>
            <a:off x="5857920" y="3786120"/>
            <a:ext cx="2857320" cy="29415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4870440" y="1428840"/>
            <a:ext cx="32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едешь ты в трамва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вокруг тебя наро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Не толкаясь, не зев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скорей вперё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хать «зайцем», как извес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Уступить старушке 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E:\данные\Картинки\пдд\Рисунок3.jpg"/>
          <p:cNvPicPr/>
          <p:nvPr/>
        </p:nvPicPr>
        <p:blipFill>
          <a:blip r:embed="rId4"/>
          <a:stretch/>
        </p:blipFill>
        <p:spPr>
          <a:xfrm>
            <a:off x="142920" y="1643040"/>
            <a:ext cx="915840" cy="928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:\данные\Картинки\пдд\Рисунок9.png"/>
          <p:cNvPicPr/>
          <p:nvPr/>
        </p:nvPicPr>
        <p:blipFill>
          <a:blip r:embed="rId5"/>
          <a:stretch/>
        </p:blipFill>
        <p:spPr>
          <a:xfrm>
            <a:off x="142920" y="3929040"/>
            <a:ext cx="992160" cy="147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2"/>
          <a:stretch/>
        </p:blipFill>
        <p:spPr>
          <a:xfrm>
            <a:off x="450720" y="36360"/>
            <a:ext cx="8369280" cy="156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E:\данные\Картинки\пдд\Рисунок16.jpg"/>
          <p:cNvPicPr/>
          <p:nvPr/>
        </p:nvPicPr>
        <p:blipFill>
          <a:blip r:embed="rId3"/>
          <a:stretch/>
        </p:blipFill>
        <p:spPr>
          <a:xfrm>
            <a:off x="4214880" y="1500120"/>
            <a:ext cx="4438440" cy="48643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142920" y="2214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Трамвай обходят спер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71680" y="49291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Автобус обходят сз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E:\данные\Картинки\анимация\РАЗНОЕ\AG00092_.GIF"/>
          <p:cNvPicPr/>
          <p:nvPr/>
        </p:nvPicPr>
        <p:blipFill>
          <a:blip r:embed="rId4"/>
          <a:stretch/>
        </p:blipFill>
        <p:spPr>
          <a:xfrm>
            <a:off x="3786120" y="228600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E:\данные\Картинки\анимация\РАЗНОЕ\AG00092_.GIF"/>
          <p:cNvPicPr/>
          <p:nvPr/>
        </p:nvPicPr>
        <p:blipFill>
          <a:blip r:embed="rId5"/>
          <a:stretch/>
        </p:blipFill>
        <p:spPr>
          <a:xfrm>
            <a:off x="3786120" y="500076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8" descr=""/>
          <p:cNvPicPr/>
          <p:nvPr/>
        </p:nvPicPr>
        <p:blipFill>
          <a:blip r:embed="rId6"/>
          <a:stretch/>
        </p:blipFill>
        <p:spPr>
          <a:xfrm>
            <a:off x="360360" y="3078000"/>
            <a:ext cx="393048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78552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БУДЬТЕ ВНИМАТЕЛЬНЫМИ И ОСТОРОЖНЫМ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НАЙТЕ И СОБЛЮДАЙ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РОЖНОГО ДВИЖЕНИЯ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E:\данные\Картинки\пдд\Рисунок19.jpg"/>
          <p:cNvPicPr/>
          <p:nvPr/>
        </p:nvPicPr>
        <p:blipFill>
          <a:blip r:embed="rId2"/>
          <a:stretch/>
        </p:blipFill>
        <p:spPr>
          <a:xfrm>
            <a:off x="7572240" y="1785960"/>
            <a:ext cx="1032120" cy="9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E:\данные\Картинки\анимация\Дети\BOY11A.GIF"/>
          <p:cNvPicPr/>
          <p:nvPr/>
        </p:nvPicPr>
        <p:blipFill>
          <a:blip r:embed="rId3"/>
          <a:stretch/>
        </p:blipFill>
        <p:spPr>
          <a:xfrm>
            <a:off x="4143240" y="535788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E:\данные\Картинки\анимация\свечи, огонь\098d0000.gif"/>
          <p:cNvPicPr/>
          <p:nvPr/>
        </p:nvPicPr>
        <p:blipFill>
          <a:blip r:embed="rId4"/>
          <a:stretch/>
        </p:blipFill>
        <p:spPr>
          <a:xfrm>
            <a:off x="214200" y="1714680"/>
            <a:ext cx="10000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00"/>
                            </p:stCondLst>
                            <p:childTnLst>
                              <p:par>
                                <p:cTn id="3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4:00Z</dcterms:created>
  <dc:creator>ooo</dc:creator>
  <dc:description/>
  <dc:language>en-US</dc:language>
  <cp:lastModifiedBy>я</cp:lastModifiedBy>
  <dcterms:modified xsi:type="dcterms:W3CDTF">2013-02-06T22:24:54Z</dcterms:modified>
  <cp:revision>18</cp:revision>
  <dc:subject/>
  <dc:title>ПРАВИЛА ДОРОЖНОГО ДВИЖЕНИЯ</dc:title>
</cp:coreProperties>
</file>