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42A-6505-4875-BC5D-586EF89E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D60-C042-4FA4-9790-89B4E61D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C98-590F-4DC3-BE79-959AE8C6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393-8205-4DD0-B322-F4E1A3A1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15AA-E8A5-4BDE-AB07-C24C7505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F84E-9CAD-45EC-8817-455460AA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2D24-A92B-4B52-BC98-72544E96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09A3-51D3-4EF7-B366-71DF4702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E4C6-8063-40B4-A2AE-B3A9E86C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56C2-3757-4D53-9125-0729863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E224-A2A0-476B-A669-B765F1D2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341-29A0-4DE6-BE48-8D21EBA2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C7EF-9333-41BD-906A-4B1A7127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F749-DBE5-405F-9E78-5D6BE72C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07C-9853-46E1-9F10-F1DC18E9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1AC5-897A-4778-B99D-E8BE8384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A105-DC23-4209-AEE1-44B1363E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B56D-8005-4211-A0DA-4F0F69E1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6FC0-973C-406F-A769-32E6273A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D95A-A8F2-40EA-BC84-658C0747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A9C6-DEBE-4CA4-9E75-83915B5B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D65E-299B-4A58-87F1-AB529D89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D09-ADDB-47B7-847B-6BD467FD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3927-E099-4163-B847-F4F98553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A833-61C7-42E2-AC78-F1E2B2D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EA460-288A-4F64-B99F-FCEE514F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BF0D-549B-4D5A-8997-CAE9F25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C07C-1BB3-4EA9-8E92-00CD863E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0465-2A1A-4FB1-8CCA-3AD0137A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A499-043C-4CDE-A3F3-2A672390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394A-7013-4A10-AFC0-EDBCEF9D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BDE6-2803-404F-B50C-640FA135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C0AF-D6AF-4E2D-807E-22F10EB2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3E7-AAB8-44FA-A0EA-9DBB3098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AE41-4C06-4BF1-B85D-9F34A424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454B-A33A-417B-88D2-CF789155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BFDC-35D6-474F-B6D1-CE2A9C5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6B43A-A75E-44E3-97A3-041E825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3116-26FE-4263-8427-22015C73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CCDF-E3CE-42FB-AD38-96E2CAB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87557-BACD-48D2-B7F0-D90E3315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C940-8451-4F2B-AD56-D3602B89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DE05D-52C0-4CDC-BFE6-282CBB5C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47DF-2D5E-4D1E-8794-49C641A9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352-AA63-42A8-B600-E28F8B8A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1073-6F5F-4B78-A7DE-F3BA7D43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38865-A515-4919-8E7B-A8089CD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0429-FCD3-4B53-9174-D93E389D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B38DA-3B7F-4941-9E77-0260ADD6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54F3-F111-43CF-96D5-FE6083EC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BF12-1B8A-4C08-AC40-F190B463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BDB6D-C36A-4B08-B145-A5BFBC0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0EAFF-0DE7-40F2-B691-ED32A26C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E169-1019-47DC-9840-DBE1FAB8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7544-6738-40AF-B3D0-59C8D7AA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DDF-6B04-4162-9F59-47B190DA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14CA-A404-490B-A56A-6F2DF616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11FC-C13E-4CC4-AF1E-07DE9311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7332-C336-4847-B5F3-DFD291AF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9067-B3E6-451E-A9DB-1E5987C6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E9C69-6991-4ADF-BA89-F428D1A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C77D-707E-410A-A9B0-F598DDD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ACD16-8C63-4A33-B653-A7FD35FE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F77F0-938C-48BB-BCAA-101AE64C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BA6D7-D05A-49C4-9E85-B345362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51C4A-8FF2-47F8-BCF1-021C47A9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DA7-BCD1-4611-B090-4D8AF230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A83A-FF3E-4030-B330-6C1E65CF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B3DE1-AB7D-4D65-B3B9-04754D08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662E8-B4BC-45C4-BB39-4EFC5805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2EB-CC1F-4660-AE4A-4FC4C33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786-4AD6-4671-BC63-FFB6DFB1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0062-9968-4D83-B082-EC7725C49845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07D8-8DCF-4266-96A6-00FFF6092066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AE54-9BDC-4A7E-A49F-96E8E3DCD538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8567-7703-4207-A283-95B51EAA1707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0511-D1CB-435B-8055-E4BA55D0D90B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7308-58D0-4E71-8809-E2174462C44E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441360" y="1357200"/>
            <a:ext cx="84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Угол между плоскостям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3370680" y="4941720"/>
            <a:ext cx="54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итель математики МБОУ Лялич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уражского района 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новаленко Алла Вале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217440" y="1429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2022480" y="214200"/>
            <a:ext cx="44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ь данные плоскости пересека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885320" y="642960"/>
            <a:ext cx="72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м плоскость , перпендикулярную прямой их пересе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1955520" y="1143000"/>
            <a:ext cx="57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а пересекает данные плоскости по двум прям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1999080" y="15717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ол между этими прямыми назыв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4877280" y="2071800"/>
            <a:ext cx="40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d46c"/>
                </a:solidFill>
                <a:latin typeface="Arial"/>
              </a:rPr>
              <a:t>углом между данными плоск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араллелограмм 10"/>
          <p:cNvSpPr/>
          <p:nvPr/>
        </p:nvSpPr>
        <p:spPr>
          <a:xfrm rot="21432600">
            <a:off x="1391760" y="4654080"/>
            <a:ext cx="6399360" cy="1584360"/>
          </a:xfrm>
          <a:prstGeom prst="parallelogram">
            <a:avLst>
              <a:gd name="adj" fmla="val 143219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араллелограмм 11"/>
          <p:cNvSpPr/>
          <p:nvPr/>
        </p:nvSpPr>
        <p:spPr>
          <a:xfrm rot="8548800">
            <a:off x="383760" y="3284280"/>
            <a:ext cx="5245200" cy="1704960"/>
          </a:xfrm>
          <a:prstGeom prst="parallelogram">
            <a:avLst>
              <a:gd name="adj" fmla="val 142584"/>
            </a:avLst>
          </a:prstGeom>
          <a:solidFill>
            <a:srgbClr val="637f26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араллелограмм 15"/>
          <p:cNvSpPr/>
          <p:nvPr/>
        </p:nvSpPr>
        <p:spPr>
          <a:xfrm>
            <a:off x="2714760" y="2786040"/>
            <a:ext cx="4500360" cy="2643120"/>
          </a:xfrm>
          <a:prstGeom prst="parallelogram">
            <a:avLst>
              <a:gd name="adj" fmla="val 24996"/>
            </a:avLst>
          </a:prstGeom>
          <a:solidFill>
            <a:srgbClr val="f88631"/>
          </a:solidFill>
          <a:ln w="0">
            <a:solidFill>
              <a:srgbClr val="26697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ая соединительная линия 14"/>
          <p:cNvSpPr/>
          <p:nvPr/>
        </p:nvSpPr>
        <p:spPr>
          <a:xfrm flipH="1">
            <a:off x="2714760" y="2786040"/>
            <a:ext cx="642960" cy="264312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17"/>
          <p:cNvSpPr/>
          <p:nvPr/>
        </p:nvSpPr>
        <p:spPr>
          <a:xfrm>
            <a:off x="2714760" y="5429160"/>
            <a:ext cx="3857400" cy="0"/>
          </a:xfrm>
          <a:prstGeom prst="line">
            <a:avLst/>
          </a:prstGeom>
          <a:ln w="25560">
            <a:solidFill>
              <a:srgbClr val="232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ая соединительная линия 19"/>
          <p:cNvSpPr/>
          <p:nvPr/>
        </p:nvSpPr>
        <p:spPr>
          <a:xfrm flipH="1">
            <a:off x="2500200" y="5142960"/>
            <a:ext cx="285840" cy="214200"/>
          </a:xfrm>
          <a:prstGeom prst="line">
            <a:avLst/>
          </a:prstGeom>
          <a:ln w="19080">
            <a:solidFill>
              <a:srgbClr val="9222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ая соединительная линия 21"/>
          <p:cNvSpPr/>
          <p:nvPr/>
        </p:nvSpPr>
        <p:spPr>
          <a:xfrm flipH="1">
            <a:off x="2428920" y="5357880"/>
            <a:ext cx="71280" cy="285840"/>
          </a:xfrm>
          <a:prstGeom prst="line">
            <a:avLst/>
          </a:prstGeom>
          <a:ln w="19080">
            <a:solidFill>
              <a:srgbClr val="9222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ая соединительная линия 27"/>
          <p:cNvSpPr/>
          <p:nvPr/>
        </p:nvSpPr>
        <p:spPr>
          <a:xfrm>
            <a:off x="2561400" y="5553000"/>
            <a:ext cx="438120" cy="19080"/>
          </a:xfrm>
          <a:prstGeom prst="line">
            <a:avLst/>
          </a:prstGeom>
          <a:ln w="190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30"/>
          <p:cNvSpPr/>
          <p:nvPr/>
        </p:nvSpPr>
        <p:spPr>
          <a:xfrm flipV="1">
            <a:off x="2999520" y="5428800"/>
            <a:ext cx="142920" cy="142920"/>
          </a:xfrm>
          <a:prstGeom prst="line">
            <a:avLst/>
          </a:prstGeom>
          <a:ln w="190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Дуга 31"/>
          <p:cNvSpPr/>
          <p:nvPr/>
        </p:nvSpPr>
        <p:spPr>
          <a:xfrm>
            <a:off x="2571840" y="4786200"/>
            <a:ext cx="714240" cy="1214640"/>
          </a:xfrm>
          <a:custGeom>
            <a:avLst/>
            <a:gdLst>
              <a:gd name="textAreaLeft" fmla="*/ 298080 w 714240"/>
              <a:gd name="textAreaRight" fmla="*/ 714600 w 714240"/>
              <a:gd name="textAreaTop" fmla="*/ 0 h 1214640"/>
              <a:gd name="textAreaBottom" fmla="*/ 631440 h 1214640"/>
            </a:gdLst>
            <a:ahLst/>
            <a:rect l="textAreaLeft" t="textAreaTop" r="textAreaRight" b="textAreaBottom"/>
            <a:pathLst>
              <a:path stroke="0" w="714375" h="1214437">
                <a:moveTo>
                  <a:pt x="298240" y="8326"/>
                </a:moveTo>
                <a:lnTo>
                  <a:pt x="298240" y="8326"/>
                </a:lnTo>
                <a:arcTo wR="357188" hR="607219" stAng="-5737285" swAng="5970248"/>
                <a:lnTo>
                  <a:pt x="357188" y="607219"/>
                </a:lnTo>
                <a:close/>
              </a:path>
              <a:path fill="none" w="714375" h="1214437">
                <a:moveTo>
                  <a:pt x="298240" y="8326"/>
                </a:moveTo>
                <a:lnTo>
                  <a:pt x="298240" y="8326"/>
                </a:lnTo>
                <a:arcTo wR="357188" hR="607219" stAng="-5737285" swAng="5970248"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954440" y="285840"/>
            <a:ext cx="60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хема построения линейного угла между плоскост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445760" y="785880"/>
            <a:ext cx="66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елить линию пересечения плоскостей и определи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 ли плоскость ей перпендикуля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Стрелка вверх 5"/>
          <p:cNvSpPr/>
          <p:nvPr/>
        </p:nvSpPr>
        <p:spPr>
          <a:xfrm rot="11684400">
            <a:off x="1353240" y="1407240"/>
            <a:ext cx="473400" cy="592200"/>
          </a:xfrm>
          <a:prstGeom prst="upArrow">
            <a:avLst>
              <a:gd name="adj1" fmla="val 34120"/>
              <a:gd name="adj2" fmla="val 60723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трелка вниз 6"/>
          <p:cNvSpPr/>
          <p:nvPr/>
        </p:nvSpPr>
        <p:spPr>
          <a:xfrm>
            <a:off x="5572080" y="14288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1146240" y="2071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5501160" y="2000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0" y="2500200"/>
            <a:ext cx="31431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пользовать определени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Выделить и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роить прям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сечения эт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скости с дан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скост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Сделать вывод, ч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 между эти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ямыми явля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нейным уг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3156480" y="2428920"/>
            <a:ext cx="259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пользовать теоре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трех перпендикуляр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3089160" y="3000240"/>
            <a:ext cx="276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Выделить или построи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перпендикуля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3080160" y="3571920"/>
            <a:ext cx="23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Определить втор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3084840" y="4143240"/>
            <a:ext cx="20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Построить трет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12"/>
          <p:cNvSpPr/>
          <p:nvPr/>
        </p:nvSpPr>
        <p:spPr>
          <a:xfrm>
            <a:off x="3015360" y="4714920"/>
            <a:ext cx="296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Сделать вывод, ч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 между построенны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клонной и ее проекци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вляется линейным угл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5936400" y="23572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пользовать опреде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нейного угл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952960" y="2857680"/>
            <a:ext cx="333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Выделить или построи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дной из данных плоскос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 к лин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сечения плоскос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875920" y="3857760"/>
            <a:ext cx="3448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Выделить или построи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 к лин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сечения плоскосте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жащий в другой плоск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проходящий через осн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а из п.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5869800" y="5357880"/>
            <a:ext cx="312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Сделать вывод, ч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 между построен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ами явля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нейным углом меж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умя плоскост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2148480" y="285840"/>
            <a:ext cx="41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ема о трех перпендикуля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645840" y="857160"/>
            <a:ext cx="76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прямая, проведенная на плоскости через основание наклонн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659160" y="135720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пендикулярна ее проекц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4032720" y="135720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 она перпендикулярна накло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араллелограмм 6"/>
          <p:cNvSpPr/>
          <p:nvPr/>
        </p:nvSpPr>
        <p:spPr>
          <a:xfrm>
            <a:off x="1500120" y="2786040"/>
            <a:ext cx="5929560" cy="1571760"/>
          </a:xfrm>
          <a:prstGeom prst="parallelogram">
            <a:avLst>
              <a:gd name="adj" fmla="val 92515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ая соединительная линия 10"/>
          <p:cNvSpPr/>
          <p:nvPr/>
        </p:nvSpPr>
        <p:spPr>
          <a:xfrm>
            <a:off x="3857760" y="1928880"/>
            <a:ext cx="1428480" cy="157140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ая соединительная линия 12"/>
          <p:cNvSpPr/>
          <p:nvPr/>
        </p:nvSpPr>
        <p:spPr>
          <a:xfrm flipH="1">
            <a:off x="4714920" y="2857680"/>
            <a:ext cx="1000080" cy="1428480"/>
          </a:xfrm>
          <a:prstGeom prst="line">
            <a:avLst/>
          </a:prstGeom>
          <a:ln w="25560">
            <a:solidFill>
              <a:srgbClr val="eba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ая соединительная линия 14"/>
          <p:cNvSpPr/>
          <p:nvPr/>
        </p:nvSpPr>
        <p:spPr>
          <a:xfrm flipH="1">
            <a:off x="3857760" y="3500280"/>
            <a:ext cx="142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ая соединительная линия 16"/>
          <p:cNvSpPr/>
          <p:nvPr/>
        </p:nvSpPr>
        <p:spPr>
          <a:xfrm>
            <a:off x="3857760" y="1928880"/>
            <a:ext cx="0" cy="157140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18"/>
          <p:cNvSpPr/>
          <p:nvPr/>
        </p:nvSpPr>
        <p:spPr>
          <a:xfrm>
            <a:off x="3857760" y="3286080"/>
            <a:ext cx="285480" cy="0"/>
          </a:xfrm>
          <a:prstGeom prst="line">
            <a:avLst/>
          </a:prstGeom>
          <a:ln w="1584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20"/>
          <p:cNvSpPr/>
          <p:nvPr/>
        </p:nvSpPr>
        <p:spPr>
          <a:xfrm>
            <a:off x="4143240" y="3286080"/>
            <a:ext cx="0" cy="214200"/>
          </a:xfrm>
          <a:prstGeom prst="line">
            <a:avLst/>
          </a:prstGeom>
          <a:ln w="1584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ая соединительная линия 22"/>
          <p:cNvSpPr/>
          <p:nvPr/>
        </p:nvSpPr>
        <p:spPr>
          <a:xfrm flipH="1">
            <a:off x="4928760" y="3500280"/>
            <a:ext cx="142920" cy="214560"/>
          </a:xfrm>
          <a:prstGeom prst="line">
            <a:avLst/>
          </a:prstGeom>
          <a:ln w="1260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24"/>
          <p:cNvSpPr/>
          <p:nvPr/>
        </p:nvSpPr>
        <p:spPr>
          <a:xfrm>
            <a:off x="4929120" y="3714840"/>
            <a:ext cx="142920" cy="0"/>
          </a:xfrm>
          <a:prstGeom prst="line">
            <a:avLst/>
          </a:prstGeom>
          <a:ln w="1260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ая соединительная линия 26"/>
          <p:cNvSpPr/>
          <p:nvPr/>
        </p:nvSpPr>
        <p:spPr>
          <a:xfrm flipV="1">
            <a:off x="5143680" y="3071520"/>
            <a:ext cx="142560" cy="214200"/>
          </a:xfrm>
          <a:prstGeom prst="line">
            <a:avLst/>
          </a:prstGeom>
          <a:ln w="1260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28"/>
          <p:cNvSpPr/>
          <p:nvPr/>
        </p:nvSpPr>
        <p:spPr>
          <a:xfrm>
            <a:off x="5285520" y="3071880"/>
            <a:ext cx="142920" cy="142920"/>
          </a:xfrm>
          <a:prstGeom prst="line">
            <a:avLst/>
          </a:prstGeom>
          <a:ln w="1260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32"/>
          <p:cNvSpPr/>
          <p:nvPr/>
        </p:nvSpPr>
        <p:spPr>
          <a:xfrm>
            <a:off x="505080" y="535788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братно: если прямая на плоскости перпендикулярна наклонн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33"/>
          <p:cNvSpPr/>
          <p:nvPr/>
        </p:nvSpPr>
        <p:spPr>
          <a:xfrm>
            <a:off x="607320" y="5857920"/>
            <a:ext cx="52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 она перпендикулярна и проекции накло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214200" y="21420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троить линейный угол двугранного угла с ребром АС,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пирамиде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BC AB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C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, пряма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перпендикулярна плоскост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2"/>
          <p:cNvSpPr/>
          <p:nvPr/>
        </p:nvSpPr>
        <p:spPr>
          <a:xfrm>
            <a:off x="2643120" y="4643280"/>
            <a:ext cx="2500560" cy="10717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3"/>
          <p:cNvSpPr/>
          <p:nvPr/>
        </p:nvSpPr>
        <p:spPr>
          <a:xfrm flipV="1">
            <a:off x="5143680" y="4357800"/>
            <a:ext cx="1857240" cy="1357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4"/>
          <p:cNvSpPr/>
          <p:nvPr/>
        </p:nvSpPr>
        <p:spPr>
          <a:xfrm flipV="1">
            <a:off x="2643120" y="4357440"/>
            <a:ext cx="4357800" cy="28548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700092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5000760" y="57150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2357280" y="4500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2571840" y="2000160"/>
            <a:ext cx="71280" cy="26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2214720" y="171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2571840" y="2000160"/>
            <a:ext cx="4429080" cy="23986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11"/>
          <p:cNvSpPr/>
          <p:nvPr/>
        </p:nvSpPr>
        <p:spPr>
          <a:xfrm>
            <a:off x="2571120" y="2000160"/>
            <a:ext cx="2614680" cy="37148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12"/>
          <p:cNvSpPr/>
          <p:nvPr/>
        </p:nvSpPr>
        <p:spPr>
          <a:xfrm flipH="1">
            <a:off x="6026040" y="5025960"/>
            <a:ext cx="46080" cy="460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ая соединительная линия 13"/>
          <p:cNvSpPr/>
          <p:nvPr/>
        </p:nvSpPr>
        <p:spPr>
          <a:xfrm>
            <a:off x="5428440" y="5357880"/>
            <a:ext cx="142920" cy="1429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14"/>
          <p:cNvSpPr/>
          <p:nvPr/>
        </p:nvSpPr>
        <p:spPr>
          <a:xfrm>
            <a:off x="6428520" y="4714920"/>
            <a:ext cx="142920" cy="1429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15"/>
          <p:cNvSpPr/>
          <p:nvPr/>
        </p:nvSpPr>
        <p:spPr>
          <a:xfrm>
            <a:off x="2643120" y="4643280"/>
            <a:ext cx="3429000" cy="406440"/>
          </a:xfrm>
          <a:prstGeom prst="line">
            <a:avLst/>
          </a:prstGeom>
          <a:ln w="2232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16"/>
          <p:cNvSpPr/>
          <p:nvPr/>
        </p:nvSpPr>
        <p:spPr>
          <a:xfrm>
            <a:off x="2571840" y="2000160"/>
            <a:ext cx="3460680" cy="3065400"/>
          </a:xfrm>
          <a:prstGeom prst="line">
            <a:avLst/>
          </a:prstGeom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607212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Дуга 18"/>
          <p:cNvSpPr/>
          <p:nvPr/>
        </p:nvSpPr>
        <p:spPr>
          <a:xfrm rot="14638800">
            <a:off x="5533200" y="4623480"/>
            <a:ext cx="428400" cy="500040"/>
          </a:xfrm>
          <a:custGeom>
            <a:avLst/>
            <a:gdLst>
              <a:gd name="textAreaLeft" fmla="*/ 214200 w 428400"/>
              <a:gd name="textAreaRight" fmla="*/ 428760 w 42840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428625" h="500062">
                <a:moveTo>
                  <a:pt x="214313" y="0"/>
                </a:moveTo>
                <a:lnTo>
                  <a:pt x="214313" y="0"/>
                </a:lnTo>
                <a:arcTo wR="214313" hR="250031" stAng="-5400000" swAng="5400000"/>
                <a:lnTo>
                  <a:pt x="214313" y="250031"/>
                </a:lnTo>
                <a:close/>
              </a:path>
              <a:path fill="none" w="428625" h="500062">
                <a:moveTo>
                  <a:pt x="214313" y="0"/>
                </a:moveTo>
                <a:lnTo>
                  <a:pt x="214313" y="0"/>
                </a:lnTo>
                <a:arcTo wR="214313" hR="250031" stAng="-5400000" swAng="5400000"/>
              </a:path>
            </a:pathLst>
          </a:custGeom>
          <a:noFill/>
          <a:ln w="25560">
            <a:solidFill>
              <a:srgbClr val="fed4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ая соединительная линия 20"/>
          <p:cNvSpPr/>
          <p:nvPr/>
        </p:nvSpPr>
        <p:spPr>
          <a:xfrm>
            <a:off x="4714920" y="4357800"/>
            <a:ext cx="0" cy="3571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22"/>
          <p:cNvSpPr/>
          <p:nvPr/>
        </p:nvSpPr>
        <p:spPr>
          <a:xfrm flipH="1">
            <a:off x="4000680" y="5072040"/>
            <a:ext cx="71280" cy="28584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24"/>
          <p:cNvSpPr/>
          <p:nvPr/>
        </p:nvSpPr>
        <p:spPr>
          <a:xfrm flipH="1">
            <a:off x="4142880" y="5072040"/>
            <a:ext cx="71640" cy="3571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ая соединительная линия 26"/>
          <p:cNvSpPr/>
          <p:nvPr/>
        </p:nvSpPr>
        <p:spPr>
          <a:xfrm>
            <a:off x="4572000" y="4357800"/>
            <a:ext cx="0" cy="28548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ая соединительная линия 45"/>
          <p:cNvSpPr/>
          <p:nvPr/>
        </p:nvSpPr>
        <p:spPr>
          <a:xfrm>
            <a:off x="2643120" y="4286160"/>
            <a:ext cx="428760" cy="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ая соединительная линия 49"/>
          <p:cNvSpPr/>
          <p:nvPr/>
        </p:nvSpPr>
        <p:spPr>
          <a:xfrm>
            <a:off x="3071880" y="4286160"/>
            <a:ext cx="0" cy="28584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ая соединительная линия 27"/>
          <p:cNvSpPr/>
          <p:nvPr/>
        </p:nvSpPr>
        <p:spPr>
          <a:xfrm flipV="1">
            <a:off x="5786280" y="4643280"/>
            <a:ext cx="214560" cy="21456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ая соединительная линия 29"/>
          <p:cNvSpPr/>
          <p:nvPr/>
        </p:nvSpPr>
        <p:spPr>
          <a:xfrm>
            <a:off x="6000120" y="4643280"/>
            <a:ext cx="214200" cy="21456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ая соединительная линия 33"/>
          <p:cNvSpPr/>
          <p:nvPr/>
        </p:nvSpPr>
        <p:spPr>
          <a:xfrm flipH="1">
            <a:off x="5500440" y="5000760"/>
            <a:ext cx="142920" cy="1429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ая соединительная линия 35"/>
          <p:cNvSpPr/>
          <p:nvPr/>
        </p:nvSpPr>
        <p:spPr>
          <a:xfrm>
            <a:off x="5500080" y="5143680"/>
            <a:ext cx="142920" cy="14256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142920" y="1429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троить линейный угол двугранного угла с ребром АС,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пирамиде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BC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грань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правильный треугольник, О- точка пересечения медиан, прямая РО перпендикулярна плоскост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35"/>
          <p:cNvSpPr/>
          <p:nvPr/>
        </p:nvSpPr>
        <p:spPr>
          <a:xfrm>
            <a:off x="2786040" y="3786120"/>
            <a:ext cx="4071960" cy="0"/>
          </a:xfrm>
          <a:prstGeom prst="line">
            <a:avLst/>
          </a:prstGeom>
          <a:ln w="19080">
            <a:solidFill>
              <a:srgbClr val="b9d7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ая соединительная линия 37"/>
          <p:cNvSpPr/>
          <p:nvPr/>
        </p:nvSpPr>
        <p:spPr>
          <a:xfrm>
            <a:off x="2786040" y="3786120"/>
            <a:ext cx="3286080" cy="228600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ая соединительная линия 39"/>
          <p:cNvSpPr/>
          <p:nvPr/>
        </p:nvSpPr>
        <p:spPr>
          <a:xfrm flipH="1">
            <a:off x="6071760" y="3786120"/>
            <a:ext cx="785880" cy="228600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ая соединительная линия 41"/>
          <p:cNvSpPr/>
          <p:nvPr/>
        </p:nvSpPr>
        <p:spPr>
          <a:xfrm flipH="1">
            <a:off x="2785680" y="1357200"/>
            <a:ext cx="2071800" cy="242892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ая соединительная линия 43"/>
          <p:cNvSpPr/>
          <p:nvPr/>
        </p:nvSpPr>
        <p:spPr>
          <a:xfrm>
            <a:off x="4857840" y="1357200"/>
            <a:ext cx="2000160" cy="242892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46"/>
          <p:cNvSpPr/>
          <p:nvPr/>
        </p:nvSpPr>
        <p:spPr>
          <a:xfrm>
            <a:off x="4857120" y="1357200"/>
            <a:ext cx="1214280" cy="471492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48"/>
          <p:cNvSpPr/>
          <p:nvPr/>
        </p:nvSpPr>
        <p:spPr>
          <a:xfrm>
            <a:off x="2786040" y="3786120"/>
            <a:ext cx="3643200" cy="1357560"/>
          </a:xfrm>
          <a:prstGeom prst="line">
            <a:avLst/>
          </a:prstGeom>
          <a:ln w="19080">
            <a:solidFill>
              <a:srgbClr val="d7dd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50"/>
          <p:cNvSpPr/>
          <p:nvPr/>
        </p:nvSpPr>
        <p:spPr>
          <a:xfrm flipH="1">
            <a:off x="4572000" y="3786120"/>
            <a:ext cx="2286000" cy="1214640"/>
          </a:xfrm>
          <a:prstGeom prst="line">
            <a:avLst/>
          </a:prstGeom>
          <a:ln w="19080">
            <a:solidFill>
              <a:srgbClr val="d7dd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63"/>
          <p:cNvSpPr/>
          <p:nvPr/>
        </p:nvSpPr>
        <p:spPr>
          <a:xfrm>
            <a:off x="6500880" y="4572000"/>
            <a:ext cx="214200" cy="71280"/>
          </a:xfrm>
          <a:prstGeom prst="line">
            <a:avLst/>
          </a:prstGeom>
          <a:ln w="1908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ая соединительная линия 65"/>
          <p:cNvSpPr/>
          <p:nvPr/>
        </p:nvSpPr>
        <p:spPr>
          <a:xfrm>
            <a:off x="6215040" y="5429160"/>
            <a:ext cx="142920" cy="71640"/>
          </a:xfrm>
          <a:prstGeom prst="line">
            <a:avLst/>
          </a:prstGeom>
          <a:ln w="1908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67"/>
          <p:cNvSpPr/>
          <p:nvPr/>
        </p:nvSpPr>
        <p:spPr>
          <a:xfrm flipH="1">
            <a:off x="3714480" y="4428360"/>
            <a:ext cx="214200" cy="142920"/>
          </a:xfrm>
          <a:prstGeom prst="line">
            <a:avLst/>
          </a:prstGeom>
          <a:ln w="1908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69"/>
          <p:cNvSpPr/>
          <p:nvPr/>
        </p:nvSpPr>
        <p:spPr>
          <a:xfrm flipH="1">
            <a:off x="5214600" y="5500080"/>
            <a:ext cx="214200" cy="142920"/>
          </a:xfrm>
          <a:prstGeom prst="line">
            <a:avLst/>
          </a:prstGeom>
          <a:ln w="1908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71"/>
          <p:cNvSpPr/>
          <p:nvPr/>
        </p:nvSpPr>
        <p:spPr>
          <a:xfrm>
            <a:off x="4857840" y="1357200"/>
            <a:ext cx="357120" cy="3357720"/>
          </a:xfrm>
          <a:prstGeom prst="line">
            <a:avLst/>
          </a:prstGeom>
          <a:ln w="19080">
            <a:solidFill>
              <a:srgbClr val="d0e4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77"/>
          <p:cNvSpPr/>
          <p:nvPr/>
        </p:nvSpPr>
        <p:spPr>
          <a:xfrm>
            <a:off x="4431600" y="107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79"/>
          <p:cNvSpPr/>
          <p:nvPr/>
        </p:nvSpPr>
        <p:spPr>
          <a:xfrm>
            <a:off x="236016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81"/>
          <p:cNvSpPr/>
          <p:nvPr/>
        </p:nvSpPr>
        <p:spPr>
          <a:xfrm>
            <a:off x="6929280" y="357192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83"/>
          <p:cNvSpPr/>
          <p:nvPr/>
        </p:nvSpPr>
        <p:spPr>
          <a:xfrm>
            <a:off x="6003360" y="6143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85"/>
          <p:cNvSpPr/>
          <p:nvPr/>
        </p:nvSpPr>
        <p:spPr>
          <a:xfrm>
            <a:off x="4788360" y="4214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ая соединительная линия 89"/>
          <p:cNvSpPr/>
          <p:nvPr/>
        </p:nvSpPr>
        <p:spPr>
          <a:xfrm flipH="1">
            <a:off x="4572000" y="1357200"/>
            <a:ext cx="285840" cy="364356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91"/>
          <p:cNvSpPr/>
          <p:nvPr/>
        </p:nvSpPr>
        <p:spPr>
          <a:xfrm flipV="1">
            <a:off x="4572000" y="4642920"/>
            <a:ext cx="642960" cy="357480"/>
          </a:xfrm>
          <a:prstGeom prst="line">
            <a:avLst/>
          </a:prstGeom>
          <a:ln w="223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Дуга 92"/>
          <p:cNvSpPr/>
          <p:nvPr/>
        </p:nvSpPr>
        <p:spPr>
          <a:xfrm>
            <a:off x="4357800" y="4357800"/>
            <a:ext cx="571320" cy="928440"/>
          </a:xfrm>
          <a:custGeom>
            <a:avLst/>
            <a:gdLst>
              <a:gd name="textAreaLeft" fmla="*/ 285840 w 571320"/>
              <a:gd name="textAreaRight" fmla="*/ 571680 w 571320"/>
              <a:gd name="textAreaTop" fmla="*/ 0 h 928440"/>
              <a:gd name="textAreaBottom" fmla="*/ 464400 h 928440"/>
            </a:gdLst>
            <a:ahLst/>
            <a:rect l="textAreaLeft" t="textAreaTop" r="textAreaRight" b="textAreaBottom"/>
            <a:pathLst>
              <a:path stroke="0" w="571500" h="928687">
                <a:moveTo>
                  <a:pt x="285751" y="0"/>
                </a:moveTo>
                <a:lnTo>
                  <a:pt x="285751" y="0"/>
                </a:lnTo>
                <a:arcTo wR="285750" hR="464344" stAng="-5399993" swAng="5400005"/>
                <a:lnTo>
                  <a:pt x="285750" y="464344"/>
                </a:lnTo>
                <a:close/>
              </a:path>
              <a:path fill="none" w="571500" h="928687">
                <a:moveTo>
                  <a:pt x="285751" y="0"/>
                </a:moveTo>
                <a:lnTo>
                  <a:pt x="285751" y="0"/>
                </a:lnTo>
                <a:arcTo wR="285750" hR="464344" stAng="-5399993" swAng="5400005"/>
              </a:path>
            </a:pathLst>
          </a:custGeom>
          <a:noFill/>
          <a:ln w="22320">
            <a:solidFill>
              <a:srgbClr val="7ec3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25"/>
          <p:cNvSpPr/>
          <p:nvPr/>
        </p:nvSpPr>
        <p:spPr>
          <a:xfrm flipV="1">
            <a:off x="5149800" y="4286160"/>
            <a:ext cx="279360" cy="11448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ая соединительная линия 27"/>
          <p:cNvSpPr/>
          <p:nvPr/>
        </p:nvSpPr>
        <p:spPr>
          <a:xfrm>
            <a:off x="5429160" y="4286160"/>
            <a:ext cx="0" cy="21456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ая соединительная линия 28"/>
          <p:cNvSpPr/>
          <p:nvPr/>
        </p:nvSpPr>
        <p:spPr>
          <a:xfrm>
            <a:off x="4786200" y="4857840"/>
            <a:ext cx="214560" cy="1429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ая соединительная линия 30"/>
          <p:cNvSpPr/>
          <p:nvPr/>
        </p:nvSpPr>
        <p:spPr>
          <a:xfrm flipH="1">
            <a:off x="4786200" y="5000040"/>
            <a:ext cx="214560" cy="1429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32"/>
          <p:cNvSpPr/>
          <p:nvPr/>
        </p:nvSpPr>
        <p:spPr>
          <a:xfrm flipV="1">
            <a:off x="4357800" y="4572000"/>
            <a:ext cx="0" cy="28584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ая соединительная линия 34"/>
          <p:cNvSpPr/>
          <p:nvPr/>
        </p:nvSpPr>
        <p:spPr>
          <a:xfrm>
            <a:off x="4357800" y="4572000"/>
            <a:ext cx="214200" cy="1429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21420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ана пирамида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в основании которой прямоугольный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 катетами АВ и ВС, С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перпендикулярна плоскости осн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троить угол между плоскостью основания и плоскостью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3"/>
          <p:cNvSpPr/>
          <p:nvPr/>
        </p:nvSpPr>
        <p:spPr>
          <a:xfrm>
            <a:off x="2214720" y="4143240"/>
            <a:ext cx="2500200" cy="214344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5"/>
          <p:cNvSpPr/>
          <p:nvPr/>
        </p:nvSpPr>
        <p:spPr>
          <a:xfrm flipV="1">
            <a:off x="4714920" y="4642920"/>
            <a:ext cx="2428920" cy="164340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7"/>
          <p:cNvSpPr/>
          <p:nvPr/>
        </p:nvSpPr>
        <p:spPr>
          <a:xfrm>
            <a:off x="2214720" y="4143240"/>
            <a:ext cx="4929120" cy="500040"/>
          </a:xfrm>
          <a:prstGeom prst="line">
            <a:avLst/>
          </a:prstGeom>
          <a:ln w="25560">
            <a:solidFill>
              <a:srgbClr val="b9d7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9"/>
          <p:cNvSpPr/>
          <p:nvPr/>
        </p:nvSpPr>
        <p:spPr>
          <a:xfrm flipV="1">
            <a:off x="4500720" y="5928840"/>
            <a:ext cx="214200" cy="14292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11"/>
          <p:cNvSpPr/>
          <p:nvPr/>
        </p:nvSpPr>
        <p:spPr>
          <a:xfrm>
            <a:off x="4714200" y="5929200"/>
            <a:ext cx="214200" cy="21456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10"/>
          <p:cNvSpPr/>
          <p:nvPr/>
        </p:nvSpPr>
        <p:spPr>
          <a:xfrm flipH="1" flipV="1">
            <a:off x="2071440" y="1356840"/>
            <a:ext cx="142920" cy="278604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13"/>
          <p:cNvSpPr/>
          <p:nvPr/>
        </p:nvSpPr>
        <p:spPr>
          <a:xfrm flipH="1" flipV="1">
            <a:off x="2071440" y="1357200"/>
            <a:ext cx="5072040" cy="328608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15"/>
          <p:cNvSpPr/>
          <p:nvPr/>
        </p:nvSpPr>
        <p:spPr>
          <a:xfrm flipH="1" flipV="1">
            <a:off x="2071800" y="1356840"/>
            <a:ext cx="2643120" cy="492948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ая соединительная линия 24"/>
          <p:cNvSpPr/>
          <p:nvPr/>
        </p:nvSpPr>
        <p:spPr>
          <a:xfrm flipV="1">
            <a:off x="4500720" y="5785920"/>
            <a:ext cx="285480" cy="142920"/>
          </a:xfrm>
          <a:prstGeom prst="line">
            <a:avLst/>
          </a:prstGeom>
          <a:ln w="19080">
            <a:solidFill>
              <a:srgbClr val="7ec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29"/>
          <p:cNvSpPr/>
          <p:nvPr/>
        </p:nvSpPr>
        <p:spPr>
          <a:xfrm>
            <a:off x="4785480" y="5786280"/>
            <a:ext cx="142920" cy="357480"/>
          </a:xfrm>
          <a:prstGeom prst="line">
            <a:avLst/>
          </a:prstGeom>
          <a:ln w="19080">
            <a:solidFill>
              <a:srgbClr val="7ec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Дуга 31"/>
          <p:cNvSpPr/>
          <p:nvPr/>
        </p:nvSpPr>
        <p:spPr>
          <a:xfrm rot="13820400">
            <a:off x="3915360" y="5160960"/>
            <a:ext cx="500040" cy="5716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571680"/>
              <a:gd name="textAreaBottom" fmla="*/ 423360 h 571680"/>
            </a:gdLst>
            <a:ahLst/>
            <a:rect l="textAreaLeft" t="textAreaTop" r="textAreaRight" b="textAreaBottom"/>
            <a:pathLst>
              <a:path stroke="0" w="500063" h="571500">
                <a:moveTo>
                  <a:pt x="250032" y="0"/>
                </a:moveTo>
                <a:lnTo>
                  <a:pt x="250032" y="0"/>
                </a:lnTo>
                <a:arcTo wR="250032" hR="285750" stAng="-5400000" swAng="7324489"/>
                <a:lnTo>
                  <a:pt x="250032" y="285750"/>
                </a:lnTo>
                <a:close/>
              </a:path>
              <a:path fill="none" w="500063" h="571500">
                <a:moveTo>
                  <a:pt x="250032" y="0"/>
                </a:moveTo>
                <a:lnTo>
                  <a:pt x="250032" y="0"/>
                </a:lnTo>
                <a:arcTo wR="250032" hR="285750" stAng="-5400000" swAng="7324489"/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33"/>
          <p:cNvSpPr/>
          <p:nvPr/>
        </p:nvSpPr>
        <p:spPr>
          <a:xfrm>
            <a:off x="1645560" y="107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4"/>
          <p:cNvSpPr/>
          <p:nvPr/>
        </p:nvSpPr>
        <p:spPr>
          <a:xfrm>
            <a:off x="7218000" y="4500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36"/>
          <p:cNvSpPr/>
          <p:nvPr/>
        </p:nvSpPr>
        <p:spPr>
          <a:xfrm>
            <a:off x="4789080" y="628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38"/>
          <p:cNvSpPr/>
          <p:nvPr/>
        </p:nvSpPr>
        <p:spPr>
          <a:xfrm>
            <a:off x="1788480" y="4000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18"/>
          <p:cNvSpPr/>
          <p:nvPr/>
        </p:nvSpPr>
        <p:spPr>
          <a:xfrm>
            <a:off x="2214720" y="3857760"/>
            <a:ext cx="357120" cy="21420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ая соединительная линия 20"/>
          <p:cNvSpPr/>
          <p:nvPr/>
        </p:nvSpPr>
        <p:spPr>
          <a:xfrm>
            <a:off x="2571840" y="4071960"/>
            <a:ext cx="0" cy="3571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828ae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828ae"/>
                                      </p:to>
                                    </p:animClr>
                                    <p:set>
                                      <p:cBhvr>
                                        <p:cTn id="5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828ae"/>
                                      </p:to>
                                    </p:animClr>
                                    <p:set>
                                      <p:cBhvr>
                                        <p:cTn id="55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828ae"/>
                                      </p:to>
                                    </p:animClr>
                                    <p:set>
                                      <p:cBhvr>
                                        <p:cTn id="5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PABC- 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пирамида, основание которой- правильный треугольник. Какой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отмеченных углов является линейным углом двугранного угла с ребром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AC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, если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D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-середина отрезка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AC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, прямая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PB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 перпендикулярна плоскости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ABC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2"/>
          <p:cNvSpPr/>
          <p:nvPr/>
        </p:nvSpPr>
        <p:spPr>
          <a:xfrm>
            <a:off x="2571840" y="4500720"/>
            <a:ext cx="2143080" cy="71424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ая соединительная линия 3"/>
          <p:cNvSpPr/>
          <p:nvPr/>
        </p:nvSpPr>
        <p:spPr>
          <a:xfrm flipV="1">
            <a:off x="2571840" y="3499920"/>
            <a:ext cx="2500200" cy="1000440"/>
          </a:xfrm>
          <a:prstGeom prst="line">
            <a:avLst/>
          </a:prstGeom>
          <a:ln w="25560">
            <a:solidFill>
              <a:srgbClr val="637f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4"/>
          <p:cNvSpPr/>
          <p:nvPr/>
        </p:nvSpPr>
        <p:spPr>
          <a:xfrm flipH="1">
            <a:off x="4714920" y="3500280"/>
            <a:ext cx="357120" cy="171468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ая соединительная линия 5"/>
          <p:cNvSpPr/>
          <p:nvPr/>
        </p:nvSpPr>
        <p:spPr>
          <a:xfrm flipV="1">
            <a:off x="2569320" y="2142720"/>
            <a:ext cx="1800" cy="235908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ая соединительная линия 6"/>
          <p:cNvSpPr/>
          <p:nvPr/>
        </p:nvSpPr>
        <p:spPr>
          <a:xfrm>
            <a:off x="2571840" y="2143080"/>
            <a:ext cx="2500200" cy="135720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ая соединительная линия 7"/>
          <p:cNvSpPr/>
          <p:nvPr/>
        </p:nvSpPr>
        <p:spPr>
          <a:xfrm>
            <a:off x="2571120" y="2143080"/>
            <a:ext cx="2143080" cy="307188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4717440" y="5214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9"/>
          <p:cNvSpPr/>
          <p:nvPr/>
        </p:nvSpPr>
        <p:spPr>
          <a:xfrm>
            <a:off x="2145960" y="442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10"/>
          <p:cNvSpPr/>
          <p:nvPr/>
        </p:nvSpPr>
        <p:spPr>
          <a:xfrm>
            <a:off x="5074920" y="328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Дуга 11"/>
          <p:cNvSpPr/>
          <p:nvPr/>
        </p:nvSpPr>
        <p:spPr>
          <a:xfrm rot="15072600">
            <a:off x="4367520" y="4808520"/>
            <a:ext cx="357480" cy="428760"/>
          </a:xfrm>
          <a:custGeom>
            <a:avLst/>
            <a:gdLst>
              <a:gd name="textAreaLeft" fmla="*/ 178920 w 357480"/>
              <a:gd name="textAreaRight" fmla="*/ 357840 w 357480"/>
              <a:gd name="textAreaTop" fmla="*/ 0 h 428760"/>
              <a:gd name="textAreaBottom" fmla="*/ 214560 h 428760"/>
            </a:gdLst>
            <a:ahLst/>
            <a:rect l="textAreaLeft" t="textAreaTop" r="textAreaRight" b="textAreaBottom"/>
            <a:pathLst>
              <a:path stroke="0" w="357188" h="428625">
                <a:moveTo>
                  <a:pt x="178594" y="0"/>
                </a:moveTo>
                <a:lnTo>
                  <a:pt x="178594" y="0"/>
                </a:lnTo>
                <a:arcTo wR="178594" hR="214313" stAng="-5400000" swAng="5400000"/>
                <a:lnTo>
                  <a:pt x="178594" y="214313"/>
                </a:lnTo>
                <a:close/>
              </a:path>
              <a:path fill="none" w="357188" h="428625">
                <a:moveTo>
                  <a:pt x="178594" y="0"/>
                </a:moveTo>
                <a:lnTo>
                  <a:pt x="178594" y="0"/>
                </a:lnTo>
                <a:arcTo wR="178594" hR="214313" stAng="-5400000" swAng="5400000"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Овал 12"/>
          <p:cNvSpPr/>
          <p:nvPr/>
        </p:nvSpPr>
        <p:spPr>
          <a:xfrm>
            <a:off x="4857840" y="4357800"/>
            <a:ext cx="460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4932000" y="421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14"/>
          <p:cNvSpPr/>
          <p:nvPr/>
        </p:nvSpPr>
        <p:spPr>
          <a:xfrm>
            <a:off x="2571840" y="2143080"/>
            <a:ext cx="2325600" cy="227484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ая соединительная линия 15"/>
          <p:cNvSpPr/>
          <p:nvPr/>
        </p:nvSpPr>
        <p:spPr>
          <a:xfrm flipV="1">
            <a:off x="2643120" y="4417920"/>
            <a:ext cx="2254320" cy="82800"/>
          </a:xfrm>
          <a:prstGeom prst="line">
            <a:avLst/>
          </a:prstGeom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Дуга 16"/>
          <p:cNvSpPr/>
          <p:nvPr/>
        </p:nvSpPr>
        <p:spPr>
          <a:xfrm rot="15870600">
            <a:off x="4548600" y="4195080"/>
            <a:ext cx="285840" cy="357120"/>
          </a:xfrm>
          <a:custGeom>
            <a:avLst/>
            <a:gdLst>
              <a:gd name="textAreaLeft" fmla="*/ 142920 w 285840"/>
              <a:gd name="textAreaRight" fmla="*/ 286200 w 28584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285750" h="357187">
                <a:moveTo>
                  <a:pt x="142875" y="0"/>
                </a:moveTo>
                <a:lnTo>
                  <a:pt x="142875" y="0"/>
                </a:lnTo>
                <a:arcTo wR="142875" hR="178594" stAng="-5400000" swAng="5400000"/>
                <a:lnTo>
                  <a:pt x="142875" y="178594"/>
                </a:lnTo>
                <a:close/>
              </a:path>
              <a:path fill="none" w="285750" h="357187">
                <a:moveTo>
                  <a:pt x="142875" y="0"/>
                </a:moveTo>
                <a:lnTo>
                  <a:pt x="142875" y="0"/>
                </a:lnTo>
                <a:arcTo wR="142875" hR="178594" stAng="-5400000" swAng="5400000"/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Дуга 17"/>
          <p:cNvSpPr/>
          <p:nvPr/>
        </p:nvSpPr>
        <p:spPr>
          <a:xfrm rot="14745000">
            <a:off x="4494960" y="3940920"/>
            <a:ext cx="285840" cy="642960"/>
          </a:xfrm>
          <a:custGeom>
            <a:avLst/>
            <a:gdLst>
              <a:gd name="textAreaLeft" fmla="*/ 126360 w 285840"/>
              <a:gd name="textAreaRight" fmla="*/ 286200 w 285840"/>
              <a:gd name="textAreaTop" fmla="*/ 0 h 642960"/>
              <a:gd name="textAreaBottom" fmla="*/ 321480 h 642960"/>
            </a:gdLst>
            <a:ahLst/>
            <a:rect l="textAreaLeft" t="textAreaTop" r="textAreaRight" b="textAreaBottom"/>
            <a:pathLst>
              <a:path stroke="0" w="285750" h="642937">
                <a:moveTo>
                  <a:pt x="126394" y="2146"/>
                </a:moveTo>
                <a:lnTo>
                  <a:pt x="126394" y="2146"/>
                </a:lnTo>
                <a:arcTo wR="142875" hR="321469" stAng="-5577273" swAng="5577273"/>
                <a:lnTo>
                  <a:pt x="142875" y="321469"/>
                </a:lnTo>
                <a:close/>
              </a:path>
              <a:path fill="none" w="285750" h="642937">
                <a:moveTo>
                  <a:pt x="126394" y="2146"/>
                </a:moveTo>
                <a:lnTo>
                  <a:pt x="126394" y="2146"/>
                </a:lnTo>
                <a:arcTo wR="142875" hR="321469" stAng="-5577273" swAng="5577273"/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8"/>
          <p:cNvSpPr/>
          <p:nvPr/>
        </p:nvSpPr>
        <p:spPr>
          <a:xfrm>
            <a:off x="2217240" y="1857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ая соединительная линия 20"/>
          <p:cNvSpPr/>
          <p:nvPr/>
        </p:nvSpPr>
        <p:spPr>
          <a:xfrm>
            <a:off x="4857840" y="3857760"/>
            <a:ext cx="285840" cy="7128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22"/>
          <p:cNvSpPr/>
          <p:nvPr/>
        </p:nvSpPr>
        <p:spPr>
          <a:xfrm>
            <a:off x="4714920" y="4714920"/>
            <a:ext cx="285840" cy="7128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24"/>
          <p:cNvSpPr/>
          <p:nvPr/>
        </p:nvSpPr>
        <p:spPr>
          <a:xfrm>
            <a:off x="2571840" y="4214880"/>
            <a:ext cx="285840" cy="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6"/>
          <p:cNvSpPr/>
          <p:nvPr/>
        </p:nvSpPr>
        <p:spPr>
          <a:xfrm>
            <a:off x="2857680" y="4214880"/>
            <a:ext cx="0" cy="28584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30"/>
          <p:cNvSpPr/>
          <p:nvPr/>
        </p:nvSpPr>
        <p:spPr>
          <a:xfrm flipV="1">
            <a:off x="4714920" y="4000320"/>
            <a:ext cx="71280" cy="21420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32"/>
          <p:cNvSpPr/>
          <p:nvPr/>
        </p:nvSpPr>
        <p:spPr>
          <a:xfrm>
            <a:off x="4785480" y="4000680"/>
            <a:ext cx="142920" cy="14256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ая соединительная линия 34"/>
          <p:cNvSpPr/>
          <p:nvPr/>
        </p:nvSpPr>
        <p:spPr>
          <a:xfrm>
            <a:off x="4643280" y="4429080"/>
            <a:ext cx="0" cy="14292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36"/>
          <p:cNvSpPr/>
          <p:nvPr/>
        </p:nvSpPr>
        <p:spPr>
          <a:xfrm>
            <a:off x="4643280" y="4572000"/>
            <a:ext cx="214560" cy="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8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9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571680" y="11430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кой угол называется углом между плоскостям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1143000" y="31431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к построить угол между плоскостя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23:17Z</dcterms:created>
  <dc:creator>BABA</dc:creator>
  <dc:description/>
  <dc:language>en-US</dc:language>
  <cp:lastModifiedBy>BABA</cp:lastModifiedBy>
  <dcterms:modified xsi:type="dcterms:W3CDTF">2013-01-29T18:17:58Z</dcterms:modified>
  <cp:revision>43</cp:revision>
  <dc:subject/>
  <dc:title>Слайд 1</dc:title>
</cp:coreProperties>
</file>