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749C-D8F8-4607-8F67-E7C47928E7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F0B-1DB4-4CFA-BB34-24983FD1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399A-E97F-4A96-808D-037388EB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358-5E67-4560-AAC3-6E25020C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59B-F65E-4701-A8FD-716B8B79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530E7-7355-428A-A2A7-5703E724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42F24-2C61-437E-8EC4-F8B43836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36CF1-828B-4B8A-AB06-B9B3CFDF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167FB-0103-4929-B339-F9E84894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D300A-4287-42EC-89A9-CFF07DFC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0234F-ADC5-4193-AB63-EB8294C2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8836A-13EB-4532-BD9E-B92C366E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226-0ABD-4F67-A73F-E6CD7471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011A8-7855-4444-85A1-9A508919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4FAF2-A9D9-4D14-8549-D1CE3255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3CA74-78DB-4E3D-AC28-01EB04E8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CEA04-7492-4CF7-B642-EFD831AF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FA44E-07CB-402A-8DFF-0965C82C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66EA-7E8A-4352-A846-8641EED4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FC0-9A8F-4A53-A946-AF28772F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43B-3BAA-4391-984E-15BCA31D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D10-012D-4302-905D-D6ADA460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E0C4-3FE9-4298-96B0-567D1F3D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8476-2FCD-405A-A398-29C60843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F64-C26B-47A2-B7F2-00FF6F2E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F748-C182-41D0-8664-9AC746EDE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BF37-19C5-498B-B75C-ADA1C0982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4;&#1089;&#1086;&#1082;&#1072;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1;&#1080;&#1074;&#1077;&#1085;&#1100;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view-planet.ru/category/rossiya/" TargetMode="External"/><Relationship Id="rId3" Type="http://schemas.openxmlformats.org/officeDocument/2006/relationships/hyperlink" Target="http://review-planet.ru/2010/11/velikolepnie-evenki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19280" y="2133720"/>
            <a:ext cx="23763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: Швыдунова Татьяна Анатоль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а: Мелузина Алё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166760" y="92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03280" y="1916280"/>
            <a:ext cx="7358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Impact"/>
              </a:rPr>
              <a:t>Растительноядные животные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мериканский беляк — растительноядное животное. Отмечается хорошо выраженная сезонность рациона: зимой основная пища — кора деревьев и кустарников, мелкие ветви; летом — травянистые растения, предпочтительно бобовые. Любят беляки подземные грибы, которые они легко находят и выкапывают и хвощи. Весной, после голодного зимнего периода зверьки скапливаются в местах произрастания первой молодой травы. На таких лужайках они зачастую утрачивают осторожность, чрезмерно увлекаясь свежей пищ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16000" y="1341360"/>
            <a:ext cx="6624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ебра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74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цион зебр  состоит в основном из различных трав, в том числе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осо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они поедают также древесную кору, листья, почки и корневища. Двигаясь по пастбищу, зебры срезают верхнюю часть травы, в основном злаки, облегчая доступ к нижним, наиболее питательным частям растений многочисленным африканским парнокопыт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692360" y="1125360"/>
            <a:ext cx="5761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ны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7317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ванный слон характеризуется массивным тяжёлым телом, большой головой на короткой шее, толстыми конечностями, огромными ушами, верхними резцами, превратившимися в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бивни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, длинным мускулистым хоботом. Питаются растительной пищей: листьями, ветвями, побегами, корой и корнями деревьев и кустарников, пропорции кормов зависят от местообитания и времени г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746136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6840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258840"/>
            <a:ext cx="782316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9640" y="117360"/>
            <a:ext cx="792000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24300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лени семейство парнокопытных животных подотряда жвачных. На территории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России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и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Сибири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встречается 6 видов оленя. Количество диких оленей составляет примерно 600 тыс. особей. Оленевые распространены в Евразии, Северной и Южной Америке, а также были завезены человеком в Австралию и Новую Зеландию. Характерный отличительный признак олений это характерны разветвлённые рога, которые имеются в наличии только у самцов. Исключениями являются только олень водяной, у которого вообще нет рогов, и олень северный, у которого рога носят оба пола. Рога олени сбрасывают каждый год и каждый год они вырастают  зано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79280" y="1196640"/>
            <a:ext cx="424980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92360" y="2205000"/>
            <a:ext cx="614340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Заяц-Беляк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820908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ляк – растительноядное животное с чётко выраженной сезонностью питания. Весной и летом он кормится зелёными частями растений; в различных частях ареала отдавая предпочтение клеверу, одуванчику, мышиному горошку, тысячелистнику, золотарнику, подмареннику, осокам, злакам. Охотно кормится овсом и клевером на полях. На северо-западе ареала в большом количестве поедает побеги и плоды черники. Местами поедает хвощи и гриб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8280360" cy="194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492280"/>
            <a:ext cx="8191440" cy="176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мериканский беляк</a:t>
            </a:r>
            <a:endParaRPr b="0" lang="en-US" sz="72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9:22:17Z</dcterms:created>
  <dc:creator>Admin</dc:creator>
  <dc:description/>
  <dc:language>en-US</dc:language>
  <cp:lastModifiedBy>Admin</cp:lastModifiedBy>
  <dcterms:modified xsi:type="dcterms:W3CDTF">2013-01-20T21:21:31Z</dcterms:modified>
  <cp:revision>4</cp:revision>
  <dc:subject/>
  <dc:title>Слайд 1</dc:title>
</cp:coreProperties>
</file>