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B4ED-3C9F-416E-B6CF-9391E17731C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1DD3-E4B8-48F6-BB77-39F7D33EF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B68F-3166-451E-BEEF-F4309EB2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EB1A-EBA3-4400-9467-6C0AC001A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F398-DED4-46C4-A2F7-F34A2FE0D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2D3E5-17F4-41EE-8DE2-DD484056E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485F46-B3A2-4D82-AB45-88CDD2090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79B8B3-5E6E-4E0D-A93C-0076C405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89C7DB-75BF-4FD1-9604-30E2E211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40CF1-9B23-423E-AC4C-E51EC34D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06364-A24F-4C86-A610-ECAA2108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F4C43-5405-46D4-B3DC-9103A3EF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E467-3B74-44AF-94D0-BB315826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511AD-C7A7-4452-B585-9AEB1960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973777-8096-4150-837E-02FFF59B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2C76E-E903-4944-9784-1E838AB1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BAA085-D2AB-4D67-8A1B-7F8301254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D8980-8496-4438-9D63-CE4FF6A87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6D32-DE89-45BD-8BE5-65CBF624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401B-C191-45D8-BCEC-8863EF1B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B910-A9CC-4CA1-8255-A4B8D8DF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8E8D-0D66-4111-97B2-56DC5F96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DFE0-158B-4B80-BE46-6602DD99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DE35-4A47-4242-972E-C1455DD0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95BF-2BE9-4E74-8A3A-B79FC67B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CBCA-3BED-4E20-AB5B-24855BC678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1F01-8FB9-4BE6-AE9A-B20793B9CC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4;&#1089;&#1086;&#1082;&#1072;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1;&#1080;&#1074;&#1077;&#1085;&#1100;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eview-planet.ru/category/rossiya/" TargetMode="External"/><Relationship Id="rId3" Type="http://schemas.openxmlformats.org/officeDocument/2006/relationships/hyperlink" Target="http://review-planet.ru/2010/11/velikolepnie-evenki/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19280" y="2133720"/>
            <a:ext cx="23763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итель: Швыдунова Татьяна Анатолье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еница: Мелузина Алё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1166760" y="92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403280" y="1916280"/>
            <a:ext cx="7358040" cy="9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Impact"/>
              </a:rPr>
              <a:t>Растительноядные животные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813600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мериканский беляк — растительноядное животное. Отмечается хорошо выраженная сезонность рациона: зимой основная пища — кора деревьев и кустарников, мелкие ветви; летом — травянистые растения, предпочтительно бобовые. Любят беляки подземные грибы, которые они легко находят и выкапывают и хвощи. Весной, после голодного зимнего периода зверьки скапливаются в местах произрастания первой молодой травы. На таких лужайках они зачастую утрачивают осторожность, чрезмерно увлекаясь свежей пищ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16000" y="1341360"/>
            <a:ext cx="662472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ff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ебра</a:t>
            </a:r>
            <a:endParaRPr b="0" lang="en-US" sz="9600" spc="1" strike="noStrike">
              <a:ln w="12600">
                <a:solidFill>
                  <a:srgbClr val="b2b2b2"/>
                </a:solidFill>
                <a:miter/>
              </a:ln>
              <a:solidFill>
                <a:srgbClr val="00ff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12360" cy="745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260280"/>
            <a:ext cx="8424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цион зебр  состоит в основном из различных трав, в том числе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осок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, они поедают также древесную кору, листья, почки и корневища. Двигаясь по пастбищу, зебры срезают верхнюю часть травы, в основном злаки, облегчая доступ к нижним, наиболее питательным частям растений многочисленным африканским парнокопытны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692360" y="1125360"/>
            <a:ext cx="576108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лоны</a:t>
            </a:r>
            <a:endParaRPr b="0" lang="en-US" sz="9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826920" y="476280"/>
            <a:ext cx="73170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аванный слон характеризуется массивным тяжёлым телом, большой головой на короткой шее, толстыми конечностями, огромными ушами, верхними резцами, превратившимися в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бивни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, длинным мускулистым хоботом. Питаются растительной пищей: листьями, ветвями, побегами, корой и корнями деревьев и кустарников, пропорции кормов зависят от местообитания и времени го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7461360" cy="559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784872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000" y="68400"/>
            <a:ext cx="8002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11280" y="258840"/>
            <a:ext cx="7823160" cy="62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39640" y="117360"/>
            <a:ext cx="7920000" cy="59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4000" y="243000"/>
            <a:ext cx="828036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лени семейство парнокопытных животных подотряда жвачных. На территории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России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и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Сибири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встречается 6 видов оленя. Количество диких оленей составляет примерно 600 тыс. особей. Оленевые распространены в Евразии, Северной и Южной Америке, а также были завезены человеком в Австралию и Новую Зеландию. Характерный отличительный признак олений это характерны разветвлённые рога, которые имеются в наличии только у самцов. Исключениями являются только олень водяной, у которого вообще нет рогов, и олень северный, у которого рога носят оба пола. Рога олени сбрасывают каждый год и каждый год они вырастают  занов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79280" y="1196640"/>
            <a:ext cx="4249800" cy="39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92360" y="2205000"/>
            <a:ext cx="6143400" cy="176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Заяц-Беляк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8209080" cy="59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еляк – растительноядное животное с чётко выраженной сезонностью питания. Весной и летом он кормится зелёными частями растений; в различных частях ареала отдавая предпочтение клеверу, одуванчику, мышиному горошку, тысячелистнику, золотарнику, подмареннику, осокам, злакам. Охотно кормится овсом и клевером на полях. На северо-западе ареала в большом количестве поедает побеги и плоды черники. Местами поедает хвощи и гриб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2420640"/>
            <a:ext cx="8280360" cy="194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2492280"/>
            <a:ext cx="8191440" cy="176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мериканский беляк</a:t>
            </a:r>
            <a:endParaRPr b="0" lang="en-US" sz="7200" spc="1" strike="noStrike">
              <a:ln w="0">
                <a:noFill/>
              </a:ln>
              <a:solidFill>
                <a:srgbClr val="0000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0T19:22:17Z</dcterms:created>
  <dc:creator>Admin</dc:creator>
  <dc:description/>
  <dc:language>en-US</dc:language>
  <cp:lastModifiedBy>Admin</cp:lastModifiedBy>
  <dcterms:modified xsi:type="dcterms:W3CDTF">2013-01-20T21:21:31Z</dcterms:modified>
  <cp:revision>4</cp:revision>
  <dc:subject/>
  <dc:title>Слайд 1</dc:title>
</cp:coreProperties>
</file>