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954-6FC6-46D0-AE9E-FFC7719AC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FDB-63F0-4B74-8AF7-CE3AC54F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687-0FC3-427B-AD4E-CCEC7AF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DA9-7455-4572-99BD-CC82538F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8E9-48BE-44E1-AEEF-1FC902AB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43E51-C350-4FFB-8985-EF27F987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FCFF4-4BD8-487B-BF41-3C0978B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E72F-4498-41E9-BD39-C23456CB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C7F9-9EEF-4B9C-8500-A7ACC3F5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85484-3072-404B-B45E-C88FB095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6474-25E4-45CD-9E1F-C3E45925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229C2-78F8-4203-A8AD-D92F45E4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A01-4770-4DC3-83DD-06FF3FB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E85CF-0177-4C3B-A4CC-63CE42A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6313-70BD-44E8-B1DB-DEA8BC4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7936D-7A9D-4050-96D0-15381BF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24D8B-D9B6-4A56-B2EA-D75B32E3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E48BE-4CF8-47DD-BEFC-F9E8CC9C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9FB-FF42-4114-AC60-4352752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F3E-B967-4125-A83A-811EF07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E3A-98D5-4003-9ECC-3C70C6D2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6FE-058D-44B4-9421-A1E3D48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917-623C-4B91-88C0-CFE41537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05A-480A-48D5-8A33-A1BC68D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6F5-B8FC-4FCF-BA2B-3A0478B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3D84-FC6A-4909-ABE9-1F60BDA60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3D1-CBAB-4009-A9FE-6FD592820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9;&#1086;&#1082;&#1072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80;&#1074;&#1077;&#1085;&#1100;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view-planet.ru/category/rossiya/" TargetMode="External"/><Relationship Id="rId3" Type="http://schemas.openxmlformats.org/officeDocument/2006/relationships/hyperlink" Target="http://review-planet.ru/2010/11/velikolepnie-evenki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19280" y="2133720"/>
            <a:ext cx="2376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Швыдунова Татьяна Анато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: Мелузина Алё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166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03280" y="1916280"/>
            <a:ext cx="7358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Растительноядные животны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мериканский беляк — растительноядное животное. Отмечается хорошо выраженная сезонность рациона: зимой основная пища — кора деревьев и кустарников, мелкие ветви; летом — травянистые растения, предпочтительно бобовые. Любят беляки подземные грибы, которые они легко находят и выкапывают и хвощи. Весной, после голодного зимнего периода зверьки скапливаются в местах произрастания первой молодой травы. На таких лужайках они зачастую утрачивают осторожность, чрезмерно увлекаясь свежей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1341360"/>
            <a:ext cx="66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ебра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74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цион зебр  состоит в основном из различных трав, в том числе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ос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они поедают также древесную кору, листья, почки и корневища. Двигаясь по пастбищу, зебры срезают верхнюю часть травы, в основном злаки, облегчая доступ к нижним, наиболее питательным частям растений многочисленным африканским парнокопыт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92360" y="1125360"/>
            <a:ext cx="5761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ванный слон характеризуется массивным тяжёлым телом, большой головой на короткой шее, толстыми конечностями, огромными ушами, верхними резцами, превратившимися в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ивн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длинным мускулистым хоботом. Питаются растительной пищей: листьями, ветвями, побегами, корой и корнями деревьев и кустарников, пропорции кормов зависят от местообитания и времени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4613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84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58840"/>
            <a:ext cx="78231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17360"/>
            <a:ext cx="7920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3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лени семейство парнокопытных животных подотряда жвачных. На территори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осси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ибир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встречается 6 видов оленя. Количество диких оленей составляет примерно 600 тыс. особей. Оленевые распространены в Евразии, Северной и Южной Америке, а также были завезены человеком в Австралию и Новую Зеландию. Характерный отличительный признак олений это характерны разветвлённые рога, которые имеются в наличии только у самцов. Исключениями являются только олень водяной, у которого вообще нет рогов, и олень северный, у которого рога носят оба пола. Рога олени сбрасывают каждый год и каждый год они вырастают  зан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1196640"/>
            <a:ext cx="42498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2205000"/>
            <a:ext cx="61434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яц-Беляк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209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як – растительноядное животное с чётко выраженной сезонностью питания. Весной и летом он кормится зелёными частями растений; в различных частях ареала отдавая предпочтение клеверу, одуванчику, мышиному горошку, тысячелистнику, золотарнику, подмареннику, осокам, злакам. Охотно кормится овсом и клевером на полях. На северо-западе ареала в большом количестве поедает побеги и плоды черники. Местами поедает хвощи и гри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8036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492280"/>
            <a:ext cx="819144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мериканский беляк</a:t>
            </a:r>
            <a:endParaRPr b="0" lang="en-US" sz="72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2:17Z</dcterms:created>
  <dc:creator>Admin</dc:creator>
  <dc:description/>
  <dc:language>en-US</dc:language>
  <cp:lastModifiedBy>Admin</cp:lastModifiedBy>
  <dcterms:modified xsi:type="dcterms:W3CDTF">2013-01-20T21:21:31Z</dcterms:modified>
  <cp:revision>4</cp:revision>
  <dc:subject/>
  <dc:title>Слайд 1</dc:title>
</cp:coreProperties>
</file>