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0C13-B931-4455-8AE8-CA48C9D1F5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E82-5390-47E6-9BCA-408CFD3A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113-0315-4CC7-B8EA-4E868CE4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DE7-BCEA-43D3-B75B-23A49FE2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5FC-8288-402F-92F0-517342A7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22167-C115-473B-8021-59F6649A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6870A-41D6-404D-93E5-776D9AFF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F3D69-1022-44DE-998F-1CFEB61D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BB1C0-317A-4F33-B7CB-731D7D94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1E820-472D-4852-B2FB-AEF9F45A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8CB59-0A32-4891-A3E2-98035157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43CB0-25FB-4BB4-8CAA-0918BD21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684-89F3-441C-8CE0-D78A96C1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E7D71-7CE0-41A2-86B8-44BCE31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8D67A-532C-4E01-8FAC-F3113E02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19739-0557-4AD6-8E14-CE607371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B9753-99DE-443B-BB10-B0AE9348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7404D-59F1-49E5-88FF-E9BF8F1A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5E0-6472-482C-ACB8-51778EE0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2F6-2727-40C2-9F1B-B5D05880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F2D-FB68-4319-A21D-C6EBB813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E10-A0DD-4EBE-96BB-15A17D37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DA4-22C9-4986-BBD6-E7742AAB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278-EE4A-4BDE-8A94-8FB49726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EBB-4905-4866-8F9F-380C9BF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DB02-7C27-4AE3-8A40-610FAA4EC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8B83-AF2D-4161-9EAB-8ED90BFD1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4;&#1089;&#1086;&#1082;&#1072;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80;&#1074;&#1077;&#1085;&#1100;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view-planet.ru/category/rossiya/" TargetMode="External"/><Relationship Id="rId3" Type="http://schemas.openxmlformats.org/officeDocument/2006/relationships/hyperlink" Target="http://review-planet.ru/2010/11/velikolepnie-evenki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19280" y="2133720"/>
            <a:ext cx="2376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: Швыдунова Татьяна Анатол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: Мелузина Алё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166760" y="92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03280" y="1916280"/>
            <a:ext cx="7358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Impact"/>
              </a:rPr>
              <a:t>Растительноядные животны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мериканский беляк — растительноядное животное. Отмечается хорошо выраженная сезонность рациона: зимой основная пища — кора деревьев и кустарников, мелкие ветви; летом — травянистые растения, предпочтительно бобовые. Любят беляки подземные грибы, которые они легко находят и выкапывают и хвощи. Весной, после голодного зимнего периода зверьки скапливаются в местах произрастания первой молодой травы. На таких лужайках они зачастую утрачивают осторожность, чрезмерно увлекаясь свежей пищ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16000" y="1341360"/>
            <a:ext cx="6624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ебра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74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цион зебр  состоит в основном из различных трав, в том числе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осо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они поедают также древесную кору, листья, почки и корневища. Двигаясь по пастбищу, зебры срезают верхнюю часть травы, в основном злаки, облегчая доступ к нижним, наиболее питательным частям растений многочисленным африканским парнокопыт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92360" y="1125360"/>
            <a:ext cx="5761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ны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7317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ванный слон характеризуется массивным тяжёлым телом, большой головой на короткой шее, толстыми конечностями, огромными ушами, верхними резцами, превратившимися в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бивн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длинным мускулистым хоботом. Питаются растительной пищей: листьями, ветвями, побегами, корой и корнями деревьев и кустарников, пропорции кормов зависят от местообитания и времени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46136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840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258840"/>
            <a:ext cx="78231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17360"/>
            <a:ext cx="79200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2430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лени семейство парнокопытных животных подотряда жвачных. На территории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Росси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Сибир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встречается 6 видов оленя. Количество диких оленей составляет примерно 600 тыс. особей. Оленевые распространены в Евразии, Северной и Южной Америке, а также были завезены человеком в Австралию и Новую Зеландию. Характерный отличительный признак олений это характерны разветвлённые рога, которые имеются в наличии только у самцов. Исключениями являются только олень водяной, у которого вообще нет рогов, и олень северный, у которого рога носят оба пола. Рога олени сбрасывают каждый год и каждый год они вырастают  зан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280" y="1196640"/>
            <a:ext cx="42498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92360" y="2205000"/>
            <a:ext cx="61434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Заяц-Беляк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20908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ляк – растительноядное животное с чётко выраженной сезонностью питания. Весной и летом он кормится зелёными частями растений; в различных частях ареала отдавая предпочтение клеверу, одуванчику, мышиному горошку, тысячелистнику, золотарнику, подмареннику, осокам, злакам. Охотно кормится овсом и клевером на полях. На северо-западе ареала в большом количестве поедает побеги и плоды черники. Местами поедает хвощи и гри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8280360" cy="19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492280"/>
            <a:ext cx="8191440" cy="17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мериканский беляк</a:t>
            </a:r>
            <a:endParaRPr b="0" lang="en-US" sz="72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9:22:17Z</dcterms:created>
  <dc:creator>Admin</dc:creator>
  <dc:description/>
  <dc:language>en-US</dc:language>
  <cp:lastModifiedBy>Admin</cp:lastModifiedBy>
  <dcterms:modified xsi:type="dcterms:W3CDTF">2013-01-20T21:21:31Z</dcterms:modified>
  <cp:revision>4</cp:revision>
  <dc:subject/>
  <dc:title>Слайд 1</dc:title>
</cp:coreProperties>
</file>