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867-22BF-4B98-8973-527284E0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015-6B52-4295-8AB9-D846E10A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1E9-B9A8-4860-BB14-9701F1AE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C5B-5FD8-4156-B144-F5000C8A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FF9-28FE-4189-B5E2-B9E13D6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F82-2107-47E8-8BB9-54B2097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9E4-0F00-436F-B09E-425A709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B3F-26A1-4DE5-9B9A-7DF53AE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CB5-4651-4144-BDC9-6D9532EF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D3C-C039-4288-821E-B258C25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BE2-7133-48AA-BEE7-2F68803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F58-3DAA-46DD-946F-2F41629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5EE-90AE-4CDB-B61D-2081F3177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 ученика  3 «А» класс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лганова Ники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32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Москва,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00000" y="692280"/>
            <a:ext cx="7488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 вот пришла лягушка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моего прое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Узнать кто такие лягушки, как они растут, и чем они полезны для человека. Перед  собой я  ставил задачи: самому вырастить лягушку, и собрать информацию о лягуш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ЛЯГУШКА ОЗЁРНАЯ"/>
          <p:cNvPicPr/>
          <p:nvPr/>
        </p:nvPicPr>
        <p:blipFill>
          <a:blip r:embed="rId1"/>
          <a:stretch/>
        </p:blipFill>
        <p:spPr>
          <a:xfrm>
            <a:off x="1619280" y="1500120"/>
            <a:ext cx="5689440" cy="455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611280" y="6230880"/>
            <a:ext cx="78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гушки относятся к классу амфибии, или земновод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холоднокровные животные, способные жить в воде и на су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х этих лягушек, я случай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идел в одном журнале и подумал, а возможно ли самому вырастить лягушку в домашних условиях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том, когда я был у бабушки в Крыму, провел эксперимент. Я попробовал вырастить из икринки лягуш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829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 ию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я пошёл на берег реки Салгир. Река Салгир течёт с Крымских гор в Азовское море. Вода была очень тёплая. Я зашёл в воду. В воде я собрал мох с икринками лягушек. Дома я положил мох в таз и залил речной вод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фотографировал. Наблюдал за развитием икр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0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икринок появились маленькие головастики. Я принёс с речки воду. Вылил  её в таз с головастиками. Наблюдаю. Головастики увеличились в размере. Они очень быстро передвигаются. Сфотографирова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1403280" y="1773360"/>
            <a:ext cx="603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ечение всего ию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ходил на реку Салгир и носил, свежую речную воду для головастик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ю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Я заметил, что у одного головастика около хвоста появились две  маленькие ла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"/>
          <p:cNvPicPr/>
          <p:nvPr/>
        </p:nvPicPr>
        <p:blipFill>
          <a:blip r:embed="rId1"/>
          <a:stretch/>
        </p:blipFill>
        <p:spPr>
          <a:xfrm>
            <a:off x="1554120" y="2060640"/>
            <a:ext cx="6186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ри дня я обнаружил, что хвоста нет. Появился настоящий маленький лягушонок. Я его сфотографиров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м образом, я выяснил, что из икринки появляется  лягушка за 35 дней. Могу сказать, что в ходе эксперимента вывелось много головастиков, а из них лягушек, всех их я, после окончания эксперимента отпустил в реку. Лягушата вырастут и на следующий год дадут свои икринки, из которых опять появятся головастик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очень понравился мой эксперимент. Возможно, в следующем году я попробую понаблюдать за каким – нибудь животным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ая выросла 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"/>
          <p:cNvPicPr/>
          <p:nvPr/>
        </p:nvPicPr>
        <p:blipFill>
          <a:blip r:embed="rId1"/>
          <a:stretch/>
        </p:blipFill>
        <p:spPr>
          <a:xfrm>
            <a:off x="1554120" y="1600200"/>
            <a:ext cx="62578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37:44Z</dcterms:created>
  <dc:creator>dolganov</dc:creator>
  <dc:description/>
  <dc:language>en-US</dc:language>
  <cp:lastModifiedBy>Нонна</cp:lastModifiedBy>
  <dcterms:modified xsi:type="dcterms:W3CDTF">2013-02-07T16:28:24Z</dcterms:modified>
  <cp:revision>19</cp:revision>
  <dc:subject/>
  <dc:title>Проект ученика  3 «А» класса Долганова Никиты</dc:title>
</cp:coreProperties>
</file>