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7E3-5330-4802-A691-02B000FC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2FA-F3AD-441B-8AE5-E3E8B9B9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412-D63F-4AF6-9FE5-746B464B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099-DBBB-456A-8D99-722748C2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AE5-168B-45FF-BE3A-AE0451AA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872-4C83-4DA5-B9B7-23737370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D70-6148-4702-AAAF-CF6D8F00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9BA-88BB-46E4-A917-215557EE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956-A717-4FF7-A151-87CC42D4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4E9-DBA2-47FE-A9A2-00DEB99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35F-7AD7-4B08-BE3A-05B524A5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74E-D596-43BE-8FCB-94F4E873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DFE4-CA21-4556-9938-B2A346F3C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ект ученика  3 «А» класс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лганова Ники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325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Москва, 200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900000" y="692280"/>
            <a:ext cx="7488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о вот пришла лягушка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 моего проек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Узнать кто такие лягушки, как они растут, и чем они полезны для человека. Перед  собой я  ставил задачи: самому вырастить лягушку, и собрать информацию о лягуш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ЛЯГУШКА ОЗЁРНАЯ"/>
          <p:cNvPicPr/>
          <p:nvPr/>
        </p:nvPicPr>
        <p:blipFill>
          <a:blip r:embed="rId1"/>
          <a:stretch/>
        </p:blipFill>
        <p:spPr>
          <a:xfrm>
            <a:off x="1619280" y="1500120"/>
            <a:ext cx="5689440" cy="4551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611280" y="6230880"/>
            <a:ext cx="788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ягушки относятся к классу амфибии, или земновод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холоднокровные животные, способные жить в воде и на су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х этих лягушек, я случай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идел в одном журнале и подумал, а возможно ли самому вырастить лягушку в домашних условиях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том, когда я был у бабушки в Крыму, провел эксперимент. Я попробовал вырастить из икринки лягуш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829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1 июн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я пошёл на берег реки Салгир. Река Салгир течёт с Крымских гор в Азовское море. Вода была очень тёплая. Я зашёл в воду. В воде я собрал мох с икринками лягушек. Дома я положил мох в таз и залил речной вод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фотографировал. Наблюдал за развитием икр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1010200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юн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икринок появились маленькие головастики. Я принёс с речки воду. Вылил  её в таз с головастиками. Наблюдаю. Головастики увеличились в размере. Они очень быстро передвигаются. Сфотографирова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"/>
          <p:cNvPicPr/>
          <p:nvPr/>
        </p:nvPicPr>
        <p:blipFill>
          <a:blip r:embed="rId1"/>
          <a:stretch/>
        </p:blipFill>
        <p:spPr>
          <a:xfrm>
            <a:off x="1403280" y="1773360"/>
            <a:ext cx="6034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ечение всего июл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ходил на реку Салгир и носил, свежую речную воду для головастик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юл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Я заметил, что у одного головастика около хвоста появились две  маленькие лап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4"/>
          <p:cNvPicPr/>
          <p:nvPr/>
        </p:nvPicPr>
        <p:blipFill>
          <a:blip r:embed="rId1"/>
          <a:stretch/>
        </p:blipFill>
        <p:spPr>
          <a:xfrm>
            <a:off x="1554120" y="2060640"/>
            <a:ext cx="6186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з три дня я обнаружил, что хвоста нет. Появился настоящий маленький лягушонок. Я его сфотографирова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ким образом, я выяснил, что из икринки появляется  лягушка за 35 дней. Могу сказать, что в ходе эксперимента вывелось много головастиков, а из них лягушек, всех их я, после окончания эксперимента отпустил в реку. Лягушата вырастут и на следующий год дадут свои икринки, из которых опять появятся головастик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очень понравился мой эксперимент. Возможно, в следующем году я попробую понаблюдать за каким – нибудь животным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такая выросла 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7"/>
          <p:cNvPicPr/>
          <p:nvPr/>
        </p:nvPicPr>
        <p:blipFill>
          <a:blip r:embed="rId1"/>
          <a:stretch/>
        </p:blipFill>
        <p:spPr>
          <a:xfrm>
            <a:off x="1554120" y="1600200"/>
            <a:ext cx="62578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7:37:44Z</dcterms:created>
  <dc:creator>dolganov</dc:creator>
  <dc:description/>
  <dc:language>en-US</dc:language>
  <cp:lastModifiedBy>Нонна</cp:lastModifiedBy>
  <dcterms:modified xsi:type="dcterms:W3CDTF">2013-02-07T16:28:24Z</dcterms:modified>
  <cp:revision>19</cp:revision>
  <dc:subject/>
  <dc:title>Проект ученика  3 «А» класса Долганова Никиты</dc:title>
</cp:coreProperties>
</file>