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gif" ContentType="image/gif"/>
  <Override PartName="/ppt/media/image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E933-3243-433F-B28B-AAE354460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FB9B-9040-4184-909F-0B8DC6B5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D109-D364-433D-9824-75F3627A3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DAA5-06BF-42B0-893A-D46C529E0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47520-0F14-4B2B-B9E2-C478BFA7E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0A393-2D67-4C09-BF6D-202E82A9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A798A-5177-43DE-8085-EA3759F7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95360-EB8C-4811-B685-1FC30067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094A5-2618-4794-A854-A6DC884E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537B5-A39D-4100-9F1A-BC453769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5C762-10D2-41AC-8FF5-FFBEF87B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814B-6DE5-4E82-B43F-8420ADFF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98C6E-1292-43B7-9F25-A48B5B08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31372-672E-44EB-B250-547FB431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0334A-38CB-434C-B5FE-18FCFAB6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093C2-FF64-4FE9-8822-70EDDCB2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682EB-E68A-4328-9CC9-0FF41CE24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348D-7EFA-45DE-AD0C-A41CC8D4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5BAE-956B-47C3-88AF-88285E4E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1634-E9F5-47D4-ACFB-B294F0CF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B5FA-8033-4031-BBA9-5A77F054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E136-00CD-42FE-B5A9-0704EF90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DA4F-7104-4B28-8CBA-0C5CD279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F5E7-3DDF-4F6C-AB11-FCF110B6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3BBE-AF29-4AFD-9685-6B9DC149E3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A797-8CBB-4318-A784-32E6B29FD93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ОГРАММА  ВОСПИТАТЕЛЬНОЙ  РАБОТЫ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«  МЫ – КАДЕТЫ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Классный руководите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3 клас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Шиловская Наталия Григорье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БОУ  «СОШ № 9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.Троиц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Формы воспитательной работ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Группов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педагог-группа учащихся) – творческие группы, органы ученического самоуправления. Здесь классный руководитель - сотрудник, рядовой участник или организатор, который помогает каждому проявить себя и создать условия для получения в группе значимого положительного результата 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Индивидуальные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педагог-ученик). К ним относятся беседы, задушевный разговор, консультации, советы, обмен опытом и др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Массов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педагог - несколько групп, классов) – конкурсы, походы, спортивные соревнования и т.д. роль классного руководителя здесь разнообразна от организатора до рядового участни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одель воспитательной систе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1" name="Organization Chart 42"/>
          <p:cNvGrpSpPr/>
          <p:nvPr/>
        </p:nvGrpSpPr>
        <p:grpSpPr>
          <a:xfrm>
            <a:off x="179280" y="2037240"/>
            <a:ext cx="8569080" cy="1142640"/>
            <a:chOff x="179280" y="2037240"/>
            <a:chExt cx="8569080" cy="1142640"/>
          </a:xfrm>
        </p:grpSpPr>
        <p:cxnSp>
          <p:nvCxnSpPr>
            <p:cNvPr id="112" name="_s1028"/>
            <p:cNvCxnSpPr>
              <a:stCxn id="113" idx="0"/>
              <a:endCxn id="114" idx="3"/>
            </p:cNvCxnSpPr>
            <p:nvPr/>
          </p:nvCxnSpPr>
          <p:spPr>
            <a:xfrm flipV="1" rot="16200000">
              <a:off x="7228080" y="2825280"/>
              <a:ext cx="229320" cy="24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10199"/>
              </a:solidFill>
              <a:miter/>
            </a:ln>
          </p:spPr>
        </p:cxnSp>
        <p:cxnSp>
          <p:nvCxnSpPr>
            <p:cNvPr id="115" name="_s1029"/>
            <p:cNvCxnSpPr>
              <a:stCxn id="116" idx="0"/>
              <a:endCxn id="117" idx="3"/>
            </p:cNvCxnSpPr>
            <p:nvPr/>
          </p:nvCxnSpPr>
          <p:spPr>
            <a:xfrm flipV="1" rot="16200000">
              <a:off x="1470960" y="2824560"/>
              <a:ext cx="229320" cy="25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10199"/>
              </a:solidFill>
              <a:miter/>
            </a:ln>
          </p:spPr>
        </p:cxnSp>
        <p:cxnSp>
          <p:nvCxnSpPr>
            <p:cNvPr id="118" name="_s1030"/>
            <p:cNvCxnSpPr>
              <a:stCxn id="114" idx="0"/>
              <a:endCxn id="119" idx="3"/>
            </p:cNvCxnSpPr>
            <p:nvPr/>
          </p:nvCxnSpPr>
          <p:spPr>
            <a:xfrm flipV="1" rot="16200000">
              <a:off x="5788080" y="922320"/>
              <a:ext cx="229320" cy="2904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10199"/>
              </a:solidFill>
              <a:miter/>
            </a:ln>
          </p:spPr>
        </p:cxnSp>
        <p:cxnSp>
          <p:nvCxnSpPr>
            <p:cNvPr id="120" name="_s1031"/>
            <p:cNvCxnSpPr>
              <a:stCxn id="121" idx="0"/>
              <a:endCxn id="119" idx="3"/>
            </p:cNvCxnSpPr>
            <p:nvPr/>
          </p:nvCxnSpPr>
          <p:spPr>
            <a:xfrm flipV="1" rot="16200000">
              <a:off x="4349160" y="2361240"/>
              <a:ext cx="229320" cy="25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10199"/>
              </a:solidFill>
              <a:miter/>
            </a:ln>
          </p:spPr>
        </p:cxnSp>
        <p:cxnSp>
          <p:nvCxnSpPr>
            <p:cNvPr id="122" name="_s1032"/>
            <p:cNvCxnSpPr>
              <a:stCxn id="117" idx="0"/>
              <a:endCxn id="119" idx="3"/>
            </p:cNvCxnSpPr>
            <p:nvPr/>
          </p:nvCxnSpPr>
          <p:spPr>
            <a:xfrm flipH="1" flipV="1" rot="5400000">
              <a:off x="2909520" y="946800"/>
              <a:ext cx="229320" cy="2855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10199"/>
              </a:solidFill>
              <a:miter/>
            </a:ln>
          </p:spPr>
        </p:cxnSp>
        <p:sp>
          <p:nvSpPr>
            <p:cNvPr id="119" name="_s1033"/>
            <p:cNvSpPr/>
            <p:nvPr/>
          </p:nvSpPr>
          <p:spPr>
            <a:xfrm>
              <a:off x="3238200" y="2037240"/>
              <a:ext cx="2451240" cy="2235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000099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ВОЕННО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 - </a:t>
              </a: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ПАТРИОТИЧЕСКОЕ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_s1034"/>
            <p:cNvSpPr/>
            <p:nvPr/>
          </p:nvSpPr>
          <p:spPr>
            <a:xfrm>
              <a:off x="179280" y="2489760"/>
              <a:ext cx="2811600" cy="234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c600">
                    <a:alpha val="40000"/>
                  </a:srgbClr>
                </a:gs>
                <a:gs pos="100000">
                  <a:srgbClr val="000099"/>
                </a:gs>
              </a:gsLst>
              <a:lin ang="5400000"/>
            </a:gradFill>
            <a:ln w="93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ДУХОВНО - НРАВСТВЕННОЕ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_s1035"/>
            <p:cNvSpPr/>
            <p:nvPr/>
          </p:nvSpPr>
          <p:spPr>
            <a:xfrm>
              <a:off x="3057840" y="2489760"/>
              <a:ext cx="2811600" cy="234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c600">
                    <a:alpha val="40000"/>
                  </a:srgbClr>
                </a:gs>
                <a:gs pos="100000">
                  <a:srgbClr val="000099"/>
                </a:gs>
              </a:gsLst>
              <a:lin ang="5400000"/>
            </a:gradFill>
            <a:ln w="93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ГРАЖДАНСКО -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ПАТРИОТИЧЕСКОЕ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_s1036"/>
            <p:cNvSpPr/>
            <p:nvPr/>
          </p:nvSpPr>
          <p:spPr>
            <a:xfrm>
              <a:off x="5936760" y="2489760"/>
              <a:ext cx="2811600" cy="234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c600">
                    <a:alpha val="40000"/>
                  </a:srgbClr>
                </a:gs>
                <a:gs pos="100000">
                  <a:srgbClr val="000099"/>
                </a:gs>
              </a:gsLst>
              <a:lin ang="5400000"/>
            </a:gradFill>
            <a:ln w="93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СОЦИАЛЬНО - ПАТРИОТИЧЕСКОЕ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_s1037"/>
            <p:cNvSpPr/>
            <p:nvPr/>
          </p:nvSpPr>
          <p:spPr>
            <a:xfrm>
              <a:off x="248400" y="2953080"/>
              <a:ext cx="2673360" cy="226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cc00">
                    <a:alpha val="40000"/>
                  </a:srgbClr>
                </a:gs>
                <a:gs pos="100000">
                  <a:srgbClr val="000099"/>
                </a:gs>
              </a:gsLst>
              <a:lin ang="54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960" rIns="1296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ГЕРОИКО - ПАТРИОТИЧЕСКОЕ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_s1038"/>
            <p:cNvSpPr/>
            <p:nvPr/>
          </p:nvSpPr>
          <p:spPr>
            <a:xfrm>
              <a:off x="6006240" y="2953080"/>
              <a:ext cx="2673360" cy="226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cc00">
                    <a:alpha val="40000"/>
                  </a:srgbClr>
                </a:gs>
                <a:gs pos="100000">
                  <a:srgbClr val="000099"/>
                </a:gs>
              </a:gsLst>
              <a:lin ang="54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960" rIns="1296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СПОРТИВНО - ПАТРИОТИЧЕСКОЕ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23" name="Picture 64" descr="MM900178279[1]"/>
          <p:cNvPicPr/>
          <p:nvPr/>
        </p:nvPicPr>
        <p:blipFill>
          <a:blip r:embed="rId1"/>
          <a:stretch/>
        </p:blipFill>
        <p:spPr>
          <a:xfrm>
            <a:off x="3708360" y="4005360"/>
            <a:ext cx="208764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"/>
          <p:cNvSpPr/>
          <p:nvPr/>
        </p:nvSpPr>
        <p:spPr>
          <a:xfrm>
            <a:off x="1042920" y="2031120"/>
            <a:ext cx="7345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Система целереализующих мероприятий представляет комплекс мероприятий, распределенных по месяцам на основе ежегодного цикла в период на 2012-20014 годы, предусматривает их обновление и дополн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271440" y="663120"/>
            <a:ext cx="860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Целереализующие мероприятия програм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Реализация воспитательной програм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и реализации любой воспитательной программы очень важно видеть и знать ее результаты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д результатами воспитательного процесса понимают те изменения, которые произошли с участниками педагогического процесса и в отношениях между ним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учение результатов и эффективности воспитательного процесса выполняет аналитическую, контрольно-корректирующую и прогностическую функции. При этом надо иметь в виду, что динамика показателей может быть неодинаковой, более того, некоторые показатели могут почти не меняться, а иногда быть хуже, чем на предыдущем этапе. Общий вывод делается на основе сопоставления всех полученных данных, характеризующих проделанную работу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ля изучения результатов воспитательного воздействия можно использовать следующие методики: мониторинг, диагностика, анкетирование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ыбранная модель воспитательной системы класса помогает мне более целенаправленно и обоснованно строить воспитательную работу, сосредотачивать усилия на решении наиболее важных педагогических проблем, согласовывать устремления действий учителя, учащихся и родителей при планировании и организации жизнедеятельности в классе.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еализация системы воспитательной работы предполагает: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формирование ведущих качеств личности;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непрерывную педагогическую диагностику, постепенно переходящую в самодиагностику и самопознание;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практическую деятельность педагога и воспитанников;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содержание просвещения в области гуманитарной культуры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сочетание индивидуального воспитания, воспитания в коллективе и самовоспитания;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неразрывную связь с воспитательными факторами среды: родителями, общественностью, школьной библиотекой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развитие общей культуры обучающихс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900000" y="620640"/>
          <a:ext cx="7777440" cy="5154840"/>
        </p:xfrm>
        <a:graphic>
          <a:graphicData uri="http://schemas.openxmlformats.org/drawingml/2006/table">
            <a:tbl>
              <a:tblPr/>
              <a:tblGrid>
                <a:gridCol w="3888000"/>
                <a:gridCol w="3889440"/>
              </a:tblGrid>
              <a:tr h="549360"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Мазитов Руслан    участие  в 9 городском конкурсе исследовательских работ, творческих  и проектных работ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Мазитов  Р – грамота за участие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одготовка детей к Всероссийскому конкурсу. Проект «Познание и творчество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Осенний тур. «Весёлая грамматик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Орлова Али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8 мест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одготовка детей к Международному конкурсу ЭМУ – Эрудит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Орлова Алина – 1 мест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Корикова Анастасия – 1 мест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Мазитов Руслан – 2 мест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Усольцева  Кристина – 6 мест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Орлова Алина – 7 место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одготовка детей к конкурс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роект «Интеллект – экспресс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Всероссийский конкурс – олимпиада 1 четверть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Усольцева Кристина – 3 мест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Орлова Алина – 8 мест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одготовка детей к конкурс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роект «Интеллект – экспресс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Всероссийский конкурс – олимпиада 2  четверть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Внукова Татья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Ковтун Евген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Орлова Алина в двух тура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Корикова Анастас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Шиловская Алёна в двух тура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(результаты впереди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одготовка детей к Всероссийскому конкурсу. Проект «Познание и творчество». Зимний тур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Орлова Али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Мазитов Русла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(результаты впереди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одготовка детей к конкурс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«Колосок осенний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Шиловская Алёна – 1 мест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Подготовка детей к конкурс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Центр Сней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«День матери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Орлова Алина – участи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4560" marR="34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C:\Users\Пользователь\Documents\класс 3 б1\мой кадетский класс\SAM_9102.JPG"/>
          <p:cNvPicPr/>
          <p:nvPr/>
        </p:nvPicPr>
        <p:blipFill>
          <a:blip r:embed="rId1"/>
          <a:stretch/>
        </p:blipFill>
        <p:spPr>
          <a:xfrm>
            <a:off x="395280" y="260280"/>
            <a:ext cx="8497800" cy="63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39280" y="1916280"/>
            <a:ext cx="8280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611280" y="404640"/>
            <a:ext cx="792144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8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   за    внимание 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3" name="Picture 5" descr="MC900370140[1]"/>
          <p:cNvPicPr/>
          <p:nvPr/>
        </p:nvPicPr>
        <p:blipFill>
          <a:blip r:embed="rId1"/>
          <a:stretch/>
        </p:blipFill>
        <p:spPr>
          <a:xfrm>
            <a:off x="684360" y="2492280"/>
            <a:ext cx="3024000" cy="2863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MP900400619[1]"/>
          <p:cNvPicPr/>
          <p:nvPr/>
        </p:nvPicPr>
        <p:blipFill>
          <a:blip r:embed="rId2"/>
          <a:stretch/>
        </p:blipFill>
        <p:spPr>
          <a:xfrm>
            <a:off x="5867280" y="4292640"/>
            <a:ext cx="23050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дущие  роли  классного  руководите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водник по стране зна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равственный наставн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ситель культу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циальный педаго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рший товари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тро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асилитато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мения и навыки классного руководите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иагностически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ектировочны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ктически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ценочны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флексивны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едагогические способности классного руководител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дидактическ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перцептивные (профессиональная зоркость, педагогическая интуиция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суггестивные (способности к внушению, заключающиеся в силе непосредственного волевого влияния на воспитанни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коммуникатив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экспрессив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выразительные способност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эмоциональная устойчивос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способность владеть собо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оптимистическое прогнозирован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креативные (способность к творчеству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научно – познавательные способ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Моё педагогическое  кредо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юбить своих учеников, учитывая их индивидуаль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рить в доброе начало каждого ребен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ремиться к профессионализму, самосовершенствованию и творческой самореализ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ё интересное сложно, всё сложное- интерес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ыть патриотом России, бережно сохраняя и преумножая в сфере воспитания и образования лучшие национальные ценности и тради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сновные принципы  воспит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ринцип природосообразност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спитывать учащихся сообразно их полу, возрасту, формировать у них ответственность за развитие самих себя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ринцип культуросообразност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спитывать на общечеловеческих ценностях в соответствии с ценностями и нормами национальной культуры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ринцип интеграци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ндивидуальный и личностный подход в воспитании. Признание личности развивающегося человека; уважение уникальности и своеобразия каждого ребенка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ринцип концентрации воспитания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вивать социальную и культурную компетентность личности, оказать помощь в освоении социокультурного опыта и свободного самоопределения в социальном окружен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сновные  принципы классного руководител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здавай ситуацию успех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ми ребенка таким, каков он е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носись к детям так, как хочешь, чтобы они относились к теб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бывает плохих детей, бывают дет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уждающиеся в помощ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сновные функции классного воспит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ординирующ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разователь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вивающ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спитатель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Направления воспитательной рабо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2268360" y="1844640"/>
            <a:ext cx="3888000" cy="3816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триотическ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556000" y="134136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уховно-нравственн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5508720" y="2852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стетическ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5580000" y="53197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удов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95280" y="30891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изическ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684360" y="5465880"/>
            <a:ext cx="22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кологическ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3T17:27:50Z</dcterms:created>
  <dc:creator>Пользователь</dc:creator>
  <dc:description/>
  <dc:language>en-US</dc:language>
  <cp:lastModifiedBy>Пользователь</cp:lastModifiedBy>
  <dcterms:modified xsi:type="dcterms:W3CDTF">2013-02-07T14:32:48Z</dcterms:modified>
  <cp:revision>26</cp:revision>
  <dc:subject/>
  <dc:title>ПРОГРАММА ВОСПИТАТЕЛЬНОЙ  РАБОТЫ</dc:title>
</cp:coreProperties>
</file>