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49E-0573-4492-B1D2-E94B47CB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A0E-DB80-4DAB-8EEF-C63C3CC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2C4-DCD3-4832-BBE0-A5225D70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13F-6586-4326-8DB7-2935715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735F7-DE80-45B5-8963-B4B2D6DD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92220-181D-47BA-9A8F-CA9D220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2772A-9AE9-453B-BB2A-8CF36E1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BF291-6240-4855-A669-64617291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1D04-C9A8-40A5-8925-DD174E8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FC796-7A72-4920-8E15-9CA36A6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8A56A-F7FF-47DC-82DD-DD9468A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B7C-8B07-4764-809B-9E81C535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36AD4-51F1-43B3-9991-D895DD3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11DA-58FC-4F3E-860F-367EE41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F5175-A0AB-4D60-AD19-C33FA0A3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433D-3921-4F55-A7A5-2C6816F5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5E299-7975-4282-BF4E-C4EB2FD1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D65-0D30-4C80-B4A8-E881F6B2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1C0-F7BC-4798-AACE-88BE7ABE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467-6A7C-4221-9B22-CEC8391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F04-0129-4304-8711-58CB289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217-AA24-436D-9E81-3C8333D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254-D65D-45C5-9982-87DECA9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233-5D18-4766-9186-44DF2D1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6A7-DBA1-44BD-B449-94A3B9485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172-D4F3-42BC-B0D4-E553A22E84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ГРАММА  ВОСПИТАТЕЛЬНОЙ  РАБОТЫ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  МЫ – КАДЕТЫ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лассный руковод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3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Шиловская Наталия Григо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У  «СОШ № 9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Троиц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ормы воспитательной рабо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руппов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едагог-группа учащихся) – творческие группы, органы ученического самоуправления. Здесь классный руководитель - сотрудник, рядовой участник или организатор, который помогает каждому проявить себя и создать условия для получения в группе значимого положительного результата 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ндивидуальны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едагог-ученик). К ним относятся беседы, задушевный разговор, консультации, советы, обмен опытом и др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ассов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едагог - несколько групп, классов) – конкурсы, походы, спортивные соревнования и т.д. роль классного руководителя здесь разнообразна от организатора до рядового участни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дель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Organization Chart 42"/>
          <p:cNvGrpSpPr/>
          <p:nvPr/>
        </p:nvGrpSpPr>
        <p:grpSpPr>
          <a:xfrm>
            <a:off x="179280" y="2037240"/>
            <a:ext cx="8569080" cy="1142640"/>
            <a:chOff x="179280" y="2037240"/>
            <a:chExt cx="8569080" cy="114264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7228080" y="2825280"/>
              <a:ext cx="229320" cy="24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1470960" y="2824560"/>
              <a:ext cx="229320" cy="25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8" name="_s1030"/>
            <p:cNvCxnSpPr>
              <a:stCxn id="114" idx="0"/>
              <a:endCxn id="119" idx="3"/>
            </p:cNvCxnSpPr>
            <p:nvPr/>
          </p:nvCxnSpPr>
          <p:spPr>
            <a:xfrm flipV="1" rot="16200000">
              <a:off x="5788080" y="922320"/>
              <a:ext cx="229320" cy="2904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0" name="_s1031"/>
            <p:cNvCxnSpPr>
              <a:stCxn id="121" idx="0"/>
              <a:endCxn id="119" idx="3"/>
            </p:cNvCxnSpPr>
            <p:nvPr/>
          </p:nvCxnSpPr>
          <p:spPr>
            <a:xfrm flipV="1" rot="16200000">
              <a:off x="4349160" y="2361240"/>
              <a:ext cx="229320" cy="25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2" name="_s1032"/>
            <p:cNvCxnSpPr>
              <a:stCxn id="117" idx="0"/>
              <a:endCxn id="119" idx="3"/>
            </p:cNvCxnSpPr>
            <p:nvPr/>
          </p:nvCxnSpPr>
          <p:spPr>
            <a:xfrm flipH="1" flipV="1" rot="5400000">
              <a:off x="2909520" y="946800"/>
              <a:ext cx="229320" cy="2855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sp>
          <p:nvSpPr>
            <p:cNvPr id="119" name="_s1033"/>
            <p:cNvSpPr/>
            <p:nvPr/>
          </p:nvSpPr>
          <p:spPr>
            <a:xfrm>
              <a:off x="3238200" y="2037240"/>
              <a:ext cx="2451240" cy="223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ВОЕННО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- 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1034"/>
            <p:cNvSpPr/>
            <p:nvPr/>
          </p:nvSpPr>
          <p:spPr>
            <a:xfrm>
              <a:off x="179280" y="2489760"/>
              <a:ext cx="281160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6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ДУХОВНО - НРАВСТВЕНН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3057840" y="2489760"/>
              <a:ext cx="281160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6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ГРАЖДАНСКО 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5936760" y="2489760"/>
              <a:ext cx="281160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6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ОЦИАЛЬНО - 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248400" y="2953080"/>
              <a:ext cx="2673360" cy="226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ГЕРОИКО - 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8"/>
            <p:cNvSpPr/>
            <p:nvPr/>
          </p:nvSpPr>
          <p:spPr>
            <a:xfrm>
              <a:off x="6006240" y="2953080"/>
              <a:ext cx="2673360" cy="226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ПОРТИВНО - 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3" name="Picture 64" descr="MM900178279[1]"/>
          <p:cNvPicPr/>
          <p:nvPr/>
        </p:nvPicPr>
        <p:blipFill>
          <a:blip r:embed="rId1"/>
          <a:stretch/>
        </p:blipFill>
        <p:spPr>
          <a:xfrm>
            <a:off x="3708360" y="4005360"/>
            <a:ext cx="20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042920" y="2031120"/>
            <a:ext cx="73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истема целереализующих мероприятий представляет комплекс мероприятий, распределенных по месяцам на основе ежегодного цикла в период на 2012-20014 годы, предусматривает их обновление и допол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71440" y="663120"/>
            <a:ext cx="86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Целереализующие мероприятия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ализация воспитательной програм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реализации любой воспитательной программы очень важно видеть и знать ее результаты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 результатами воспитательного процесса понимают те изменения, которые произошли с участниками педагогического процесса и в отношениях между ни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ение результатов и эффективности воспитательного процесса выполняет аналитическую, контрольно-корректирующую и прогностическую функции. При этом надо иметь в виду, что динамика показателей может быть неодинаковой, более того, некоторые показатели могут почти не меняться, а иногда быть хуже, чем на предыдущем этапе. Общий вывод делается на основе сопоставления всех полученных данных, характеризующих проделанную работ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изучения результатов воспитательного воздействия можно использовать следующие методики: мониторинг, диагностика, анкетировани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бранная модель воспитательной системы класса помогает мне более целенаправленно и обоснованно строить воспитательную работу, сосредотачивать усилия на решении наиболее важных педагогических проблем, согласовывать устремления действий учителя, учащихся и родителей при планировании и организации жизнедеятельности в классе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ализация системы воспитательной работы предполагает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формирование ведущих качеств личности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непрерывную педагогическую диагностику, постепенно переходящую в самодиагностику и самопознани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рактическую деятельность педагога и воспитанников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держание просвещения в области гуманитарной культуры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четание индивидуального воспитания, воспитания в коллективе и самовоспитания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неразрывную связь с воспитательными факторами среды: родителями, общественностью, школьной библиотек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витие общей культуры обучаю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00000" y="620640"/>
          <a:ext cx="7777440" cy="5154840"/>
        </p:xfrm>
        <a:graphic>
          <a:graphicData uri="http://schemas.openxmlformats.org/drawingml/2006/table">
            <a:tbl>
              <a:tblPr/>
              <a:tblGrid>
                <a:gridCol w="3888000"/>
                <a:gridCol w="3889440"/>
              </a:tblGrid>
              <a:tr h="549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Руслан    участие  в 9 городском конкурсе исследовательских работ, творческих  и проектных работ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 Р – грамота за участ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Всероссийскому конкурсу. Проект «Познание и творчество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сенний тур. «Весёлая граммати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8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Международному конкурсу ЭМУ – Эруди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рикова Анастасия – 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Руслан – 2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Усольцева  Кристина – 6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7 мест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оект «Интеллект – экспрес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Всероссийский конкурс – олимпиада 1 четвер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Усольцева Кристина – 3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8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оект «Интеллект – экспрес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Всероссийский конкурс – олимпиада 2  четвер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Внукова Татья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втун Евг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в двух тур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рикова Анаста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Шиловская Алёна в двух тур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(результаты впере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Всероссийскому конкурсу. Проект «Познание и творчество». Зимний тур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Рус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(результаты впере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Колосок осен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Шиловская Алёна – 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Центр Сне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День матер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участ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Users\Пользователь\Documents\класс 3 б1\мой кадетский класс\SAM_9102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9280" y="191628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611280" y="404640"/>
            <a:ext cx="7921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  за    вним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5" descr="MC900370140[1]"/>
          <p:cNvPicPr/>
          <p:nvPr/>
        </p:nvPicPr>
        <p:blipFill>
          <a:blip r:embed="rId1"/>
          <a:stretch/>
        </p:blipFill>
        <p:spPr>
          <a:xfrm>
            <a:off x="684360" y="2492280"/>
            <a:ext cx="3024000" cy="2863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P900400619[1]"/>
          <p:cNvPicPr/>
          <p:nvPr/>
        </p:nvPicPr>
        <p:blipFill>
          <a:blip r:embed="rId2"/>
          <a:stretch/>
        </p:blipFill>
        <p:spPr>
          <a:xfrm>
            <a:off x="5867280" y="429264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ущие  роли  классного  руково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ник по стране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равственный настав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итель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й педаг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ший товари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силит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ния и навыки классного руково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гностическ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ировоч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ктическ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оч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в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дагогические способности классного руко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дидактическ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ерцептивные (профессиональная зоркость, педагогическая интуиц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уггестивные (способности к внушению, заключающиеся в силе непосредственного волевого влияния на воспитан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оммуникатив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экспрессив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ыразительные способ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эмоциональная устойчив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пособность владеть соб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птимистическое прогнозиров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реативные (способность к творчеству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учно – познавательные способ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оё педагогическое  кред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ить своих учеников, учитывая их индивиду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ить в доброе начало каждого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емиться к профессионализму, самосовершенствованию и творческой само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 интересное сложно, всё сложное- интерес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ть патриотом России, бережно сохраняя и преумножая в сфере воспитания и образования лучшие национальные ценности и тради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принципы 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природосообразнос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учащихся сообразно их полу, возрасту, формировать у них ответственность за развитие самих себя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культуросообразнос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на общечеловеческих ценностях в соответствии с ценностями и нормами национальной культур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интеграц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дивидуальный и личностный подход в воспитании. Признание личности развивающегося человека; уважение уникальности и своеобразия каждого ребенк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концентрации воспит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социальную и культурную компетентность личности, оказать помощь в освоении социокультурного опыта и свободного самоопределения в социальном окруже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 принципы классного руковод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вай ситуацию успе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и ребенка таким, каков он 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сь к детям так, как хочешь, чтобы они относились к т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бывает плохих детей, бывают де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ждающиеся в помо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функции классного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ординирую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ю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правления воспитательной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268360" y="1844640"/>
            <a:ext cx="3888000" cy="381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риотиче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56000" y="1341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овно-нравствен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50872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580000" y="5319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уд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5280" y="3089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84360" y="546588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лог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7:27:50Z</dcterms:created>
  <dc:creator>Пользователь</dc:creator>
  <dc:description/>
  <dc:language>en-US</dc:language>
  <cp:lastModifiedBy>Пользователь</cp:lastModifiedBy>
  <dcterms:modified xsi:type="dcterms:W3CDTF">2013-02-07T14:32:48Z</dcterms:modified>
  <cp:revision>26</cp:revision>
  <dc:subject/>
  <dc:title>ПРОГРАММА ВОСПИТАТЕЛЬНОЙ  РАБОТЫ</dc:title>
</cp:coreProperties>
</file>