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DAE5-500C-4E35-8589-1716EE5846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BD87-7E28-4DAE-BC6C-9BA7AFF81A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Австралийский гигантский варан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                  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хищная рептилия. Добычу      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удерживает лапами, отрывает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большие куски и жадно их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заглатыв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5BBD-A4DA-463B-9E42-E89F5BAB300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роткохвостый 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                                     сци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66B6-C1DF-4971-A403-51468D0855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игровая кошка</a:t>
            </a:r>
            <a:br>
              <a:rPr sz="1200"/>
            </a:b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                                         Свирепый, </a:t>
            </a:r>
            <a:br>
              <a:rPr sz="1200"/>
            </a:b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                воинственный хищн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AAA0-6EF5-4863-AF19-A4190FBEE4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андику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647E-D6CC-4501-805B-AD8404B7D0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оссум  обыкнове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77A7-226E-41CC-8844-655A0F15CA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умчатая летяга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близкий родственник поссума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У нее между    </a:t>
            </a:r>
            <a:br>
              <a:rPr sz="1200"/>
            </a:b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передними и задними   </a:t>
            </a:r>
            <a:br>
              <a:rPr sz="1200"/>
            </a:b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лапами – складка    </a:t>
            </a:r>
            <a:br>
              <a:rPr sz="1200"/>
            </a:b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кожи,  </a:t>
            </a:r>
            <a:br>
              <a:rPr sz="1200"/>
            </a:b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            образующая перепонку, покрытую шерст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3764-C031-4FD5-AEF6-09FAA70BBE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стралия – самый маленький континент Земли, площадью 7631,5 тыс. км</a:t>
            </a:r>
            <a:r>
              <a:rPr b="0" lang="ru-RU" sz="1200" spc="-1" strike="noStrike" baseline="42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бычно с ней объединяют группы островов (около 10 тыс.), расположенных неподалеку в Тихом океане. Их называют Океанией. Самые крупные из островов – Новая Гвинея и Новая Зеландия. Из животных населяющих Австралию, 90% видов больше нигде не встречаются. Среди них много примитивных и древних зверей, которые когда – то жили на других континентах, но давным – давно там вымерли. Здесь нет копытных, обезьян и хищников, естественных почти для всех остальных частей суши: только те из них, которых завез в разное время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9A5E-135C-48F6-88E3-4E0B6CC775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21BE-74C7-417F-820C-5F32CB63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9080-59CE-40EB-AD9B-03869679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BCA11-FBD6-4793-BB65-F2A7BA4B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B66DA-AD63-42E9-BE6B-E042207B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86F3F-B373-4DF0-AA9A-87D021E3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4B14C-06DE-4FD9-9ED3-7793E67B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ED2D6-2DE5-4397-A664-AB081EC1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AD08B-8660-4E31-A6A7-F4A2933B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E9896-27EC-4B96-992B-C77C215C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378B6-742E-426C-8BCA-EFD7BC41A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A68AF-1B7A-4FA6-A168-44EE9CC9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9B37A5-8C41-4BEE-9326-E98432173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A311-591C-4153-A9C3-DEB14F4B5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0EE3D1-9EDA-4607-85B3-016EFA33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BA1378-2A5C-482A-B1A3-037D5F97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189A0D-23B3-4C16-A819-4DAB8EE5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CA0358-1B90-4DB0-BF01-5D906BFB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F1CB22-4E1B-4483-8459-47D4E731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FF3EDE-66B5-4066-8CE6-408397F8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F016A7-5BA3-465E-96E4-C190AC0E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FAF1C8-98FD-4591-8513-417A7A97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E916FC-30D2-440A-AE32-1F8AF6FF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E30578-081F-44C0-BED0-C1FA24D60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9BDF-6957-4BDD-83CC-1B8AA860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BB15F2-5FC9-4881-918E-D6BD0A27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B6F91-2083-42C5-9622-9DB233D0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53676-CF9D-497A-9464-7D705D29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12553-494B-48C5-907E-16718AA4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81512-F6A8-438B-8082-6BF13831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88CCB-7FD9-4620-9EA7-24FDC561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3480E-57D0-439A-B9BF-A7C84CBF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4F065-673D-421F-B0D8-38E9F2CB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CE507-25AD-4EFA-B136-75CC2D33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D67F1-94D4-4F71-8724-99C3CBDA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91A9-81E2-47CD-AC2A-149D6B1EF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483A2-01D3-4FEA-835A-80CFA139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31397-B953-46E6-B52F-CC6DE2C0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1BFB3-E32E-4143-A01C-11CA5204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67B84-CEA7-4CCD-835A-EE3857FE5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A5088-032D-4674-9E58-988A334B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33DA6-5356-4125-855C-D4BEE75D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875CD-652C-4B21-A3EB-558A98DD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39961-C6D2-4344-81C3-5689E998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223AE3-C56F-494A-AC98-2939D54E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C2CE3-C28F-4C31-A04A-88098B5A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EA89-6D07-4D4F-BD1B-E57A41BA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4F18D-C662-4FED-A461-6B4F8431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E48E55-365B-44AE-86CC-D0DAB08A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DD336D-6497-49A4-9CE4-10711A6D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58696-9F7C-48E6-A647-923A2C876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311BB-1F22-45E8-99BE-00526D026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5E2805-6A85-4418-B465-7DD22CBA7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63C1C6-0F66-43AB-AAA7-E64B4542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F38153-2B13-4651-8FE4-1E08A694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958907-D01D-4EBF-B9BE-4DBCCB4B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966415-BF4B-49BE-AC73-B3461F2D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1466-DF4F-4A81-A539-CA554ABE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AB18CC-C251-41E2-B035-0E9C2A20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C4DEFF-01D8-4E89-BD06-165F6BBD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E0F9C1-2C7E-44CB-A38A-2672CD2A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C2F644-F12C-4C67-B230-E283F0D7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268B61-D5A6-4E1B-A6AB-8148C531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F3F06C-3025-4A03-81A1-69CC4EF7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E3E0F5-07A7-4471-A929-404F92803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A020CE4-67AF-4E81-AAF8-16ABD0E0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FF498B9-9AF9-445D-B8DA-77935432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34DEF55-6DDE-428A-AA98-6A883870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6CBD-D877-431F-B903-3DE74FC1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7924F5D-0A8C-49A2-BD49-FB870F79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CA1EE9E-D0BE-4E2C-B9EA-C0E3C34B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B02DFBA-B090-4C8B-B865-7A8B3606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71EA748-FE1B-4FFF-A5B8-61545D82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BF04CCE-9BC4-4067-80FD-ADCF123B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218B22C-50A2-435B-B2FE-A6F8FDE1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66D8D04-6E91-4975-9FCC-9504751E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CB16CA0-BD40-4B8E-AE1E-6FCED3AFF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9676E37-D64A-45D3-9BED-30E22723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987FFE5-C45E-4F3A-A28D-E28F59C6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E507-8F53-42A3-98B5-34D2E30E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6203F88-BF12-4500-9790-9477CB78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84DF9BF-AB02-44C2-A4B0-0F18A3F3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F51CE42-339F-46E2-88A6-6FCE3467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FE33F3B-7A8B-4CC3-AE63-1463FC0B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9071B5B-41FB-4D22-8B98-27800E28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F7624EF-8C0C-4F98-8235-48F6EEEE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D35BAB3-D7C9-4D76-906C-5C4009E5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3BACF0D-EA20-4C20-B102-4A63BA4F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395AE12-4CFC-4BA3-A291-582E54D9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997B2A7-8BFD-49C2-BE6D-43444252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FEAB-CFC5-4D23-8141-D2F606A7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4D6ADDC-93A4-4534-BDBB-61B9BD2F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ADAE-48DC-4782-8CA1-A8FFE318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5C0C-D976-4112-A15F-661A9DB1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2A3A-316C-4F6C-A0F4-C283B43F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6B46-D39E-4D1D-8000-F8D0BC93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3885-E03F-4465-9F78-0283EA0F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F90B-9359-49AF-A896-F8279B57E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DDD4-34D6-40BA-9ED0-1E7EE1E15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D2681-EE77-463A-9A3B-25AB4ACD2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D1A29-2233-416D-AA9C-BBD56E89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4A135-E5A3-4413-B63C-CCF31A6E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60EAA-1007-4BC1-BCC0-A138C0AB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D5DCF-06A0-4F2E-8EFA-289D80C4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3EA1-FEE7-4A2E-A6F1-958D76A4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B8C69-A1BB-4DF6-85B7-DB52A3CE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3B823-F84D-4D9D-8F17-BC6BCDC3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B0178-DBE7-4872-870A-27D1443B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8330D-89A6-4BBF-9E4A-3C01B3D9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BA222-810B-4BAF-9EF9-57E1A80D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C1631-8809-427A-AE11-CFC59BD52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5793E-7F1F-4004-978E-8B978D5D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A071B-1C7A-4654-A155-486DC277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6782C-839C-4D90-94A5-509A37B7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76F8A-257E-44D2-8509-673F2021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08E9-1864-4C14-BD84-741CC789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180A3-D86B-4D07-974B-AFB7A8AE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20A60-1ED5-429C-B66C-804BFB94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748AB-A96E-4E10-93F8-C802B89D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FF5CD-7715-4DF2-A3F9-41FD3C21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2626B-D029-4DEB-897E-37D70C08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FC9B6-BB57-4E33-B1C2-A95650DC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A884A-FAA3-462E-B704-C6B53537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13136-B94C-40C1-9E4A-822529960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765AF-3CA9-4C18-880B-62B325473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A8DB8-C36E-4A86-ACE6-1B7C3B0DB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6C46-C469-48C4-BA95-B4BABCF5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4A747-881E-4259-BF4A-0A650FB9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6FA9D-183A-4573-8D5C-1673EE81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0C7DA-C1BB-4A1B-8B39-0B0A1B88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12B39-0A8A-477F-94C8-A4DA815C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41AF0-4033-4A1F-8819-2D63C0F7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A3B02-2A87-40BA-A0F7-1292B818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703AF-EDF5-485F-BB58-21CF9B6B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49C49-F6C7-4EDD-9A5D-70710532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1B0F2-DB9D-41B7-881D-4411DAAC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0899F-466A-4101-A302-DE4395A10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FE91-25F8-4E7A-A66D-B4437236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A4830-D154-4EB1-B30B-289BBF94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47D99-D21B-49A3-B243-0203B6EF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01224-C4D7-42D1-BFE7-3F7FB3E4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BF4E8-EFE6-4BDB-B3D3-F6FB6DAA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E0048-DB00-4D7C-95FD-108F1463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8BFE9-6169-4962-852B-3BC90000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73CE8-0CC2-4F5F-A002-32F3F1EC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5E9CD-95B8-4C7E-AA6A-11C61CA8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6358A-8550-484D-8B1F-9CE9B141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1A6B3-3251-448C-8687-B02B2281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6E86-E29D-4D58-9627-CA658C8B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ED525-78B3-4DC3-B585-0E769150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DC0F6-89D8-4928-817F-BB60BE873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1398F-2661-45DB-AFCA-FA2ECD62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049EB-936E-469B-BA47-B12F07B9F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B2DF2-D964-4CD4-BA19-C22E7BDB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708F2-9543-4B70-91D1-E3B4A5B4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51CAB-E650-4B8B-A182-73A25614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655D2-1BDD-4596-BC11-1E83CC21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091F0-2D31-496D-923B-833F9882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4342E-1141-448F-AAFC-DE050440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F069-ECF3-4D6E-BD75-D3DF71D6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A4255-C8BB-40B2-ABDD-7A2A18AD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54F3A-98DE-4E3C-B140-BCBB9027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24040-25D6-497E-88EB-36F54740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2A09C-0A74-405D-BDE0-558FCB44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86A5A-F285-4A3E-8B30-6EACB0C36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347CF3-DC1B-4291-9E83-2729B57B9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96E8A7-0559-4E2A-A739-675A4681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222E35-149B-4CF8-83A0-0FAB8349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B62DBE-86D5-429E-8101-BD034FD1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52DA3D-4E8A-44AE-8E61-30D5B539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AD12-A362-4116-84E4-01ABA4F1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D3C63C-D35F-4C76-8C9C-8BC14B8D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D753AF-BC6E-427B-99BD-FC354DA1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016952-FF1D-4B1F-881A-14F47604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C9754E-7D07-42A2-A056-9B77F2EF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B40FFB-C75A-441E-8289-B5094EEE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15CA61-0997-4A7C-9AF7-D6EE77BB6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98A22E-8F03-4F33-9C44-3A839CA44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C07C7-B8EA-42DF-BBE8-098CBDEE6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7B361-E554-411C-A651-DE12CF67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2184B-C7E6-4697-9DBC-17BB103D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680F-A086-43F8-9133-1D8998D4FC4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sldNum" idx="29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0924-CF8E-4AA4-A14C-5D496A8B49A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30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30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2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708B-030B-4925-ACCF-6AA7EE644CB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7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E255-FDA4-4EE0-9C1A-441182DA5B0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5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3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A15C-70E3-476E-984C-F3190142751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4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sldNum" idx="4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477C-0D52-468A-A7AD-0F1903B0F0E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ftr" idx="4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sldNum" idx="44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04BB-A1C0-4C62-97E2-C3ED64797CE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45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4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5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F0EE-9622-4FFD-A741-D1A0FB4E5DA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F37E-E7BA-4D2E-B4EF-5C144A354FB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D93F-BEE2-474B-A741-622E1B4E575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90DD-E37E-40CB-9298-ED0346D1C79B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EF28-DE66-4572-964F-E70E8C1282F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98EA-CE70-40AD-BC2A-9E7560D2929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299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sldNum" idx="23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4B1F-E18E-4A40-9ADB-FC9689CD7DD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ftr" idx="24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4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CF4F-F1B3-4D7C-B025-893CC1E554E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Заголовок 1" descr=""/>
          <p:cNvPicPr/>
          <p:nvPr/>
        </p:nvPicPr>
        <p:blipFill>
          <a:blip r:embed="rId1"/>
          <a:stretch/>
        </p:blipFill>
        <p:spPr>
          <a:xfrm>
            <a:off x="420840" y="2298600"/>
            <a:ext cx="7016760" cy="2438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2" descr="D:\флешка\рисунки\10_DVA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Австралия – самый маленький континент Земли, площадью  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7631,5 тыс. км</a:t>
            </a:r>
            <a:r>
              <a:rPr b="0" lang="ru-RU" sz="2400" spc="-1" strike="noStrike" baseline="42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. Обычно с ней объединяют группы островов (около 10 тыс.), расположенных неподалеку в Тихом океане.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      Их называют Океанией. Самые крупные из островов – 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               Новая Гвинея и Новая Зеландия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Содержимое 3" descr="DSC001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     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Австралийский гигантский варан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-                 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     хищная рептилия. Добычу    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    удерживает лапами, отрывает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            большие куски и жадно и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                                  заглатывает. 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 spd="slow">
    <p:wheel spokes="3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Содержимое 3" descr="DSC001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             </a:t>
            </a:r>
            <a:br>
              <a:rPr sz="4600"/>
            </a:b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                       </a:t>
            </a:r>
            <a:r>
              <a:rPr b="1" lang="ru-RU" sz="4600" spc="-1" strike="noStrike">
                <a:solidFill>
                  <a:srgbClr val="c00000"/>
                </a:solidFill>
                <a:latin typeface="Franklin Gothic Book"/>
              </a:rPr>
              <a:t>Короткохвостый </a:t>
            </a:r>
            <a:br>
              <a:rPr sz="4600"/>
            </a:br>
            <a:r>
              <a:rPr b="1" lang="ru-RU" sz="4600" spc="-1" strike="noStrike">
                <a:solidFill>
                  <a:srgbClr val="c00000"/>
                </a:solidFill>
                <a:latin typeface="Franklin Gothic Book"/>
              </a:rPr>
              <a:t>                                      сцинк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 spd="slow">
    <p:wheel spokes="1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Содержимое 3" descr="DSC001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Franklin Gothic Book"/>
              </a:rPr>
              <a:t>Тигровая кошка </a:t>
            </a: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Franklin Gothic Book"/>
              </a:rPr>
              <a:t>                                    </a:t>
            </a: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Franklin Gothic Book"/>
              </a:rPr>
              <a:t>                                         Свирепый, </a:t>
            </a: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Franklin Gothic Book"/>
              </a:rPr>
              <a:t>                воинственный хищник. 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 spd="slow">
    <p:wheel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Содержимое 3" descr="DSC001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                         </a:t>
            </a:r>
            <a:r>
              <a:rPr b="1" lang="ru-RU" sz="4600" spc="-1" strike="noStrike">
                <a:solidFill>
                  <a:srgbClr val="c00000"/>
                </a:solidFill>
                <a:latin typeface="Franklin Gothic Book"/>
              </a:rPr>
              <a:t>Бандикут</a:t>
            </a: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 spd="slow">
    <p:wheel spokes="8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Содержимое 3" descr="DSC001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Franklin Gothic Book"/>
              </a:rPr>
              <a:t>Поссум  обыкновенный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 spd="slow">
    <p:blinds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Содержимое 3" descr="DSC001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c00000"/>
                </a:solidFill>
                <a:latin typeface="Franklin Gothic Book"/>
              </a:rPr>
              <a:t>Сумчатая летяга</a:t>
            </a:r>
            <a:r>
              <a:rPr b="1" lang="ru-RU" sz="46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Franklin Gothic Book"/>
              </a:rPr>
              <a:t>–</a:t>
            </a: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                     </a:t>
            </a: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Franklin Gothic Book"/>
              </a:rPr>
              <a:t>близкий родственник поссума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Franklin Gothic Book"/>
              </a:rPr>
              <a:t>У нее между   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    передними и задними  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         лапами – складка   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                        кожи, 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Franklin Gothic Book"/>
              </a:rPr>
              <a:t>            образующая перепонку, покрытую шерсткой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 spd="slow">
    <p:cover dir="l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Из животных населяющих Австралию, 90% видов больше нигде не встречаются. Среди них много примитивных и древних зверей, которые когда – то жили на других континентах, но давным – давно там вымерли. Здесь нет копытных, обезьян и хищников, естественных почти для    всех остальных частей суши: только те из них, которых    завез в разное время человек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pull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6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6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ёжка</cp:lastModifiedBy>
  <dcterms:modified xsi:type="dcterms:W3CDTF">2008-06-27T14:45:21Z</dcterms:modified>
  <cp:revision>20</cp:revision>
  <dc:subject/>
  <dc:title>Редкие животные Австралии</dc:title>
</cp:coreProperties>
</file>