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C222-6F2E-4977-8CDD-528E26FC0C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36FC-C0DA-4366-B254-E7628F6CEE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Австралийский гигантский варан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хищная рептилия. Добычу     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удерживает лапами, отрывает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большие куски и жадно их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заглат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72F4-0F79-447A-8D37-4177416860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роткохвостый 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                             сци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93F4-75C9-4CF1-AE1B-93E77FCC69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гровая кошка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Свирепый,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               воинственный хищ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C8BC-19D9-40F2-BEE3-B737EC3EA2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андику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9A2D-1631-424E-9844-EB69393312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ссум  обыкно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B897-FB71-4588-B883-B713A56C0E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чатая летяга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близкий родственник поссум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нее между 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передними и задними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лапами – складка 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кожи,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образующая перепонку, покрытую шерс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0F71-8C6D-47D9-B4A6-7FC37B63D3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– самый маленький континент Земли, площадью 7631,5 тыс. км</a:t>
            </a:r>
            <a:r>
              <a:rPr b="0" lang="ru-RU" sz="1200" spc="-1" strike="noStrike" baseline="42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ычно с ней объединяют группы островов (около 10 тыс.), расположенных неподалеку в Тихом океане. Их называют Океанией. Самые крупные из островов – Новая Гвинея и Новая Зеландия. Из животных населяющих Австралию, 90% видов больше нигде не встречаются. Среди них много примитивных и древних зверей, которые когда – то жили на других континентах, но давным – давно там вымерли. Здесь нет копытных, обезьян и хищников, естественных почти для всех остальных частей суши: только те из них, которых завез в разное врем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6188-50D3-4540-9202-F0D8221A4D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7D3-3D94-42D3-BEBC-F8425240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871-B4F0-4775-90C3-6F2E953D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FE3AE-4D12-4726-82D1-D28319EC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84854-BE8C-4DC9-AD9C-39BA59EA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DB6F6-0317-40AA-B2C0-A7A4FD92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54126-AAA3-4BFC-AB83-6AD8B476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47688-1E66-46AD-B2E6-9299D1FA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8F103-84D2-4C7E-930D-C84BC2D3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7DF8C-2C2E-4B22-B92F-59EC8558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C0F40-ABB9-4C0A-A644-81CBD64B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97AC6-531A-42B2-AB79-6D14C4A1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B3F1BF-2276-4D51-A75E-CFBB8174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DCE-7430-42FE-8F63-3DE5A10A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E16FCF-1734-4F40-AFCA-7FEF45BA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2D16C2-3228-452A-825E-9F79FA70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57079A-A781-4733-A5D1-C771A87D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4C9D2A-1D21-4E36-B16B-E808D14D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5A2EB1-4B59-4BDE-A0E2-29A8B523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4D60D3-336A-4EDE-A986-AF9B60DE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C34037-8788-4BB9-8822-633DE9AE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D8FE41-0060-48F5-B298-751831A9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7A6B2F-E916-42DB-BA6E-7A475B25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6E6542-FBC2-4069-8B00-8E0EA45B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7A7-EA32-461E-B7F3-7109AEE0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CBDDC7-FCCA-440C-AEB1-D62A6CFB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28F6A-0DB4-4FA3-92A4-0BD49763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18796-C7E8-41BB-B90D-E0062A9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6B95D-6D50-4B9C-A2FD-AB3A450A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8D603-7DDB-4495-8861-F370708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39CD4-C0A4-4972-AEAA-2622C717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593F6-8943-443F-9C98-341BE1BF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A5389-ABDF-4122-A9DB-2C8469C8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7295B-10CF-4023-A27E-DAF63CA2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59C4F-113B-494B-B571-71A53D5B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B85E-70CB-4BD0-9FF9-AE988788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0C1AC-FEB9-4223-B2A9-96F1E3C7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004CC-B511-48DC-94B2-502D8BAD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12C88-F393-4D2D-9998-1CB6D612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86D3D-4E96-44C1-978D-67FB69B9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27AC5-BE6B-4A7B-AB5F-55079187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E915E-8B46-4E32-86C7-8E65B701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9B333-6654-402B-BBB9-6924629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8206F-9DE2-455E-AC71-95661735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BFE5F-89F3-40BE-9852-A9DFAF16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8ABCF-8697-497D-99B3-659B982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6D04-BE95-4FEE-973E-308CD95D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D52D5-263E-433D-8A6C-F785BB74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C2F35-B33C-46CE-B495-7FCF1AE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F1D09-EB92-4582-94A9-B608541D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83D52-A141-42C9-96E7-DCF09FCB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4B6C6-7A89-49D6-8578-EC02FDFE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C9E91-D21A-48FE-AE7C-620A4A8F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E63C7-E66E-4A19-8374-39CDD67D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91A33-5A97-433A-8465-C37DF92C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5C5EB-B330-4120-A028-E37D4979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77918-327B-4EB8-B829-E35F32A5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68E2-8A7B-4DA7-98F9-2C2DA311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7D6C2-7A35-4F28-A119-D67342B8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FDD26-0AFA-4B9B-99CA-70203F3A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96C9E-E1FD-4007-99D6-2D4526CA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F8EB5-B8A9-4C36-89F8-3FCAD9B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7E8B4-CEB1-492A-85E8-B0FF9606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85C0C-E778-4D4A-97ED-3FF9CF79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C6BB0-4720-4F8A-8653-EED0D033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A80469-9E4D-4C2F-B2A1-27ACA17A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63A682-9B58-4B5F-9BD0-944C332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9AB0C2-67D7-468A-9EBD-E7C4ED40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768A-311B-4B11-9A6D-34FB80A6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D15D0A-6D4B-4ABB-9EE7-061C9B2E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1C2BF4-86CE-47A7-AA9B-372A7A75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50FC84-B78E-4626-A357-4C6D5EB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30B4C9-FB6B-4D79-9D16-17A16183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5EA5F1-08A0-43E4-BAA5-D1F89BC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9BD8D1-6D3C-426A-831C-4CFB368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F385EE-43EC-4519-AB8E-F76B9253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ED17FD-FEFB-4115-8FB8-6C8CA7B8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43249F-7D25-4F21-A981-4F029C3A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2110DE-9A56-4B44-B2E8-8A62C45C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6992-536F-418A-985C-99E59E3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118281-2A09-44D6-93D6-632ACBE8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CC9EF2-4E0E-41C9-BB8A-9C4E0C16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B815D3-2D62-4CA7-B456-3313E846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FDC714-8383-4EB0-96AA-DF9A9260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0E6016-014E-4492-A052-08482EC4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294A2D-7457-4BF3-8F39-C6F5818C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04F106-D991-4419-A0BC-3A1D285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77C44E-E572-43F5-AF3C-4CFB4866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7E70F5-E217-4AB1-ACED-9142E821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E801E8-F2CC-48F3-B938-6F73C710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2580-1F59-423A-92D4-2C9EBB34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D89B26-347B-4CA8-A1E5-960AE15D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CA25-7F67-4CA9-B1F9-A1181EA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FFD-69F3-4A13-85B1-B2062B98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197B-D3FF-4762-BA7C-1D3088A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8DF6-2CB9-4A17-9B8A-52969689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38D1-1410-40AB-A576-5CA50CA0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8ED4-0542-4BEE-B215-C4F2BD60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3179-B3DF-44C4-AC9A-4558FA03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5378-825A-4188-B713-DEDA7B3B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C7F8-DD64-4A56-901D-4A580723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5922-A6FA-406E-A2D1-E2A1547E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18B2-9135-40A1-B2AD-B4AFFA40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1955-14F4-4C77-9B48-5681AE7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E4B-5D7D-45B8-9DD5-9511AFAE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E767-534E-4FE9-B40D-1D560867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0181-940A-4443-B9C7-AB3D024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799D-7C77-46C1-8998-588BFB34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DA25-641B-4187-86DA-F8450BA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201C-7740-4457-B82C-B88A4C76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8BEC-F36A-46D2-B5AF-621310B4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0F39-A930-4D8F-A562-3E4AB160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E91E4-6413-4606-B97D-208D994C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25676-98B4-430D-B994-55C34344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DB6E-32F9-4956-BD7C-FAE78AA8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73E-1B02-4530-A4DC-34739E29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FF0A-54D2-48D7-A34C-A5E1CC63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51F7E-915F-4039-B2A3-C35047B4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85B8C-C5ED-4BC1-AD52-2D1F9A01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8B3B-443D-4A94-9902-3CAF11B5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3CC6-7227-406A-A183-7DB0977A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9034-93C9-476B-9454-27FE4A58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5772-F93D-45E7-96B3-97C282F5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C58E-FDAF-48C0-83F0-FCB99719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B5ED-EBCC-4BDD-AC40-A7A63AD1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2E26B-5DFE-49A7-A352-180FCF89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52F-9B3C-414B-9A6F-70ACC8FE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79AC0-28FB-4950-B14D-0685831C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5C91C-DE0A-44B5-9ABA-42904A7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843AC-E95B-474C-82F5-787D4A2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283C4-14F9-47BC-9E23-782893EF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F896E-A955-4B30-866E-5B02FC70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3809-50DE-4417-A1EA-3B1DD7A8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3EB25-52F4-4044-96F4-8ABB446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5990-F663-470E-9513-2BEA7ED9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1306-40CD-4F5B-971F-C4C442F0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9F8E1-D73A-4546-AB44-DFAED3E5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D20-A380-4028-BBA2-EFCC7BC8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815A-C538-4C55-A648-2A7A6389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2813-30AA-4E7F-AA30-9194A5DF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1F22-1E62-4A1E-AA85-9BE44DFE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DBD0E-D7A8-475B-A466-38B88CFE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A0FCC-A74E-414C-8D76-8A7773FB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C8D49-FC3A-492B-85EF-652370AD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1EA2-DE5B-429D-9642-112700DF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6011B-CCC6-469C-B132-3A6706E7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2053-2AE0-422C-844B-F25A834F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C2A3-BB72-44B5-AECF-E07C3B90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F52-5699-450F-80D5-378367FE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25CA1-198B-42FB-A038-5F71643E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82F5F-4BED-4547-AB59-35E43485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8DB4-5C62-47B0-8BEE-A359A61C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435BC-202B-4911-9680-C32C8069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B6008-6E35-4146-AD30-A5518940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8E37A-9107-471F-B117-C0BFC311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03A0A-E3AE-4E04-A764-43585AFC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35B14-C8A2-43E2-A274-30EF9D0D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47E51-E0FE-423C-995F-B72208CB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012E2-655C-4F18-AEE0-D881438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704-210F-4D7D-A0D9-B8FDBFDC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1CEF9-9B1C-4CE3-8364-037AA356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7163F-C2AD-45C3-BBF2-189B1C42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DDD03-B13B-4DEA-9C52-2784B839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4282-D325-43D6-A557-5FE1D10C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9819B-FDC5-4422-A34A-592F5C50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77B875-26B3-4FC7-91A7-AED9F6F8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356D4-5C50-4C8B-BE40-7EDAABDB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4C899C-99B2-4F5F-A2AD-F261D39E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EA80D-494C-45DF-AEE2-F2FC92A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7CB7A6-0C91-4418-A295-01679405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B39-9516-40F1-9844-9D1B6040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9AD1E1-40A1-4301-84D8-8B453A79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1896AA-1D68-4F20-A98D-17D9406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4F9ADA-1BD5-49E2-93FB-5212CAE4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9093CB-0558-47C1-8E10-A90A0C38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A9DE86-5377-44A0-950C-5248DC6F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E01AC7-BA64-49DD-8E8E-7A351AE5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22F351-090F-48A9-9CED-CC29BB0F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A621B-2463-4CAB-BC89-2E4A7633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B14CF-738E-49A7-9908-96489F5B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2A3F4-82C7-4127-B220-ED9CB2AD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1189-1677-47E6-BC3B-7072B50435C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CB7B-6523-453F-B561-78F07974AF2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DA59-0860-407F-B3E6-316450BA2C9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7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5CCC-7F35-46EF-B65F-63D0052EFE5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EAA9-8300-4E08-BC77-6C3FB47012D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4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4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A5B2-59D5-4F74-9930-AEBB3D7215D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4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sldNum" idx="4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DE6A-795B-416D-8D7F-32721E8BBDB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4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94B9-1255-4A7D-9A9B-3B81160B4AD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0B14-4BB2-4863-9555-7318A2C58AA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2D5C-6DE3-4C02-A496-6B7D870759F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521A-4A11-4290-A282-0AE91DFBCAE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25C3-CF01-4B9E-8B13-166D78C54FF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85D1-155B-4DFE-B0B4-AC0BEDA2F6D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299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0724-E6F5-45FD-9F2D-5E208FA016E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2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4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7B0E-772A-498A-BCC8-357460FE1E4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Заголовок 1" descr=""/>
          <p:cNvPicPr/>
          <p:nvPr/>
        </p:nvPicPr>
        <p:blipFill>
          <a:blip r:embed="rId1"/>
          <a:stretch/>
        </p:blipFill>
        <p:spPr>
          <a:xfrm>
            <a:off x="420840" y="2298600"/>
            <a:ext cx="70167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D:\флешка\рисунки\10_DV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Австралия – самый маленький континент Земли, площадью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7631,5 тыс. км</a:t>
            </a:r>
            <a:r>
              <a:rPr b="0" lang="ru-RU" sz="2400" spc="-1" strike="noStrike" baseline="42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. Обычно с ней объединяют группы островов (около 10 тыс.), расположенных неподалеку в Тихом океане.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Их называют Океанией. Самые крупные из островов –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   Новая Гвинея и Новая Зеланд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Содержимое 3" descr="DSC00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Австралийский гигантский варан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хищная рептилия. Добычу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удерживает лапами, отрывает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большие куски и жадно 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          заглатывает.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3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Содержимое 3" descr="DSC00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Короткохвостый </a:t>
            </a:r>
            <a:br>
              <a:rPr sz="4600"/>
            </a:b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                                      сцинк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Содержимое 3" descr="DSC001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Franklin Gothic Book"/>
              </a:rPr>
              <a:t>Тигровая кошка </a:t>
            </a: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                   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                         Свирепый,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воинственный хищник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Содержимое 3" descr="DSC001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  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Бандикут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Содержимое 3" descr="DSC00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Поссум  обыкновенны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Содержимое 3" descr="DSC00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Сумчатая летяга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–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близкий родственник поссума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У нее между 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передними и задними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лапами – складка 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кожи,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образующая перепонку, покрытую шерсткой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Из животных населяющих Австралию, 90% видов больше нигде не встречаются. Среди них много примитивных и древних зверей, которые когда – то жили на других континентах, но давным – давно там вымерли. Здесь нет копытных, обезьян и хищников, естественных почти для    всех остальных частей суши: только те из них, которых    завез в разное время человек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ёжка</cp:lastModifiedBy>
  <dcterms:modified xsi:type="dcterms:W3CDTF">2008-06-27T14:45:21Z</dcterms:modified>
  <cp:revision>20</cp:revision>
  <dc:subject/>
  <dc:title>Редкие животные Австралии</dc:title>
</cp:coreProperties>
</file>