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dt" idx="4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move the slid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 type="ftr" idx="4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 type="sldNum" idx="4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A670E-E79F-41B6-8E7B-79196F269F7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7DABE-8FF2-4E17-9833-B4F808F333C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Австралийский гигантский варан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-                     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                                                       хищная рептилия. Добычу        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                                                      удерживает лапами, отрывает 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                                                              большие куски и жадно их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                                                                                    заглатывае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8A17A-232F-4B77-9F74-D3FCFDEE284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Короткохвостый 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                                      сцин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F4B6B-8898-4F27-A3AB-665AFACB87F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Тигровая кошка</a:t>
            </a:r>
            <a:br>
              <a:rPr sz="1200"/>
            </a:br>
            <a:r>
              <a:rPr b="1" i="1" lang="ru-RU" sz="1200" spc="-1" strike="noStrike">
                <a:solidFill>
                  <a:srgbClr val="ffffff"/>
                </a:solidFill>
                <a:latin typeface="Calibri"/>
              </a:rPr>
              <a:t>                                         Свирепый, </a:t>
            </a:r>
            <a:br>
              <a:rPr sz="1200"/>
            </a:br>
            <a:r>
              <a:rPr b="1" i="1" lang="ru-RU" sz="1200" spc="-1" strike="noStrike">
                <a:solidFill>
                  <a:srgbClr val="ffffff"/>
                </a:solidFill>
                <a:latin typeface="Calibri"/>
              </a:rPr>
              <a:t>                воинственный хищни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1523D-C4D3-4273-9F2F-C6FEC31FB05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Бандику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25930-27DA-402B-8751-378486D1A22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Поссум  обыкновен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FF3F6-6322-4A22-B1FB-262BBE8CEFA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Сумчатая летяга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близкий родственник поссума.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У нее между    </a:t>
            </a:r>
            <a:br>
              <a:rPr sz="1200"/>
            </a:b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                                                       передними и задними   </a:t>
            </a:r>
            <a:br>
              <a:rPr sz="1200"/>
            </a:b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                                                            лапами – складка    </a:t>
            </a:r>
            <a:br>
              <a:rPr sz="1200"/>
            </a:b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                                                                           кожи,  </a:t>
            </a:r>
            <a:br>
              <a:rPr sz="1200"/>
            </a:b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            образующая перепонку, покрытую шерстк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CA637-6CC2-49F2-9B94-F61CCDCFCB4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стралия – самый маленький континент Земли, площадью 7631,5 тыс. км</a:t>
            </a:r>
            <a:r>
              <a:rPr b="0" lang="ru-RU" sz="1200" spc="-1" strike="noStrike" baseline="42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Обычно с ней объединяют группы островов (около 10 тыс.), расположенных неподалеку в Тихом океане. Их называют Океанией. Самые крупные из островов – Новая Гвинея и Новая Зеландия. Из животных населяющих Австралию, 90% видов больше нигде не встречаются. Среди них много примитивных и древних зверей, которые когда – то жили на других континентах, но давным – давно там вымерли. Здесь нет копытных, обезьян и хищников, естественных почти для всех остальных частей суши: только те из них, которых завез в разное время челове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956D7-F568-43F6-A168-A5502540FC6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2270-FED7-4595-BF29-809666B6D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A5E7-93DE-4312-BD60-D185A5008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F94E8B-871E-4C14-AB65-DD54EEA1C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FABE22-EB6B-4CFA-8B3F-4CC5BD75F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55C96E-8A68-4EE9-96CE-84B7900A6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844414-59DC-4C0F-8667-327A037B5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BB6D98-5A4A-4A7C-8E25-A5286EB6C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4B5195-E7A6-4976-8CE3-DEFD8AC2D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32D68E-2E03-4E3A-AEAF-AC0349AF0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EEC929-7402-4EA8-880F-8E424452C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C3F2F6-3EF3-49C4-9D0D-D98FD006E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83A359C-C1E0-43E3-ADA7-744A21533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745D-9AE7-4D1B-8853-10EA799A1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FF41E72-22D4-43D5-94F8-E413DB263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24282D4-D45E-48A9-9B82-B2118BF3D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6A5F18B-8A3A-42E5-A595-731E67D63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C222CAE-9A1E-4991-9E4A-018D7274C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3B8CD94-BF33-4E1F-8487-73CCDED8E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C83D662-AB5A-44D8-AB94-F22B99C0B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F1B06B9-824C-4194-9E16-27F9728E9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0C92BD5-1F77-4361-BEC0-DE252F60D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BA0D840-DE09-4C14-9FD6-694ADBDEA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6568AFB-A847-44DF-AC59-A10D7B9DC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7097-3DBB-4B1D-BC06-2837DAB74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AF023DB-0D2E-41E1-A900-A698447DF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55489B-F338-4799-A163-DA84267AA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484D44-905E-4E97-84DC-A5C027853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C6DFB1-D553-48BB-B1E6-415B77F4B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2CF617-0CF2-474A-B7E9-07CC050D0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477A11-E7EA-4FD8-99BE-1216D6391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2B775E-C6AC-4A50-9C97-FB7F8E584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D1426D-D228-44CB-912A-DBA979272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0A9EAD-3262-4A14-AEBB-E47D58FE8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BB526E-3EB8-4B13-AD5E-A23628649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8C97C-FDF3-4BB0-A39D-39B181BEC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BF672B-C2C4-4160-B1CB-CC08C1A36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5F65E3-99D5-4959-BB95-AB39BCA5B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C25498-2A25-44F5-BC19-C91AD81DF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08B3B2-60C3-408C-937A-6BF007EBC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9FE8E5-84AF-43FB-B02D-195D43682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B86032-1487-4E78-95E3-8A4FB43CB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49A96A-61A4-47FE-B081-FB719811E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B3359E-7378-4612-8C27-38BD5ECA0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8DBD6B-2711-48B3-A7D2-EA8E2B199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62BD89-0ADA-46B0-A7F9-EC77C2491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85774-0A3E-461A-A212-2767FDCEA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27C4CC-A723-44B2-B04D-A4AC26C96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357B60-741B-455E-BB4E-91B596317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D11A90-8906-4962-A19A-901471228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89462F-A7BB-4524-BFA1-6011DC2CA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9AC9D6-903B-4447-A1FD-283187938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816D0A-3AD9-458A-BE9C-19EF22073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6744BF-D4A8-4973-9B4B-7DCA57EE8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ECEFC7-8D30-4D31-A7D2-7EB88A720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0614D8-E4E6-464F-AEB7-0971BA2A2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40D099-9342-48E0-8AD7-2AC7418F7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18213-0A0C-4C8C-9497-F6E880D7C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B1A417-CB03-4E21-9367-D5A39707F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74173B-8E9D-45F0-8364-B47210EC6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40DB44-81FA-4E13-A6F3-CEC92A9E4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B84359-0E74-47DA-A487-3D3FC454F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DBEB8D-9069-467C-ACCA-C84C0C5C3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F902F1-CAED-4873-9B2A-B3CB7ECC3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6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3D3B79-EF60-486F-8325-E0885E3E4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EF0C564-4068-4C0E-9604-8A7803B51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BCEC211-F41F-4840-AEBF-783CF88F4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7817FDD-E531-4BF8-85A9-50F7F8577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74ABE-6CA9-4456-880F-FFE08B0B5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321DE9D-C35F-4FDA-912C-9C1DF49E0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3DF0ECC-686C-4564-BD4C-38108ADD7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4FF5D7D-0F6E-44F6-BB5C-BE8E0D91D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0CCEBD2-9D49-4193-933D-7FFC6795E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A912AFB-BDD5-42F2-97D9-B9F258535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4A64146-040C-44C8-91C6-A9FD01B79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5782C77-563A-461B-9EB2-8E971EB74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936A2AE-964A-419E-A2C4-A5A80060C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05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06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F41040D-56F6-4377-A95E-F6C6C7BDC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563F453-7643-409F-8BB3-538E1CFFC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CB6DB-FAD8-4F4C-B1BB-21CF19C69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AC482A3-2758-48A4-8DD1-EEF5BDB47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226B47D-BA17-4591-8F60-2D94CA1D6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1B7D2B9-77FA-46B5-83BC-D61E24823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7702CD1-5822-403A-BECA-9A750726A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1DF6CD7-3C66-4BFF-940A-2DE2881FA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157F786-3D3A-4893-BD5F-CCEC9E324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F6AE6FC-DF7B-4240-8710-C180C375E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F609D6D-587B-4710-A418-8B3861EB9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210327C-35BC-41FA-8A03-308F6A132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9B6ED02-5CEA-4210-96ED-0599ABBDA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D9DF1-ED1C-434C-8AEA-4E5A2A514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5797F71-1CFA-40C8-89F1-527434DEC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6248C-3779-4D25-A3EE-223AA9039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3922-0732-4226-BC81-C8C179BB0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84634-0EA9-4611-BFD4-FBDB24098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87597-8E18-4F78-B68D-3AE7A6202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6FD0A-4365-4E42-9002-D8465A0AD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81474-DDBA-43A2-AA22-95CDFEA20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D18B9-C170-4E80-B509-7D37DC969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CEBB9A-2F03-437A-81AD-8A1D7B24C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F7A54D-463D-497D-9B3A-438774519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8EE66F-7287-435D-A56D-784A584FA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53DD1D-3E96-4A73-B6C9-FAC8A419D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DCF57F-1BB3-4A34-8502-C189953AB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2532-25F7-439E-B6DD-AF6C42FA8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3B576F-0B92-4424-9AA7-5FC369021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964BD8-7955-42B8-9BF4-BAA034F7F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2A8A07-6AB4-4EC0-A802-7755326C5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8A0D28-95EC-4D1E-B461-225148E94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6947C1-D9B7-423D-A443-047116454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8CB6AC-6F39-4438-879D-4228E6597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8B4186-5701-4FAE-BD59-16CBB0EF0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F1905D-3D8F-4C0F-B940-A7FE6F49A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DCE02C-9AD1-4795-B54C-4D5F8295D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92004D-6D79-4361-AFDD-49B75BAE3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8227-BFAC-4AED-84B7-9E9DCB0B2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FBFB34-CC77-423C-8E84-27899E709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282A8F-C2C7-4E6A-B3BC-420BEA464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820F72-A19C-45C1-A490-D1B320DF1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9FEEAE-FF01-4157-80A0-9B2F5CCA0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5E6A44-B976-4E68-8956-1854E220D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3AF94C-2ECA-48F4-8E86-B97171785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1BF9AF-129B-49B1-880A-D7DB880C7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895ED7-A794-4344-A093-0FEAA3D1C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B3DA34-6DF8-439F-8E4E-F7B00F48B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32514D-4854-4863-9061-75A90A386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5887-42DC-4715-8F2A-FD5FE326F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6AD512-1C4A-41D6-AEE5-091DB46CB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5D28ED-9419-4DD2-A44B-DC1EB80DD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F53DB2-F034-4523-ADCF-B3311CE6D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B8ACB7-8895-4B52-B4A4-F0AE732EB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3C88F8-A16D-4A9D-9DCA-EAD92B747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B20579-BF66-48B3-A797-A5180ADF9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D12230-DD9E-410D-B7A2-F45864753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A3F108-3E98-4194-9F2B-72610C40B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99716D-69A4-4171-9D88-C9403A0BA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2264EA-D120-4B2F-A0A0-09DAD228B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34CB-BA5D-4F6A-9A4C-10FF328F2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90EDBB-3FFE-468E-A916-68D352561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44F6EF-0C0F-4B03-828D-1B70117E2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253F1D-94C1-4606-9231-B873C56A3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9E6983-BE16-4D5F-90FA-E70ECA4EB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1AA4FC-44FB-4D18-AD19-4FAA0329A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8FA2F0-11F5-4F03-BCAD-52B1C5C93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CC1BCC-0BA9-4B58-8949-24AA5552C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3086DA-EBB1-4839-A7CC-C8B182FEE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E2972C-B10F-4C43-B24F-12A19E7BC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CFEF06-AE54-480C-82C1-E62BF5B85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2815-7518-46E3-B9DF-DE65ED784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458815-7202-43BC-8D1F-4CA2F192E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B3D43C-83E4-4023-AEF2-C53E4EC3D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4557FE-429E-4BF9-9A53-328D17171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B55CCA-F1D5-489E-B5B0-D82709F18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174D75-AF33-4EBC-9EFE-E4E1D806A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A2D6E3-B411-471E-80A4-8F7016277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A21B60-ABC2-465E-84C6-724165DAA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7BCD8A-B20E-4A88-9C20-DED2102AC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C526F4-5C2D-41B1-A6E5-A85A5CE5D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324186-B32C-4709-A9F5-49A5EF352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907A-64E1-44CE-90C1-D3C52D74D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04F79C-8BF7-4ADF-BF59-9C94B06E0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2763E8-2BC7-4655-9A42-FFAB91B4F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B5D51D-091C-4A4F-9267-598658E92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282F35-3C41-41FE-A580-C9F44050B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154B92-1342-4FE3-A8C7-A22D7B55B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4E995D0-A4C5-4591-806D-1AC282DE0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7805FD7-E580-4A03-ACE6-E82523D14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A9CFF53-7E97-4C91-AE7C-0A0903DAE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04FEA95-3E33-4A1F-8EB0-941E02480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88D68B4-2F01-4761-9910-1C19C546C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D5CF-E78D-4CBC-BFBB-B24EA5C5B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56F4241-7FB9-4BB8-B76D-D130E5E46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551EFA1-3185-43A6-A82F-9397513C0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120013F-883D-404E-AC79-3CF92DDA0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F648DBA-3F29-4505-9F99-F40B1D592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4A5EC25-23DC-43F0-B56A-B54C50A6F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5F3E0FD-3C1E-468B-836F-D94D6F342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1A74E9C-A75B-4619-9F90-F41AC8D4B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75AE94-EAFD-4D49-9B87-769DEE2A1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1E581A-EAE5-46F7-9BB4-5D2CB114C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FFE7F7-01EE-4640-8B89-30A4135E5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8C291-D3E5-455A-A5D3-EFA0A6C8DF30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Прямоугольник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dt" idx="28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sldNum" idx="29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ABFE6-FF9D-46AA-B294-56C37DD6CE77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ftr" idx="30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9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430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1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2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31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32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3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57AFB-13A2-48BA-999C-A50277384859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475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6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7" name="Прямоугольник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Прямоугольник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47718-CA8D-4A80-BBD5-905AFC617307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52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23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 type="dt" idx="3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 type="ftr" idx="3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 type="sldNum" idx="3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F1DE3-EA8B-4F05-9CB6-4337F080A162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Прямоугольник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 type="dt" idx="4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 type="sldNum" idx="4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98032-6437-414E-AFD9-76588E3F86DD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 type="ftr" idx="4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43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sldNum" idx="44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A942C-9B50-49DD-AEDA-4F0796647EDD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ftr" idx="45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44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" name="PlaceHolder 1"/>
          <p:cNvSpPr>
            <a:spLocks noGrp="1"/>
          </p:cNvSpPr>
          <p:nvPr>
            <p:ph type="ftr" idx="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5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6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5D3BC-22BF-4D22-AABB-6C805CD561CD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Полилиния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Полилиния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D0BA2-85F2-41BB-A9A5-646A46771D9A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Полилиния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Полилиния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6FC7C-EC03-4598-8BEA-4F23CAEAD97B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AB56B-27D4-40DC-8A18-2301EEA764A3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8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BEDC8-858A-44E5-9D43-9E72890064CD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9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20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21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51047-6C0E-4FC0-99DB-1B36ED40B6DA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8" name="Прямоугольник с двумя скругленными противолежащими углами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299" name="Прямоугольник с двумя скругленными противолежащими углами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0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sldNum" idx="23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A2888-E248-444D-BAF5-2B424AA80D56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ftr" idx="24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2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343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4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5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5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6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27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4B82E-1B5D-43BB-8702-D341D4D69126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5" name="Заголовок 1" descr=""/>
          <p:cNvPicPr/>
          <p:nvPr/>
        </p:nvPicPr>
        <p:blipFill>
          <a:blip r:embed="rId1"/>
          <a:stretch/>
        </p:blipFill>
        <p:spPr>
          <a:xfrm>
            <a:off x="420840" y="2298600"/>
            <a:ext cx="7016760" cy="243864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6" name="Picture 2" descr="D:\флешка\рисунки\10_DVA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Franklin Gothic Book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Franklin Gothic Book"/>
              </a:rPr>
              <a:t>Австралия – самый маленький континент Земли, площадью   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Franklin Gothic Book"/>
              </a:rPr>
              <a:t>7631,5 тыс. км</a:t>
            </a:r>
            <a:r>
              <a:rPr b="0" lang="ru-RU" sz="2400" spc="-1" strike="noStrike" baseline="42000">
                <a:solidFill>
                  <a:srgbClr val="ffffff"/>
                </a:solidFill>
                <a:latin typeface="Franklin Gothic Book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Franklin Gothic Book"/>
              </a:rPr>
              <a:t>. Обычно с ней объединяют группы островов (около 10 тыс.), расположенных неподалеку в Тихом океане. 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Franklin Gothic Book"/>
              </a:rPr>
              <a:t>      Их называют Океанией. Самые крупные из островов –  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Franklin Gothic Book"/>
              </a:rPr>
              <a:t>               Новая Гвинея и Новая Зеландия.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" dur="20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8" name="Содержимое 3" descr="DSC0011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Franklin Gothic Book"/>
              </a:rPr>
              <a:t>                        </a:t>
            </a:r>
            <a:r>
              <a:rPr b="1" lang="ru-RU" sz="3200" spc="-1" strike="noStrike">
                <a:solidFill>
                  <a:srgbClr val="c00000"/>
                </a:solidFill>
                <a:latin typeface="Franklin Gothic Book"/>
              </a:rPr>
              <a:t>Австралийский гигантский варан </a:t>
            </a: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-                     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                                                        хищная рептилия. Добычу        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                                                       удерживает лапами, отрывает 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                                                               большие куски и жадно их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                                                                                     заглатывает. 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p:transition spd="slow">
    <p:wheel spokes="3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3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3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3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3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0" name="Содержимое 3" descr="DSC0011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  </a:t>
            </a:r>
            <a:br>
              <a:rPr sz="4600"/>
            </a:br>
            <a:br>
              <a:rPr sz="4600"/>
            </a:br>
            <a:br>
              <a:rPr sz="4600"/>
            </a:br>
            <a:br>
              <a:rPr sz="4600"/>
            </a:br>
            <a:br>
              <a:rPr sz="4600"/>
            </a:b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               </a:t>
            </a:r>
            <a:br>
              <a:rPr sz="4600"/>
            </a:br>
            <a:br>
              <a:rPr sz="4600"/>
            </a:b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                         </a:t>
            </a:r>
            <a:r>
              <a:rPr b="1" lang="ru-RU" sz="4600" spc="-1" strike="noStrike">
                <a:solidFill>
                  <a:srgbClr val="c00000"/>
                </a:solidFill>
                <a:latin typeface="Franklin Gothic Book"/>
              </a:rPr>
              <a:t>Короткохвостый </a:t>
            </a:r>
            <a:br>
              <a:rPr sz="4600"/>
            </a:br>
            <a:r>
              <a:rPr b="1" lang="ru-RU" sz="4600" spc="-1" strike="noStrike">
                <a:solidFill>
                  <a:srgbClr val="c00000"/>
                </a:solidFill>
                <a:latin typeface="Franklin Gothic Book"/>
              </a:rPr>
              <a:t>                                      сцинк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p:transition spd="slow">
    <p:wheel spokes="1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2" name="Содержимое 3" descr="DSC0011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c00000"/>
                </a:solidFill>
                <a:latin typeface="Franklin Gothic Book"/>
              </a:rPr>
              <a:t>Тигровая кошка </a:t>
            </a:r>
            <a:br>
              <a:rPr sz="4100"/>
            </a:br>
            <a:br>
              <a:rPr sz="4100"/>
            </a:br>
            <a:br>
              <a:rPr sz="4100"/>
            </a:br>
            <a:br>
              <a:rPr sz="4100"/>
            </a:br>
            <a:br>
              <a:rPr sz="4100"/>
            </a:br>
            <a:br>
              <a:rPr sz="4100"/>
            </a:br>
            <a:br>
              <a:rPr sz="4100"/>
            </a:br>
            <a:r>
              <a:rPr b="1" i="1" lang="ru-RU" sz="4100" spc="-1" strike="noStrike">
                <a:solidFill>
                  <a:srgbClr val="000000"/>
                </a:solidFill>
                <a:latin typeface="Franklin Gothic Book"/>
              </a:rPr>
              <a:t>                                    </a:t>
            </a:r>
            <a:br>
              <a:rPr sz="4100"/>
            </a:br>
            <a:r>
              <a:rPr b="1" i="1" lang="ru-RU" sz="4100" spc="-1" strike="noStrike">
                <a:solidFill>
                  <a:srgbClr val="000000"/>
                </a:solidFill>
                <a:latin typeface="Franklin Gothic Book"/>
              </a:rPr>
              <a:t>                                         Свирепый, </a:t>
            </a:r>
            <a:br>
              <a:rPr sz="4100"/>
            </a:br>
            <a:r>
              <a:rPr b="1" i="1" lang="ru-RU" sz="4100" spc="-1" strike="noStrike">
                <a:solidFill>
                  <a:srgbClr val="000000"/>
                </a:solidFill>
                <a:latin typeface="Franklin Gothic Book"/>
              </a:rPr>
              <a:t>                воинственный хищник. 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p:transition spd="slow">
    <p:wheel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8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8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4" name="Содержимое 3" descr="DSC0011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                           </a:t>
            </a:r>
            <a:r>
              <a:rPr b="1" lang="ru-RU" sz="4600" spc="-1" strike="noStrike">
                <a:solidFill>
                  <a:srgbClr val="c00000"/>
                </a:solidFill>
                <a:latin typeface="Franklin Gothic Book"/>
              </a:rPr>
              <a:t>Бандикут</a:t>
            </a: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p:transition spd="slow">
    <p:wheel spokes="8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6" name="Содержимое 3" descr="DSC0012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Franklin Gothic Book"/>
              </a:rPr>
              <a:t>Поссум  обыкновенный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p:transition spd="slow">
    <p:blinds dir="horz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8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8" name="Содержимое 3" descr="DSC0012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c00000"/>
                </a:solidFill>
                <a:latin typeface="Franklin Gothic Book"/>
              </a:rPr>
              <a:t>Сумчатая летяга</a:t>
            </a:r>
            <a:r>
              <a:rPr b="1" lang="ru-RU" sz="4600" spc="-1" strike="noStrike">
                <a:solidFill>
                  <a:srgbClr val="c00000"/>
                </a:solidFill>
                <a:latin typeface="Franklin Gothic Book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Franklin Gothic Book"/>
              </a:rPr>
              <a:t>–</a:t>
            </a: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                       </a:t>
            </a:r>
            <a:br>
              <a:rPr sz="4600"/>
            </a:b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Franklin Gothic Book"/>
              </a:rPr>
              <a:t>близкий родственник поссума.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                                         </a:t>
            </a:r>
            <a:r>
              <a:rPr b="0" i="1" lang="ru-RU" sz="2800" spc="-1" strike="noStrike">
                <a:solidFill>
                  <a:srgbClr val="000000"/>
                </a:solidFill>
                <a:latin typeface="Franklin Gothic Book"/>
              </a:rPr>
              <a:t>У нее между    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Franklin Gothic Book"/>
              </a:rPr>
              <a:t>                                                       передними и задними   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Franklin Gothic Book"/>
              </a:rPr>
              <a:t>                                                            лапами – складка    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Franklin Gothic Book"/>
              </a:rPr>
              <a:t>                                                                           кожи,  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Franklin Gothic Book"/>
              </a:rPr>
              <a:t>            образующая перепонку, покрытую шерсткой.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p:transition spd="slow">
    <p:cover dir="lu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Из животных населяющих Австралию, 90% видов больше нигде не встречаются. Среди них много примитивных и древних зверей, которые когда – то жили на других континентах, но давным – давно там вымерли. Здесь нет копытных, обезьян и хищников, естественных почти для    всех остальных частей суши: только те из них, которых    завез в разное время человек.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transition spd="slow">
    <p:pull dir="d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0" fill="hold"/>
                                        <p:tgtEl>
                                          <p:spTgt spid="6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0" fill="hold"/>
                                        <p:tgtEl>
                                          <p:spTgt spid="6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0" fill="hold"/>
                                        <p:tgtEl>
                                          <p:spTgt spid="6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0" fill="hold"/>
                                        <p:tgtEl>
                                          <p:spTgt spid="6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ерёжка</cp:lastModifiedBy>
  <dcterms:modified xsi:type="dcterms:W3CDTF">2008-06-27T14:45:21Z</dcterms:modified>
  <cp:revision>20</cp:revision>
  <dc:subject/>
  <dc:title>Редкие животные Австралии</dc:title>
</cp:coreProperties>
</file>