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500F-5E40-4A9A-BDF7-80C205E827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19E2-6F94-4B55-8898-9FAF496F52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Австралийский гигантский варан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хищная рептилия. Добычу     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удерживает лапами, отрывает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большие куски и жадно их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заглат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26D7-7537-478D-8D2D-781C3A3B08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роткохвостый 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                                сци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2B55-6C2C-4639-B63F-96B6662996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игровая кошка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Свирепый,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               воинственный хищ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5893-A83C-4B8D-81A5-1F652D182A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андику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4104-AFA2-4BC3-B00B-4C881E85C8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ссум  обыкно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6939-564B-4D56-B027-F107DC705F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умчатая летяга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близкий родственник поссум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нее между 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передними и задними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лапами – складка 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кожи,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образующая перепонку, покрытую шерс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3E72-6515-433D-9BDC-B9C3342C5A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– самый маленький континент Земли, площадью 7631,5 тыс. км</a:t>
            </a:r>
            <a:r>
              <a:rPr b="0" lang="ru-RU" sz="1200" spc="-1" strike="noStrike" baseline="42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ычно с ней объединяют группы островов (около 10 тыс.), расположенных неподалеку в Тихом океане. Их называют Океанией. Самые крупные из островов – Новая Гвинея и Новая Зеландия. Из животных населяющих Австралию, 90% видов больше нигде не встречаются. Среди них много примитивных и древних зверей, которые когда – то жили на других континентах, но давным – давно там вымерли. Здесь нет копытных, обезьян и хищников, естественных почти для всех остальных частей суши: только те из них, которых завез в разное врем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2976-B68B-41B3-A64A-29EB8BCFF6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C06-AD0D-4808-A83A-759C8D54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6AE-2823-46AD-99A0-C6360CB5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2F852-5577-4284-AF1D-00839CA1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D1C6A-8B25-4A9D-BD14-D4BC616E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E5983-E129-4312-930C-D953D269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0476B-562F-4C6E-9A56-23C209B7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B62F7-ED11-4C48-A96E-E4CC4FC4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E55BA-B41D-4E24-9D3D-BC596C63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9AFFB-AC19-40FC-9B01-941E0C26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01DFA-AA64-4289-A068-26EC5ACD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A1293-B37F-4E88-9923-73CD5727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EC7B3F-8B27-49D6-96F2-3331A69B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2C1-1342-470C-837D-B8DBE17F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26500D-5620-4EAB-83F1-F56B2AB2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58B1F7-BF86-421D-99CD-91F1348A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06C255-CAD2-4115-B815-EC7766AC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D48A90-E6E2-4EAA-8F54-971BB9C0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179C1B-5407-43D1-B8B5-9DFFCFB0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C68A65-19CD-4633-B3FB-D69D2795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41752A-3AC9-47D7-ADA8-6E8B9C0E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AD1418-069E-49F4-A535-186F0B72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E48FA6-E159-4DB9-A597-75498B6F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D1BBF7-6D99-42EB-ACF6-6A005F61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ED0-E2F3-46F1-9E00-3EB9C0E9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C83700-EE7D-49C1-96CD-BBC70F65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25F91-1AF2-43EA-B2D8-3108227C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F4F97-94AC-4763-87CD-F3FE1FAC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6BC74-2924-4C46-944C-0E129722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ED57A-DD12-454E-897D-AB80FA55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E13DF-A8FC-4337-83ED-08987DF7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77B61-DE1F-4076-909D-E589EAB1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9714A-E302-4B2A-8C6E-A8ABA7A2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1799E-8DFB-4F42-88EC-6ED49D17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9E2D0-2470-486D-8C23-5FB2C45B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49AA-882E-4963-896A-5800E254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0552A-580D-4CDA-B231-8036FB9F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9F600-4AA7-48CD-9B35-A0494FF0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703FF-9A34-49C6-9771-AE332139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3E60A-151D-4E17-AA0E-471E4B08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FF63B-605A-44C9-AF03-465768CF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B623F-2044-4512-97CD-916AFC10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3B355-F1FB-4600-80FD-94588228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1A3C7-FD46-4E0D-AF95-74C6D6FC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FB482-4FF5-4771-BF28-691DDA03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05D67-166F-4F89-BC02-7BE2E73B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9E66-DABD-47BE-BEEF-EA17D339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705CC-78F9-4F38-9939-26EBE4B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BC1BB-24B2-4CBB-8940-04E2AE10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7222F-3CDB-4085-A073-0B2B4199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ABDD0-9F86-4702-B5B5-488FA0AD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C72BF-F068-44EC-9E05-16F97A58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32004-4CA3-4523-B8AA-F2E7D239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B15F5-D502-43C7-B14C-071025C8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2E73C-D4AA-4295-9ECC-1C1DFE28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41DAD-268C-4080-9C11-9BCAE9F9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CD86A-5419-4022-8690-1136ED11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04D4-D2EF-49A8-A819-DFDB92DB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06BC6-E559-4DB1-B19D-6BEBD3B6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A1254-F5CB-43EA-B284-A903B45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6753A-FEF1-433A-8D11-895E14B8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79FCF-DEBF-4126-8B9E-A7EB473E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B8CC9-10BC-4805-B61E-CDE0952C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FC922-E4E9-4AB0-A027-0459E8ED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E3A14-BB4C-4986-8F30-A2323596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A0F214-6725-4AC5-BC51-4ACAA729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2F31F5-B810-4217-91D1-C107E3DE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D2F48C-C1A3-4811-9FB9-6DB9BB36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247A-BC2A-4C91-BC16-2FD7CAB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54C8E2-A98F-476A-8521-0C81234E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0F2560-1089-4633-9B94-55AF07F2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0368EC-F57A-44AE-95F9-AB4EF583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2F8DDA-F1DE-4E4A-A27F-78DAFF70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F09BEA-6FCC-4A70-8BF3-FA4A0386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59B523-FDE1-4C52-90DA-045326AA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838D29-BEDF-4A64-9F67-AD373BC4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2E3C24-4FA5-43D1-944B-BF921787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13A254-7EB4-4816-9327-BFF349D2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4B092C-CD7F-4BA2-A51A-871990E5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9A85-EC90-4F78-B413-02AEF903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F6561D-AB2D-4115-9C33-63C951A5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BB78D7-D40E-4A6A-BD6C-6C65BD48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330D7F-8B01-4012-93FF-244A9619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01D5BA-164B-409B-8183-FF1C192D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8261C2-4059-4A3D-BDC9-90624CDD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89D94A-8F95-4C29-BDD0-200D58E6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1E454A-54A2-477C-ADF6-F97316E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F584D1-8EBC-473E-B237-7D9D790F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042BE7-EA67-43D5-A517-BCBFA692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886893-A9A3-4EA1-895F-B501E57F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A29C-0B4B-4F2A-86F3-3D0F6FCC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4089A4-43A7-4FE3-A248-D140C50C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4973-66DA-49D2-8AED-AC5CDF44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988-4D28-45F7-ABE2-7DFB60B8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8472-DA76-48C7-B46B-07BB4D6C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270E-35E9-43B4-8AB7-00E8C000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0F4B-244F-45EC-A2EC-E9F6B9FF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7357-9A12-414A-A62C-AC9AB2C0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BE06-7C76-4448-9661-523F53EF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CAC3-A69F-4A8E-9D63-C14FC2E5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647F-AF09-4181-A1F0-8A878DB9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CB14-976A-4EA2-8DAE-25FE660A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C15D-629B-45D1-8615-382138AD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FD7D-A7CD-4FAE-B860-1DEDBEA0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4FC-C511-4729-831F-9F32D4E4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752A-F629-4445-BCE2-F66BFD39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DC79-995E-4D8F-8850-6AD842F1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4B11-48AC-4874-991A-F1D84005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D428-3124-4E71-BF20-698B5E87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9020-B068-4624-B848-07A38849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187D-A8B3-45D0-8A83-B0EF9A5E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0C2C9-74A6-4D59-B5CC-EBB1AD45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51D4-7C6A-47F3-B226-8912566A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CD1B-4BC3-433A-90EB-992512FB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17386-8ED8-4905-823D-5E6B5042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D58-0F1D-44CD-97AF-B02B737F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5507-5086-4036-B35D-86C482EC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EC1C-806D-4235-A876-43481600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2279-EE23-4EB8-9A14-3F131322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6C99E-A327-4CFD-9C49-AF1C8E90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69A9-D3FC-4B9F-BCF5-86170E22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0224A-FB4A-41D5-8C8E-49A3CAD9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B11C-4B4B-4BFD-AB19-AEA7CA04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F95DF-FBEE-40BE-ACBF-30D72FF0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3700-4F32-47F7-AD56-91CE4255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A053-277A-42B1-A8AE-7540AE7F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CC0-A99A-4040-92B5-A58F10ED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DC8ED-49BF-4BE9-AD2F-15861FD3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FD5D9-AA5D-45C8-AD1B-12442EBD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70BC-723E-4E49-A7D4-F9F2BB0F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7533C-959B-4332-B660-19C1D19C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8CBF3-7918-462E-9458-0358E4C7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48C7D-1964-474E-9C71-0D63EF9C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B4B35-DF93-42A5-AC87-F65C2E77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C768A-F4CE-406A-9C3A-BEE8413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1210B-12A9-4430-A432-20AEDE9A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75F27-29E5-4E9A-9F4C-1BE3E4FD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296-D0F3-4217-883F-1F45B8A0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5B16B-D928-46A0-BEF2-4ABDBC98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121B2-D138-4C35-8050-5428DE61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44CBB-4E4D-47FE-94E7-F9CD9EE2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2AEAD-C1D7-4989-9EDE-F0AFC40D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DD278-A004-481C-A93E-7E7150BD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F3725-F3D3-4C4B-BFD2-C252CC70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4943-834D-4303-B825-31E0B359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AFDEF-CD4A-4A32-A016-5EC85038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3D4F0-710C-4F7C-B454-43FDEB1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15E78-2B0B-4E0B-B8C1-2F8588E6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123-C3C2-44FE-8D4F-4BF9C6D8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AAF6A-DE33-42DF-B8E9-3D8F0020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69C17-2DE4-431A-81E2-97F2F568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874FA-69DF-4804-8520-EF1CAA14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22CBD-40B5-4FAE-8174-0411709B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1999C-E31C-49B3-86DE-87A7162A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A87E8-A508-41B1-8A9A-C8B0E65F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24E8C-CAA6-4114-820F-0E87C26A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8F727-455D-4590-92F2-E17FAB64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AC419-6135-417A-AFC6-DB37E953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EE014-91E8-4299-8A36-A45D294B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46F-57A3-417F-ABF2-E1770E1D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C29E6-BFB8-4855-A870-2F010557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52E24-C1F0-45E9-8BA0-8EBF1ED0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2A04B-7D05-4987-B016-94A47108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419F5-31C6-4F51-ABC6-113E7B1D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6339C-CF7F-4185-8984-48AE7577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6F863E-1785-4641-8DD8-5149B031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6EDF9B-0FBE-473F-B68D-B6ECEDBC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E68B2B-CD03-4164-94EA-189B79DC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734C69-95A8-499F-8002-001D7C88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FEF461-1096-45A4-9E48-0290BEC5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5CB-827E-435B-AC63-5953A1EE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9272FA-0C26-44F4-8443-E776890D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8EF52B-5527-4923-A37A-7ACC7AE2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FC1019-7332-461C-8FFC-4C9721ED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15E32E-AFB9-4587-863D-045FCCA6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30070C-A4E7-4A90-869E-AAE57CD6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76615-1B16-4A1A-A508-4AD890D3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B0E137-ACE4-47CC-90D2-B4229D6E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4A7AF-B8F7-4D50-AB4B-2C316E44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2DAA0-4D6E-49C3-B368-DC82F555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EC217-B765-4314-8DDE-AF029C5F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7553-DB7D-4D4E-8246-D2761C59FAE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9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B7C1-DB31-4F3B-B1D7-8A1492DD0FE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30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B782-2A22-491F-8F56-C28C7EDFA28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7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2218-23B7-464A-9947-191EAA5B418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6369-0202-4EBC-A79B-7F124ADB787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4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4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05F4-8C8D-431A-99A5-ABCB2FCEB2B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4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sldNum" idx="4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4020-A5CF-4535-AFAB-9728D617C7E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4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4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B956-4B31-4427-8AAC-5F67A74E7AB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AEBA-FD1C-4BD1-B743-6EF55B0BBDC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84F9-9D4C-489B-A744-66D3786B526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B160-1C23-482E-9EE6-8DAC31F8212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0B76-3B37-416F-BF64-1C0675AF8E4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5DFE-ECAC-4A4C-A634-06F5C12BB2B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299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7A01-4AD8-4C5D-8540-66CBD212355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2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4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F618-44E8-409B-9EEA-508CBFF0EBA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Заголовок 1" descr=""/>
          <p:cNvPicPr/>
          <p:nvPr/>
        </p:nvPicPr>
        <p:blipFill>
          <a:blip r:embed="rId1"/>
          <a:stretch/>
        </p:blipFill>
        <p:spPr>
          <a:xfrm>
            <a:off x="420840" y="2298600"/>
            <a:ext cx="70167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D:\флешка\рисунки\10_DV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Австралия – самый маленький континент Земли, площадью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7631,5 тыс. км</a:t>
            </a:r>
            <a:r>
              <a:rPr b="0" lang="ru-RU" sz="2400" spc="-1" strike="noStrike" baseline="42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. Обычно с ней объединяют группы островов (около 10 тыс.), расположенных неподалеку в Тихом океане.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Их называют Океанией. Самые крупные из островов –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      Новая Гвинея и Новая Зеланд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Содержимое 3" descr="DSC00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Австралийский гигантский варан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хищная рептилия. Добычу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удерживает лапами, отрывает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большие куски и жадно 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          заглатывает.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3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Содержимое 3" descr="DSC001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</a:t>
            </a: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Короткохвостый </a:t>
            </a:r>
            <a:br>
              <a:rPr sz="4600"/>
            </a:b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                                      сцинк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1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Содержимое 3" descr="DSC001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Franklin Gothic Book"/>
              </a:rPr>
              <a:t>Тигровая кошка </a:t>
            </a: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                   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                         Свирепый,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воинственный хищник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Содержимое 3" descr="DSC001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  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Бандикут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Содержимое 3" descr="DSC001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Поссум  обыкновенны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Содержимое 3" descr="DSC001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Сумчатая летяга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–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близкий родственник поссума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У нее между 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передними и задними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лапами – складка 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кожи,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образующая перепонку, покрытую шерсткой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Из животных населяющих Австралию, 90% видов больше нигде не встречаются. Среди них много примитивных и древних зверей, которые когда – то жили на других континентах, но давным – давно там вымерли. Здесь нет копытных, обезьян и хищников, естественных почти для    всех остальных частей суши: только те из них, которых    завез в разное время человек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ёжка</cp:lastModifiedBy>
  <dcterms:modified xsi:type="dcterms:W3CDTF">2008-06-27T14:45:21Z</dcterms:modified>
  <cp:revision>20</cp:revision>
  <dc:subject/>
  <dc:title>Редкие животные Австралии</dc:title>
</cp:coreProperties>
</file>