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96B-DF81-4C8B-A43C-1284CBEC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C86-6A84-4DEA-B15A-E9F793E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E0D-C676-42F6-9AB0-C87DEBE2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021-1054-44EA-8936-9F39069C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E367-3DC6-4946-BF19-884E0170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816-C2E4-4F4E-88A5-2B37058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EBF-529E-4FF1-8DB0-0F22B629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817C-A035-478F-8BB5-D04999B3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7192-93E4-4C6C-B882-68B2985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A7F-0847-452C-A3C3-D950404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E4AF-32FF-4ADA-A3B8-D464642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3FD-07BB-4F44-B862-3130B93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A20B-485C-4015-89B3-AD32962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E62-985A-4FD1-9D1B-A9A219A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A20-55DF-4419-8BA3-0059704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D86C-BFF2-4889-8D84-F0FF253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35A2-73F7-4DAB-B722-8381821C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78C-9254-452F-BF7C-2DCE01C0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256-643C-4043-BBCF-30D83E2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11D-E8A3-4715-9861-A21ABE5B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E65-5DF2-40BB-A595-DEE628FE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F7D-AE36-4506-A28F-E529901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29E-A49F-4E6A-956F-7CC618F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0FD-B62A-4A39-803E-599D994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6FE-9962-4DEB-B5EE-B073D8D249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1EE3-E08F-4999-B243-E6D9A5AA31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bc.vo.uz/_ld/0/14_XTA" TargetMode="External"/><Relationship Id="rId2" Type="http://schemas.openxmlformats.org/officeDocument/2006/relationships/hyperlink" Target="http://beatl.ru/beatles/england/shkolnaya-forma-v-anglii.html" TargetMode="External"/><Relationship Id="rId3" Type="http://schemas.openxmlformats.org/officeDocument/2006/relationships/hyperlink" Target="http://clubs.ya.ru/4611686018427426275/replies.xml?item_no=3308" TargetMode="External"/><Relationship Id="rId4" Type="http://schemas.openxmlformats.org/officeDocument/2006/relationships/hyperlink" Target="http://ru.wikipedia.org/wiki/&#1040;&#1085;&#1075;&#1083;&#1080;&#1081;&#1089;&#1082;&#1072;&#1103;_&#1096;&#1082;&#1086;&#1083;&#1100;&#1085;&#1072;&#1103;_&#1092;&#1086;&#1088;&#1084;&#1072;" TargetMode="External"/><Relationship Id="rId5" Type="http://schemas.openxmlformats.org/officeDocument/2006/relationships/hyperlink" Target="http://bbc.vo.uz/load/5-1-0-14" TargetMode="External"/><Relationship Id="rId6" Type="http://schemas.openxmlformats.org/officeDocument/2006/relationships/hyperlink" Target="http://www.projectbritain.com/education/uniform.html" TargetMode="External"/><Relationship Id="rId7" Type="http://schemas.openxmlformats.org/officeDocument/2006/relationships/hyperlink" Target="http://histclo.com/schun/hist/schun-hist.html" TargetMode="External"/><Relationship Id="rId8" Type="http://schemas.openxmlformats.org/officeDocument/2006/relationships/hyperlink" Target="http://news.bbc.co.uk/cbbcnews/hi/find_out/guides/2003/school_uniform/newsid_3181000/3181847.stm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666520"/>
            <a:ext cx="6629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School Uniform in Great Britain and in Russia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68440" cy="3353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3276360" cy="2315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3148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0372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16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1992 –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chool unifor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1999 it’s been coming back to some scho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School Uniform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in Modern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Одежда учеников православной гимназии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382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 клетчатой школьной форме"/>
          <p:cNvPicPr/>
          <p:nvPr/>
        </p:nvPicPr>
        <p:blipFill>
          <a:blip r:embed="rId2"/>
          <a:stretch/>
        </p:blipFill>
        <p:spPr>
          <a:xfrm>
            <a:off x="1447920" y="1981080"/>
            <a:ext cx="5600520" cy="3862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Воспитанники православной гимназии"/>
          <p:cNvPicPr/>
          <p:nvPr/>
        </p:nvPicPr>
        <p:blipFill>
          <a:blip r:embed="rId3"/>
          <a:stretch/>
        </p:blipFill>
        <p:spPr>
          <a:xfrm>
            <a:off x="1447920" y="1981080"/>
            <a:ext cx="5943600" cy="3942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Шестой класс московской гимназии"/>
          <p:cNvPicPr/>
          <p:nvPr/>
        </p:nvPicPr>
        <p:blipFill>
          <a:blip r:embed="rId4"/>
          <a:stretch/>
        </p:blipFill>
        <p:spPr>
          <a:xfrm>
            <a:off x="1447920" y="17524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Школьная форма в лицее Нижнего Новгорода"/>
          <p:cNvPicPr/>
          <p:nvPr/>
        </p:nvPicPr>
        <p:blipFill>
          <a:blip r:embed="rId5"/>
          <a:stretch/>
        </p:blipFill>
        <p:spPr>
          <a:xfrm>
            <a:off x="1447920" y="1752480"/>
            <a:ext cx="5905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’s all! Thank yo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nswers to the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2438280"/>
          <a:ext cx="7696080" cy="2819520"/>
        </p:xfrm>
        <a:graphic>
          <a:graphicData uri="http://schemas.openxmlformats.org/drawingml/2006/table">
            <a:tbl>
              <a:tblPr/>
              <a:tblGrid>
                <a:gridCol w="2819520"/>
                <a:gridCol w="2590560"/>
                <a:gridCol w="22860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t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, 6, 8,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 5, 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r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240" y="2361960"/>
            <a:ext cx="5791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” – 10-9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” – 8-7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” – 6-5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” – &gt;5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533520" y="34920"/>
            <a:ext cx="1021104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ress your opin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743200"/>
          <a:ext cx="7696080" cy="1981080"/>
        </p:xfrm>
        <a:graphic>
          <a:graphicData uri="http://schemas.openxmlformats.org/drawingml/2006/table">
            <a:tbl>
              <a:tblPr/>
              <a:tblGrid>
                <a:gridCol w="2209680"/>
                <a:gridCol w="2921040"/>
                <a:gridCol w="256536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think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suppos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my mind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uld be at the first place. Because … is the most impor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stud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am for/against school uniform because … 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05520" y="190476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rist's Hospital School in Lond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File:Quad DH.jpg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05120" y="55627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oa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382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Дети должны с детства приобщаться к тому, что костюм – это нечто большее, чем просто одежда. Это средство коммуникации. От того, как ты выглядишь, зависит, как с тобой будут общаться окружающие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ячеслав Зайц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bbc.vo.uz/_ld/0/14_X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beatl.ru/beatles/england/shkolnaya-forma-v-anglii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clubs.ya.ru/4611686018427426275/replies.xml?item_no=330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ru.wikipedia.org/wiki/%D0%90%D0%BD%D0%B3%D0%BB%D0%B8%D0%B9%D1%81%D0%BA%D0%B0%D1%8F_%D1%88%D0%BA%D0%BE%D0%BB%D1%8C%D0%BD%D0%B0%D1%8F_%D1%84%D0%BE%D1%80%D0%BC%D0%B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bbc.vo.uz/load/5-1-0-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www.projectbritain.com/education/uniform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http://histclo.com/schun/hist/schun-hist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http://news.bbc.co.uk/cbbcnews/hi/find_out/guides/2003/school_uniform/newsid_3181000/3181847.st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orldschooluniform.ru/photo/shkolnaja_forma_v_evrope/iz_rossii_i_sss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orldschooluniform.ru/photo/shkolnaja_forma_v_evrope/brit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ww.ng.ru/education/2007-01-26/9_uniform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ww.svk-klassiki.ru/pages/4.ht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rudocs.exdat.com/docs/index-514081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http://doodoo.ru/travel/6190-fine-nature.htm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http://images.yandex.ru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lue Coa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blue jackets, knee breeches and yellow stock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was the cheapest dye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к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howed humility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ир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the pup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File:Constant Lambert as a Blue coat boy.jpg"/>
          <p:cNvPicPr/>
          <p:nvPr/>
        </p:nvPicPr>
        <p:blipFill>
          <a:blip r:embed="rId1"/>
          <a:stretch/>
        </p:blipFill>
        <p:spPr>
          <a:xfrm>
            <a:off x="4648320" y="1523880"/>
            <a:ext cx="363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267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irl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blouse, a tunic dress and a pinaf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828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19th century - most schools had their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343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oy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reeches/trousers      and a bl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Файл:1950 UK school uniform n2.png"/>
          <p:cNvPicPr/>
          <p:nvPr/>
        </p:nvPicPr>
        <p:blipFill>
          <a:blip r:embed="rId1"/>
          <a:stretch/>
        </p:blipFill>
        <p:spPr>
          <a:xfrm>
            <a:off x="5257800" y="2666880"/>
            <a:ext cx="269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chool Unifor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Moder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Школьная форма в Англии."/>
          <p:cNvPicPr/>
          <p:nvPr/>
        </p:nvPicPr>
        <p:blipFill>
          <a:blip r:embed="rId1"/>
          <a:stretch/>
        </p:blipFill>
        <p:spPr>
          <a:xfrm>
            <a:off x="1752480" y="1676520"/>
            <a:ext cx="6002280" cy="39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Школьная форма в Англии."/>
          <p:cNvPicPr/>
          <p:nvPr/>
        </p:nvPicPr>
        <p:blipFill>
          <a:blip r:embed="rId2"/>
          <a:stretch/>
        </p:blipFill>
        <p:spPr>
          <a:xfrm>
            <a:off x="1752480" y="1676520"/>
            <a:ext cx="6019920" cy="4002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Школьная форма в Англии."/>
          <p:cNvPicPr/>
          <p:nvPr/>
        </p:nvPicPr>
        <p:blipFill>
          <a:blip r:embed="rId3"/>
          <a:stretch/>
        </p:blipFill>
        <p:spPr>
          <a:xfrm>
            <a:off x="1752480" y="1676520"/>
            <a:ext cx="6019920" cy="3983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Мальчики на экскурсии"/>
          <p:cNvPicPr/>
          <p:nvPr/>
        </p:nvPicPr>
        <p:blipFill>
          <a:blip r:embed="rId4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Школьная форма в Англии."/>
          <p:cNvPicPr/>
          <p:nvPr/>
        </p:nvPicPr>
        <p:blipFill>
          <a:blip r:embed="rId5"/>
          <a:stretch/>
        </p:blipFill>
        <p:spPr>
          <a:xfrm>
            <a:off x="1752480" y="1676520"/>
            <a:ext cx="6019920" cy="450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Юные школьницы из Англии"/>
          <p:cNvPicPr/>
          <p:nvPr/>
        </p:nvPicPr>
        <p:blipFill>
          <a:blip r:embed="rId6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grammar schools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мназ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rich and the noble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2866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40 из 65"/>
          <p:cNvPicPr/>
          <p:nvPr/>
        </p:nvPicPr>
        <p:blipFill>
          <a:blip r:embed="rId1"/>
          <a:stretch/>
        </p:blipFill>
        <p:spPr>
          <a:xfrm>
            <a:off x="6019920" y="1828800"/>
            <a:ext cx="2371680" cy="4048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2290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n 1834 for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litary 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ap, a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blo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гимнастерка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greatcoat (шинель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962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n 1896 for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dress, a black or white apron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16360" y="1676520"/>
            <a:ext cx="3129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1918 to 1949 – 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chool unifor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388620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42900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1949 to 1992 the school uniform chang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ti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13:49Z</dcterms:created>
  <dc:creator>Son</dc:creator>
  <dc:description/>
  <dc:language>en-US</dc:language>
  <cp:lastModifiedBy>Son</cp:lastModifiedBy>
  <dcterms:modified xsi:type="dcterms:W3CDTF">2013-01-28T05:19:2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