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0AE-6E87-467E-AFDE-5D3C04DA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7E7-BE15-4909-AB6D-8FE1FA9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CB7-C9D7-497A-AC7B-653EB5A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1D0-8617-490B-B6AC-3B9AF51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F40-1AC7-4AC0-A37F-1157E37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75D-8942-4FEB-A988-5793AAB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683-D2E7-406D-8EC0-63A5268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C20-1B24-4129-8550-0A97EA8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9B13-FC2A-48EB-A679-942B31D7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B4E-20D5-444A-A0C8-DF55E4F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6DB7-01D2-4831-B490-282DBD7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497-171A-404A-9BFC-FF054438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BF5B-295F-4757-ACD6-2E21D21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9C2E-369D-482E-BDB2-5A677F3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D87-4DC8-41D9-A782-2D891BF4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E810-FB0C-43B5-97F0-3AABA0E0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FF0D-1689-48DB-B3C4-82E4E971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110-6C19-4E85-BA74-A5E7126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18B-3C12-49E5-B810-5C775FBA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E88-F569-45EB-8118-2F44F5C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C71-0BF1-433A-8167-861EAACE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D20-6A92-445E-82B6-BFB5F05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2F2-FB2D-4E9D-A39B-EF2488F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88C-0C3D-4967-B616-D9E7F48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5F6E-547D-4E97-BF8B-02EB0AD77B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FDB-B5DC-4C60-ADB2-9B0B9E0CF33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bc.vo.uz/_ld/0/14_XTA" TargetMode="External"/><Relationship Id="rId2" Type="http://schemas.openxmlformats.org/officeDocument/2006/relationships/hyperlink" Target="http://beatl.ru/beatles/england/shkolnaya-forma-v-anglii.html" TargetMode="External"/><Relationship Id="rId3" Type="http://schemas.openxmlformats.org/officeDocument/2006/relationships/hyperlink" Target="http://clubs.ya.ru/4611686018427426275/replies.xml?item_no=3308" TargetMode="External"/><Relationship Id="rId4" Type="http://schemas.openxmlformats.org/officeDocument/2006/relationships/hyperlink" Target="http://ru.wikipedia.org/wiki/&#1040;&#1085;&#1075;&#1083;&#1080;&#1081;&#1089;&#1082;&#1072;&#1103;_&#1096;&#1082;&#1086;&#1083;&#1100;&#1085;&#1072;&#1103;_&#1092;&#1086;&#1088;&#1084;&#1072;" TargetMode="External"/><Relationship Id="rId5" Type="http://schemas.openxmlformats.org/officeDocument/2006/relationships/hyperlink" Target="http://bbc.vo.uz/load/5-1-0-14" TargetMode="External"/><Relationship Id="rId6" Type="http://schemas.openxmlformats.org/officeDocument/2006/relationships/hyperlink" Target="http://www.projectbritain.com/education/uniform.html" TargetMode="External"/><Relationship Id="rId7" Type="http://schemas.openxmlformats.org/officeDocument/2006/relationships/hyperlink" Target="http://histclo.com/schun/hist/schun-hist.html" TargetMode="External"/><Relationship Id="rId8" Type="http://schemas.openxmlformats.org/officeDocument/2006/relationships/hyperlink" Target="http://news.bbc.co.uk/cbbcnews/hi/find_out/guides/2003/school_uniform/newsid_3181000/3181847.stm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666520"/>
            <a:ext cx="6629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School Uniform in Great Britain and in Russia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68440" cy="3353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3276360" cy="2315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3148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0372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16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1992 –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chool unifor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1999 it’s been coming back to some schoo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School Uniform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in Modern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Одежда учеников православной гимназии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382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 клетчатой школьной форме"/>
          <p:cNvPicPr/>
          <p:nvPr/>
        </p:nvPicPr>
        <p:blipFill>
          <a:blip r:embed="rId2"/>
          <a:stretch/>
        </p:blipFill>
        <p:spPr>
          <a:xfrm>
            <a:off x="1447920" y="1981080"/>
            <a:ext cx="5600520" cy="3862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Воспитанники православной гимназии"/>
          <p:cNvPicPr/>
          <p:nvPr/>
        </p:nvPicPr>
        <p:blipFill>
          <a:blip r:embed="rId3"/>
          <a:stretch/>
        </p:blipFill>
        <p:spPr>
          <a:xfrm>
            <a:off x="1447920" y="1981080"/>
            <a:ext cx="5943600" cy="3942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Шестой класс московской гимназии"/>
          <p:cNvPicPr/>
          <p:nvPr/>
        </p:nvPicPr>
        <p:blipFill>
          <a:blip r:embed="rId4"/>
          <a:stretch/>
        </p:blipFill>
        <p:spPr>
          <a:xfrm>
            <a:off x="1447920" y="17524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Школьная форма в лицее Нижнего Новгорода"/>
          <p:cNvPicPr/>
          <p:nvPr/>
        </p:nvPicPr>
        <p:blipFill>
          <a:blip r:embed="rId5"/>
          <a:stretch/>
        </p:blipFill>
        <p:spPr>
          <a:xfrm>
            <a:off x="1447920" y="1752480"/>
            <a:ext cx="5905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at’s all! Thank yo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nswers to the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2438280"/>
          <a:ext cx="7696080" cy="2819520"/>
        </p:xfrm>
        <a:graphic>
          <a:graphicData uri="http://schemas.openxmlformats.org/drawingml/2006/table">
            <a:tbl>
              <a:tblPr/>
              <a:tblGrid>
                <a:gridCol w="2819520"/>
                <a:gridCol w="2590560"/>
                <a:gridCol w="22860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t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, 6, 8,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 5, 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r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240" y="2361960"/>
            <a:ext cx="5791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” – 10-9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” – 8-7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” – 6-5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” – &gt;5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533520" y="34920"/>
            <a:ext cx="1021104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ress your opin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2743200"/>
          <a:ext cx="7696080" cy="1981080"/>
        </p:xfrm>
        <a:graphic>
          <a:graphicData uri="http://schemas.openxmlformats.org/drawingml/2006/table">
            <a:tbl>
              <a:tblPr/>
              <a:tblGrid>
                <a:gridCol w="2209680"/>
                <a:gridCol w="2921040"/>
                <a:gridCol w="256536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think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suppos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my mind,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uld be at the first place. Because … is the most import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stud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am for/against school uniform because … 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05520" y="190476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rist's Hospital School in Lond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File:Quad DH.jpg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05120" y="55627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coa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382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Дети должны с детства приобщаться к тому, что костюм – это нечто большее, чем просто одежда. Это средство коммуникации. От того, как ты выглядишь, зависит, как с тобой будут общаться окружающие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ячеслав Зайц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bbc.vo.uz/_ld/0/14_X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beatl.ru/beatles/england/shkolnaya-forma-v-anglii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clubs.ya.ru/4611686018427426275/replies.xml?item_no=330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ru.wikipedia.org/wiki/%D0%90%D0%BD%D0%B3%D0%BB%D0%B8%D0%B9%D1%81%D0%BA%D0%B0%D1%8F_%D1%88%D0%BA%D0%BE%D0%BB%D1%8C%D0%BD%D0%B0%D1%8F_%D1%84%D0%BE%D1%80%D0%BC%D0%B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bbc.vo.uz/load/5-1-0-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www.projectbritain.com/education/uniform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http://histclo.com/schun/hist/schun-hist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http://news.bbc.co.uk/cbbcnews/hi/find_out/guides/2003/school_uniform/newsid_3181000/3181847.st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orldschooluniform.ru/photo/shkolnaja_forma_v_evrope/iz_rossii_i_sss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orldschooluniform.ru/photo/shkolnaja_forma_v_evrope/brit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ww.ng.ru/education/2007-01-26/9_uniform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www.svk-klassiki.ru/pages/4.ht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http://rudocs.exdat.com/docs/index-514081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http://doodoo.ru/travel/6190-fine-nature.htm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http://images.yandex.ru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lue Coa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 blue jackets, knee breeches and yellow stockin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was the cheapest dye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к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showed humility (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ир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the pup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File:Constant Lambert as a Blue coat boy.jpg"/>
          <p:cNvPicPr/>
          <p:nvPr/>
        </p:nvPicPr>
        <p:blipFill>
          <a:blip r:embed="rId1"/>
          <a:stretch/>
        </p:blipFill>
        <p:spPr>
          <a:xfrm>
            <a:off x="4648320" y="1523880"/>
            <a:ext cx="363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267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irl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blouse, a tunic dress and a pinaf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828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19th century - most schools had their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343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oy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reeches/trousers      and a bl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Файл:1950 UK school uniform n2.png"/>
          <p:cNvPicPr/>
          <p:nvPr/>
        </p:nvPicPr>
        <p:blipFill>
          <a:blip r:embed="rId1"/>
          <a:stretch/>
        </p:blipFill>
        <p:spPr>
          <a:xfrm>
            <a:off x="5257800" y="2666880"/>
            <a:ext cx="269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chool Unifor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Modern Great Brita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Школьная форма в Англии."/>
          <p:cNvPicPr/>
          <p:nvPr/>
        </p:nvPicPr>
        <p:blipFill>
          <a:blip r:embed="rId1"/>
          <a:stretch/>
        </p:blipFill>
        <p:spPr>
          <a:xfrm>
            <a:off x="1752480" y="1676520"/>
            <a:ext cx="6002280" cy="39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Школьная форма в Англии."/>
          <p:cNvPicPr/>
          <p:nvPr/>
        </p:nvPicPr>
        <p:blipFill>
          <a:blip r:embed="rId2"/>
          <a:stretch/>
        </p:blipFill>
        <p:spPr>
          <a:xfrm>
            <a:off x="1752480" y="1676520"/>
            <a:ext cx="6019920" cy="4002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Школьная форма в Англии."/>
          <p:cNvPicPr/>
          <p:nvPr/>
        </p:nvPicPr>
        <p:blipFill>
          <a:blip r:embed="rId3"/>
          <a:stretch/>
        </p:blipFill>
        <p:spPr>
          <a:xfrm>
            <a:off x="1752480" y="1676520"/>
            <a:ext cx="6019920" cy="3983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Мальчики на экскурсии"/>
          <p:cNvPicPr/>
          <p:nvPr/>
        </p:nvPicPr>
        <p:blipFill>
          <a:blip r:embed="rId4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Школьная форма в Англии."/>
          <p:cNvPicPr/>
          <p:nvPr/>
        </p:nvPicPr>
        <p:blipFill>
          <a:blip r:embed="rId5"/>
          <a:stretch/>
        </p:blipFill>
        <p:spPr>
          <a:xfrm>
            <a:off x="1752480" y="1676520"/>
            <a:ext cx="6019920" cy="450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Юные школьницы из Англии"/>
          <p:cNvPicPr/>
          <p:nvPr/>
        </p:nvPicPr>
        <p:blipFill>
          <a:blip r:embed="rId6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grammar schools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мназ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rich and the noble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2866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40 из 65"/>
          <p:cNvPicPr/>
          <p:nvPr/>
        </p:nvPicPr>
        <p:blipFill>
          <a:blip r:embed="rId1"/>
          <a:stretch/>
        </p:blipFill>
        <p:spPr>
          <a:xfrm>
            <a:off x="6019920" y="1828800"/>
            <a:ext cx="2371680" cy="4048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343400" y="3200400"/>
            <a:ext cx="2290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n 1834 for bo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litary 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ap, a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blo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гимнастерка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greatcoat (шинель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962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In 1896 for gir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dress, a black or white apron 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16360" y="1676520"/>
            <a:ext cx="3129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History of the School Uniform in Russ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1918 to 1949 – 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chool unifor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388620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42900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1949 to 1992 the school uniform chang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ti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13:49Z</dcterms:created>
  <dc:creator>Son</dc:creator>
  <dc:description/>
  <dc:language>en-US</dc:language>
  <cp:lastModifiedBy>Son</cp:lastModifiedBy>
  <dcterms:modified xsi:type="dcterms:W3CDTF">2013-01-28T05:19:2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