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B347-40CC-4EE9-AEF9-467FC91A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611B-3BE9-4276-92FF-0EE27AF9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E816-5B30-47EC-94E8-4B82DB9E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5EE8-212C-4256-B216-DF4C06A5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553D-5C1C-4502-AF1D-2965507A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6507-AA3A-4ECD-92F1-F238C68F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266D-1A01-4923-83DA-62D4BF53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EAF4-C754-4FCD-AA53-1018F83E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1F1F-1640-42A5-9B9D-339E622F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6DD5-A006-4AA8-93C8-402F6F46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37F2-29A8-4F28-B889-2F117C50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A97E-F8FA-4BFA-ADF0-F690B3AD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24CE-4CAF-4DC6-B21F-B357CDC56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686200">
            <a:off x="1279440" y="1209240"/>
            <a:ext cx="854712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Оригинальная рамочк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для фотограф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2819520" y="4648320"/>
            <a:ext cx="58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ез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Осипова Мария, учащаяся МБО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й №1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 Лоскут Ольга Александровна, преподаватель изобразительного 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териа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синки, красивые пуговицы, ракушки, соломка, клей ПВА, ножницы и бума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76720" y="1752480"/>
            <a:ext cx="51814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gravers MT"/>
              </a:rPr>
              <a:t>Этап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41008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Разобрала рамочку: отделила стекло и заднюю панель от деревянной осно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480060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gravers MT"/>
              </a:rPr>
              <a:t>Этап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Отрезала полоску бумаги по ширине рам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548640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gravers MT"/>
              </a:rPr>
              <a:t>Этап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1008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Намотала на ладошку шпагат, разрезала его на поло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4800600" cy="38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gravers MT"/>
              </a:rPr>
              <a:t>Этап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3832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На полоску бумаги нанесла клей и уложила нити шпагата на полоску , плотно прижав их друг к др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51055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gravers MT"/>
              </a:rPr>
              <a:t>Этап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9096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После высыхания  клея отрезала нити  по ширине поло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541044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gravers MT"/>
              </a:rPr>
              <a:t>Этап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Этими полосками оформила уголки рамоч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733920" y="1371600"/>
            <a:ext cx="3940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gravers MT"/>
              </a:rPr>
              <a:t>Этап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638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Стороны рамочки обмотала шпага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419720" cy="3290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257800" y="1219320"/>
            <a:ext cx="32018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gravers MT"/>
              </a:rPr>
              <a:t>Этап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Разложила на рамочке бусинки, пуговицы, ракушки, соломку. Выбрала лучший вариант оформ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840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gravers MT"/>
              </a:rPr>
              <a:t>Этап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4864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Соломку прикрутила к рамочке с помощью шпагата. Бусинки, пуговицу и ракушки прикле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51920" y="4952520"/>
            <a:ext cx="85345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елки на выставке в МБО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цей №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962520" cy="3521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800600" y="609480"/>
            <a:ext cx="40384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gravers MT"/>
              </a:rPr>
              <a:t>Этап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574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 Вставила стекло, свое фото, заднюю панель рамочк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ТОРАМОЧКА  ГОТ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8163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Engravers MT"/>
              </a:rPr>
              <a:t>Заключ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авив перед собой цель, подобрав нужный материал, я сделала рамочку для фото. Маме рамочка очень понравилась. Теперь она украшает мамину комна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ю работу отметили на школьной выставке творческих рабо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ни мастерст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657600" y="1371600"/>
            <a:ext cx="50925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143000" y="1066680"/>
            <a:ext cx="70866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паси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а вним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ть рамочку для фото в подарок маме на 8 Марта с использовани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пагата и подручн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ить литерату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умать эскиз рам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обрать необходимые и дополнительные материалы и инструменты для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Выполнить раб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ngravers MT"/>
              </a:rPr>
              <a:t>Что такое шпага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пагат – скрученная или спряденная нить. Делается из пеньковых или льняных волоко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8320" y="1295280"/>
            <a:ext cx="40464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gravers MT"/>
              </a:rPr>
              <a:t>Приме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няются в пищевой промышленности, сельском и тепличном хозяйстве для подвязки растений, увязки заготовок, в качестве упаковочного материала в почтовых отделениях.  Шпагаты льняные экологически чист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50385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gravers MT"/>
              </a:rPr>
              <a:t>Поделки из шпага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шпагата можно делать много  разных поделок, очень красивых и нужных. Можно делать вазы, шкатулки. Оформлять этими поделками свой дом. Изготовление таких поделок называется декоративно-прикладным  искус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4038480" cy="2570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191120" y="3962520"/>
            <a:ext cx="404496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990720"/>
            <a:ext cx="792468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Творческ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раб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880" y="487656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взяла деревянную рамочку. Для оформления рамочки подобрала дополнительны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териал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640080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2-07T21:21:3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