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5E0-7F1F-43B2-8B40-C6912173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CB6-9439-49DB-94B9-2212054C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49B-299C-4584-A1B0-D427EC4D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074-520A-4781-B6C2-6E8934DE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7D9-BBFF-4AC4-9E7F-913F7994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EF7-975F-4BA7-AF5A-7E3CF116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C23-1306-4147-A2CF-7FE3FCBF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1F9-6F0D-44E7-A060-35DDAB27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A34-CA9B-4E2D-830E-5BDBBE63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536-195F-4286-AD29-84908EB9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4BD-67E5-4211-82C1-06C37B52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E96-48E0-488C-8B59-76C63004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FD31-A608-4FB5-A64B-9AB5E851E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86200">
            <a:off x="1279440" y="1209240"/>
            <a:ext cx="85471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Оригинальная рамоч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для фотогра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464832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з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Осипова Мария, учащаяся МБО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й №1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Лоскут Ольга Александровна, преподаватель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тери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синки, красивые пуговицы, ракушки, соломка, клей ПВА, ножницы и бум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51814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1008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азобрала рамочку: отделила стекло и заднюю панель от деревянной осно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80060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трезала полоску бумаги по ширине рам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54864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1008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амотала на ладошку шпагат, разрезала его на пол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80060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На полоску бумаги нанесла клей и уложила нити шпагата на полоску , плотно прижав их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1055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осле высыхания  клея отрезала нити  по ширине пол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54104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Этими полосками оформила уголки рам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3940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638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Стороны рамочки обмотала шпаг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419720" cy="3290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3201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Разложила на рамочке бусинки, пуговицы, ракушки, соломку. Выбрала лучший вариант оформ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84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Соломку прикрутила к рамочке с помощью шпагата. Бусинки, пуговицу и ракушки прикле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1920" y="4952520"/>
            <a:ext cx="85345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елки на выставке в МБО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й №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962520" cy="352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 Вставила стекло, свое фото, заднюю панель рамоч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РАМОЧКА  ГОТ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816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Engravers MT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вив перед собой цель, подобрав нужный материал, я сделала рамочку для фото. Маме рамочка очень понравилась. Теперь она украшает мамину комна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ю работу отметили на школьной выставке творческих рабо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 мастер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50925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143000" y="1066680"/>
            <a:ext cx="7086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ть рамочку для фото в подарок маме на 8 Марта с использо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гата и подруч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литерат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умать эскиз рам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обрать необходимые и дополнительные материалы и инструменты для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Выполнить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ngravers MT"/>
              </a:rPr>
              <a:t>Что такое шпага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пагат – скрученная или спряденная нить. Делается из пеньковых или льняных вол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046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яются в пищевой промышленности, сельском и тепличном хозяйстве для подвязки растений, увязки заготовок, в качестве упаковочного материала в почтовых отделениях.  Шпагаты льняные экологически чист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50385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ravers MT"/>
              </a:rPr>
              <a:t>Поделки из шпага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шпагата можно делать много  разных поделок, очень красивых и нужных. Можно делать вазы, шкатулки. Оформлять этими поделками свой дом. Изготовление таких поделок называется декоративно-прикладным  искус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0449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990720"/>
            <a:ext cx="79246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ворче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48765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взяла деревянную рамочку. Для оформления рамочки подобрала дополнительны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риал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7T21:21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