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AFE-52C0-4571-B816-287A537F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B7E-8A76-49D1-90D3-8044CC3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648-93F1-4776-B8CE-FAF0DBD1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4A2-BFCB-4023-88C5-F0FAC855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011E-A0AE-4858-B7D6-6660636D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5BC-70EF-4DF2-BF44-43B3014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66EF-98B9-46D7-9DCA-EFABCBC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B26-A104-49A2-AB67-7C36B72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F6C-08F6-4391-9051-598B5035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57E4-F8E6-433B-9882-77E928A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AFF5-1738-4ABD-A87E-5201F5C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ED8-F126-4981-8F37-5C84050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D1B-931C-4B63-AFD8-F0A5505F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AA4F-63F6-4C7A-A493-C0F500E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38F-674E-434A-B681-F294E05F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893-A18C-4CF8-9815-A877E20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7001-585A-49E2-9222-0A798550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A67-A443-4616-8D18-5771BF5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68E-5273-4CF1-92BE-CE7C8114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818-1A5F-458F-82D5-B1EAA28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FEE-7CDD-4D14-8AF7-4962F7F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151-B6DE-4C1F-ABD5-29C7F3F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146-4920-4E19-8F2E-2BCE84B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500-D090-4976-970D-1D8B24F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EC8D-914F-4862-AC7E-7C5073596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302-E30B-4054-8AC1-505DD9B73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УДИВИТЕЛЬНО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                    ЭЛЕКТРИЧЕСТВ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27280" y="836640"/>
            <a:ext cx="3718080" cy="388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5805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читель физики средней школы № 13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ировского района г.Казани       Широкова И.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52563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620640"/>
            <a:ext cx="792144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ВСЕ НАЧАЛОСЬ С ЯНТАР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1008000" cy="2808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2205000"/>
            <a:ext cx="1079640" cy="2664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66200 h 2664000"/>
              <a:gd name="textAreaBottom" fmla="*/ 19314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765000"/>
            <a:ext cx="5616720" cy="72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можно определить, заряжено ли те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357720"/>
            <a:ext cx="3887640" cy="1296720"/>
          </a:xfrm>
          <a:prstGeom prst="parallelogram">
            <a:avLst>
              <a:gd name="adj" fmla="val 7495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притяжению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му лег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заряж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357720"/>
            <a:ext cx="3887640" cy="1368360"/>
          </a:xfrm>
          <a:prstGeom prst="parallelogram">
            <a:avLst>
              <a:gd name="adj" fmla="val 710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 взаимодейств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другими заряже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700280"/>
            <a:ext cx="2016360" cy="1368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55640" y="1700280"/>
            <a:ext cx="2160360" cy="1441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373720"/>
            <a:ext cx="7704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При электризации заряд возникает у двух 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476280"/>
            <a:ext cx="698508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ЛЕКТРИЧЕСКИЙ ЗАРЯД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Кл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2060640"/>
            <a:ext cx="5329440" cy="1081080"/>
          </a:xfrm>
          <a:prstGeom prst="wedgeRectCallout">
            <a:avLst>
              <a:gd name="adj1" fmla="val -38916"/>
              <a:gd name="adj2" fmla="val 1297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ранцузский уче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Шарль Ку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2621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56000" y="404640"/>
            <a:ext cx="633564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Э Л Е К Т Р И З А Ц И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492280"/>
            <a:ext cx="4535280" cy="9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прикосновение т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4076640"/>
            <a:ext cx="5112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ередача заряда незаряжен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елу от заряженного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5373720"/>
            <a:ext cx="5545080" cy="93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асстоянии под дейст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ого 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1484280"/>
            <a:ext cx="287280" cy="3673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42920" y="1484280"/>
            <a:ext cx="4537080" cy="86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6360" y="1484280"/>
            <a:ext cx="2303640" cy="2376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6588000" y="3429000"/>
            <a:ext cx="719280" cy="611280"/>
          </a:xfrm>
          <a:custGeom>
            <a:avLst/>
            <a:gdLst>
              <a:gd name="textAreaLeft" fmla="*/ 39600 w 719280"/>
              <a:gd name="textAreaRight" fmla="*/ 679680 w 719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14" h="21600">
                <a:moveTo>
                  <a:pt x="0" y="0"/>
                </a:moveTo>
                <a:lnTo>
                  <a:pt x="25414" y="0"/>
                </a:lnTo>
                <a:lnTo>
                  <a:pt x="25414" y="21600"/>
                </a:lnTo>
                <a:lnTo>
                  <a:pt x="0" y="21600"/>
                </a:lnTo>
                <a:close/>
              </a:path>
              <a:path fill="lightenLess" w="25414" h="21600">
                <a:moveTo>
                  <a:pt x="0" y="0"/>
                </a:moveTo>
                <a:lnTo>
                  <a:pt x="25414" y="0"/>
                </a:lnTo>
                <a:lnTo>
                  <a:pt x="24014" y="1400"/>
                </a:lnTo>
                <a:lnTo>
                  <a:pt x="1400" y="1400"/>
                </a:lnTo>
                <a:close/>
              </a:path>
              <a:path fill="darken" w="25414" h="21600">
                <a:moveTo>
                  <a:pt x="25414" y="0"/>
                </a:moveTo>
                <a:lnTo>
                  <a:pt x="25414" y="21600"/>
                </a:lnTo>
                <a:lnTo>
                  <a:pt x="24014" y="20200"/>
                </a:lnTo>
                <a:lnTo>
                  <a:pt x="24014" y="1400"/>
                </a:lnTo>
                <a:close/>
              </a:path>
              <a:path fill="darkenLess" w="25414" h="21600">
                <a:moveTo>
                  <a:pt x="25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4" y="20200"/>
                </a:lnTo>
                <a:close/>
              </a:path>
              <a:path fill="lighten" w="25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4" h="21600">
                <a:moveTo>
                  <a:pt x="5701" y="7493"/>
                </a:moveTo>
                <a:lnTo>
                  <a:pt x="9208" y="7493"/>
                </a:lnTo>
                <a:lnTo>
                  <a:pt x="9208" y="12828"/>
                </a:lnTo>
                <a:cubicBezTo>
                  <a:pt x="9208" y="13751"/>
                  <a:pt x="10009" y="14482"/>
                  <a:pt x="11045" y="14482"/>
                </a:cubicBezTo>
                <a:lnTo>
                  <a:pt x="12707" y="14482"/>
                </a:lnTo>
                <a:cubicBezTo>
                  <a:pt x="13743" y="14482"/>
                  <a:pt x="14543" y="13751"/>
                  <a:pt x="14543" y="12828"/>
                </a:cubicBezTo>
                <a:lnTo>
                  <a:pt x="14543" y="7493"/>
                </a:lnTo>
                <a:lnTo>
                  <a:pt x="12707" y="7493"/>
                </a:lnTo>
                <a:lnTo>
                  <a:pt x="16215" y="3985"/>
                </a:lnTo>
                <a:lnTo>
                  <a:pt x="19888" y="7493"/>
                </a:lnTo>
                <a:lnTo>
                  <a:pt x="18051" y="7493"/>
                </a:lnTo>
                <a:lnTo>
                  <a:pt x="18051" y="12828"/>
                </a:lnTo>
                <a:cubicBezTo>
                  <a:pt x="18051" y="15596"/>
                  <a:pt x="15475" y="18155"/>
                  <a:pt x="12707" y="18155"/>
                </a:cubicBezTo>
                <a:lnTo>
                  <a:pt x="11045" y="18155"/>
                </a:lnTo>
                <a:cubicBezTo>
                  <a:pt x="8277" y="18155"/>
                  <a:pt x="5701" y="15596"/>
                  <a:pt x="5701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172360" y="6381720"/>
            <a:ext cx="720720" cy="47628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677" h="21600">
                <a:moveTo>
                  <a:pt x="0" y="0"/>
                </a:moveTo>
                <a:lnTo>
                  <a:pt x="32677" y="0"/>
                </a:lnTo>
                <a:lnTo>
                  <a:pt x="32677" y="21600"/>
                </a:lnTo>
                <a:lnTo>
                  <a:pt x="0" y="21600"/>
                </a:lnTo>
                <a:close/>
              </a:path>
              <a:path fill="lightenLess" w="32677" h="21600">
                <a:moveTo>
                  <a:pt x="0" y="0"/>
                </a:moveTo>
                <a:lnTo>
                  <a:pt x="32677" y="0"/>
                </a:lnTo>
                <a:lnTo>
                  <a:pt x="31277" y="1400"/>
                </a:lnTo>
                <a:lnTo>
                  <a:pt x="1400" y="1400"/>
                </a:lnTo>
                <a:close/>
              </a:path>
              <a:path fill="darken" w="32677" h="21600">
                <a:moveTo>
                  <a:pt x="32677" y="0"/>
                </a:moveTo>
                <a:lnTo>
                  <a:pt x="32677" y="21600"/>
                </a:lnTo>
                <a:lnTo>
                  <a:pt x="31277" y="20200"/>
                </a:lnTo>
                <a:lnTo>
                  <a:pt x="31277" y="1400"/>
                </a:lnTo>
                <a:close/>
              </a:path>
              <a:path fill="darkenLess" w="32677" h="21600">
                <a:moveTo>
                  <a:pt x="32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7" y="20200"/>
                </a:lnTo>
                <a:close/>
              </a:path>
              <a:path fill="lighten" w="32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7" h="21600">
                <a:moveTo>
                  <a:pt x="9332" y="7493"/>
                </a:moveTo>
                <a:lnTo>
                  <a:pt x="12840" y="7493"/>
                </a:lnTo>
                <a:lnTo>
                  <a:pt x="12840" y="12828"/>
                </a:lnTo>
                <a:cubicBezTo>
                  <a:pt x="12840" y="13751"/>
                  <a:pt x="13641" y="14482"/>
                  <a:pt x="14676" y="14482"/>
                </a:cubicBezTo>
                <a:lnTo>
                  <a:pt x="16339" y="14482"/>
                </a:lnTo>
                <a:cubicBezTo>
                  <a:pt x="17374" y="14482"/>
                  <a:pt x="18175" y="13751"/>
                  <a:pt x="18175" y="12828"/>
                </a:cubicBezTo>
                <a:lnTo>
                  <a:pt x="18175" y="7493"/>
                </a:lnTo>
                <a:lnTo>
                  <a:pt x="16339" y="7493"/>
                </a:lnTo>
                <a:lnTo>
                  <a:pt x="19846" y="3985"/>
                </a:lnTo>
                <a:lnTo>
                  <a:pt x="23519" y="7493"/>
                </a:lnTo>
                <a:lnTo>
                  <a:pt x="21683" y="7493"/>
                </a:lnTo>
                <a:lnTo>
                  <a:pt x="21683" y="12828"/>
                </a:lnTo>
                <a:cubicBezTo>
                  <a:pt x="21683" y="15596"/>
                  <a:pt x="19106" y="18155"/>
                  <a:pt x="16339" y="18155"/>
                </a:cubicBezTo>
                <a:lnTo>
                  <a:pt x="14676" y="18155"/>
                </a:lnTo>
                <a:cubicBezTo>
                  <a:pt x="11908" y="18155"/>
                  <a:pt x="9332" y="15596"/>
                  <a:pt x="9332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1125360"/>
            <a:ext cx="4680000" cy="187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Виды заря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л американский уче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джамин Франкл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221000"/>
            <a:ext cx="2665440" cy="1224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олож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стек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ертое о шел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21000"/>
            <a:ext cx="367200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отриц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эбони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ертый о ме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068640"/>
            <a:ext cx="432108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068640"/>
            <a:ext cx="50472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479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260280"/>
            <a:ext cx="6985080" cy="19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дноименные заряды отталки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азноименные заряды притяги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781360"/>
            <a:ext cx="64818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взаимодействии одноименно заряженных тел основ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прибора, обнаруживающего электризацию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292640"/>
            <a:ext cx="2880000" cy="72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электрос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205000"/>
            <a:ext cx="1008000" cy="5032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645000"/>
            <a:ext cx="863640" cy="57600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78200" y="5516640"/>
            <a:ext cx="4465800" cy="1081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зобрел итальянский уч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ессандро Воль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4720" y="5157720"/>
            <a:ext cx="863640" cy="35892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282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549360"/>
            <a:ext cx="251964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вод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620640"/>
            <a:ext cx="2737080" cy="1224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иэлект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141720"/>
            <a:ext cx="2160720" cy="244800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448000"/>
              <a:gd name="textAreaBottom" fmla="*/ 2342520 h 2448000"/>
            </a:gdLst>
            <a:ahLst/>
            <a:rect l="textAreaLeft" t="textAreaTop" r="textAreaRight" b="textAreaBottom"/>
            <a:pathLst>
              <a:path w="21600" h="24471">
                <a:moveTo>
                  <a:pt x="3600" y="0"/>
                </a:moveTo>
                <a:arcTo wR="3600" hR="3600" stAng="16200000" swAng="-5400000"/>
                <a:lnTo>
                  <a:pt x="0" y="20871"/>
                </a:lnTo>
                <a:arcTo wR="3600" hR="3600" stAng="10800000" swAng="-5400000"/>
                <a:lnTo>
                  <a:pt x="18000" y="24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етал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астворы со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284640"/>
            <a:ext cx="2374920" cy="23032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Пластм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текло, эбон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1989000"/>
            <a:ext cx="360360" cy="936720"/>
          </a:xfrm>
          <a:prstGeom prst="upDownArrow">
            <a:avLst>
              <a:gd name="adj1" fmla="val 50000"/>
              <a:gd name="adj2" fmla="val 517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060640"/>
            <a:ext cx="358920" cy="936720"/>
          </a:xfrm>
          <a:prstGeom prst="upDownArrow">
            <a:avLst>
              <a:gd name="adj1" fmla="val 50000"/>
              <a:gd name="adj2" fmla="val 5195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260280"/>
            <a:ext cx="576360" cy="6166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Электрическое пол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ый вид мате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не вещество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орый возник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круг заряд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ействует на друг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ряд с некоторой си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Джеймс Максвелл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236000" y="5445000"/>
            <a:ext cx="1546200" cy="1043280"/>
          </a:xfrm>
          <a:custGeom>
            <a:avLst/>
            <a:gdLst>
              <a:gd name="textAreaLeft" fmla="*/ 67320 w 1546200"/>
              <a:gd name="textAreaRight" fmla="*/ 1478880 w 15462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2009" h="21600">
                <a:moveTo>
                  <a:pt x="0" y="0"/>
                </a:moveTo>
                <a:lnTo>
                  <a:pt x="32009" y="0"/>
                </a:lnTo>
                <a:lnTo>
                  <a:pt x="32009" y="21600"/>
                </a:lnTo>
                <a:lnTo>
                  <a:pt x="0" y="21600"/>
                </a:lnTo>
                <a:close/>
              </a:path>
              <a:path fill="lightenLess" w="32009" h="21600">
                <a:moveTo>
                  <a:pt x="0" y="0"/>
                </a:moveTo>
                <a:lnTo>
                  <a:pt x="32009" y="0"/>
                </a:lnTo>
                <a:lnTo>
                  <a:pt x="30609" y="1400"/>
                </a:lnTo>
                <a:lnTo>
                  <a:pt x="1400" y="1400"/>
                </a:lnTo>
                <a:close/>
              </a:path>
              <a:path fill="darken" w="32009" h="21600">
                <a:moveTo>
                  <a:pt x="32009" y="0"/>
                </a:moveTo>
                <a:lnTo>
                  <a:pt x="32009" y="21600"/>
                </a:lnTo>
                <a:lnTo>
                  <a:pt x="30609" y="20200"/>
                </a:lnTo>
                <a:lnTo>
                  <a:pt x="30609" y="1400"/>
                </a:lnTo>
                <a:close/>
              </a:path>
              <a:path fill="darkenLess" w="32009" h="21600">
                <a:moveTo>
                  <a:pt x="3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09" y="20200"/>
                </a:lnTo>
                <a:close/>
              </a:path>
              <a:path fill="lighten" w="3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009" h="21600">
                <a:moveTo>
                  <a:pt x="8998" y="7493"/>
                </a:moveTo>
                <a:lnTo>
                  <a:pt x="12506" y="7493"/>
                </a:lnTo>
                <a:lnTo>
                  <a:pt x="12506" y="12828"/>
                </a:lnTo>
                <a:cubicBezTo>
                  <a:pt x="12506" y="13751"/>
                  <a:pt x="13306" y="14482"/>
                  <a:pt x="14342" y="14482"/>
                </a:cubicBezTo>
                <a:lnTo>
                  <a:pt x="16004" y="14482"/>
                </a:lnTo>
                <a:cubicBezTo>
                  <a:pt x="17040" y="14482"/>
                  <a:pt x="17841" y="13751"/>
                  <a:pt x="17841" y="12828"/>
                </a:cubicBezTo>
                <a:lnTo>
                  <a:pt x="17841" y="7493"/>
                </a:lnTo>
                <a:lnTo>
                  <a:pt x="16004" y="7493"/>
                </a:lnTo>
                <a:lnTo>
                  <a:pt x="19512" y="3985"/>
                </a:lnTo>
                <a:lnTo>
                  <a:pt x="23185" y="7493"/>
                </a:lnTo>
                <a:lnTo>
                  <a:pt x="21348" y="7493"/>
                </a:lnTo>
                <a:lnTo>
                  <a:pt x="21348" y="12828"/>
                </a:lnTo>
                <a:cubicBezTo>
                  <a:pt x="21348" y="15596"/>
                  <a:pt x="18772" y="18155"/>
                  <a:pt x="16004" y="18155"/>
                </a:cubicBezTo>
                <a:lnTo>
                  <a:pt x="14342" y="18155"/>
                </a:lnTo>
                <a:cubicBezTo>
                  <a:pt x="11574" y="18155"/>
                  <a:pt x="8998" y="15596"/>
                  <a:pt x="8998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227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564000" y="692280"/>
            <a:ext cx="4608360" cy="172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АЯ С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ави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3068640"/>
            <a:ext cx="5832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яда, создающего электрическое поле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933720"/>
            <a:ext cx="583236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яда, внесенного в это поле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869000"/>
            <a:ext cx="583236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тояния между ними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805360"/>
            <a:ext cx="849600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ическая сила тем больше, чем бол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тем меньше, чем бол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ово «электричество» произошло от янт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и электризации у двух тел возникает зар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 природе существуют три вида заря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Эбонит при трении о мех электризуется «-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ложительный и отрицательный заряды взаимно отталкива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Большой шар имеет заряд «+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Тело человек – диэлектр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езина – диэлектр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Электрическое поле – невидим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Если к положительно заряженной гильзе из фольги, подвешенной на нити, поднести эбонитовую палочку, потертую о мех, то гильза и эбонитовая палочка притянутся .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60280"/>
            <a:ext cx="7488360" cy="108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бота с двухцветными карточками. Учитель высказыв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тверждение, ученики соглашаются (зеленый цвет) и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оглашаются (красный цвет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56000" y="189000"/>
            <a:ext cx="39700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4941720"/>
            <a:ext cx="863280" cy="79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941720"/>
            <a:ext cx="863640" cy="79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0720" y="5013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997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997360"/>
            <a:ext cx="158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06864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997360"/>
            <a:ext cx="576000" cy="19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55280" y="2997360"/>
            <a:ext cx="431640" cy="19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97360"/>
            <a:ext cx="216000" cy="20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003640" y="2997360"/>
            <a:ext cx="216000" cy="20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3068640"/>
            <a:ext cx="0" cy="1944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72360" y="3068640"/>
            <a:ext cx="0" cy="1944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120" y="27936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изображены пары шар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двешенные на нит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 заряжены шарики на рисунке 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 рисунке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508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780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6010200"/>
            <a:ext cx="4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0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уемая литерату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А.В.Перышкин «Физика-8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А.Е.Гуревич  «Естествознание – 5-6. Физика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им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Приложение к газете «1 сентября» «Физика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№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(2004г), №8 (2004г), №43 (2000г), № 33 (2000г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С.В.Дендебер, Л.В.Зуева, Т.В.Иванни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Электив 9. Физика.Химия. Биолог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С.В.Боброва «Физика 7-10. Нестандар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к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И.Я.Ланина «Внеклассная работа по физи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 В.П.Синицкин, О.П.Синицкин «Внекласс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по физик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3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6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375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1052640"/>
            <a:ext cx="278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6804000" cy="382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29080" cy="3789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upload.wikimedia.org/wikipedia/ru/archive/4/44/20060403100600%21Sshg.jpg"/>
          <p:cNvPicPr/>
          <p:nvPr/>
        </p:nvPicPr>
        <p:blipFill>
          <a:blip r:embed="rId4"/>
          <a:srcRect l="0" t="0" r="0" b="4478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3687840"/>
            <a:ext cx="4643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24000" y="549360"/>
            <a:ext cx="568800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АТМОСФЕРНОЕ ЭЛЕКТРИ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295272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рг  Рих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349360"/>
            <a:ext cx="381636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2836800" cy="371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476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76280"/>
            <a:ext cx="4321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476280"/>
            <a:ext cx="302400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РЕВНЕГРЕ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ЧЕНЫЙ ФАЛЕ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133720"/>
            <a:ext cx="43210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ήλεκτρ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645000"/>
            <a:ext cx="4321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ЯНТ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013360"/>
            <a:ext cx="4321080" cy="86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ЛЕКТ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907920"/>
            <a:ext cx="57600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1413000"/>
            <a:ext cx="0" cy="576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2997360"/>
            <a:ext cx="0" cy="574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437000"/>
            <a:ext cx="0" cy="504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5:30:40Z</dcterms:created>
  <dc:creator>comp11</dc:creator>
  <dc:description/>
  <dc:language>en-US</dc:language>
  <cp:lastModifiedBy>Ray</cp:lastModifiedBy>
  <dcterms:modified xsi:type="dcterms:W3CDTF">2012-12-07T06:56:10Z</dcterms:modified>
  <cp:revision>26</cp:revision>
  <dc:subject/>
  <dc:title>УДИВИТЕЛЬНОЕ  ЭЛЕКТРИЧЕСТВО</dc:title>
</cp:coreProperties>
</file>