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77A1-BEC2-4344-8525-5DD79D57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798-EE05-4F36-8C16-BC3C6675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243E-4AA0-4C82-A85A-2A0C112E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F740-1938-4E4E-84A6-7B099811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3650-AA7A-471C-A2B1-B1C3E574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CF66-5FA7-4AA6-B657-8D70BF29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3E80-39C4-4034-BBFD-A34F14DE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0E4E-63A6-45F5-82A4-71791CE1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60AE-2280-4A58-B98E-3C25B211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34A3-C53C-452C-84BD-465A587B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E4D1-7423-41F0-8CB7-7DF6E284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6462-B9FF-4B06-9781-9243037E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A512-8D27-46F1-8176-1F9A576B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D46F-D98B-4BA3-9B64-446A0D07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D0C8-9015-484E-BC0E-E9DA306F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3E7D-23EA-4B15-AAF9-AB2003D4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6B76-524B-496B-BF61-5FD73C90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5B5-9339-4C1E-B8FD-ED51858B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6024-3695-45B8-AF5C-0C0E4A39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40BC-3BB8-4616-9C77-E61DB6D8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005-733B-4106-9E75-F616EDA4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FC1F-DB5F-486A-AA10-B9A0556E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5E88-2D46-4512-8BB5-FAF392B2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A38-CDFC-411B-AB87-8E3CE1DF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6FF7-EDFC-4821-A157-2ABF8A150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2952-AA3E-4E6F-88F7-0D692C513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УДИВИТЕЛЬНОЕ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                    ЭЛЕКТРИЧЕСТВО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627280" y="836640"/>
            <a:ext cx="3718080" cy="388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5805360"/>
            <a:ext cx="734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Учитель физики средней школы № 135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Кировского района г.Казани       Широкова И.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79640" y="2565360"/>
            <a:ext cx="5256360" cy="3959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1280" y="620640"/>
            <a:ext cx="7921440" cy="1297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ВСЕ НАЧАЛОСЬ С ЯНТАР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2060640"/>
            <a:ext cx="1008000" cy="280836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491400 h 2808360"/>
              <a:gd name="textAreaBottom" fmla="*/ 203616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885080" y="2205000"/>
            <a:ext cx="1079640" cy="2664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466200 h 2664000"/>
              <a:gd name="textAreaBottom" fmla="*/ 193140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765000"/>
            <a:ext cx="5616720" cy="72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ак можно определить, заряжено ли тел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3357720"/>
            <a:ext cx="3887640" cy="1296720"/>
          </a:xfrm>
          <a:prstGeom prst="parallelogram">
            <a:avLst>
              <a:gd name="adj" fmla="val 7495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 притяжению 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му легк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заряжен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3357720"/>
            <a:ext cx="3887640" cy="1368360"/>
          </a:xfrm>
          <a:prstGeom prst="parallelogram">
            <a:avLst>
              <a:gd name="adj" fmla="val 710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 взаимодейств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 другими заряжен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л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700280"/>
            <a:ext cx="2016360" cy="13683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55640" y="1700280"/>
            <a:ext cx="2160360" cy="14414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5373720"/>
            <a:ext cx="7704000" cy="863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При электризации заряд возникает у двух т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476280"/>
            <a:ext cx="6985080" cy="1440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ЛЕКТРИЧЕСКИЙ ЗАРЯД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Кл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2060640"/>
            <a:ext cx="5329440" cy="1081080"/>
          </a:xfrm>
          <a:prstGeom prst="wedgeRectCallout">
            <a:avLst>
              <a:gd name="adj1" fmla="val -38916"/>
              <a:gd name="adj2" fmla="val 1297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Французский уче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Шарль Кул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26211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56000" y="404640"/>
            <a:ext cx="6335640" cy="863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Э Л Е К Т Р И З А Ц И 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2492280"/>
            <a:ext cx="4535280" cy="936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оприкосновение те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68360" y="4076640"/>
            <a:ext cx="5112000" cy="863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ередача заряда незаряженн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елу от заряженного т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48000" y="5373720"/>
            <a:ext cx="5545080" cy="934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а расстоянии под действ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электрического п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80360" y="1484280"/>
            <a:ext cx="287280" cy="36734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842920" y="1484280"/>
            <a:ext cx="4537080" cy="8650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076360" y="1484280"/>
            <a:ext cx="2303640" cy="23763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6588000" y="3429000"/>
            <a:ext cx="719280" cy="611280"/>
          </a:xfrm>
          <a:custGeom>
            <a:avLst/>
            <a:gdLst>
              <a:gd name="textAreaLeft" fmla="*/ 39600 w 719280"/>
              <a:gd name="textAreaRight" fmla="*/ 679680 w 719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14" h="21600">
                <a:moveTo>
                  <a:pt x="0" y="0"/>
                </a:moveTo>
                <a:lnTo>
                  <a:pt x="25414" y="0"/>
                </a:lnTo>
                <a:lnTo>
                  <a:pt x="25414" y="21600"/>
                </a:lnTo>
                <a:lnTo>
                  <a:pt x="0" y="21600"/>
                </a:lnTo>
                <a:close/>
              </a:path>
              <a:path fill="lightenLess" w="25414" h="21600">
                <a:moveTo>
                  <a:pt x="0" y="0"/>
                </a:moveTo>
                <a:lnTo>
                  <a:pt x="25414" y="0"/>
                </a:lnTo>
                <a:lnTo>
                  <a:pt x="24014" y="1400"/>
                </a:lnTo>
                <a:lnTo>
                  <a:pt x="1400" y="1400"/>
                </a:lnTo>
                <a:close/>
              </a:path>
              <a:path fill="darken" w="25414" h="21600">
                <a:moveTo>
                  <a:pt x="25414" y="0"/>
                </a:moveTo>
                <a:lnTo>
                  <a:pt x="25414" y="21600"/>
                </a:lnTo>
                <a:lnTo>
                  <a:pt x="24014" y="20200"/>
                </a:lnTo>
                <a:lnTo>
                  <a:pt x="24014" y="1400"/>
                </a:lnTo>
                <a:close/>
              </a:path>
              <a:path fill="darkenLess" w="25414" h="21600">
                <a:moveTo>
                  <a:pt x="254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4" y="20200"/>
                </a:lnTo>
                <a:close/>
              </a:path>
              <a:path fill="lighten" w="254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4" h="21600">
                <a:moveTo>
                  <a:pt x="5701" y="7493"/>
                </a:moveTo>
                <a:lnTo>
                  <a:pt x="9208" y="7493"/>
                </a:lnTo>
                <a:lnTo>
                  <a:pt x="9208" y="12828"/>
                </a:lnTo>
                <a:cubicBezTo>
                  <a:pt x="9208" y="13751"/>
                  <a:pt x="10009" y="14482"/>
                  <a:pt x="11045" y="14482"/>
                </a:cubicBezTo>
                <a:lnTo>
                  <a:pt x="12707" y="14482"/>
                </a:lnTo>
                <a:cubicBezTo>
                  <a:pt x="13743" y="14482"/>
                  <a:pt x="14543" y="13751"/>
                  <a:pt x="14543" y="12828"/>
                </a:cubicBezTo>
                <a:lnTo>
                  <a:pt x="14543" y="7493"/>
                </a:lnTo>
                <a:lnTo>
                  <a:pt x="12707" y="7493"/>
                </a:lnTo>
                <a:lnTo>
                  <a:pt x="16215" y="3985"/>
                </a:lnTo>
                <a:lnTo>
                  <a:pt x="19888" y="7493"/>
                </a:lnTo>
                <a:lnTo>
                  <a:pt x="18051" y="7493"/>
                </a:lnTo>
                <a:lnTo>
                  <a:pt x="18051" y="12828"/>
                </a:lnTo>
                <a:cubicBezTo>
                  <a:pt x="18051" y="15596"/>
                  <a:pt x="15475" y="18155"/>
                  <a:pt x="12707" y="18155"/>
                </a:cubicBezTo>
                <a:lnTo>
                  <a:pt x="11045" y="18155"/>
                </a:lnTo>
                <a:cubicBezTo>
                  <a:pt x="8277" y="18155"/>
                  <a:pt x="5701" y="15596"/>
                  <a:pt x="5701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8172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7493"/>
                </a:moveTo>
                <a:lnTo>
                  <a:pt x="12840" y="7493"/>
                </a:lnTo>
                <a:lnTo>
                  <a:pt x="12840" y="12828"/>
                </a:lnTo>
                <a:cubicBezTo>
                  <a:pt x="12840" y="13751"/>
                  <a:pt x="13641" y="14482"/>
                  <a:pt x="14676" y="14482"/>
                </a:cubicBezTo>
                <a:lnTo>
                  <a:pt x="16339" y="14482"/>
                </a:lnTo>
                <a:cubicBezTo>
                  <a:pt x="17374" y="14482"/>
                  <a:pt x="18175" y="13751"/>
                  <a:pt x="18175" y="12828"/>
                </a:cubicBezTo>
                <a:lnTo>
                  <a:pt x="18175" y="7493"/>
                </a:lnTo>
                <a:lnTo>
                  <a:pt x="16339" y="7493"/>
                </a:lnTo>
                <a:lnTo>
                  <a:pt x="19846" y="3985"/>
                </a:lnTo>
                <a:lnTo>
                  <a:pt x="23519" y="7493"/>
                </a:lnTo>
                <a:lnTo>
                  <a:pt x="21683" y="7493"/>
                </a:lnTo>
                <a:lnTo>
                  <a:pt x="21683" y="12828"/>
                </a:lnTo>
                <a:cubicBezTo>
                  <a:pt x="21683" y="15596"/>
                  <a:pt x="19106" y="18155"/>
                  <a:pt x="16339" y="18155"/>
                </a:cubicBezTo>
                <a:lnTo>
                  <a:pt x="14676" y="18155"/>
                </a:lnTo>
                <a:cubicBezTo>
                  <a:pt x="11908" y="18155"/>
                  <a:pt x="9332" y="15596"/>
                  <a:pt x="9332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00000" y="1125360"/>
            <a:ext cx="4680000" cy="187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Arial"/>
              </a:rPr>
              <a:t>Виды заря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вел американский уче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нджамин Франкл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4221000"/>
            <a:ext cx="2665440" cy="1224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положите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стекл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тертое о шел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221000"/>
            <a:ext cx="3672000" cy="1297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отрицате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эбони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тертый о ме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3068640"/>
            <a:ext cx="432108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5280" y="3068640"/>
            <a:ext cx="50472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227640" y="404640"/>
            <a:ext cx="2479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32000" y="260280"/>
            <a:ext cx="6985080" cy="194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дноименные заряды отталкиваю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Разноименные заряды притягиваю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2781360"/>
            <a:ext cx="648180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взаимодействии одноименно заряженных тел основа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прибора, обнаруживающего электризацию т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292640"/>
            <a:ext cx="2880000" cy="720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электроск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8360" y="2205000"/>
            <a:ext cx="1008000" cy="503280"/>
          </a:xfrm>
          <a:prstGeom prst="lightningBolt">
            <a:avLst/>
          </a:pr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3645000"/>
            <a:ext cx="863640" cy="576000"/>
          </a:xfrm>
          <a:prstGeom prst="lightningBolt">
            <a:avLst/>
          </a:pr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78200" y="5516640"/>
            <a:ext cx="4465800" cy="1081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зобрел итальянский уче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лессандро Воль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24720" y="5157720"/>
            <a:ext cx="863640" cy="358920"/>
          </a:xfrm>
          <a:prstGeom prst="lightningBolt">
            <a:avLst/>
          </a:pr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11280" y="3860640"/>
            <a:ext cx="22827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549360"/>
            <a:ext cx="2519640" cy="1224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овод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620640"/>
            <a:ext cx="2737080" cy="1224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иэлектр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3141720"/>
            <a:ext cx="2160720" cy="244800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448000"/>
              <a:gd name="textAreaBottom" fmla="*/ 2342520 h 2448000"/>
            </a:gdLst>
            <a:ahLst/>
            <a:rect l="textAreaLeft" t="textAreaTop" r="textAreaRight" b="textAreaBottom"/>
            <a:pathLst>
              <a:path w="21600" h="24471">
                <a:moveTo>
                  <a:pt x="3600" y="0"/>
                </a:moveTo>
                <a:arcTo wR="3600" hR="3600" stAng="16200000" swAng="-5400000"/>
                <a:lnTo>
                  <a:pt x="0" y="20871"/>
                </a:lnTo>
                <a:arcTo wR="3600" hR="3600" stAng="10800000" swAng="-5400000"/>
                <a:lnTo>
                  <a:pt x="18000" y="24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Метал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Чело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Растворы со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3284640"/>
            <a:ext cx="2374920" cy="23032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Возду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Рез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Пластм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Стекло, эбон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1989000"/>
            <a:ext cx="360360" cy="936720"/>
          </a:xfrm>
          <a:prstGeom prst="upDownArrow">
            <a:avLst>
              <a:gd name="adj1" fmla="val 50000"/>
              <a:gd name="adj2" fmla="val 5174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2060640"/>
            <a:ext cx="358920" cy="936720"/>
          </a:xfrm>
          <a:prstGeom prst="upDownArrow">
            <a:avLst>
              <a:gd name="adj1" fmla="val 50000"/>
              <a:gd name="adj2" fmla="val 5195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95640" y="260280"/>
            <a:ext cx="576360" cy="6166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Электрическое пол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ый вид матер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 не вещество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торый возник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круг заряда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ействует на друг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ряд с некоторой сил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Джеймс Максвелл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7236000" y="5445000"/>
            <a:ext cx="1546200" cy="1043280"/>
          </a:xfrm>
          <a:custGeom>
            <a:avLst/>
            <a:gdLst>
              <a:gd name="textAreaLeft" fmla="*/ 67320 w 1546200"/>
              <a:gd name="textAreaRight" fmla="*/ 1478880 w 154620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32009" h="21600">
                <a:moveTo>
                  <a:pt x="0" y="0"/>
                </a:moveTo>
                <a:lnTo>
                  <a:pt x="32009" y="0"/>
                </a:lnTo>
                <a:lnTo>
                  <a:pt x="32009" y="21600"/>
                </a:lnTo>
                <a:lnTo>
                  <a:pt x="0" y="21600"/>
                </a:lnTo>
                <a:close/>
              </a:path>
              <a:path fill="lightenLess" w="32009" h="21600">
                <a:moveTo>
                  <a:pt x="0" y="0"/>
                </a:moveTo>
                <a:lnTo>
                  <a:pt x="32009" y="0"/>
                </a:lnTo>
                <a:lnTo>
                  <a:pt x="30609" y="1400"/>
                </a:lnTo>
                <a:lnTo>
                  <a:pt x="1400" y="1400"/>
                </a:lnTo>
                <a:close/>
              </a:path>
              <a:path fill="darken" w="32009" h="21600">
                <a:moveTo>
                  <a:pt x="32009" y="0"/>
                </a:moveTo>
                <a:lnTo>
                  <a:pt x="32009" y="21600"/>
                </a:lnTo>
                <a:lnTo>
                  <a:pt x="30609" y="20200"/>
                </a:lnTo>
                <a:lnTo>
                  <a:pt x="30609" y="1400"/>
                </a:lnTo>
                <a:close/>
              </a:path>
              <a:path fill="darkenLess" w="32009" h="21600">
                <a:moveTo>
                  <a:pt x="32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09" y="20200"/>
                </a:lnTo>
                <a:close/>
              </a:path>
              <a:path fill="lighten" w="32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009" h="21600">
                <a:moveTo>
                  <a:pt x="8998" y="7493"/>
                </a:moveTo>
                <a:lnTo>
                  <a:pt x="12506" y="7493"/>
                </a:lnTo>
                <a:lnTo>
                  <a:pt x="12506" y="12828"/>
                </a:lnTo>
                <a:cubicBezTo>
                  <a:pt x="12506" y="13751"/>
                  <a:pt x="13306" y="14482"/>
                  <a:pt x="14342" y="14482"/>
                </a:cubicBezTo>
                <a:lnTo>
                  <a:pt x="16004" y="14482"/>
                </a:lnTo>
                <a:cubicBezTo>
                  <a:pt x="17040" y="14482"/>
                  <a:pt x="17841" y="13751"/>
                  <a:pt x="17841" y="12828"/>
                </a:cubicBezTo>
                <a:lnTo>
                  <a:pt x="17841" y="7493"/>
                </a:lnTo>
                <a:lnTo>
                  <a:pt x="16004" y="7493"/>
                </a:lnTo>
                <a:lnTo>
                  <a:pt x="19512" y="3985"/>
                </a:lnTo>
                <a:lnTo>
                  <a:pt x="23185" y="7493"/>
                </a:lnTo>
                <a:lnTo>
                  <a:pt x="21348" y="7493"/>
                </a:lnTo>
                <a:lnTo>
                  <a:pt x="21348" y="12828"/>
                </a:lnTo>
                <a:cubicBezTo>
                  <a:pt x="21348" y="15596"/>
                  <a:pt x="18772" y="18155"/>
                  <a:pt x="16004" y="18155"/>
                </a:cubicBezTo>
                <a:lnTo>
                  <a:pt x="14342" y="18155"/>
                </a:lnTo>
                <a:cubicBezTo>
                  <a:pt x="11574" y="18155"/>
                  <a:pt x="8998" y="15596"/>
                  <a:pt x="8998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11280" y="981000"/>
            <a:ext cx="22795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7000"/>
                            </p:stCondLst>
                            <p:childTnLst>
                              <p:par>
                                <p:cTn id="4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564000" y="692280"/>
            <a:ext cx="4608360" cy="1728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ЭЛЕКТРИЧЕСКАЯ СИ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завис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3068640"/>
            <a:ext cx="583236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ряда, создающего электрическое поле 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3933720"/>
            <a:ext cx="583236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ряда, внесенного в это поле 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4869000"/>
            <a:ext cx="583236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стояния между ними 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5805360"/>
            <a:ext cx="8496000" cy="863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лектрическая сила тем больше, чем больш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тем меньше, чем больш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лово «электричество» произошло от янта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ри электризации у двух тел возникает заря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В природе существуют три вида заря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Эбонит при трении о мех электризуется «-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ложительный и отрицательный заряды взаимно отталкиваю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Большой шар имеет заряд «+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7.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Тело человек – диэлектр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Резина – диэлектр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Электрическое поле – невидим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10.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Если к положительно заряженной гильзе из фольги, подвешенной на нити, поднести эбонитовую палочку, потертую о мех, то гильза и эбонитовая палочка притянутся .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260280"/>
            <a:ext cx="7488360" cy="1081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абота с двухцветными карточками. Учитель высказыв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утверждение, ученики соглашаются (зеленый цвет) или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оглашаются (красный цвет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3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3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3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3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56000" y="189000"/>
            <a:ext cx="397008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4941720"/>
            <a:ext cx="863280" cy="79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4941720"/>
            <a:ext cx="863640" cy="79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5013360"/>
            <a:ext cx="863640" cy="79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5013360"/>
            <a:ext cx="863640" cy="79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88000" y="5013360"/>
            <a:ext cx="863640" cy="79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40720" y="5013360"/>
            <a:ext cx="863640" cy="79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2997360"/>
            <a:ext cx="158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0000" y="2997360"/>
            <a:ext cx="158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04000" y="3068640"/>
            <a:ext cx="1584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35280" y="2997360"/>
            <a:ext cx="576000" cy="1944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55280" y="2997360"/>
            <a:ext cx="431640" cy="1944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24360" y="2997360"/>
            <a:ext cx="216000" cy="2016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003640" y="2997360"/>
            <a:ext cx="216000" cy="2016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20000" y="3068640"/>
            <a:ext cx="0" cy="19447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72360" y="3068640"/>
            <a:ext cx="0" cy="19447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9120" y="279360"/>
            <a:ext cx="772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а рисунке изображены пары шарик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одвешенные на нит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ак заряжены шарики на рисунке 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а рисунке 2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а рисунке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твет обоснуй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05080" y="587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7800" y="5950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67480" y="6010200"/>
            <a:ext cx="4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4000"/>
                            </p:stCondLst>
                            <p:childTnLst>
                              <p:par>
                                <p:cTn id="6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9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000"/>
                            </p:stCondLst>
                            <p:childTnLst>
                              <p:par>
                                <p:cTn id="7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000"/>
                            </p:stCondLst>
                            <p:childTnLst>
                              <p:par>
                                <p:cTn id="7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1680" y="620640"/>
            <a:ext cx="854064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уемая литерату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А.В.Перышкин «Физика-8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А.Е.Гуревич  «Естествознание – 5-6. Физика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ими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Приложение к газете «1 сентября» «Физика»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№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7(2004г), №8 (2004г), №43 (2000г), № 33 (2000г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С.В.Дендебер, Л.В.Зуева, Т.В.Иваннико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Электив 9. Физика.Химия. Биологи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С.В.Боброва «Физика 7-10. Нестандарт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оки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 И.Я.Ланина «Внеклассная работа по физике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7. В.П.Синицкин, О.П.Синицкин «Внеклассна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а по физике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5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8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1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4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0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3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6" dur="5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9" dur="500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2" dur="500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5" dur="500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83754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2735280" cy="4103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76720" y="1052640"/>
            <a:ext cx="27860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6804000" cy="3821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529080" cy="3789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http://upload.wikimedia.org/wikipedia/ru/archive/4/44/20060403100600%21Sshg.jpg"/>
          <p:cNvPicPr/>
          <p:nvPr/>
        </p:nvPicPr>
        <p:blipFill>
          <a:blip r:embed="rId4"/>
          <a:srcRect l="0" t="0" r="0" b="4478"/>
          <a:stretch/>
        </p:blipFill>
        <p:spPr>
          <a:xfrm>
            <a:off x="4427640" y="3716280"/>
            <a:ext cx="4716360" cy="3141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0" y="3687840"/>
            <a:ext cx="46432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124000" y="549360"/>
            <a:ext cx="5688000" cy="1224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АТМОСФЕРНОЕ ЭЛЕКТРИЧ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2349360"/>
            <a:ext cx="295272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рг  Рихм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349360"/>
            <a:ext cx="381636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.В.Ломоно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11280" y="2924280"/>
            <a:ext cx="2836800" cy="3716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3068640"/>
            <a:ext cx="2646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00360" y="47628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476280"/>
            <a:ext cx="4321080" cy="86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ЭЛЕКТР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Я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476280"/>
            <a:ext cx="302400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ДРЕВНЕГРЕЧЕ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УЧЕНЫЙ ФАЛЕ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2133720"/>
            <a:ext cx="432108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ήλεκτρ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3645000"/>
            <a:ext cx="43210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ЯНТА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5013360"/>
            <a:ext cx="4321080" cy="86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ЭЛЕКТР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907920"/>
            <a:ext cx="57600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43280" y="1413000"/>
            <a:ext cx="0" cy="5760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2997360"/>
            <a:ext cx="0" cy="5745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4437000"/>
            <a:ext cx="0" cy="5047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588000" y="162864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5:30:40Z</dcterms:created>
  <dc:creator>comp11</dc:creator>
  <dc:description/>
  <dc:language>en-US</dc:language>
  <cp:lastModifiedBy>Ray</cp:lastModifiedBy>
  <dcterms:modified xsi:type="dcterms:W3CDTF">2012-12-07T06:56:10Z</dcterms:modified>
  <cp:revision>26</cp:revision>
  <dc:subject/>
  <dc:title>УДИВИТЕЛЬНОЕ  ЭЛЕКТРИЧЕСТВО</dc:title>
</cp:coreProperties>
</file>