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064-818D-4E80-A9F8-0B4CA724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ABB-086D-4678-9550-C93C8D5B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1A2-E03E-4CCA-A80C-3ECA965B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6D1-985D-48DB-9826-FDD1FD2B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1E62-426A-417F-B61F-3B20B36D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2EEF-5BCE-498A-AE6C-FDEFD7D3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5B63-FAF6-4AA2-9E60-A5DC0BA3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A506-799C-4F6A-AF1B-B420A7DD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C94F-6A21-414A-BE99-E8DCF055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DB60-D3B7-4EDB-9C55-A939D027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A4D0-0D4B-4931-AEC3-58D5D751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5D0-713A-44A1-BA2B-4F31C675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6BC8-3D10-41B7-BBB0-17EB8E6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13D5-92D1-47E5-823D-E7D93902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51D7-351D-4815-AD7D-F03AAF6B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D3B9-6D53-4DF1-9F60-2D8E5055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9E5D-92C8-45FB-862C-54D50A8F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8F6-CB43-4854-9D0B-A28607DB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24D-C436-4CDA-A69E-AEEA0820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53F-2C93-4C7E-A4C7-E5BF9696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5FF-5F3B-4EA9-854D-38B69817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D35-577C-4DAA-A719-502515AD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E6B-6066-42D8-AE6E-DA15B738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FAB-6ADB-4C4E-A0DA-2ED2FE07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6144-0917-4839-A422-01553C53B5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A48E-8E9B-4842-A4DB-2CEA42E544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rabkor.ru/image/article/1/8/8/3188.jpe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arovol.ru/art/paint/nasvet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valenik.ru/vsesvit/vidvs/8/80/8040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0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ДИПЛОМ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692280"/>
            <a:ext cx="88200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Arial"/>
              </a:rPr>
              <a:t>Тема дипломной рабо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Уголовная ответственность за террористическую деятельность в российском законодательств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вторая половин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-начало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XI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ека)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cc"/>
                </a:solidFill>
                <a:latin typeface="Arial"/>
              </a:rPr>
              <a:t>Выполнил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cc"/>
                </a:solidFill>
                <a:latin typeface="Arial"/>
              </a:rPr>
              <a:t>М.А. Подпол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9933"/>
                </a:solidFill>
                <a:latin typeface="Arial"/>
              </a:rPr>
              <a:t>Научный руководитель: начальник кафедры истории государства и права, к.и.н., доцент, полковник полиции    А.В. Давиденк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9B1-CCB2-4E60-B615-52179E9681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-797400"/>
            <a:ext cx="8510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33"/>
                </a:solidFill>
                <a:latin typeface="Arial"/>
              </a:rPr>
              <a:t>Терроризм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-    это    публично совершаемые      общеопасные действия или угрозы таковыми, направленные   на    устрашение населения или социальных групп, в целях прямого или косвенного воздействия    на     принятие,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ого  -  либо    решения    или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тказ    от    него  в  интересах террорис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28600"/>
            <a:ext cx="82008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2) Исследовать      систему     уголовно  -   правовых   средств противодействия     терроризму      в    истории  российского государства    и     права    дореволюционного   и советского периодов,    выявить     отрицательный   и   положительный исторический      опыт      в     разработке       отечественного антитеррористического     законодательства     и правоприменительной        практике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головное законодательство Российской империи второй половины 19 - начала 20 века, в частности Уложение о наказаниях уголовных и исправительных 1845 г. в редакции 1857, 1865 и 1885 годов и Уголовное уложение 1903 г., не содержало в себе самостоятельного раздела или главы где были бы сосредоточены нормы, предусматривавшие ответственность за деяния, аналогичные тем, которые предусмотрены в главе 24 раздела IX УК РФ 1996 г. (преступления против общественной безопасност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-1135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огласно точке зрения как составител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Уложения о наказаниях 1845 г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.,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так 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Уголовного Уложения 1903 г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.,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группу преступлений против внутренней безопасности государства составляют деяния, направленные против Верховной власти, императора и его окружения, которые представляют угрозы для безопасности государственного строя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-1027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15920"/>
            <a:ext cx="854064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Это были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покушение на Императора, членов царствующей династии</a:t>
            </a:r>
            <a:r>
              <a:rPr b="0" lang="en-US" sz="3000" spc="-1" strike="noStrike">
                <a:solidFill>
                  <a:srgbClr val="339933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оскорбление, умышленное повреждение в общественных местах портретов, бюстов и других изображений царствующих особ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также как непосредственно совершенное деяние, так и покушение на его совершение на жизнь, здоровье, свободу или вообще неприкосновенность указанных лиц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(ст. 99 и ст.ст. 241, 242, 244 Уложения 1845 г.); их оскорбление (ст.ст. 103-107 и ст.ст. 241, 244-248, 1004, 1021, 1022, 1026 Уложения о наказаниях)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-77580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насильственное посягательство на изменение установленного образа правления или порядка наследования престол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(ст.ст. 100-102 и ст.ст. 241, 242, 249, 250, 987, 1145 Уложения 1845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На этих основаниях шли процессы над народниками-террористами: казнь «первомартовцев» в 1881 г., смертный приговор А.И. Ульянову (брату В.И. Ленина) в 1887 г. и д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9933"/>
                </a:solidFill>
                <a:latin typeface="Arial"/>
              </a:rPr>
              <a:t>Убийство Александра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II</a:t>
            </a:r>
            <a:r>
              <a:rPr b="1" lang="ru-RU" sz="3000" spc="-1" strike="noStrike">
                <a:solidFill>
                  <a:srgbClr val="339933"/>
                </a:solidFill>
                <a:latin typeface="Arial"/>
              </a:rPr>
              <a:t> 1 марта 1881 – крупнейший провал российской политической полиции в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XIX </a:t>
            </a:r>
            <a:r>
              <a:rPr b="1" lang="ru-RU" sz="3000" spc="-1" strike="noStrike">
                <a:solidFill>
                  <a:srgbClr val="339933"/>
                </a:solidFill>
                <a:latin typeface="Arial"/>
              </a:rPr>
              <a:t>в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Picture 3" descr="S7001327"/>
          <p:cNvPicPr/>
          <p:nvPr/>
        </p:nvPicPr>
        <p:blipFill>
          <a:blip r:embed="rId1"/>
          <a:srcRect l="7064" t="12983" r="897" b="10300"/>
          <a:stretch/>
        </p:blipFill>
        <p:spPr>
          <a:xfrm>
            <a:off x="708120" y="1557360"/>
            <a:ext cx="8435880" cy="482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http://im0-tub.yandex.net/i?id=36496202&amp;tov=0"/>
          <p:cNvPicPr/>
          <p:nvPr/>
        </p:nvPicPr>
        <p:blipFill>
          <a:blip r:embed="rId2"/>
          <a:stretch/>
        </p:blipFill>
        <p:spPr>
          <a:xfrm>
            <a:off x="0" y="155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Картинка 20 из 2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292640"/>
            <a:ext cx="2446560" cy="228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ttp://im0-tub.yandex.net/i?id=140187556&amp;tov=0"/>
          <p:cNvPicPr/>
          <p:nvPr/>
        </p:nvPicPr>
        <p:blipFill>
          <a:blip r:embed="rId5"/>
          <a:stretch/>
        </p:blipFill>
        <p:spPr>
          <a:xfrm>
            <a:off x="7202520" y="1628640"/>
            <a:ext cx="1941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9933"/>
                </a:solidFill>
                <a:latin typeface="Arial"/>
              </a:rPr>
              <a:t>Казнь «первомартовцев»- цареубийц</a:t>
            </a:r>
            <a:endParaRPr b="0" lang="en-US" sz="3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2" descr="Картинка 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25360"/>
            <a:ext cx="4249800" cy="554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Картинка 6 из 2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73640" y="1125360"/>
            <a:ext cx="4514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-95508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ериод второй половины X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X – начал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X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вв. стал эпохой зарождения и организационного структурирования российского революционного терроризма при параллельном запаздывающем развитии организационно-правовых средств государственного противодействия террору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Уголовно-правовая политика государства на уровне минимальной достаточности способствовала блокированию террористических эксцессов, но не смогла искоренить социально-экономических и политических истоков революционного экстремизма, что впоследствии привело к серии революционных катастроф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-811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В Уголовном кодексе РСФСР 1926 г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Террориз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валифицировался как особо тяжкое контрреволюционное преступление. Уголовный кодекс РСФСР 1926 г. дает следующе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пределение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«Контрреволюционным признаётся всякое действие, направленное к свержению, подрыву или ослаблению власти рабоче-крестьянских Советов и избранных ими, на основании Конституции Союза ССР и конституций союзных республик, рабоче-крестьянских правительств Союза ССР, союзных и автономных республик или к подрыву или ослаблению внешней безопасности Союза ССР и основных хозяйственных, политических и национальных завоеваний пролетарской революции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-919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92800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тражению террористической угрозы посвяще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ст. 58-8: Совершение террористических актов, направленных против представителей Советской власти или деятелей революционных рабочих и крестьянских организаций, и участие в выполнении таких актов, хотя бы и лицами, не принадлежащими к контрреволюционной организации, влекут за собой — меры социальной защиты, указанные в ст. 58-2 настоящего кодекса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анкция по стать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едусматрив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«высшую меру социальной защиты -  расстрел или объявление врагом трудящихся с конфискацией имущества и с лишением гражданства союзной республики и, тем самым, гражданства Союза ССР и изгнание из пределов Союза ССР навсегда, с допущением при смягчающих обстоятельствах понижения до лишения свободы на срок не ниже трёх лет, с конфискацией всего или части имуществ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Arial"/>
              </a:rPr>
              <a:t>СОДЕРЖАНИЕ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907560"/>
            <a:ext cx="8540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ВВЕДЕНИЕ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ГЛАВА 1.</a:t>
            </a:r>
            <a:r>
              <a:rPr b="1" i="1" lang="en-US" sz="2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Исторический опыт уголовно – правового противодействия терроризму в России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§ 1 Терроризм: основные теоретико-правовые подходы к определению термина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§2 Эволюция антитеррористической уголовно-правовой политики и правоприменительной практики в России (1860-е. – 1917 гг.)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§ 3 Уголовно-правовые аспекты борьбы с терроризмом в советский период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ГЛАВА 2.</a:t>
            </a:r>
            <a:r>
              <a:rPr b="1" i="1" lang="en-US" sz="2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головно- правовая характеристика терроризма, как особо опасного вида преступления против общественной безопасности по Уголовному кодексу Российской Федерации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§ 1 Юридический       анализ     и      особенности квалификации преступлений террористической    направленности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§ 2 Проблемы отграничения терроризма от некоторых смежных составов преступлений и возможности их законодательного решения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ЗАКЛЮЧЕНИЕ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СПИСОК ЛИТЕРАТУРЫ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ПРИЛОЖЕНИЯ 1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ПРИЛОЖЕНИЯ 2</a:t>
            </a:r>
            <a:br>
              <a:rPr sz="2000"/>
            </a:b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ПРИЛОЖЕНИЯ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равнительный анализ соответствующих статей УК РСФСР 1926 и 1960 гг. выявляет тенденцию к ужесточению наказаний за совершение террористических актов, что, по моему мнению, связано с возрастанием и усилением их реальной угрозы для безопасности общества и государств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 Уголовном кодексе РСФСР 1960 года в ст. 6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нятие «террористический акт» получило более четкое определение, что максимально исключало возможность применения при квалификации деяния смежных с ним но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5107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Статья 66 УК РСФСР 1960 г . Террористический акт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2828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бийство государственного или общественного деятеля или представителя власти, совершенное в связи с его государственной или общественной деятельностью, с целью подрыва или ослабления Советской власти, - наказывается лишением свободы на срок от десяти до пятнадцати лет с конфискацией имущества или смертной казнью с конфискацией имущества. Тяжкое телесное повреждение, причиненное в тех же целях государственному или общественному деятелю или представителю власти в связи с его государственной или общественной деятельностью, - наказывается лишением свободы на срок от восьми до пятнадцати лет с конфискацией имущ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416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3) Дать уголовно-правовую характеристику терроризма по       современному        российскому         законодательству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19700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К РФ статья 20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. Терроризм, то есть совершение взрыва, поджога или иных действий, создающих опасность гибели людей, причинения значительного имущественного ущерба либо наступления иных общественно опасных последствий, если эти действия совершены в целях нарушения общественной безопасности, устрашения населения либо оказания воздействия на принятие решений органами власти, а также угроза совершения указанных действий в тех же целях - наказываются лишением свободы на срок от восьми до двенадцати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. Те же деяния, совершен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а) группой лиц по предварительному сговор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б) утратил силу (Федеральный закон от 8 декабря 2003 г. № 162 - ФЗ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) с применением огнестрельного оружия, - наказываются лишением свободы на срок от десяти до двадцати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. Деяния, предусмотренные частями первой или второй настоящей статьи, если они совершены организованной группой, либо повлекли по неосторожности смерть человека или иные тяжкие последствия, а равно сопряжены с посягательством на объекты использования атомной энергии либо с использованием ядерных материалов, радиоактивных веществ или источников радиоактивного излучения (в ред. ФЗ от 9 февраля 1999 г. № 26-ФЗ), - наказываются лишением свободы на срок от пятнадцати до двадцати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963720"/>
            <a:ext cx="8510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15920"/>
            <a:ext cx="854064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ой непосредственный объект преступления терроризма (ст. 205 УК РФ) - совокупность общественных отношений, регламентирующих основы (коренные интересы) обеспечения безопасных условий существования общества. Дополнительным непосредственным объектом этого преступления могут выступать отношения личности, собственности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 объективной стороны терроризм, совершается только в виде действий, выраженных в двух альтернативных форма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а) в совершении взрыва, поджога или иных действий, создающих опасность гибели людей, причинения значительного материального ущерба либо наступления иных общественно опасных последст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б) в угрозе совершения указанных действ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убъективная сторона терроризма характеризуется только умышленной формой вины в виде прямого умысла. Виновное лицо сознает, что, совершая указанные в законе действия, создает опасность гибели людей, причинения значительного имущественного ущерба либо наступления иных общественно опасных последствий, и желает действовать таким образ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убъект анализируемого преступления - вменяемое лицо, достигшее 14-летнего возраста. Однако в современной практике террорист-одиночка встречается чрезвычайно ред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4) Охарактеризовать      эффективность    уголовно - правовых средств     предупреждения  и противодействия современной террористической угрозе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«Уголовно-правовые меры обеспечения противодействия терроризму и экстремизму»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 отмечается, что в Российской Федерации одним из важнейших составляющих внутригосударственной системы противодействия терроризму и экстремизму стало законодательное принятие Уголовного кодекса Российской Федерации, федеральных законов от 16 марта 2006 г. № 35-ФЗ «О противодействии терроризму» и № 114-ФЗ «О противодействии экстремистской деятельност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едеральный закон «О противодействии терроризму» определяет правовые и организационные основы борьбы с этим общественно опасным явлением, субъектов борьбы, основы их взаимодействия и роль иных государственных и негосударственных органов и граждан в противодействии терроризму. Этот закон в значительной степени стимулирует борьбу с терроризмом в Российской Федерации. Ряд отраженных в нем концептуальных воззрений на проблему терроризма явились новацией в этой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оссийское законодательство о борьбе с терроризмом помимо названного закона и Уголовного кодекса образуют также Уголовно-процессуальный кодекс, Закон Российской Федерации «О безопасности», федеральные законы «Об оперативно-розыскной деятельности», «Об обороне», ряд законов об органах, осуществляющих борьбу с терроризмом, в том числе федеральные законы «Об органах Федеральной службы безопасности», «О внутренних войсках Министерства внутренних дел», «О государственной охране» и другие, отдельные указы Президента Российской Федерации и постановления Правительства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-356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реализация на практике положений ФЗ «О противодействии терроризму» выявила ряд противоречий правового характера, которые прямым образом влияют на национальную безопасность и эффективность борьбы с террористической деятельностью, особенно в рамках длительных, крупномасштабных контртеррористических операций. Глубоко проанализировав эти противоречия, пришёл к выводу о том, что дальнейшее совершенствование законодательства должно осуществляться в направлении формирования эффективной национальной системы противодействия терроризму, призванной своевременно выявлять причины и истоки терроризма и экстремизма, обеспечивать действенные меры профилактики, пресечения террористических проявлений в нашей стране и ликвидацию последствий террористических актов, для чего 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странить противоречия в подходах к определению терроризма, обеспечить единообразие понятийного аппарата, более четко отразить в нормах УК РФ основные признаки терроризма, внести изменения в уголовно-процессуальное законодательство с целью повышения безопасности лиц, участвующих в производстве по делам о преступлениях террористического характера, а также эффективности самого производства по данной категории де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72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онкретизировать в Федеральном законе «О противодействии терроризму» направления обмена информацией, его порядо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Цели, указанные в диспозиции ст. 205 УК РФ, должны быть конкретизированы путем изменения редакции данной нормы, которая представлена в положениях, выносимых на защи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азработать федеральный закон о защите прав потерпевших от преступлений, в целях возмещения ущерба потерпевшим от терактов и иных преступл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Анализ сущности терроризма не позволяет согласиться с тем, что он может совершаться из корыстных побуждений, что к терроризму могут быть приравнены преступления имущественного характера, пусть и сопровождаемые угрозой или даже применением общественно опасного насилия. Цели терроризма всегда общественно значимы, не персонифицированы и имеют политический характер. Расширительное толкование целей, данное в законе, привело к тому, что на практике трудно, почти невозможно разграничить преступления, предусмотренные ст. 126, 162, 205, 206, 211, 281 УК РФ и др. Представляется, что в настоящее время требуется доктринальное толкование указанных позиций в УК Р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 моему мнению, необходимо создание международного Центра по борьбе с терроризмом с его представительствами в участвующих государствах, в котором будут работать профессионалы из различных сфер и областей деятельности: ученые, практики (юристы, психологи, эксперты, оперативные сотрудники, специалисты по проведению специальных операций, переводчики, специалисты в области информационной поддержки, техники и другие). Этот центр необходимо оснастить новейшими достижениями науки и техники, при подборе кадров проводить тщательную проверку кандидатов, их тестирование и профотбор, обеспечить сотрудникам достойную оплату. Важно, чтобы любая информация, полученная по линии правоохранительных органов или специальных служб России, касающаяся преступных организаций террористической направленности или готовящихся террористических акций, оперативно передавалась в указанный Цент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396360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Литература по проекту."/>
          <p:cNvPicPr/>
          <p:nvPr/>
        </p:nvPicPr>
        <p:blipFill>
          <a:blip r:embed="rId3"/>
          <a:srcRect l="8925" t="17869" r="2102" b="1690"/>
          <a:stretch/>
        </p:blipFill>
        <p:spPr>
          <a:xfrm>
            <a:off x="611280" y="1341360"/>
            <a:ext cx="8136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" descr="Согласно исследованиям российских и зарубежных ученых, совокупный бюджет в сфере террора составляет ежегодно от 5 до 20 млрд. долларов."/>
          <p:cNvPicPr/>
          <p:nvPr/>
        </p:nvPicPr>
        <p:blipFill>
          <a:blip r:embed="rId1"/>
          <a:srcRect l="55402" t="24121" r="4445" b="4467"/>
          <a:stretch/>
        </p:blipFill>
        <p:spPr>
          <a:xfrm>
            <a:off x="5472000" y="0"/>
            <a:ext cx="3672000" cy="489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Согласно исследованиям российских и зарубежных ученых, совокупный бюджет в сфере террора составляет ежегодно от 5 до 20 млрд. долларов."/>
          <p:cNvPicPr/>
          <p:nvPr/>
        </p:nvPicPr>
        <p:blipFill>
          <a:blip r:embed="rId2"/>
          <a:srcRect l="16807" t="31459" r="51705" b="12871"/>
          <a:stretch/>
        </p:blipFill>
        <p:spPr>
          <a:xfrm>
            <a:off x="0" y="0"/>
            <a:ext cx="2879640" cy="381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2484360" y="0"/>
            <a:ext cx="3095640" cy="2055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0" y="4448160"/>
            <a:ext cx="3529080" cy="240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user\Pictures\террор\744.jpg"/>
          <p:cNvPicPr/>
          <p:nvPr/>
        </p:nvPicPr>
        <p:blipFill>
          <a:blip r:embed="rId5"/>
          <a:stretch/>
        </p:blipFill>
        <p:spPr>
          <a:xfrm>
            <a:off x="2484360" y="412596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6"/>
          <a:stretch/>
        </p:blipFill>
        <p:spPr>
          <a:xfrm>
            <a:off x="5830920" y="4546440"/>
            <a:ext cx="3313080" cy="2311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user\Pictures\террор\pentmorris.jpg"/>
          <p:cNvPicPr/>
          <p:nvPr/>
        </p:nvPicPr>
        <p:blipFill>
          <a:blip r:embed="rId7"/>
          <a:stretch/>
        </p:blipFill>
        <p:spPr>
          <a:xfrm>
            <a:off x="2195640" y="1916280"/>
            <a:ext cx="3671640" cy="242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8"/>
          <a:stretch/>
        </p:blipFill>
        <p:spPr>
          <a:xfrm>
            <a:off x="0" y="3068640"/>
            <a:ext cx="33336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Актуальность тем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8209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- терроризм   представляет   собой одно из самых   опасных   и    сложных    явлений современности, приобретающее все более угрожающие масштабы. Его проявления обычно  влекут   массовые  человеческие жертвы,  разрушение    материальных   и духовных   ценностей,   не   поддающихся порой воссозданию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- терроризм   порождает   недоверие  и  ненависть между   социальными  и национальными группами,  которые  иногда   невозможно преодолеть   в    течение   жизни    целого поколен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Жизнь победить нельзя, но можно её уничтожить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Picture 2" descr="C:\Users\user\Pictures\террор\2222.jpg"/>
          <p:cNvPicPr/>
          <p:nvPr/>
        </p:nvPicPr>
        <p:blipFill>
          <a:blip r:embed="rId1"/>
          <a:stretch/>
        </p:blipFill>
        <p:spPr>
          <a:xfrm>
            <a:off x="1187280" y="1557360"/>
            <a:ext cx="683748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-631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В Концепции национальной безопасности РФ утверждается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Во многих странах, в том числе в Российской Федерации, резко обострилась проблема терроризма, имеющего транснациональный характер и угрожающего стабильности в мире, что обусловливает необходимость объединения усилий всего международного сообщества, повышения эффективности имеющихся форм и методов борьбы с этой угрозой, принятия безотлагательных мер по ее нейтрализаци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8114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Отсутствие эффективной системы социальной профилакт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авонарушен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недостаточна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правова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 материально - техническа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обеспеченность деятельности по предупреждению терроризм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рганизованной преступности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правовой нигилизм, отток из органов обеспечения правопорядка квалифицированных кадров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величивают степень воздействия этой угрозы на личность, общество и государ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Объектом работы:</a:t>
            </a:r>
            <a:br>
              <a:rPr sz="4000"/>
            </a:b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являются общественные отношения, возникающие в ходе противодействия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ерроризму уголовно-правовыми средствами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Предметом работы:</a:t>
            </a:r>
            <a:br>
              <a:rPr sz="40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 являются нормы российского законодательства, предусматривающие наказание за террористическую деятельность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Целью исследования: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a4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a4"/>
                </a:solidFill>
                <a:latin typeface="Arial"/>
              </a:rPr>
              <a:t>- является   комплексный,   системный   анализ эволюции российского антитеррористического законодательства,   как   ответной   реакции на зарождение     террористической     угрозы     и изменение ее специфики в позднеимперский и советский   периоды   отечественной  истории, оценка    эффективности     и    использования исторического    опыта     противодействия терроризму в современном уголовном праве и правоприменительной практике</a:t>
            </a:r>
            <a:r>
              <a:rPr b="0" lang="ru-RU" sz="26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        </a:t>
            </a:r>
            <a:br>
              <a:rPr sz="3600"/>
            </a:br>
            <a:r>
              <a:rPr b="1" lang="en-US" sz="36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Для достижение данной цели                 </a:t>
            </a:r>
            <a:br>
              <a:rPr sz="3200"/>
            </a:b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         требуется решить ряд задач:</a:t>
            </a:r>
            <a:br>
              <a:rPr sz="32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проанализировать основные теоретико-правовые подходы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к определению    содержания   понятия   «терроризм»,   дать общую социально- правовую  характеристику     терроризма, посягающего       на     общественную      безопасность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исследовать      систему     уголовно  -   правовых   средств противодействия     терроризму      в    истории  российского государства    и     права    дореволюционного   и советского периодов,    выявить     отрицательный   и   положительный исторический      опыт      в     разработке       отечественного антитеррористического     законодательства     и правоприменительной        практике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- дать уголовно-правовую характеристику терроризма по       современному        российскому         законодательству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охарактеризовать      эффективность    уголовно - правовых средств     предупреждения  и противодействия современной террористической угрозе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1) Проанализировать основные теоретико-правовые подходы</a:t>
            </a:r>
            <a:br>
              <a:rPr sz="1800"/>
            </a:br>
            <a:r>
              <a:rPr b="1" lang="ru-RU" sz="1800" spc="-1" strike="noStrike">
                <a:solidFill>
                  <a:srgbClr val="339933"/>
                </a:solidFill>
                <a:latin typeface="Arial"/>
              </a:rPr>
              <a:t> к определению    содержания   понятия   «терроризм»,   дать общую социально- правовую  характеристику     терроризма, посягающего       на     общественную      безопас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339933"/>
                </a:solidFill>
                <a:latin typeface="Arial"/>
              </a:rPr>
              <a:t>Отличительные черты терроризма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Терроризм порождает общую опасность, возникающую в результате совершения общеопасных действий либо угрозы таковыми. Опасность при этом должна быть реальной и угрожать неопределенному кругу 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 Публичный характер его исполнения. Терроризм сегодня - это бесспорно форма насилия, рассчитанная на массовое восприят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33"/>
                </a:solidFill>
                <a:latin typeface="Arial"/>
              </a:rPr>
              <a:t>самым важным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ризнако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терроризма является преднамеренное создание обстановки страха, подавленности, напряженност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0:52:35Z</dcterms:created>
  <dc:creator>Учитель</dc:creator>
  <dc:description/>
  <dc:language>en-US</dc:language>
  <cp:lastModifiedBy>Dmitrieva</cp:lastModifiedBy>
  <dcterms:modified xsi:type="dcterms:W3CDTF">2013-02-07T14:01:59Z</dcterms:modified>
  <cp:revision>25</cp:revision>
  <dc:subject/>
  <dc:title>Защита населения</dc:title>
</cp:coreProperties>
</file>