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BA1-046D-4C39-AD7A-412BAEEC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F7B-A27B-4BEE-9545-BAB54E66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D34-7F1E-4456-84AE-C7BCA248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201-4739-4AD1-9E01-2FE43538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CD0-D508-416D-99D4-2C3632BC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29E-05ED-48B8-A86C-6C414335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0C9-FCC8-4B61-84F6-5AFDCC6B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FA7-B0D6-48DC-8811-D20A13C0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18C-9DA1-4689-A8B2-01DA7664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8E0-A0A9-4025-A893-51F52C82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C5E-F90B-41FA-B6C2-0D3E9A65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42F-C364-4894-897A-ECEA4280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A4A4-ED6F-4538-9614-179ED99E1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268280"/>
            <a:ext cx="763272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Урок п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окружающему мир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89000"/>
            <a:ext cx="8064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Физ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43640" y="4221000"/>
            <a:ext cx="237636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дорожке, по дорожке скачем мы на правой н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о этой же дорожке скачем мы на левой н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тропинкам побежим, до лужайки добе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на этой на лужайке мы попрыгаем, как за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п! Немного отдох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домой пешком пойд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8785440" cy="554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979640" y="189000"/>
            <a:ext cx="5329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чвы Росс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rcRect l="13483" t="11958" r="8309" b="16112"/>
          <a:stretch/>
        </p:blipFill>
        <p:spPr>
          <a:xfrm>
            <a:off x="179280" y="981000"/>
            <a:ext cx="8785440" cy="5661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755640" y="0"/>
            <a:ext cx="763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чвы  Ставропольского  кр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ернозем для России дор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сякой нефти, всякого каменного угля, дороже золотых и железных руд, в 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ековечное, неистощимое русское богат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.В.Докуч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1697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Почва состоит из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Плодородие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песка                                         зависит от количества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ерегн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гум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г)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д) г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е) 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Основные типы почв:               4. Это почвы Ставрополь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серые лесные                                    края. Исключи лишн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подзолистые                                     а) черноз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 тундровые                                         б) кашт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г) болотные                                            в) бол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д) чернозем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 песчаные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е) луговые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) серые ле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) солонч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) горные черноз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19280" y="26028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Т е с т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00000" y="260280"/>
            <a:ext cx="734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омашнее  зада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4941720"/>
            <a:ext cx="2016000" cy="1414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. 171-172 (выучить тек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учить материал по карточке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исать мини-сочинение 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От чего зависит плодородие почвы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8360" y="2133720"/>
            <a:ext cx="8209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4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 _____  -  к о р м и л и ц а 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9640" y="2060640"/>
            <a:ext cx="8280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5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 З е м л я - к о р м и л и ц а 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2492280"/>
            <a:ext cx="8064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Times New Roman"/>
              </a:rPr>
              <a:t>"Какие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Times New Roman"/>
              </a:rPr>
              <a:t>бывают  почвы ?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6920" y="404640"/>
            <a:ext cx="756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7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w Cen MT Condensed Extra Bold"/>
              </a:rPr>
              <a:t>Т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w Cen MT Condensed Extra Bold"/>
              <a:ea typeface="Tw Cen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79640" y="333360"/>
            <a:ext cx="547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сследовать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360" y="1484280"/>
            <a:ext cx="755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чего состоит почв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2492280"/>
            <a:ext cx="4032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нать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3166920"/>
            <a:ext cx="777708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пы почв России и нашего края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4365720"/>
            <a:ext cx="403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меть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5229360"/>
            <a:ext cx="78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блюдать, сравнивать и делать выводы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42920" y="260280"/>
            <a:ext cx="7201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Самопровер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полезные ископаемые используются в строитель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) гранит, уголь, то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Б) песок, глина, гран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) железная руда, известняк, уго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горючие полезные ископ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А) уголь, торф, га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Б) нефть, известняк, ме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) газ, глина, пес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Какие из перечисленных природных богатств можно восстанов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А) загрязнение ре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Б) вырубленный л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) каменный уго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  Какое полезное ископаемое идет попутно с нефть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) то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Б) каменный уго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В) г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 Как сократить использование железной руды в народном хозяй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А) использование металлоло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Б) прекратить добы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В) заменить другими материа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Как ты можешь повлиять на охрану подземных богат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) следить за тем, чтобы попусту не горел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 га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) зимой не оставлять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 открытой две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Какие полезные ископаемые добывают в нашем кра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) каменный уголь, песок, га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Б) газ, нефть, известня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) железная руда, торф, гл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11280" y="2492280"/>
            <a:ext cx="8208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" Человек - часть природы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Уничтожая природу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человек губит себя"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26920" y="404640"/>
            <a:ext cx="77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 о м н и т е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64000" y="2492280"/>
            <a:ext cx="2016000" cy="1728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5013360"/>
            <a:ext cx="1800360" cy="151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3933720"/>
            <a:ext cx="1728720" cy="151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4149720"/>
            <a:ext cx="1800000" cy="151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1484280"/>
            <a:ext cx="1655640" cy="14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1700280"/>
            <a:ext cx="1728720" cy="151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ум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260280"/>
            <a:ext cx="1728720" cy="151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508720" y="2707920"/>
            <a:ext cx="122400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177336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422100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3789360"/>
            <a:ext cx="115236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556000" y="3716280"/>
            <a:ext cx="1079280" cy="5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700360" y="2492280"/>
            <a:ext cx="100800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0:32:24Z</dcterms:created>
  <dc:creator>Преподаватель</dc:creator>
  <dc:description/>
  <dc:language>en-US</dc:language>
  <cp:lastModifiedBy>Administrator</cp:lastModifiedBy>
  <dcterms:modified xsi:type="dcterms:W3CDTF">2009-02-09T14:20:34Z</dcterms:modified>
  <cp:revision>12</cp:revision>
  <dc:subject/>
  <dc:title>Слайд 1</dc:title>
</cp:coreProperties>
</file>